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7.gif" ContentType="image/gif"/>
  <Override PartName="/ppt/media/image10.jpeg" ContentType="image/jpeg"/>
  <Override PartName="/ppt/media/image2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9E6-4725-475D-AC16-29AF78FC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8BC-FBC6-4597-80BE-24C40905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C56-D015-4853-AC07-25C25996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817-D9E3-40B0-951F-C7C6F2D8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FA1A-6C9E-48D3-B441-79A0092B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CE9-5D99-4F37-A4DA-04156E9E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E381-33B8-46D0-B2A0-E2D691F8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0258-F6DF-4BA5-81F8-1A9BE6B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3219-B4CD-4EDF-ACBD-D3351850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F80D-946D-43A1-A190-0FCC3C77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5783-0359-4CCD-AC9B-AFAC53C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0B3-F5EF-4007-AE22-91BCEF10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8870-2BBC-4BC7-87A3-E8FF7F8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A82C-557A-4E55-BA67-900E667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7137-0432-42F2-B5F9-E3D08F73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033E-72FC-40D2-9AAC-2BF54F15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D842-2BE4-4203-8C32-961DC894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18A-7301-4790-82CA-DFCE651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EE5-9020-4F39-B940-79B5BDB3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164-C865-48F7-8087-04DB5799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D2F-D2C2-42A4-92DE-CD168B81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B26-C704-4CD7-9ED3-D3517B7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C3B-3B14-4E45-B293-93BA52E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51C-9A3A-4FF7-B78B-78D5EED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4389-F13D-436A-A116-4FF93F4D7C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E444-C56C-4290-BD8E-001740AA80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1/4/8/9/148919/1310203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woman.ru/uploads/posts/2010-02/1267181049_57ab10e0559ee1ee941f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2;&#1077;&#1083;&#1080;&#1082;&#1086;&#1073;&#1088;&#1080;&#1090;&#1072;&#1085;&#1080;&#1103;" TargetMode="External"/><Relationship Id="rId4" Type="http://schemas.openxmlformats.org/officeDocument/2006/relationships/hyperlink" Target="http://ru.wikipedia.org/wiki/&#1040;&#1085;&#1075;&#1083;&#1080;&#1081;&#1089;&#1082;&#1080;&#1081;_&#1103;&#1079;&#1099;&#1082;" TargetMode="External"/><Relationship Id="rId5" Type="http://schemas.openxmlformats.org/officeDocument/2006/relationships/hyperlink" Target="http://ru.wikipedia.org/wiki/&#1042;&#1077;&#1083;&#1080;&#1082;&#1080;&#1081;_&#1087;&#1086;&#1089;&#1090;" TargetMode="External"/><Relationship Id="rId6" Type="http://schemas.openxmlformats.org/officeDocument/2006/relationships/hyperlink" Target="http://ru.wikipedia.org/wiki/&#1057;&#1064;&#1040;" TargetMode="External"/><Relationship Id="rId7" Type="http://schemas.openxmlformats.org/officeDocument/2006/relationships/hyperlink" Target="http://ru.wikipedia.org/wiki/&#1055;&#1072;&#1094;&#1080;&#1092;&#1080;&#1079;&#1084;" TargetMode="External"/><Relationship Id="rId8" Type="http://schemas.openxmlformats.org/officeDocument/2006/relationships/hyperlink" Target="http://ru.wikipedia.org/wiki/1872_&#1075;&#1086;&#1076;" TargetMode="External"/><Relationship Id="rId9" Type="http://schemas.openxmlformats.org/officeDocument/2006/relationships/hyperlink" Target="http://ru.wikipedia.org/wiki/&#1057;&#1064;&#1040;" TargetMode="External"/><Relationship Id="rId10" Type="http://schemas.openxmlformats.org/officeDocument/2006/relationships/hyperlink" Target="http://ru.wikipedia.org/wiki/1907_&#1075;&#1086;&#1076;" TargetMode="External"/><Relationship Id="rId11" Type="http://schemas.openxmlformats.org/officeDocument/2006/relationships/hyperlink" Target="http://ru.wikipedia.org/wiki/&#1060;&#1080;&#1083;&#1072;&#1076;&#1077;&#1083;&#1100;&#1092;&#1080;&#1103;" TargetMode="External"/><Relationship Id="rId12" Type="http://schemas.openxmlformats.org/officeDocument/2006/relationships/hyperlink" Target="http://ru.wikipedia.org/wiki/1910_&#1075;&#1086;&#1076;" TargetMode="External"/><Relationship Id="rId13" Type="http://schemas.openxmlformats.org/officeDocument/2006/relationships/hyperlink" Target="http://ru.wikipedia.org/wiki/&#1042;&#1080;&#1088;&#1075;&#1080;&#1085;&#1080;&#1103;" TargetMode="External"/><Relationship Id="rId14" Type="http://schemas.openxmlformats.org/officeDocument/2006/relationships/hyperlink" Target="http://ru.wikipedia.org/wiki/1914_&#1075;&#1086;&#1076;" TargetMode="External"/><Relationship Id="rId15" Type="http://schemas.openxmlformats.org/officeDocument/2006/relationships/hyperlink" Target="http://ru.wikipedia.org/wiki/&#1055;&#1088;&#1077;&#1079;&#1080;&#1076;&#1077;&#1085;&#1090;_&#1057;&#1064;&#1040;" TargetMode="External"/><Relationship Id="rId16" Type="http://schemas.openxmlformats.org/officeDocument/2006/relationships/hyperlink" Target="http://ru.wikipedia.org/wiki/&#1042;&#1080;&#1083;&#1100;&#1089;&#1086;&#1085;,_&#1058;&#1086;&#1084;&#1072;&#1089;_&#1042;&#1091;&#1076;&#1088;&#1086;" TargetMode="External"/><Relationship Id="rId17" Type="http://schemas.openxmlformats.org/officeDocument/2006/relationships/hyperlink" Target="http://lunix.ucoz.ru/_nw/8/76119570.jpg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www.artivic.ru/_ph/43/2/552499369.jpg" TargetMode="External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55640" y="19260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делать на свете мы многое сможем – 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 глубинах морских и в космических тоже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 тундре придем, и пустыням горя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аже погоду переина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л и дорог будет в жизни не мало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просим себя: «Ну а где их начало?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от он ответ наш правильный самый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се начинается с МА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rogizobilija"/>
          <p:cNvPicPr/>
          <p:nvPr/>
        </p:nvPicPr>
        <p:blipFill>
          <a:blip r:embed="rId1"/>
          <a:stretch/>
        </p:blipFill>
        <p:spPr>
          <a:xfrm>
            <a:off x="6300720" y="4005360"/>
            <a:ext cx="2239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«Материнское воскрес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ване – в первый день ве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ЮАР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Литве – в перв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реции – 9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Украин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Эсто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США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На Мальте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Дан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Финляндии –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Германии - во второе воскресенье 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24200"/>
            <a:ext cx="26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т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Турц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встрал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Япон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ьгии - во второ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Норвегии -  во второе  воскресенье февра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Швеции – 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о Франции –в последнее воскресенье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льше –  26 м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Картинка 18 из 64000"/>
          <p:cNvPicPr/>
          <p:nvPr/>
        </p:nvPicPr>
        <p:blipFill>
          <a:blip r:embed="rId1"/>
          <a:stretch/>
        </p:blipFill>
        <p:spPr>
          <a:xfrm>
            <a:off x="7149960" y="3860640"/>
            <a:ext cx="1994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Белоруссии – 14 ок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гентине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ндии – в октя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Испании – 8-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Португалии – 8-ого дека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Сербии – в дека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Узбекистане 8 марта отмечают как День Ма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Армении – 7 апреля отмечают День материнства и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e5"/>
                </a:solidFill>
                <a:latin typeface="Arial"/>
              </a:rPr>
              <a:t>В России – в четвертое воскресенье но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Картинка 22 из 64000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Картинка 27 из 64000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476360" y="69228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каз президента РФ от 30 января 1998 года определил: </a:t>
            </a: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День матери следует отмечать ежегодно в последнее воскресенье но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_Fly07"/>
          <p:cNvPicPr/>
          <p:nvPr/>
        </p:nvPicPr>
        <p:blipFill>
          <a:blip r:embed="rId1"/>
          <a:stretch/>
        </p:blipFill>
        <p:spPr>
          <a:xfrm rot="19430400">
            <a:off x="7451640" y="306864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_Fly2Бабочка"/>
          <p:cNvPicPr/>
          <p:nvPr/>
        </p:nvPicPr>
        <p:blipFill>
          <a:blip r:embed="rId2"/>
          <a:stretch/>
        </p:blipFill>
        <p:spPr>
          <a:xfrm rot="2746800">
            <a:off x="2796840" y="55245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_Fly07"/>
          <p:cNvPicPr/>
          <p:nvPr/>
        </p:nvPicPr>
        <p:blipFill>
          <a:blip r:embed="rId3"/>
          <a:stretch/>
        </p:blipFill>
        <p:spPr>
          <a:xfrm rot="2320200">
            <a:off x="394920" y="321300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_Fly07"/>
          <p:cNvPicPr/>
          <p:nvPr/>
        </p:nvPicPr>
        <p:blipFill>
          <a:blip r:embed="rId4"/>
          <a:stretch/>
        </p:blipFill>
        <p:spPr>
          <a:xfrm rot="19371000">
            <a:off x="7380360" y="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_Fly07"/>
          <p:cNvPicPr/>
          <p:nvPr/>
        </p:nvPicPr>
        <p:blipFill>
          <a:blip r:embed="rId5"/>
          <a:stretch/>
        </p:blipFill>
        <p:spPr>
          <a:xfrm rot="1932000">
            <a:off x="0" y="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_Fly2Бабочка"/>
          <p:cNvPicPr/>
          <p:nvPr/>
        </p:nvPicPr>
        <p:blipFill>
          <a:blip r:embed="rId6"/>
          <a:stretch/>
        </p:blipFill>
        <p:spPr>
          <a:xfrm rot="2746800">
            <a:off x="-11520" y="53481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B_Fly2Бабочка"/>
          <p:cNvPicPr/>
          <p:nvPr/>
        </p:nvPicPr>
        <p:blipFill>
          <a:blip r:embed="rId7"/>
          <a:stretch/>
        </p:blipFill>
        <p:spPr>
          <a:xfrm rot="17246400">
            <a:off x="7621200" y="52750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24000" y="4575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ы, конечно, не помните самую первую встречу с мамой. Как она обрадовалась, когда увидела вас! Как счастливо светились ее глаза! На вашей ручке был привязан номерок из пленки. На нем были написаны фамилия, число, месяц, год и время вашего рождения, ваш вес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Читают"/>
          <p:cNvPicPr/>
          <p:nvPr/>
        </p:nvPicPr>
        <p:blipFill>
          <a:blip r:embed="rId1"/>
          <a:stretch/>
        </p:blipFill>
        <p:spPr>
          <a:xfrm>
            <a:off x="7093080" y="4941720"/>
            <a:ext cx="1279440" cy="151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мальчик думает"/>
          <p:cNvPicPr/>
          <p:nvPr/>
        </p:nvPicPr>
        <p:blipFill>
          <a:blip r:embed="rId2"/>
          <a:stretch/>
        </p:blipFill>
        <p:spPr>
          <a:xfrm>
            <a:off x="395280" y="4365720"/>
            <a:ext cx="10112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684360" y="189000"/>
            <a:ext cx="704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Тогда ваша мамочка первый раз взглянула на своего малыша – и поняла, что ее ребенок – самый лучший, самый красивый и самый любимый. Сейчас вывыросли, но мама любит вас все так же крепко и нежно. Мамы будут любить вас ровно столько, сколько будут жить на свете – помните об этом всегда! И сколько бы вам не было лет – 5 или 50, вам всегда будет нужна мама, ее ласка, ее взгляд. И чем больше ваша любовь к маме, тем радостнее и светлее жизн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20"/>
          <p:cNvPicPr/>
          <p:nvPr/>
        </p:nvPicPr>
        <p:blipFill>
          <a:blip r:embed="rId1"/>
          <a:stretch/>
        </p:blipFill>
        <p:spPr>
          <a:xfrm>
            <a:off x="7740720" y="0"/>
            <a:ext cx="11509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sinichkafeol13"/>
          <p:cNvPicPr/>
          <p:nvPr/>
        </p:nvPicPr>
        <p:blipFill>
          <a:blip r:embed="rId2"/>
          <a:stretch/>
        </p:blipFill>
        <p:spPr>
          <a:xfrm>
            <a:off x="6804000" y="40464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sinichkafeol13"/>
          <p:cNvPicPr/>
          <p:nvPr/>
        </p:nvPicPr>
        <p:blipFill>
          <a:blip r:embed="rId3"/>
          <a:stretch/>
        </p:blipFill>
        <p:spPr>
          <a:xfrm>
            <a:off x="6659640" y="587700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1403280" y="907920"/>
            <a:ext cx="547236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свете добрых слов немало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всех добрее и важней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6588000" y="184464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1403280" y="2492280"/>
            <a:ext cx="55450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двух слогов простое слово: “мама”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ту слов дороже,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5940360" y="342900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но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10" descr="OE_93F7663B49CF447CBEF8A20D44C569FE"/>
          <p:cNvPicPr/>
          <p:nvPr/>
        </p:nvPicPr>
        <p:blipFill>
          <a:blip r:embed="rId1"/>
          <a:stretch/>
        </p:blipFill>
        <p:spPr>
          <a:xfrm>
            <a:off x="2700360" y="2708280"/>
            <a:ext cx="6443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68360" y="76500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а “Мама, мать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- одно из самых древних на Земле” и почти одинаково звучит на языках разных народ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Все люди уважают и любят матер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ом “Мать” называют и свою Родину, чтобы подчеркнуть, что она по-матерински относится к своим дет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Мишки"/>
          <p:cNvPicPr/>
          <p:nvPr/>
        </p:nvPicPr>
        <p:blipFill>
          <a:blip r:embed="rId1"/>
          <a:stretch/>
        </p:blipFill>
        <p:spPr>
          <a:xfrm>
            <a:off x="6084720" y="37162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ама…Первое слов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C:\Documents and Settings\Admin\Рабочий стол\анимации\ани\1235392242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8"/>
          <p:cNvSpPr/>
          <p:nvPr/>
        </p:nvSpPr>
        <p:spPr>
          <a:xfrm>
            <a:off x="2286000" y="1143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лон вам, мамы дорогие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 нелегкий, нужный тру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сех детей, что вы взрасти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тех, что скоро подрасту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вашу ласку и в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искренность и простот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мужество и понимань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чуткость, нежность, добр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История праздн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 января 1998 года N 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УКАЗ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О ДНЕ МА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 целях повышения социальной значимости материнства постановля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1. Установить праздник - День матери и отмечать его в последнее воскресенье но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2. Настоящий Указ вступает в силу со дня его официального опублик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Президент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Б. 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осква, Кремль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30 января 1998 года</a:t>
            </a:r>
            <a:br>
              <a:rPr sz="2000"/>
            </a:b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N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51841048_62630"/>
          <p:cNvPicPr/>
          <p:nvPr/>
        </p:nvPicPr>
        <p:blipFill>
          <a:blip r:embed="rId1"/>
          <a:srcRect l="0" t="36965" r="29417" b="0"/>
          <a:stretch/>
        </p:blipFill>
        <p:spPr>
          <a:xfrm>
            <a:off x="5500800" y="4357800"/>
            <a:ext cx="3643200" cy="221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Картинка 32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0"/>
            <a:ext cx="2300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С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XVII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о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XIX век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Великобритан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тмечалось так называемое «Материнское воскресенье» (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англ.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Mothering Sunday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) — четвёртое воскресенье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Великого пост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посвящённое чествованию матерей по всей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ень матери впервые публично был поддержан известной американской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пацифисткой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Джулией Уорд Хоув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1872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. «День матери» по версии Джулии Уорд — день единства матерей в борьбе за мир во всём мире. Концепция Джулии Уорд не нашла широкой поддержки ни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н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1907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американка Анна Джарвис из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Филадельфии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выступила с инициативой чествования матерей в память о своей матери. Анна написала письма в государственные учреждения, законодательные органы и выдающимся лицам с предложением один день в году посвятить чествованию матерей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1910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штат Виргиния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первый признал День Матери официальным праздником. В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1914 году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президент США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Вудро Вильсон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 объявил второе воскресенье мая национальным праздником в честь всех американских мат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Картинка 8 из 6400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867280" y="5157720"/>
            <a:ext cx="2087640" cy="158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ртинка 11 из 6400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571920" y="5143680"/>
            <a:ext cx="210672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7:06:04Z</dcterms:created>
  <dc:creator>Визгалина М. Н.</dc:creator>
  <dc:description/>
  <dc:language>en-US</dc:language>
  <cp:lastModifiedBy>DNA7 X86</cp:lastModifiedBy>
  <dcterms:modified xsi:type="dcterms:W3CDTF">2011-11-01T03:45:46Z</dcterms:modified>
  <cp:revision>5</cp:revision>
  <dc:subject/>
  <dc:title>Мама…Первое слово…</dc:title>
</cp:coreProperties>
</file>