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gif" ContentType="image/gif"/>
  <Override PartName="/ppt/media/image7.gif" ContentType="image/gif"/>
  <Override PartName="/ppt/media/image10.jpeg" ContentType="image/jpeg"/>
  <Override PartName="/ppt/media/image2.gif" ContentType="image/gif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.gif" ContentType="image/gif"/>
  <Override PartName="/ppt/media/image12.jpeg" ContentType="image/jpeg"/>
  <Override PartName="/ppt/media/image4.gif" ContentType="image/gif"/>
  <Override PartName="/ppt/media/image11.jpeg" ContentType="image/jpeg"/>
  <Override PartName="/ppt/media/image5.gif" ContentType="image/gif"/>
  <Override PartName="/ppt/media/image8.png" ContentType="image/png"/>
  <Override PartName="/ppt/media/image14.jpeg" ContentType="image/jpeg"/>
  <Override PartName="/ppt/media/image6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FDF3-B8F3-4921-B169-3EDAEB0E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A072-C5DB-4E94-9AD4-BC971D7C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A84A-4E12-4A18-A06A-04A77AF13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0FC7-78F2-4459-B4CC-A2C7C744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2E74-5C71-41AB-A2F6-570AE7397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3160-A32C-49E5-8D80-7C0902D0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8558-0D84-4FE7-9E8B-025B7B0A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6DAB-8F98-43B8-B0C6-A5BFF0CA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AE19-BFB9-4D60-9C3D-C83F51D3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4930-9FE3-4FC8-BEE0-18473D16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2A78-1CC4-459E-BECC-E257DD9A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3C05-5EB7-4C9C-A89C-46D23291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0551-CCF4-4E65-AFAF-078A1006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D98D-6E60-4048-82BF-E0A19AE0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2945-3115-478F-BA4C-84B6A455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0698-7466-4BBA-BAAD-739C03F7F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28F4-7F3E-4A92-A5D3-33790A03E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141D-12C6-42C1-A611-1F6DE6CF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6235-F77D-498A-BE5F-9A6D262E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5348-DA56-4796-A451-3091F569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C5A6-2B8D-4797-ADC7-28CBE899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0BFF-1DB7-4D66-92CE-8624FEE0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0B4E-08FC-4DB3-9354-A410E94C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2819-7684-4A5A-88A7-88A243F6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A334-2F1D-498E-B865-031BF3B6BFD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F955-1DCF-4D1B-B542-9CE0F9E65CE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tatic.diary.ru/userdir/1/4/8/9/148919/13102031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imwoman.ru/uploads/posts/2010-02/1267181049_57ab10e0559ee1ee941f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VII" TargetMode="External"/><Relationship Id="rId2" Type="http://schemas.openxmlformats.org/officeDocument/2006/relationships/hyperlink" Target="http://ru.wikipedia.org/wiki/XIX_&#1074;&#1077;&#1082;" TargetMode="External"/><Relationship Id="rId3" Type="http://schemas.openxmlformats.org/officeDocument/2006/relationships/hyperlink" Target="http://ru.wikipedia.org/wiki/&#1042;&#1077;&#1083;&#1080;&#1082;&#1086;&#1073;&#1088;&#1080;&#1090;&#1072;&#1085;&#1080;&#1103;" TargetMode="External"/><Relationship Id="rId4" Type="http://schemas.openxmlformats.org/officeDocument/2006/relationships/hyperlink" Target="http://ru.wikipedia.org/wiki/&#1040;&#1085;&#1075;&#1083;&#1080;&#1081;&#1089;&#1082;&#1080;&#1081;_&#1103;&#1079;&#1099;&#1082;" TargetMode="External"/><Relationship Id="rId5" Type="http://schemas.openxmlformats.org/officeDocument/2006/relationships/hyperlink" Target="http://ru.wikipedia.org/wiki/&#1042;&#1077;&#1083;&#1080;&#1082;&#1080;&#1081;_&#1087;&#1086;&#1089;&#1090;" TargetMode="External"/><Relationship Id="rId6" Type="http://schemas.openxmlformats.org/officeDocument/2006/relationships/hyperlink" Target="http://ru.wikipedia.org/wiki/&#1057;&#1064;&#1040;" TargetMode="External"/><Relationship Id="rId7" Type="http://schemas.openxmlformats.org/officeDocument/2006/relationships/hyperlink" Target="http://ru.wikipedia.org/wiki/&#1055;&#1072;&#1094;&#1080;&#1092;&#1080;&#1079;&#1084;" TargetMode="External"/><Relationship Id="rId8" Type="http://schemas.openxmlformats.org/officeDocument/2006/relationships/hyperlink" Target="http://ru.wikipedia.org/wiki/1872_&#1075;&#1086;&#1076;" TargetMode="External"/><Relationship Id="rId9" Type="http://schemas.openxmlformats.org/officeDocument/2006/relationships/hyperlink" Target="http://ru.wikipedia.org/wiki/&#1057;&#1064;&#1040;" TargetMode="External"/><Relationship Id="rId10" Type="http://schemas.openxmlformats.org/officeDocument/2006/relationships/hyperlink" Target="http://ru.wikipedia.org/wiki/1907_&#1075;&#1086;&#1076;" TargetMode="External"/><Relationship Id="rId11" Type="http://schemas.openxmlformats.org/officeDocument/2006/relationships/hyperlink" Target="http://ru.wikipedia.org/wiki/&#1060;&#1080;&#1083;&#1072;&#1076;&#1077;&#1083;&#1100;&#1092;&#1080;&#1103;" TargetMode="External"/><Relationship Id="rId12" Type="http://schemas.openxmlformats.org/officeDocument/2006/relationships/hyperlink" Target="http://ru.wikipedia.org/wiki/1910_&#1075;&#1086;&#1076;" TargetMode="External"/><Relationship Id="rId13" Type="http://schemas.openxmlformats.org/officeDocument/2006/relationships/hyperlink" Target="http://ru.wikipedia.org/wiki/&#1042;&#1080;&#1088;&#1075;&#1080;&#1085;&#1080;&#1103;" TargetMode="External"/><Relationship Id="rId14" Type="http://schemas.openxmlformats.org/officeDocument/2006/relationships/hyperlink" Target="http://ru.wikipedia.org/wiki/1914_&#1075;&#1086;&#1076;" TargetMode="External"/><Relationship Id="rId15" Type="http://schemas.openxmlformats.org/officeDocument/2006/relationships/hyperlink" Target="http://ru.wikipedia.org/wiki/&#1055;&#1088;&#1077;&#1079;&#1080;&#1076;&#1077;&#1085;&#1090;_&#1057;&#1064;&#1040;" TargetMode="External"/><Relationship Id="rId16" Type="http://schemas.openxmlformats.org/officeDocument/2006/relationships/hyperlink" Target="http://ru.wikipedia.org/wiki/&#1042;&#1080;&#1083;&#1100;&#1089;&#1086;&#1085;,_&#1058;&#1086;&#1084;&#1072;&#1089;_&#1042;&#1091;&#1076;&#1088;&#1086;" TargetMode="External"/><Relationship Id="rId17" Type="http://schemas.openxmlformats.org/officeDocument/2006/relationships/hyperlink" Target="http://lunix.ucoz.ru/_nw/8/76119570.jpg" TargetMode="External"/><Relationship Id="rId18" Type="http://schemas.openxmlformats.org/officeDocument/2006/relationships/image" Target="../media/image13.jpeg"/><Relationship Id="rId19" Type="http://schemas.openxmlformats.org/officeDocument/2006/relationships/hyperlink" Target="http://www.artivic.ru/_ph/43/2/552499369.jpg" TargetMode="External"/><Relationship Id="rId20" Type="http://schemas.openxmlformats.org/officeDocument/2006/relationships/image" Target="../media/image14.jpe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755640" y="192600"/>
            <a:ext cx="748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Сделать на свете мы многое сможем – 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В глубинах морских и в космических тоже.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К тундре придем, и пустыням горячим.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Даже погоду переиначим.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Дел и дорог будет в жизни не мало.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Спросим себя: «Ну а где их начало?»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Вот он ответ наш правильный самый: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Все начинается с МАМЫ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rogizobilija"/>
          <p:cNvPicPr/>
          <p:nvPr/>
        </p:nvPicPr>
        <p:blipFill>
          <a:blip r:embed="rId1"/>
          <a:stretch/>
        </p:blipFill>
        <p:spPr>
          <a:xfrm>
            <a:off x="6300720" y="4005360"/>
            <a:ext cx="223992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00000"/>
                </a:solidFill>
                <a:latin typeface="Arial"/>
              </a:rPr>
              <a:t>«Материнское воскресенье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670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Ливане – в первый день вес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ЮАР – в первое воскресенье 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Литве – в первое воскресенье 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Греции – 9 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Украине – во второе воскресенье 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Эстонии – во второе воскресенье 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США – во второе воскресенье 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На Мальте – во второе воскресенье 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Дании – во второе воскресенье 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Финляндии – во второе воскресенье 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Германии - во второе воскресенье 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Картинка 9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924200"/>
            <a:ext cx="2627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738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Италии - во второе воскресенье 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Турции - во второе воскресенье 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Австралии - во второе воскресенье 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Японии - во второе воскресенье 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Бельгии - во второе воскресенье 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Норвегии -  во второе  воскресенье февра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Швеции – в последнее воскресенье 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о Франции –в последнее воскресенье 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Польше –  26 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Картинка 18 из 64000"/>
          <p:cNvPicPr/>
          <p:nvPr/>
        </p:nvPicPr>
        <p:blipFill>
          <a:blip r:embed="rId1"/>
          <a:stretch/>
        </p:blipFill>
        <p:spPr>
          <a:xfrm>
            <a:off x="7149960" y="3860640"/>
            <a:ext cx="19940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Белоруссии – 14 октяб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Аргентине – в октяб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Индии – в октяб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Испании – 8-го декаб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Португалии – 8-ого декаб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Сербии – в декаб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Узбекистане 8 марта отмечают как День Мате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Армении – 7 апреля отмечают День материнства и крас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России – в четвертое воскресенье нояб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Картинка 22 из 64000"/>
          <p:cNvPicPr/>
          <p:nvPr/>
        </p:nvPicPr>
        <p:blipFill>
          <a:blip r:embed="rId1"/>
          <a:stretch/>
        </p:blipFill>
        <p:spPr>
          <a:xfrm>
            <a:off x="5651640" y="1628640"/>
            <a:ext cx="2808000" cy="22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Картинка 27 из 64000"/>
          <p:cNvPicPr/>
          <p:nvPr/>
        </p:nvPicPr>
        <p:blipFill>
          <a:blip r:embed="rId1"/>
          <a:stretch/>
        </p:blipFill>
        <p:spPr>
          <a:xfrm>
            <a:off x="0" y="193680"/>
            <a:ext cx="9144000" cy="66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1476360" y="692280"/>
            <a:ext cx="614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Указ президента РФ от 30 января 1998 года определил: </a:t>
            </a: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День матери следует отмечать ежегодно в последнее воскресенье ноябр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B_Fly07"/>
          <p:cNvPicPr/>
          <p:nvPr/>
        </p:nvPicPr>
        <p:blipFill>
          <a:blip r:embed="rId1"/>
          <a:stretch/>
        </p:blipFill>
        <p:spPr>
          <a:xfrm rot="19430400">
            <a:off x="7451640" y="3068640"/>
            <a:ext cx="1590840" cy="1428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B_Fly2Бабочка"/>
          <p:cNvPicPr/>
          <p:nvPr/>
        </p:nvPicPr>
        <p:blipFill>
          <a:blip r:embed="rId2"/>
          <a:stretch/>
        </p:blipFill>
        <p:spPr>
          <a:xfrm rot="2746800">
            <a:off x="2796840" y="552456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B_Fly07"/>
          <p:cNvPicPr/>
          <p:nvPr/>
        </p:nvPicPr>
        <p:blipFill>
          <a:blip r:embed="rId3"/>
          <a:stretch/>
        </p:blipFill>
        <p:spPr>
          <a:xfrm rot="2320200">
            <a:off x="394920" y="3213000"/>
            <a:ext cx="1590840" cy="1428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B_Fly07"/>
          <p:cNvPicPr/>
          <p:nvPr/>
        </p:nvPicPr>
        <p:blipFill>
          <a:blip r:embed="rId4"/>
          <a:stretch/>
        </p:blipFill>
        <p:spPr>
          <a:xfrm rot="19371000">
            <a:off x="7380360" y="0"/>
            <a:ext cx="1590480" cy="1428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B_Fly07"/>
          <p:cNvPicPr/>
          <p:nvPr/>
        </p:nvPicPr>
        <p:blipFill>
          <a:blip r:embed="rId5"/>
          <a:stretch/>
        </p:blipFill>
        <p:spPr>
          <a:xfrm rot="1932000">
            <a:off x="0" y="0"/>
            <a:ext cx="1590840" cy="1428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B_Fly2Бабочка"/>
          <p:cNvPicPr/>
          <p:nvPr/>
        </p:nvPicPr>
        <p:blipFill>
          <a:blip r:embed="rId6"/>
          <a:stretch/>
        </p:blipFill>
        <p:spPr>
          <a:xfrm rot="2746800">
            <a:off x="-11520" y="534816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B_Fly2Бабочка"/>
          <p:cNvPicPr/>
          <p:nvPr/>
        </p:nvPicPr>
        <p:blipFill>
          <a:blip r:embed="rId7"/>
          <a:stretch/>
        </p:blipFill>
        <p:spPr>
          <a:xfrm rot="17246400">
            <a:off x="7621200" y="5275080"/>
            <a:ext cx="15242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324000" y="45756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Вы, конечно, не помните самую первую встречу с мамой. Как она обрадовалась, когда увидела вас! Как счастливо светились ее глаза! На вашей ручке был привязан номерок из пленки. На нем были написаны фамилия, число, месяц, год и время вашего рождения, ваш вес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Читают"/>
          <p:cNvPicPr/>
          <p:nvPr/>
        </p:nvPicPr>
        <p:blipFill>
          <a:blip r:embed="rId1"/>
          <a:stretch/>
        </p:blipFill>
        <p:spPr>
          <a:xfrm>
            <a:off x="7093080" y="4941720"/>
            <a:ext cx="1279440" cy="1519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мальчик думает"/>
          <p:cNvPicPr/>
          <p:nvPr/>
        </p:nvPicPr>
        <p:blipFill>
          <a:blip r:embed="rId2"/>
          <a:stretch/>
        </p:blipFill>
        <p:spPr>
          <a:xfrm>
            <a:off x="395280" y="4365720"/>
            <a:ext cx="1011240" cy="146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684360" y="189000"/>
            <a:ext cx="70498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Тогда ваша мамочка первый раз взглянула на своего малыша – и поняла, что ее ребенок – самый лучший, самый красивый и самый любимый. Сейчас вывыросли, но мама любит вас все так же крепко и нежно. Мамы будут любить вас ровно столько, сколько будут жить на свете – помните об этом всегда! И сколько бы вам не было лет – 5 или 50, вам всегда будет нужна мама, ее ласка, ее взгляд. И чем больше ваша любовь к маме, тем радостнее и светлее жизнь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020"/>
          <p:cNvPicPr/>
          <p:nvPr/>
        </p:nvPicPr>
        <p:blipFill>
          <a:blip r:embed="rId1"/>
          <a:stretch/>
        </p:blipFill>
        <p:spPr>
          <a:xfrm>
            <a:off x="7740720" y="0"/>
            <a:ext cx="115092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sinichkafeol13"/>
          <p:cNvPicPr/>
          <p:nvPr/>
        </p:nvPicPr>
        <p:blipFill>
          <a:blip r:embed="rId2"/>
          <a:stretch/>
        </p:blipFill>
        <p:spPr>
          <a:xfrm>
            <a:off x="6804000" y="404640"/>
            <a:ext cx="1008000" cy="836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sinichkafeol13"/>
          <p:cNvPicPr/>
          <p:nvPr/>
        </p:nvPicPr>
        <p:blipFill>
          <a:blip r:embed="rId3"/>
          <a:stretch/>
        </p:blipFill>
        <p:spPr>
          <a:xfrm>
            <a:off x="6659640" y="5877000"/>
            <a:ext cx="10080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6"/>
          <p:cNvSpPr txBox="1"/>
          <p:nvPr/>
        </p:nvSpPr>
        <p:spPr>
          <a:xfrm>
            <a:off x="1403280" y="907920"/>
            <a:ext cx="5472360" cy="1457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 свете добрых слов немало,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о всех добрее и важней 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WordArt 7"/>
          <p:cNvSpPr txBox="1"/>
          <p:nvPr/>
        </p:nvSpPr>
        <p:spPr>
          <a:xfrm>
            <a:off x="6588000" y="1844640"/>
            <a:ext cx="936720" cy="504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дно: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WordArt 8"/>
          <p:cNvSpPr txBox="1"/>
          <p:nvPr/>
        </p:nvSpPr>
        <p:spPr>
          <a:xfrm>
            <a:off x="1403280" y="2492280"/>
            <a:ext cx="5545080" cy="1457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з двух слогов простое слово: “мама”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нету слов дороже, 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WordArt 9"/>
          <p:cNvSpPr txBox="1"/>
          <p:nvPr/>
        </p:nvSpPr>
        <p:spPr>
          <a:xfrm>
            <a:off x="5940360" y="3429000"/>
            <a:ext cx="1368360" cy="433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ем оно.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" name="Picture 10" descr="OE_93F7663B49CF447CBEF8A20D44C569FE"/>
          <p:cNvPicPr/>
          <p:nvPr/>
        </p:nvPicPr>
        <p:blipFill>
          <a:blip r:embed="rId1"/>
          <a:stretch/>
        </p:blipFill>
        <p:spPr>
          <a:xfrm>
            <a:off x="2700360" y="2708280"/>
            <a:ext cx="64436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468360" y="765000"/>
            <a:ext cx="82803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c3300"/>
                </a:solidFill>
                <a:latin typeface="Arial"/>
              </a:rPr>
              <a:t>Слова “Мама, мать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”</a:t>
            </a:r>
            <a:r>
              <a:rPr b="1" i="1" lang="ru-RU" sz="2600" spc="-1" strike="noStrike">
                <a:solidFill>
                  <a:srgbClr val="cc3300"/>
                </a:solidFill>
                <a:latin typeface="Arial"/>
              </a:rPr>
              <a:t>- одно из самых древних на Земле” и почти одинаково звучит на языках разных народ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cc3300"/>
                </a:solidFill>
                <a:latin typeface="Arial"/>
              </a:rPr>
              <a:t>Все люди уважают и любят матере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c3300"/>
                </a:solidFill>
                <a:latin typeface="Arial"/>
              </a:rPr>
              <a:t>Словом “Мать” называют и свою Родину, чтобы подчеркнуть, что она по-матерински относится к своим детя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Мишки"/>
          <p:cNvPicPr/>
          <p:nvPr/>
        </p:nvPicPr>
        <p:blipFill>
          <a:blip r:embed="rId1"/>
          <a:stretch/>
        </p:blipFill>
        <p:spPr>
          <a:xfrm>
            <a:off x="6084720" y="3716280"/>
            <a:ext cx="26640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85880" y="12855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Мама…Первое слов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C:\Documents and Settings\Admin\Рабочий стол\анимации\ани\1235392242_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8"/>
          <p:cNvSpPr/>
          <p:nvPr/>
        </p:nvSpPr>
        <p:spPr>
          <a:xfrm>
            <a:off x="2286000" y="114300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клон вам, мамы дорогие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ваш нелегкий, нужный труд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всех детей, что вы взрастил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тех, что скоро подрастут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вашу ласку и внимань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искренность и простоту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мужество и понимань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чуткость, нежность, добр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00000"/>
                </a:solidFill>
                <a:latin typeface="Arial"/>
              </a:rPr>
              <a:t>История праздник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1308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30 января 1998 года N 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УКАЗ</a:t>
            </a:r>
            <a:br>
              <a:rPr sz="2000"/>
            </a:b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ПРЕЗИДЕНТА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О ДНЕ МАТ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целях повышения социальной значимости материнства постановля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1. Установить праздник - День матери и отмечать его в последнее воскресенье нояб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2. Настоящий Указ вступает в силу со дня его официального опублик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Президент</a:t>
            </a:r>
            <a:br>
              <a:rPr sz="2000"/>
            </a:b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Российской Федерации</a:t>
            </a:r>
            <a:br>
              <a:rPr sz="2000"/>
            </a:b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Б. ЕЛЬЦ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Москва, Кремль</a:t>
            </a:r>
            <a:br>
              <a:rPr sz="2000"/>
            </a:b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30 января 1998 года</a:t>
            </a:r>
            <a:br>
              <a:rPr sz="2000"/>
            </a:b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N 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51841048_62630"/>
          <p:cNvPicPr/>
          <p:nvPr/>
        </p:nvPicPr>
        <p:blipFill>
          <a:blip r:embed="rId1"/>
          <a:srcRect l="0" t="36965" r="29417" b="0"/>
          <a:stretch/>
        </p:blipFill>
        <p:spPr>
          <a:xfrm>
            <a:off x="5500800" y="4357800"/>
            <a:ext cx="3643200" cy="2214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Картинка 32 из 6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00880" y="0"/>
            <a:ext cx="230040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С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XVII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 по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XIX век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 в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Великобритании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 отмечалось так называемое «Материнское воскресенье» (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англ.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e5"/>
                </a:solidFill>
                <a:latin typeface="Arial"/>
              </a:rPr>
              <a:t>Mothering Sunday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) — четвёртое воскресенье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Великого поста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, посвящённое чествованию матерей по всей стр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В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США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 День матери впервые публично был поддержан известной американской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пацифисткой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 Джулией Уорд Хоув в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1872 году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. «День матери» по версии Джулии Уорд — день единства матерей в борьбе за мир во всём мире. Концепция Джулии Уорд не нашла широкой поддержки ни в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9"/>
              </a:rPr>
              <a:t>США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, ни в других стра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В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10"/>
              </a:rPr>
              <a:t>1907 году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 американка Анна Джарвис из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11"/>
              </a:rPr>
              <a:t>Филадельфии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 выступила с инициативой чествования матерей в память о своей матери. Анна написала письма в государственные учреждения, законодательные органы и выдающимся лицам с предложением один день в году посвятить чествованию матерей. В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12"/>
              </a:rPr>
              <a:t>1910 году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13"/>
              </a:rPr>
              <a:t>штат Виргиния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 первый признал День Матери официальным праздником. В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14"/>
              </a:rPr>
              <a:t>1914 году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15"/>
              </a:rPr>
              <a:t>президент США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16"/>
              </a:rPr>
              <a:t>Вудро Вильсон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 объявил второе воскресенье мая национальным праздником в честь всех американских матер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Картинка 8 из 64000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867280" y="5157720"/>
            <a:ext cx="2087640" cy="1587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Картинка 11 из 64000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571920" y="5143680"/>
            <a:ext cx="2106720" cy="14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07:06:04Z</dcterms:created>
  <dc:creator>Визгалина М. Н.</dc:creator>
  <dc:description/>
  <dc:language>en-US</dc:language>
  <cp:lastModifiedBy>DNA7 X86</cp:lastModifiedBy>
  <dcterms:modified xsi:type="dcterms:W3CDTF">2011-11-01T03:45:46Z</dcterms:modified>
  <cp:revision>5</cp:revision>
  <dc:subject/>
  <dc:title>Мама…Первое слово…</dc:title>
</cp:coreProperties>
</file>