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gif" ContentType="image/gif"/>
  <Override PartName="/ppt/media/image8.jpeg" ContentType="image/jpeg"/>
  <Override PartName="/ppt/media/image18.gif" ContentType="image/gif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3.gif" ContentType="image/gif"/>
  <Override PartName="/ppt/media/image4.jpeg" ContentType="image/jpeg"/>
  <Override PartName="/ppt/media/image2.png" ContentType="image/png"/>
  <Override PartName="/ppt/media/image13.gif" ContentType="image/gif"/>
  <Override PartName="/ppt/media/image16.png" ContentType="image/png"/>
  <Override PartName="/ppt/media/image6.gif" ContentType="image/gif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5B6-AFF7-47F8-9BDD-156CF457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F36-DE76-4CD9-948F-D145EDC1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8B5-E541-4AD8-AF65-DC59E1A6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179-F087-42A5-9652-25E33793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9206-0928-4A06-A00D-FDDBDA30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09D8-8A2B-423B-9516-9694E3E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370D-C479-4AC2-AB17-37E662D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5D81-6224-49C6-922B-2B97CC8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C333-B4EF-4646-96F3-0EF9585A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B08F-5E89-4BCC-83D7-A6E219A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38E4-8957-421B-9292-7892465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F9A-03EE-460F-A28B-47375068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24C9-CC6B-43C5-A973-14E2B85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7CA6-91BF-4DA0-B69D-4F888DB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0920-0A21-4947-9777-C53DEB15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CD52-A7F4-48C4-8C77-106AC4D7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62B-EC91-40DF-9FE9-A305CD7D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19B-1796-43A9-8D2B-6B78E1A5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985-A0FC-47B5-AD2E-769829E7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2EA-5774-49B1-B189-21C6950C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D5E-FF87-4738-8AB7-A59A1A44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ECD-2945-46F6-A895-2BC6B5B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EEA-C209-4827-B829-F687E900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8D6-D9DB-4208-B289-A5B6EF6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C03B-292B-439A-A726-96A890B23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31C-678A-4606-8E51-D1DE875BB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19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cc0099"/>
                </a:solidFill>
                <a:latin typeface="Verdana"/>
              </a:rPr>
              <a:t>Применение</a:t>
            </a:r>
            <a:br>
              <a:rPr sz="3600"/>
            </a:br>
            <a:r>
              <a:rPr b="1" i="1" lang="en-US" sz="3600" spc="-1" strike="noStrike">
                <a:solidFill>
                  <a:srgbClr val="cc0099"/>
                </a:solidFill>
                <a:latin typeface="Verdana"/>
              </a:rPr>
              <a:t> личностно-ориентированного  подхода в обучении хими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04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Verdana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Verdana"/>
              </a:rPr>
              <a:t>учитель МОУ СОШ №2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Verdana"/>
              </a:rPr>
              <a:t>Немтырёва Г.Е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Актуализация субъектного опыта учащихся является не только важным элементом личностно-ориентированного урока, но и необходимым условием развития у детей интереса к познанию, желания и умения занимать субъектную позицию в учебной и других видах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825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Соли – это природный продукт, или они созданы человеко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личие позиций можно использ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организации учебной дискусс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щиеся имеют определенные знани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они во многом неполны и несистемны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признаем их как безусловную ценность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ю последующую работу учитель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страивает с опорой  на выявлен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держание житейского опыта, подводя 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нятому в науке вывод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76360" y="1557360"/>
            <a:ext cx="4537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«свойств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карбоновых кисло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Учитель просит назвать физическ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войства веществ, показыв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бутылку с уксусной эссенцие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а затем стеариновую свеч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смесь кисло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результате диалога выявляют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се физические свой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арбоновых кисло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низших и высших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лается обобщающий выв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0" y="530064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Три разновидности ситуации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1)актуализация первичн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2)актуализация обогащаем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3)актуализация закрепляем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13" descr="223485891"/>
          <p:cNvPicPr/>
          <p:nvPr/>
        </p:nvPicPr>
        <p:blipFill>
          <a:blip r:embed="rId1"/>
          <a:stretch/>
        </p:blipFill>
        <p:spPr>
          <a:xfrm>
            <a:off x="0" y="531504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2книга со свечой"/>
          <p:cNvPicPr/>
          <p:nvPr/>
        </p:nvPicPr>
        <p:blipFill>
          <a:blip r:embed="rId2"/>
          <a:stretch/>
        </p:blipFill>
        <p:spPr>
          <a:xfrm>
            <a:off x="8172360" y="2924280"/>
            <a:ext cx="971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3afbbcd65a70x"/>
          <p:cNvPicPr/>
          <p:nvPr/>
        </p:nvPicPr>
        <p:blipFill>
          <a:blip r:embed="rId1"/>
          <a:stretch/>
        </p:blipFill>
        <p:spPr>
          <a:xfrm rot="20127600">
            <a:off x="4800240" y="4231800"/>
            <a:ext cx="4794120" cy="263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Verdana"/>
              </a:rPr>
              <a:t>Создание ситуации выбора на урок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ситуация выбора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– это спроектированный учителем элемент (этап) урока, когда ученики поставлены перед необходимостью отдать свое предпочтение одному из вариантов учебных задач и способов их решения для проявления своей активности, самостоятельности и индивидуального стиля познан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00"/>
                </a:solidFill>
                <a:latin typeface="Verdana"/>
              </a:rPr>
              <a:t>Ситуации выбора присуще следующие черты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Ограничение во времени, т.к. она занимает некоторую часть (этап) урок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аличие нескольких вариантов учебных  задач и способов их решени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Предоставление ученикам или группам учащихся свободы выбор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Проявление каждым школьником своей активности 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самостоятельности при решении избранного вариант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задан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Ситуация выбора при правильном построени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позволяет ставить ребенка в позицию субъек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деятельности и оказывать развивающе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влияние на его лич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При проектировании и построении выбора надо учитывать следующие обстоятельств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отовность учащихся к выбо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едагогическая целесообраз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имулирование учащихся к выбо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ргументация своего выб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пределение степени свободы выб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спешность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ащищенность школьников от собственных ошиб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ценка результатов решения выбранного вариан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В зависимости от учебной задачи, форм, способов и условий ее решения можно моделировать и строить разные ситуации выбора. Их вариативность обусловлен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    Степенью свободы выбора ученик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ой организации учебной деятельно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ложностью предлагаемых для выбора зада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ой выполнения учебного зада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епенью самостоятельности действий учащихс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можностью использования при выполнении задания различных источников информ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не знает"/>
          <p:cNvPicPr/>
          <p:nvPr/>
        </p:nvPicPr>
        <p:blipFill>
          <a:blip r:embed="rId1"/>
          <a:stretch/>
        </p:blipFill>
        <p:spPr>
          <a:xfrm>
            <a:off x="6732720" y="155736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монитор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82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увлеченное чтение"/>
          <p:cNvPicPr/>
          <p:nvPr/>
        </p:nvPicPr>
        <p:blipFill>
          <a:blip r:embed="rId3"/>
          <a:stretch/>
        </p:blipFill>
        <p:spPr>
          <a:xfrm>
            <a:off x="7488360" y="5157720"/>
            <a:ext cx="1655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Verdana"/>
              </a:rPr>
              <a:t>Создание ситуации выбора на уро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за партой"/>
          <p:cNvPicPr/>
          <p:nvPr/>
        </p:nvPicPr>
        <p:blipFill>
          <a:blip r:embed="rId1"/>
          <a:stretch/>
        </p:blipFill>
        <p:spPr>
          <a:xfrm>
            <a:off x="7093080" y="2349360"/>
            <a:ext cx="1866600" cy="2590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264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этапе проверки знаний учитель предоставляет возможность десятиклассникам выбрать один из способов описания </a:t>
            </a:r>
            <a:r>
              <a:rPr b="1" lang="ru-RU" sz="1800" spc="-1" strike="noStrike" u="sng">
                <a:solidFill>
                  <a:srgbClr val="6600ff"/>
                </a:solidFill>
                <a:uFillTx/>
                <a:latin typeface="Verdana"/>
              </a:rPr>
              <a:t>строения метан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мостояте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помощью опорной сх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льзуясь письменным планом отве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этапе контрольных мероприятий важ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еспечить выбор различных фор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иде т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иде решения зада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иде выполнения творческо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машнее задание также задается разноуровневое по содержанию и фор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62" dur="1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63" dur="1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73" dur="1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74" dur="1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1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84" dur="1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85" dur="1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Возможен и целесообразен вариант анализа личностно-ориентированного урока, который можно назвать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экспресс-анализом</a:t>
            </a: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Его основные характеристики – мобильность, краткость, сосредоточенность на ведущих (основополагающих) признак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ритерии анализ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ктуализация на уроке субъектного опыта учащих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здание на уроке ситуаций выбора и успех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ведение учащихся в диало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рганизация сотрудничества, совместной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ксперты отмечают в данной схеме наличие или отсутствие этих признаков в деятельности педагога и учащихся на уроке. Предлагаемая модель экспресс-анализа позволяет выразить экспертную оценку и в количественных показател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Scan0037"/>
          <p:cNvPicPr/>
          <p:nvPr/>
        </p:nvPicPr>
        <p:blipFill>
          <a:blip r:embed="rId1"/>
          <a:stretch/>
        </p:blipFill>
        <p:spPr>
          <a:xfrm>
            <a:off x="250920" y="1916280"/>
            <a:ext cx="4151160" cy="277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Scan0038"/>
          <p:cNvPicPr/>
          <p:nvPr/>
        </p:nvPicPr>
        <p:blipFill>
          <a:blip r:embed="rId2"/>
          <a:stretch/>
        </p:blipFill>
        <p:spPr>
          <a:xfrm>
            <a:off x="4357800" y="3286080"/>
            <a:ext cx="4572000" cy="3009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can0038"/>
          <p:cNvPicPr/>
          <p:nvPr/>
        </p:nvPicPr>
        <p:blipFill>
          <a:blip r:embed="rId3"/>
          <a:stretch/>
        </p:blipFill>
        <p:spPr>
          <a:xfrm>
            <a:off x="4356000" y="3284640"/>
            <a:ext cx="4572000" cy="300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Scan0038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009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can0038"/>
          <p:cNvPicPr/>
          <p:nvPr/>
        </p:nvPicPr>
        <p:blipFill>
          <a:blip r:embed="rId5"/>
          <a:stretch/>
        </p:blipFill>
        <p:spPr>
          <a:xfrm>
            <a:off x="4356000" y="3284640"/>
            <a:ext cx="4572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Основной замысел личностно-ориентированного урока состоит в том, чтобы раскрыть содержание субъектного опыта учеников по рассматриваемой теме, согласовать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его с задаваемым знанием и перевести в соответствующее научное   содержание («окультурить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2590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. Гете сказа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«Человек должен вери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непонятное можно понять…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 секрет 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ученикам на уроке интересно тогда, когда понятн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ля того чтобы учиться с интересом и увлечение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учающиеся должны быть вовлечены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нохарактерную деятельность на основе личног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мочь им в этом –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задача всех учителей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умник"/>
          <p:cNvPicPr/>
          <p:nvPr/>
        </p:nvPicPr>
        <p:blipFill>
          <a:blip r:embed="rId1"/>
          <a:stretch/>
        </p:blipFill>
        <p:spPr>
          <a:xfrm>
            <a:off x="6516720" y="1557360"/>
            <a:ext cx="262728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исунок8"/>
          <p:cNvPicPr/>
          <p:nvPr/>
        </p:nvPicPr>
        <p:blipFill>
          <a:blip r:embed="rId1"/>
          <a:stretch/>
        </p:blipFill>
        <p:spPr>
          <a:xfrm>
            <a:off x="5508720" y="692280"/>
            <a:ext cx="4178160" cy="2224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920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Личностно-ориентированная педагогика открывает новые принципиальные подходы и тенденции в решении вопросов «чему» и «как» учить сегод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263664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держание обучения рассматривается как средство развития личности, а не как самодовлеющая ц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учение ведется, прежде всего, обобщенным знаниям, умениям и навыкам и способам мышления; осуществляется объединение, интеграция различных дисципл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стигается вариантность и дифференциация обучения на основе деятельного под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ктивно используется положительная стимуляция у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В рамках личностно-ориентированного обучения как самостоятельные технологии можно выдели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ноуровневое 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лективное взаимо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ное 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ю проектного мет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вые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-коммуникативные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ю сотруднич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Рисунок2"/>
          <p:cNvPicPr/>
          <p:nvPr/>
        </p:nvPicPr>
        <p:blipFill>
          <a:blip r:embed="rId1"/>
          <a:stretch/>
        </p:blipFill>
        <p:spPr>
          <a:xfrm>
            <a:off x="6367320" y="907920"/>
            <a:ext cx="264168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за компьютером"/>
          <p:cNvPicPr/>
          <p:nvPr/>
        </p:nvPicPr>
        <p:blipFill>
          <a:blip r:embed="rId2"/>
          <a:stretch/>
        </p:blipFill>
        <p:spPr>
          <a:xfrm>
            <a:off x="5580000" y="4437000"/>
            <a:ext cx="2843280" cy="212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41-15 копия"/>
          <p:cNvPicPr/>
          <p:nvPr/>
        </p:nvPicPr>
        <p:blipFill>
          <a:blip r:embed="rId3"/>
          <a:stretch/>
        </p:blipFill>
        <p:spPr>
          <a:xfrm>
            <a:off x="250920" y="4508640"/>
            <a:ext cx="259236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Как ключевое звено любой образовательной технологии </a:t>
            </a: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урок</a:t>
            </a:r>
            <a:r>
              <a:rPr b="1" i="1" lang="en-US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традиционно содержит следующие эта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Организационный момент, восприятие, осознание и закрепление в памяти информации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Овладение навыками (на основе усвоенной информации) и опытом творческой деятельности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Усвоение системы норм и опыта эмоционального отношения к миру и деятельности в нем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Контроль и самоконтроль учителя и учащихся. При этом на каждом уроке целенаправленно решаются и задачи воспитани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5" descr="Копия teacher"/>
          <p:cNvPicPr/>
          <p:nvPr/>
        </p:nvPicPr>
        <p:blipFill>
          <a:blip r:embed="rId1"/>
          <a:stretch/>
        </p:blipFill>
        <p:spPr>
          <a:xfrm>
            <a:off x="6804000" y="907920"/>
            <a:ext cx="2125800" cy="2233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ff"/>
                </a:solidFill>
                <a:latin typeface="Verdana"/>
              </a:rPr>
              <a:t>Этапы организации личностно- ориентированного уро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55640" y="1700280"/>
            <a:ext cx="46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вместное   целеполаг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2987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98764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403280" y="3213000"/>
            <a:ext cx="640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езентация новых знаний с учетом предпочт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2987640" y="371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692360" y="4076640"/>
            <a:ext cx="575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ратная связь по особой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2124000" y="4797360"/>
            <a:ext cx="49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менение и закрепление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298764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484360" y="5516640"/>
            <a:ext cx="41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ратная связь и коррек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2987640" y="5950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771640" y="623736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тоговый контро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971640" y="2349360"/>
            <a:ext cx="525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ктуализация личностн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560" y="980640"/>
            <a:ext cx="8245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Verdana"/>
              </a:rPr>
              <a:t>Совместное целеполагание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беспечивает проявление интересов дете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ыстраивается, уточняется и согласовывается система ожиданий от урока</a:t>
            </a:r>
            <a:br>
              <a:rPr sz="1800"/>
            </a:b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цикл уроков по теме «Соли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0900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Учитель задает общий вопрос детя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Что каждому из вас было бы интересно узнать о солях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Учитель вызывает детей на диалог и вместе с учащими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улирует ключевые вопросы предстоящей те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Результатом является табли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03280" y="3573360"/>
          <a:ext cx="8640720" cy="3090960"/>
        </p:xfrm>
        <a:graphic>
          <a:graphicData uri="http://schemas.openxmlformats.org/drawingml/2006/table">
            <a:tbl>
              <a:tblPr/>
              <a:tblGrid>
                <a:gridCol w="4392720"/>
                <a:gridCol w="424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комить учащихся с солями, присутствующими вокруг на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обно рассмотреть классификацию, строение и свойства со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учить писать уравнения химических реакций, отражающих свойства со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знать о применении со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снить способы производства со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ить пользу и вред для челове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48" descr="девочка зубрит"/>
          <p:cNvPicPr/>
          <p:nvPr/>
        </p:nvPicPr>
        <p:blipFill>
          <a:blip r:embed="rId1"/>
          <a:stretch/>
        </p:blipFill>
        <p:spPr>
          <a:xfrm>
            <a:off x="6588000" y="5589720"/>
            <a:ext cx="2233800" cy="99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вопросительный знак"/>
          <p:cNvPicPr/>
          <p:nvPr/>
        </p:nvPicPr>
        <p:blipFill>
          <a:blip r:embed="rId2"/>
          <a:stretch/>
        </p:blipFill>
        <p:spPr>
          <a:xfrm>
            <a:off x="8101080" y="1268280"/>
            <a:ext cx="712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ff"/>
                </a:solidFill>
                <a:latin typeface="Verdana"/>
              </a:rPr>
              <a:t>Совместное целеполагание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икл уроков «Карбоновые кислоты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Verdana"/>
              </a:rPr>
              <a:t>кисло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4"/>
          <p:cNvSpPr/>
          <p:nvPr/>
        </p:nvSpPr>
        <p:spPr>
          <a:xfrm flipV="1">
            <a:off x="4932360" y="335772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932360" y="29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5364000" y="3645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195960" y="32846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5364000" y="4365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251840" y="4138560"/>
            <a:ext cx="14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стро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5076720" y="450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200560" y="466884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классифик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4427640" y="443700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4587840" y="5146560"/>
            <a:ext cx="21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номенкл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H="1">
            <a:off x="3850920" y="4508640"/>
            <a:ext cx="358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722760" y="5506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3"/>
          <p:cNvSpPr/>
          <p:nvPr/>
        </p:nvSpPr>
        <p:spPr>
          <a:xfrm flipH="1">
            <a:off x="2411280" y="4365720"/>
            <a:ext cx="1224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1763640" y="522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25"/>
          <p:cNvSpPr/>
          <p:nvPr/>
        </p:nvSpPr>
        <p:spPr>
          <a:xfrm flipV="1">
            <a:off x="4427640" y="2707920"/>
            <a:ext cx="730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4083120" y="220500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Отдельные</a:t>
            </a: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представите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27"/>
          <p:cNvSpPr/>
          <p:nvPr/>
        </p:nvSpPr>
        <p:spPr>
          <a:xfrm flipH="1" flipV="1">
            <a:off x="1258920" y="393372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1023840" y="358776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полу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9"/>
          <p:cNvSpPr/>
          <p:nvPr/>
        </p:nvSpPr>
        <p:spPr>
          <a:xfrm flipH="1" flipV="1">
            <a:off x="2700000" y="2924280"/>
            <a:ext cx="107964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2124000" y="2482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приме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Копия ac242fedf33bx"/>
          <p:cNvPicPr/>
          <p:nvPr/>
        </p:nvPicPr>
        <p:blipFill>
          <a:blip r:embed="rId1"/>
          <a:stretch/>
        </p:blipFill>
        <p:spPr>
          <a:xfrm>
            <a:off x="5867280" y="436572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ff"/>
                </a:solidFill>
                <a:latin typeface="Verdana"/>
              </a:rPr>
              <a:t>Актуализация личностного опы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ети уже многое знают  из личного опыта. Этот опыт нельзя игнорировать, так как в отличие от изученных научных понятий, он часто обладает большей прочностью и вмешивается в рассуждения и умозаключения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 этом этапе происходит не только согласование житейского и научного опыта, но и порождение личностных смыслов в рамках изучения учеб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Verdana"/>
              </a:rPr>
              <a:t>Актуализация личностного опыт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итель задаёт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Какие соли вам известны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Поваренная, морска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Где вы с ними сталкивались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Дома и в природ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Почему, на ваш взгляд, соли носят такое название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Учащиес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ыстраивают  логические цепочки, обращаясь 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бственному опыту (вспоминают вкус поваренной сол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Учител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омогает детям сделать более правильный выв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Какую пользу приносят соли и какой вред они могут нанест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ащиеся работают в парах или групп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5" descr="вопросительный знак"/>
          <p:cNvPicPr/>
          <p:nvPr/>
        </p:nvPicPr>
        <p:blipFill>
          <a:blip r:embed="rId1"/>
          <a:stretch/>
        </p:blipFill>
        <p:spPr>
          <a:xfrm>
            <a:off x="8028000" y="692280"/>
            <a:ext cx="89388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250920" y="4437000"/>
          <a:ext cx="8497800" cy="2324160"/>
        </p:xfrm>
        <a:graphic>
          <a:graphicData uri="http://schemas.openxmlformats.org/drawingml/2006/table">
            <a:tbl>
              <a:tblPr/>
              <a:tblGrid>
                <a:gridCol w="4179960"/>
                <a:gridCol w="431784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ь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нение в качестве пищевых ингред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я сохранности пищи   (консерван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тигололёдный компон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ие в процессе обмена веществ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резмерное потребление соли приводит к отложению солей в организ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тигололёдные средства портят обувь, вызывают сильную коррозию кузова автомоби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7:48:19Z</dcterms:created>
  <dc:creator>Admin</dc:creator>
  <dc:description/>
  <dc:language>en-US</dc:language>
  <cp:lastModifiedBy>Admin</cp:lastModifiedBy>
  <dcterms:modified xsi:type="dcterms:W3CDTF">2011-11-18T17:51:39Z</dcterms:modified>
  <cp:revision>24</cp:revision>
  <dc:subject/>
  <dc:title>Слайд 1</dc:title>
</cp:coreProperties>
</file>