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4.wmf" ContentType="image/x-wmf"/>
  <Override PartName="/ppt/media/image5.jpeg" ContentType="image/jpeg"/>
  <Override PartName="/ppt/media/image6.gif" ContentType="image/gif"/>
  <Override PartName="/ppt/media/image11.gif" ContentType="image/gif"/>
  <Override PartName="/ppt/media/image2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7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BBB-33E7-4519-81CA-6824E003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AC6-C2A6-49D6-A6E6-8D6F353D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9B4-3013-44DE-8D8F-FAA824A1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3C3-0EBD-4663-915A-F2387851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7A2-F75C-4383-B0B6-280EAED1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667-7F43-47BD-831B-059022EA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B27-2499-4ADC-9DEE-80C0AB05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A21-B498-468F-872B-A7B41182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68A-410B-4E64-80C4-6AC2FCA4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B08-9810-4FF9-8644-3745D7FD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633-AC80-4537-BB4E-BDEBE4CC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3F1-401C-4CEB-9519-DCBEC7C6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9FE6-0373-4A4E-8173-80F0047CF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abba20d68388x"/>
          <p:cNvPicPr/>
          <p:nvPr/>
        </p:nvPicPr>
        <p:blipFill>
          <a:blip r:embed="rId1"/>
          <a:stretch/>
        </p:blipFill>
        <p:spPr>
          <a:xfrm>
            <a:off x="0" y="0"/>
            <a:ext cx="4859280" cy="3724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Проек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5105520"/>
            <a:ext cx="295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тырёва Г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в А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шко Е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тникова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187280" y="1052640"/>
            <a:ext cx="7705800" cy="40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ЗНАНИЕ - СИЛ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88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755640" y="2349360"/>
            <a:ext cx="703908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ЛАГОДАРИМ ЗА ВНИМАНИЕ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41-25 копия"/>
          <p:cNvPicPr/>
          <p:nvPr/>
        </p:nvPicPr>
        <p:blipFill>
          <a:blip r:embed="rId1"/>
          <a:stretch/>
        </p:blipFill>
        <p:spPr>
          <a:xfrm>
            <a:off x="5940360" y="1916280"/>
            <a:ext cx="320364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Знания, которые не пополняются ежедневно,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убывают с каждым днё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(китайская послов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Неделя естественных наук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обучения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ественным наукам больш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ение имеет хорош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нная внекласс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а способствует углублению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хся, развитию их дарова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гического мышления, расшир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го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умная занимательность позво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интересованность учащихся предмет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лечь их в серьёз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41-23 копия"/>
          <p:cNvPicPr/>
          <p:nvPr/>
        </p:nvPicPr>
        <p:blipFill>
          <a:blip r:embed="rId1"/>
          <a:stretch/>
        </p:blipFill>
        <p:spPr>
          <a:xfrm>
            <a:off x="3940200" y="1268280"/>
            <a:ext cx="5203800" cy="530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Знания, которые не пополняются ежедневно,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убывают с каждым днё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(китайская послов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особенность предметной недел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динение разных возрас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 учащихся и создание услов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их совместной познав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твор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оприятия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читаны на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пятого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надцатый класс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этом прое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ствует развити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реплению социа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реализ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воляет пережить  ситуацию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на книгах"/>
          <p:cNvPicPr/>
          <p:nvPr/>
        </p:nvPicPr>
        <p:blipFill>
          <a:blip r:embed="rId1"/>
          <a:stretch/>
        </p:blipFill>
        <p:spPr>
          <a:xfrm>
            <a:off x="611280" y="5524560"/>
            <a:ext cx="1944720" cy="133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C41-18 копия"/>
          <p:cNvPicPr/>
          <p:nvPr/>
        </p:nvPicPr>
        <p:blipFill>
          <a:blip r:embed="rId2"/>
          <a:stretch/>
        </p:blipFill>
        <p:spPr>
          <a:xfrm>
            <a:off x="0" y="1268280"/>
            <a:ext cx="4321080" cy="3483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ловек в современном мире должен уметь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 решать нау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ные и      общественные зада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мысл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а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таивать свою точку зр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я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ние других лю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че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прерывно пополнять и обновлять свои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само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51745259"/>
          <p:cNvPicPr/>
          <p:nvPr/>
        </p:nvPicPr>
        <p:blipFill>
          <a:blip r:embed="rId3"/>
          <a:stretch/>
        </p:blipFill>
        <p:spPr>
          <a:xfrm>
            <a:off x="6948360" y="5560920"/>
            <a:ext cx="2195640" cy="12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7760" y="-360"/>
            <a:ext cx="8435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сновные цели и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78508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ь ученику возможность реализовать свои творческие способности, имеющиеся знания и умения в других областях деятельности при выполнени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овлетворить потребности ребенка в самоутверждении, социальной самореализации через предметную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ть деятельность учащихся через активные ф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ь формировать общеучебные умения и навыки учащихся: планировать работу и поэтапно осуществлять её, работать с дополнительной литературой, проводить презен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ть условия для развития интереса учащихся к естественным нау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культуру коллективного общения, навыков работы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ть методическую и внеклассную работу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АПЫ   РАБОТЫ</a:t>
            </a:r>
            <a:br>
              <a:rPr sz="28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ирование и определение сроков пр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484280"/>
          <a:ext cx="8713800" cy="4176720"/>
        </p:xfrm>
        <a:graphic>
          <a:graphicData uri="http://schemas.openxmlformats.org/drawingml/2006/table">
            <a:tbl>
              <a:tblPr/>
              <a:tblGrid>
                <a:gridCol w="504720"/>
                <a:gridCol w="1224000"/>
                <a:gridCol w="6985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 нед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газет и кроссвордов, защита реферато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на «Удивительный мир веще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кцион знаний «Мы – ген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вящение в хим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-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еренция «Самое удивительное вещество планеты – во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день по всему миру. КТ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мпиа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90"/>
          <p:cNvSpPr/>
          <p:nvPr/>
        </p:nvSpPr>
        <p:spPr>
          <a:xfrm>
            <a:off x="250920" y="5877000"/>
            <a:ext cx="90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3.  Подведение итогов недели. Награждение. Выпуск бюллетеня с фоторепортажем. Размещение отчета на сайт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1"/>
          <p:cNvSpPr/>
          <p:nvPr/>
        </p:nvSpPr>
        <p:spPr>
          <a:xfrm flipH="1">
            <a:off x="-2341440" y="6040440"/>
            <a:ext cx="286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2789205738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НСТРУ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е реак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ографически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ьют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даточ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ск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оуз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овый з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98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920" y="1125000"/>
            <a:ext cx="7129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динение разных возрастных групп обучающихся и создание условий для совместной познавательной и творческой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ие кругозора и повышение мотивации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явление одарённых детей и воспитание у слабоуспевающих ребят веры и свои силы и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я учащихся, рефераты, стенгазеты, радиогазеты, заметки на школьном сайте, фотоотч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razdnikia-145"/>
          <p:cNvPicPr/>
          <p:nvPr/>
        </p:nvPicPr>
        <p:blipFill>
          <a:blip r:embed="rId1"/>
          <a:stretch/>
        </p:blipFill>
        <p:spPr>
          <a:xfrm>
            <a:off x="971640" y="476280"/>
            <a:ext cx="7129440" cy="604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prazdnikia-2376"/>
          <p:cNvPicPr/>
          <p:nvPr/>
        </p:nvPicPr>
        <p:blipFill>
          <a:blip r:embed="rId2"/>
          <a:stretch/>
        </p:blipFill>
        <p:spPr>
          <a:xfrm>
            <a:off x="8388360" y="260280"/>
            <a:ext cx="50796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prazdnikia-2442"/>
          <p:cNvPicPr/>
          <p:nvPr/>
        </p:nvPicPr>
        <p:blipFill>
          <a:blip r:embed="rId3"/>
          <a:stretch/>
        </p:blipFill>
        <p:spPr>
          <a:xfrm>
            <a:off x="179280" y="3645000"/>
            <a:ext cx="93672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prazdnikia-2353"/>
          <p:cNvPicPr/>
          <p:nvPr/>
        </p:nvPicPr>
        <p:blipFill>
          <a:blip r:embed="rId4"/>
          <a:stretch/>
        </p:blipFill>
        <p:spPr>
          <a:xfrm>
            <a:off x="0" y="62064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prazdnikia-720"/>
          <p:cNvPicPr/>
          <p:nvPr/>
        </p:nvPicPr>
        <p:blipFill>
          <a:blip r:embed="rId5"/>
          <a:stretch/>
        </p:blipFill>
        <p:spPr>
          <a:xfrm>
            <a:off x="7458120" y="1989000"/>
            <a:ext cx="1685880" cy="273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аплодисменты"/>
          <p:cNvPicPr/>
          <p:nvPr/>
        </p:nvPicPr>
        <p:blipFill>
          <a:blip r:embed="rId6"/>
          <a:stretch/>
        </p:blipFill>
        <p:spPr>
          <a:xfrm>
            <a:off x="6948360" y="5157720"/>
            <a:ext cx="19465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4038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анкетирования учащихся было выявлено, что увеличилось количество учеников, занимающихся на элективных 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химии на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биологии на 1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географии на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желающих сдавать ГИА и ЕГЭ по предметам увеличило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химии на 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биологии на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географии на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724360" y="907920"/>
          <a:ext cx="2813040" cy="254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907920"/>
                    <a:ext cx="28130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7"/>
          <p:cNvGraphicFramePr/>
          <p:nvPr/>
        </p:nvGraphicFramePr>
        <p:xfrm>
          <a:off x="4067280" y="4221000"/>
          <a:ext cx="471636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221000"/>
                    <a:ext cx="471636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56:24Z</dcterms:created>
  <dc:creator>Admin</dc:creator>
  <dc:description/>
  <dc:language>en-US</dc:language>
  <cp:lastModifiedBy>Администратор</cp:lastModifiedBy>
  <dcterms:modified xsi:type="dcterms:W3CDTF">2011-11-15T11:14:21Z</dcterms:modified>
  <cp:revision>21</cp:revision>
  <dc:subject/>
  <dc:title>Слайд 1</dc:title>
</cp:coreProperties>
</file>