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4.wmf" ContentType="image/x-wmf"/>
  <Override PartName="/ppt/media/image5.jpeg" ContentType="image/jpeg"/>
  <Override PartName="/ppt/media/image6.gif" ContentType="image/gif"/>
  <Override PartName="/ppt/media/image11.gif" ContentType="image/gif"/>
  <Override PartName="/ppt/media/image2.jpeg" ContentType="image/jpeg"/>
  <Override PartName="/ppt/media/image15.wmf" ContentType="image/x-wmf"/>
  <Override PartName="/ppt/media/image1.jpeg" ContentType="image/jpeg"/>
  <Override PartName="/ppt/media/image4.gif" ContentType="image/gif"/>
  <Override PartName="/ppt/media/image7.jpeg" ContentType="image/jpeg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9FA-9A67-40EC-9962-F382C961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2FD0-2A81-427D-8C3A-52BC2611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D5A-C42A-4F57-9CD2-7D0F794F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DB6-9091-49F8-B5BE-5325334C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9A3-6131-4E32-9588-75B5B8A1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7AF-96E9-44BF-AB01-A0BF667F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C76-1902-49C0-BD30-C9F19A04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7CC-7E01-4AA0-AEAE-EC0045DC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35C-872B-48D8-A150-B04D1B46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ABD-46BB-49B6-8A40-15279E20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E1C-07A2-45A9-8769-FD84713A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86D4-338A-4658-B6D5-52067811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F346-7193-41C7-B7BD-6C43979B22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abba20d68388x"/>
          <p:cNvPicPr/>
          <p:nvPr/>
        </p:nvPicPr>
        <p:blipFill>
          <a:blip r:embed="rId1"/>
          <a:stretch/>
        </p:blipFill>
        <p:spPr>
          <a:xfrm>
            <a:off x="0" y="0"/>
            <a:ext cx="4859280" cy="3724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 Black"/>
              </a:rPr>
              <a:t>                     </a:t>
            </a:r>
            <a:r>
              <a:rPr b="1" lang="ru-RU" sz="4000" spc="-1" strike="noStrike">
                <a:solidFill>
                  <a:srgbClr val="333399"/>
                </a:solidFill>
                <a:latin typeface="Arial Black"/>
              </a:rPr>
              <a:t>Проек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0" y="5105520"/>
            <a:ext cx="295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тырёва Г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в А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шко Е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тникова Л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1187280" y="1052640"/>
            <a:ext cx="7705800" cy="40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ЗНАНИЕ - СИЛА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88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755640" y="2349360"/>
            <a:ext cx="7039080" cy="25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ЛАГОДАРИМ ЗА ВНИМАНИЕ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41-25 копия"/>
          <p:cNvPicPr/>
          <p:nvPr/>
        </p:nvPicPr>
        <p:blipFill>
          <a:blip r:embed="rId1"/>
          <a:stretch/>
        </p:blipFill>
        <p:spPr>
          <a:xfrm>
            <a:off x="5940360" y="1916280"/>
            <a:ext cx="320364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Знания, которые не пополняются ежедневно,</a:t>
            </a:r>
            <a:br>
              <a:rPr sz="2400"/>
            </a:b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убывают с каждым днё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(китайская послов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Неделя естественных наук в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цессе обучения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ественным наукам больш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чение имеет хорош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ованная внекласс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предм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а способствует углублению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щихся, развитию их дарова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гического мышления, расшир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угоз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умная занимательность позвол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интересованность учащихся предмет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влечь их в серьёз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ую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41-23 копия"/>
          <p:cNvPicPr/>
          <p:nvPr/>
        </p:nvPicPr>
        <p:blipFill>
          <a:blip r:embed="rId1"/>
          <a:stretch/>
        </p:blipFill>
        <p:spPr>
          <a:xfrm>
            <a:off x="3940200" y="1268280"/>
            <a:ext cx="5203800" cy="5300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848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Знания, которые не пополняются ежедневно,</a:t>
            </a:r>
            <a:br>
              <a:rPr sz="2400"/>
            </a:b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убывают с каждым днё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(китайская послов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ая особенность предметной недел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динение разных возрас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 учащихся и создание услов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их совместной познава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твор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оприятия Не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читаны на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пятого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иннадцатый класс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в этом прое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ствует развитию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реплению социа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реализа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воляет пережить  ситуацию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на книгах"/>
          <p:cNvPicPr/>
          <p:nvPr/>
        </p:nvPicPr>
        <p:blipFill>
          <a:blip r:embed="rId1"/>
          <a:stretch/>
        </p:blipFill>
        <p:spPr>
          <a:xfrm>
            <a:off x="611280" y="5524560"/>
            <a:ext cx="1944720" cy="133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C41-18 копия"/>
          <p:cNvPicPr/>
          <p:nvPr/>
        </p:nvPicPr>
        <p:blipFill>
          <a:blip r:embed="rId2"/>
          <a:stretch/>
        </p:blipFill>
        <p:spPr>
          <a:xfrm>
            <a:off x="0" y="1268280"/>
            <a:ext cx="4321080" cy="3483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ловек в современном мире должен уметь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ки решать нау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ственные и      общественные зада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мысл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ат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таивать свою точку зр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ая при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ние других люд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че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епрерывно пополнять и обновлять свои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ем само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51745259"/>
          <p:cNvPicPr/>
          <p:nvPr/>
        </p:nvPicPr>
        <p:blipFill>
          <a:blip r:embed="rId3"/>
          <a:stretch/>
        </p:blipFill>
        <p:spPr>
          <a:xfrm>
            <a:off x="6948360" y="5560920"/>
            <a:ext cx="2195640" cy="12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7760" y="-360"/>
            <a:ext cx="84358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сновные цели и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878508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ь ученику возможность реализовать свои творческие способности, имеющиеся знания и умения в других областях деятельности при выполнении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овлетворить потребности ребенка в самоутверждении, социальной самореализации через предметную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овать деятельность учащихся через активные фор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олжить формировать общеучебные умения и навыки учащихся: планировать работу и поэтапно осуществлять её, работать с дополнительной литературой, проводить презент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ть условия для развития интереса учащихся к естественным нау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ывать культуру коллективного общения, навыков работы в коман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ть методическую и внеклассную работу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ТАПЫ   РАБОТЫ</a:t>
            </a:r>
            <a:br>
              <a:rPr sz="2800"/>
            </a:b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ирование и определение сроков пр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1484280"/>
          <a:ext cx="8713800" cy="4176720"/>
        </p:xfrm>
        <a:graphic>
          <a:graphicData uri="http://schemas.openxmlformats.org/drawingml/2006/table">
            <a:tbl>
              <a:tblPr/>
              <a:tblGrid>
                <a:gridCol w="504720"/>
                <a:gridCol w="1224000"/>
                <a:gridCol w="698508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ие неде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газет и кроссвордов, защита реферато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торина «Удивительный мир вещест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-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кцион знаний «Мы – гени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вящение в хим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-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ференция «Самое удивительное вещество планеты – вод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день по всему миру. КТ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-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мпиа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едение итог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90"/>
          <p:cNvSpPr/>
          <p:nvPr/>
        </p:nvSpPr>
        <p:spPr>
          <a:xfrm>
            <a:off x="250920" y="5877000"/>
            <a:ext cx="90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п 3.  Подведение итогов недели. Награждение. Выпуск бюллетеня с фоторепортажем. Размещение отчета на сайте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1"/>
          <p:cNvSpPr/>
          <p:nvPr/>
        </p:nvSpPr>
        <p:spPr>
          <a:xfrm flipH="1">
            <a:off x="-2341440" y="6040440"/>
            <a:ext cx="286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68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68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68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2789205738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НСТРУМЕНТ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ие реакт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ографические к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б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ьют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даточный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кроско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диоуз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овый з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98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98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98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98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ОЖИДАЕМЫЙ РЕЗУЛЬ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8920" y="1125000"/>
            <a:ext cx="7129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динение разных возрастных групп обучающихся и создание условий для совместной познавательной и творческой акт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ширение кругозора и повышение мотивации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явление одарённых детей и воспитание у слабоуспевающих ребят веры и свои силы и возм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ентация учащихся, рефераты, стенгазеты, радиогазеты, заметки на школьном сайте, фотоотч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razdnikia-145"/>
          <p:cNvPicPr/>
          <p:nvPr/>
        </p:nvPicPr>
        <p:blipFill>
          <a:blip r:embed="rId1"/>
          <a:stretch/>
        </p:blipFill>
        <p:spPr>
          <a:xfrm>
            <a:off x="971640" y="476280"/>
            <a:ext cx="7129440" cy="604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prazdnikia-2376"/>
          <p:cNvPicPr/>
          <p:nvPr/>
        </p:nvPicPr>
        <p:blipFill>
          <a:blip r:embed="rId2"/>
          <a:stretch/>
        </p:blipFill>
        <p:spPr>
          <a:xfrm>
            <a:off x="8388360" y="260280"/>
            <a:ext cx="50796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prazdnikia-2442"/>
          <p:cNvPicPr/>
          <p:nvPr/>
        </p:nvPicPr>
        <p:blipFill>
          <a:blip r:embed="rId3"/>
          <a:stretch/>
        </p:blipFill>
        <p:spPr>
          <a:xfrm>
            <a:off x="179280" y="3645000"/>
            <a:ext cx="93672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prazdnikia-2353"/>
          <p:cNvPicPr/>
          <p:nvPr/>
        </p:nvPicPr>
        <p:blipFill>
          <a:blip r:embed="rId4"/>
          <a:stretch/>
        </p:blipFill>
        <p:spPr>
          <a:xfrm>
            <a:off x="0" y="62064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prazdnikia-720"/>
          <p:cNvPicPr/>
          <p:nvPr/>
        </p:nvPicPr>
        <p:blipFill>
          <a:blip r:embed="rId5"/>
          <a:stretch/>
        </p:blipFill>
        <p:spPr>
          <a:xfrm>
            <a:off x="7458120" y="1989000"/>
            <a:ext cx="1685880" cy="273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аплодисменты"/>
          <p:cNvPicPr/>
          <p:nvPr/>
        </p:nvPicPr>
        <p:blipFill>
          <a:blip r:embed="rId6"/>
          <a:stretch/>
        </p:blipFill>
        <p:spPr>
          <a:xfrm>
            <a:off x="6948360" y="5157720"/>
            <a:ext cx="19465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40384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анкетирования учащихся было выявлено, что увеличилось количество учеников, занимающихся на элективных кур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химии на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биологии на 1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географии на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о желающих сдавать ГИА и ЕГЭ по предметам увеличило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химии на 5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биологии на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географии на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5724360" y="907920"/>
          <a:ext cx="2813040" cy="254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907920"/>
                    <a:ext cx="281304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7"/>
          <p:cNvGraphicFramePr/>
          <p:nvPr/>
        </p:nvGraphicFramePr>
        <p:xfrm>
          <a:off x="4067280" y="4221000"/>
          <a:ext cx="4716360" cy="263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221000"/>
                    <a:ext cx="471636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7:56:24Z</dcterms:created>
  <dc:creator>Admin</dc:creator>
  <dc:description/>
  <dc:language>en-US</dc:language>
  <cp:lastModifiedBy>Администратор</cp:lastModifiedBy>
  <dcterms:modified xsi:type="dcterms:W3CDTF">2011-11-15T11:14:21Z</dcterms:modified>
  <cp:revision>21</cp:revision>
  <dc:subject/>
  <dc:title>Слайд 1</dc:title>
</cp:coreProperties>
</file>