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761-DC81-432D-A972-9B463E26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CFD-60C1-454A-9FCE-3A9BB8ED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CEC-B447-4C0F-9DD0-76737604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64B-F670-4FD2-8FA1-5727B64D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D043-CACE-46E1-928F-67C52FF4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7EA7-868F-482B-83AE-B50ED793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AD2B-95AC-4BD0-B723-DAEA8B3F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CDAD-54B7-479D-A73B-EBEF8402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3400-D0E9-43B5-8FA8-9E99FFC9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BC39-3740-4A1C-915D-38A7915E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44E9-2862-4776-8B9A-F776FCE0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17D-95D3-47B8-A26B-B6994B4E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4CD1-72F1-429D-BF4E-EBAE5909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A4A8-6F64-4EBC-8962-494839DB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4E00-4D68-4288-85F9-B83FD760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CC5D-3EED-4E70-9CE7-81FE89B1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BA5C-DDD1-4C6B-968C-82EEF178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A7C-4EA5-49C2-89AE-494C7CDB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DD2-8DDC-446E-9E70-4690FBCD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985-30F3-43D2-8B50-991CF43F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0DE-2031-4AF7-A96E-AF5095A9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72D-E0C0-4481-9587-42C99A85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893-4012-4704-806F-C262BD86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03C-D220-4D8B-9C7B-12EB5303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B1C2-2222-4BF5-8E95-D96A6A0DAA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0B3F-E937-4B3C-886C-E22334B1EF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Bookman Old Style"/>
              </a:rPr>
              <a:t>МОУ СОШ № 12</a:t>
            </a:r>
            <a:endParaRPr b="0" lang="en-US" sz="29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00600" y="3352320"/>
            <a:ext cx="5105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Подготов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Андрущак И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Ученик 4в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онсульта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Белькова О.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лассный руковод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Сухарева С.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47920" y="609480"/>
            <a:ext cx="7024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накомтесь: части речи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2520" y="1752480"/>
            <a:ext cx="3809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ookman Old Style"/>
              </a:rPr>
              <a:t>Наречи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57200" y="1752480"/>
            <a:ext cx="320508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-360" y="1600200"/>
            <a:ext cx="9144360" cy="5257800"/>
            <a:chOff x="-360" y="1600200"/>
            <a:chExt cx="9144360" cy="5257800"/>
          </a:xfrm>
        </p:grpSpPr>
        <p:sp>
          <p:nvSpPr>
            <p:cNvPr id="102" name=""/>
            <p:cNvSpPr/>
            <p:nvPr/>
          </p:nvSpPr>
          <p:spPr>
            <a:xfrm>
              <a:off x="5105520" y="3657600"/>
              <a:ext cx="1066680" cy="32004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437920" y="3657600"/>
              <a:ext cx="1295640" cy="32004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48520" y="3581280"/>
              <a:ext cx="2895480" cy="213372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520" y="1981080"/>
              <a:ext cx="2590560" cy="9144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-360" y="3657600"/>
              <a:ext cx="2590920" cy="236232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360" y="2133720"/>
              <a:ext cx="2590920" cy="9144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666880" y="1600200"/>
              <a:ext cx="3505320" cy="1981080"/>
            </a:xfrm>
            <a:prstGeom prst="rect">
              <a:avLst/>
            </a:prstGeom>
            <a:ln w="76320">
              <a:solidFill>
                <a:srgbClr val="ffff66"/>
              </a:solidFill>
              <a:miter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Разряды наречий по значению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685800"/>
            <a:ext cx="55627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Что обозначают нареч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048120"/>
            <a:ext cx="1981080" cy="609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им образ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143000"/>
            <a:ext cx="2362320" cy="3808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? Куда? Отку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3962520"/>
            <a:ext cx="2209680" cy="990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колько (раз)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 сколько (раз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какой степен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какой мер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3048120"/>
            <a:ext cx="2361960" cy="609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ему? Отче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какой причи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1066680"/>
            <a:ext cx="2361960" cy="533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чем? Для чег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какой цель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loud"/>
          <p:cNvSpPr/>
          <p:nvPr/>
        </p:nvSpPr>
        <p:spPr>
          <a:xfrm>
            <a:off x="6477120" y="1981080"/>
            <a:ext cx="2438280" cy="91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мышл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наз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"/>
          <p:cNvSpPr/>
          <p:nvPr/>
        </p:nvSpPr>
        <p:spPr>
          <a:xfrm>
            <a:off x="0" y="1981080"/>
            <a:ext cx="2057400" cy="99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Вдал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Кое-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loud"/>
          <p:cNvSpPr/>
          <p:nvPr/>
        </p:nvSpPr>
        <p:spPr>
          <a:xfrm>
            <a:off x="0" y="4495680"/>
            <a:ext cx="2057400" cy="99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Жар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бы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-6019920" y="4952880"/>
            <a:ext cx="2057400" cy="1379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loud"/>
          <p:cNvSpPr/>
          <p:nvPr/>
        </p:nvSpPr>
        <p:spPr>
          <a:xfrm>
            <a:off x="1371600" y="5707080"/>
            <a:ext cx="2819520" cy="1150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Тот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впоследств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loud"/>
          <p:cNvSpPr/>
          <p:nvPr/>
        </p:nvSpPr>
        <p:spPr>
          <a:xfrm>
            <a:off x="12649320" y="5029200"/>
            <a:ext cx="2057400" cy="1379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loud"/>
          <p:cNvSpPr/>
          <p:nvPr/>
        </p:nvSpPr>
        <p:spPr>
          <a:xfrm>
            <a:off x="7086600" y="4267080"/>
            <a:ext cx="2057400" cy="1067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Сгоря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сосле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loud"/>
          <p:cNvSpPr/>
          <p:nvPr/>
        </p:nvSpPr>
        <p:spPr>
          <a:xfrm>
            <a:off x="4648320" y="5691240"/>
            <a:ext cx="2514600" cy="1166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Вд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Чуть-ч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3962520"/>
            <a:ext cx="1905120" cy="990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гд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 каких по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 каких по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к долг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600200"/>
            <a:ext cx="16621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есто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0" y="1600200"/>
            <a:ext cx="1295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цел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33720" y="5105520"/>
            <a:ext cx="1662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рем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365760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образ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ейств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0" y="5029200"/>
            <a:ext cx="1981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ера 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епен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934320" y="3809880"/>
            <a:ext cx="22096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ичин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066680" y="1038240"/>
            <a:ext cx="7543800" cy="5819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152280"/>
            <a:ext cx="883908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Какую роль в языке выполняют нареч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28195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Береги честь смоло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Послов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Он всегда немного бледнел, когда смеялся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В. Каве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0"/>
            <a:ext cx="69339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Роль наречия в предло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0" y="608400"/>
            <a:ext cx="4343400" cy="213372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Где? Куда? Когда? Отк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Почему? Зачем? и 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стоя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981080"/>
            <a:ext cx="3505320" cy="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1600200"/>
            <a:ext cx="1447920" cy="6858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562720" y="1676520"/>
            <a:ext cx="3295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нтаксический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знак наречий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733920"/>
            <a:ext cx="883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ечия зависят от глаголов, прилагательных или от других наречий, образуя с ними словосочет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Быстро бежать, очень вкусный, слишком гром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864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Морфологическим признаком является из неизменяемость. Они не имеют рода, числа, падежа, не склоняются и не спрягаются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85800" y="4800600"/>
            <a:ext cx="6781680" cy="228600"/>
            <a:chOff x="685800" y="4800600"/>
            <a:chExt cx="6781680" cy="228600"/>
          </a:xfrm>
        </p:grpSpPr>
        <p:grpSp>
          <p:nvGrpSpPr>
            <p:cNvPr id="142" name=""/>
            <p:cNvGrpSpPr/>
            <p:nvPr/>
          </p:nvGrpSpPr>
          <p:grpSpPr>
            <a:xfrm>
              <a:off x="685800" y="4800600"/>
              <a:ext cx="1295280" cy="228600"/>
              <a:chOff x="685800" y="4800600"/>
              <a:chExt cx="1295280" cy="228600"/>
            </a:xfrm>
          </p:grpSpPr>
          <p:sp>
            <p:nvSpPr>
              <p:cNvPr id="143" name=""/>
              <p:cNvSpPr/>
              <p:nvPr/>
            </p:nvSpPr>
            <p:spPr>
              <a:xfrm>
                <a:off x="685800" y="480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85800" y="480060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81080" y="480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200400" y="4800600"/>
              <a:ext cx="1295280" cy="228600"/>
              <a:chOff x="3200400" y="4800600"/>
              <a:chExt cx="1295280" cy="228600"/>
            </a:xfrm>
          </p:grpSpPr>
          <p:sp>
            <p:nvSpPr>
              <p:cNvPr id="147" name=""/>
              <p:cNvSpPr/>
              <p:nvPr/>
            </p:nvSpPr>
            <p:spPr>
              <a:xfrm>
                <a:off x="3200400" y="480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00400" y="480060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95680" y="480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638680" y="4800600"/>
              <a:ext cx="1295640" cy="228600"/>
              <a:chOff x="5638680" y="4800600"/>
              <a:chExt cx="1295640" cy="228600"/>
            </a:xfrm>
          </p:grpSpPr>
          <p:sp>
            <p:nvSpPr>
              <p:cNvPr id="151" name=""/>
              <p:cNvSpPr/>
              <p:nvPr/>
            </p:nvSpPr>
            <p:spPr>
              <a:xfrm>
                <a:off x="5638680" y="480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638680" y="480060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934320" y="480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 txBox="1"/>
            <p:nvPr/>
          </p:nvSpPr>
          <p:spPr>
            <a:xfrm>
              <a:off x="2209680" y="4876920"/>
              <a:ext cx="1526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4800600" y="4876920"/>
              <a:ext cx="15228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7315200" y="4876920"/>
              <a:ext cx="15228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419720" y="32004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3657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9320" y="0"/>
            <a:ext cx="69339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Образование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280" y="685800"/>
          <a:ext cx="8839440" cy="6019920"/>
        </p:xfrm>
        <a:graphic>
          <a:graphicData uri="http://schemas.openxmlformats.org/drawingml/2006/table">
            <a:tbl>
              <a:tblPr/>
              <a:tblGrid>
                <a:gridCol w="2743200"/>
                <a:gridCol w="1600200"/>
                <a:gridCol w="1676520"/>
                <a:gridCol w="281952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От какой части реч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 помощью какой морфемы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8000"/>
                          </a:solidFill>
                          <a:latin typeface="Agency FB"/>
                        </a:rPr>
                        <a:t>Сущест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р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ер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шк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льк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дач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106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8000"/>
                          </a:solidFill>
                          <a:latin typeface="Agency FB"/>
                        </a:rPr>
                        <a:t>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вуч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-ново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у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8000"/>
                          </a:solidFill>
                          <a:latin typeface="Agency FB"/>
                        </a:rPr>
                        <a:t>Числ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ж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-втор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во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8000"/>
                          </a:solidFill>
                          <a:latin typeface="Agency FB"/>
                        </a:rPr>
                        <a:t>Местоим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-мое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8000"/>
                          </a:solidFill>
                          <a:latin typeface="Agency FB"/>
                        </a:rPr>
                        <a:t>Гла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рипрыж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дого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3276720" y="1295280"/>
            <a:ext cx="838080" cy="304920"/>
            <a:chOff x="3276720" y="1295280"/>
            <a:chExt cx="838080" cy="304920"/>
          </a:xfrm>
        </p:grpSpPr>
        <p:sp>
          <p:nvSpPr>
            <p:cNvPr id="162" name=""/>
            <p:cNvSpPr/>
            <p:nvPr/>
          </p:nvSpPr>
          <p:spPr>
            <a:xfrm>
              <a:off x="3276720" y="1295280"/>
              <a:ext cx="83808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105520" y="1219320"/>
            <a:ext cx="380880" cy="304560"/>
            <a:chOff x="5105520" y="1219320"/>
            <a:chExt cx="380880" cy="304560"/>
          </a:xfrm>
        </p:grpSpPr>
        <p:sp>
          <p:nvSpPr>
            <p:cNvPr id="165" name=""/>
            <p:cNvSpPr/>
            <p:nvPr/>
          </p:nvSpPr>
          <p:spPr>
            <a:xfrm flipV="1">
              <a:off x="5105520" y="1219320"/>
              <a:ext cx="190440" cy="30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5960" y="1219320"/>
              <a:ext cx="190440" cy="30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400800" y="1295280"/>
            <a:ext cx="838080" cy="228600"/>
            <a:chOff x="6400800" y="1295280"/>
            <a:chExt cx="838080" cy="228600"/>
          </a:xfrm>
        </p:grpSpPr>
        <p:sp>
          <p:nvSpPr>
            <p:cNvPr id="168" name=""/>
            <p:cNvSpPr/>
            <p:nvPr/>
          </p:nvSpPr>
          <p:spPr>
            <a:xfrm>
              <a:off x="6400800" y="1295280"/>
              <a:ext cx="83808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880" y="1295280"/>
              <a:ext cx="0" cy="2286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229600" y="1294920"/>
            <a:ext cx="380880" cy="305280"/>
            <a:chOff x="8229600" y="1294920"/>
            <a:chExt cx="380880" cy="305280"/>
          </a:xfrm>
        </p:grpSpPr>
        <p:sp>
          <p:nvSpPr>
            <p:cNvPr id="171" name=""/>
            <p:cNvSpPr/>
            <p:nvPr/>
          </p:nvSpPr>
          <p:spPr>
            <a:xfrm flipV="1">
              <a:off x="8229600" y="1294920"/>
              <a:ext cx="190440" cy="3049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20040" y="1295280"/>
              <a:ext cx="190440" cy="3049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24080" y="1828800"/>
            <a:ext cx="304920" cy="76320"/>
            <a:chOff x="3124080" y="1828800"/>
            <a:chExt cx="304920" cy="76320"/>
          </a:xfrm>
        </p:grpSpPr>
        <p:sp>
          <p:nvSpPr>
            <p:cNvPr id="174" name=""/>
            <p:cNvSpPr/>
            <p:nvPr/>
          </p:nvSpPr>
          <p:spPr>
            <a:xfrm>
              <a:off x="3124080" y="1828800"/>
              <a:ext cx="3049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182880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200400" y="2286000"/>
            <a:ext cx="304920" cy="76320"/>
            <a:chOff x="3200400" y="2286000"/>
            <a:chExt cx="304920" cy="76320"/>
          </a:xfrm>
        </p:grpSpPr>
        <p:sp>
          <p:nvSpPr>
            <p:cNvPr id="177" name=""/>
            <p:cNvSpPr/>
            <p:nvPr/>
          </p:nvSpPr>
          <p:spPr>
            <a:xfrm>
              <a:off x="3200400" y="2286000"/>
              <a:ext cx="3049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5320" y="228600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4120" y="1752480"/>
            <a:ext cx="380880" cy="152640"/>
            <a:chOff x="5334120" y="1752480"/>
            <a:chExt cx="380880" cy="152640"/>
          </a:xfrm>
        </p:grpSpPr>
        <p:sp>
          <p:nvSpPr>
            <p:cNvPr id="180" name=""/>
            <p:cNvSpPr/>
            <p:nvPr/>
          </p:nvSpPr>
          <p:spPr>
            <a:xfrm flipV="1">
              <a:off x="5334120" y="1752480"/>
              <a:ext cx="19044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24560" y="1752480"/>
              <a:ext cx="19044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410080" y="2209680"/>
            <a:ext cx="380880" cy="152640"/>
            <a:chOff x="5410080" y="2209680"/>
            <a:chExt cx="380880" cy="152640"/>
          </a:xfrm>
        </p:grpSpPr>
        <p:sp>
          <p:nvSpPr>
            <p:cNvPr id="183" name=""/>
            <p:cNvSpPr/>
            <p:nvPr/>
          </p:nvSpPr>
          <p:spPr>
            <a:xfrm flipV="1">
              <a:off x="5410080" y="2209680"/>
              <a:ext cx="19044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00520" y="2209680"/>
              <a:ext cx="19044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181480" y="2895480"/>
            <a:ext cx="152640" cy="152640"/>
            <a:chOff x="5181480" y="2895480"/>
            <a:chExt cx="152640" cy="152640"/>
          </a:xfrm>
        </p:grpSpPr>
        <p:sp>
          <p:nvSpPr>
            <p:cNvPr id="186" name=""/>
            <p:cNvSpPr/>
            <p:nvPr/>
          </p:nvSpPr>
          <p:spPr>
            <a:xfrm flipV="1">
              <a:off x="5181480" y="2895480"/>
              <a:ext cx="7632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57800" y="2895480"/>
              <a:ext cx="7632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410080" y="3276360"/>
            <a:ext cx="152640" cy="152640"/>
            <a:chOff x="5410080" y="3276360"/>
            <a:chExt cx="152640" cy="152640"/>
          </a:xfrm>
        </p:grpSpPr>
        <p:sp>
          <p:nvSpPr>
            <p:cNvPr id="189" name=""/>
            <p:cNvSpPr/>
            <p:nvPr/>
          </p:nvSpPr>
          <p:spPr>
            <a:xfrm flipV="1">
              <a:off x="5410080" y="3276360"/>
              <a:ext cx="7632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276720"/>
              <a:ext cx="7632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952880" y="4190760"/>
            <a:ext cx="761760" cy="76320"/>
            <a:chOff x="4952880" y="4190760"/>
            <a:chExt cx="761760" cy="76320"/>
          </a:xfrm>
        </p:grpSpPr>
        <p:sp>
          <p:nvSpPr>
            <p:cNvPr id="192" name=""/>
            <p:cNvSpPr/>
            <p:nvPr/>
          </p:nvSpPr>
          <p:spPr>
            <a:xfrm flipV="1">
              <a:off x="4952880" y="4190760"/>
              <a:ext cx="380880" cy="75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33760" y="4191120"/>
              <a:ext cx="380880" cy="75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086600" y="1828800"/>
            <a:ext cx="228600" cy="76320"/>
            <a:chOff x="7086600" y="1828800"/>
            <a:chExt cx="228600" cy="76320"/>
          </a:xfrm>
        </p:grpSpPr>
        <p:sp>
          <p:nvSpPr>
            <p:cNvPr id="195" name=""/>
            <p:cNvSpPr/>
            <p:nvPr/>
          </p:nvSpPr>
          <p:spPr>
            <a:xfrm>
              <a:off x="7086600" y="1828800"/>
              <a:ext cx="2286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15200" y="182880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772400" y="1752480"/>
            <a:ext cx="151920" cy="152640"/>
            <a:chOff x="7772400" y="1752480"/>
            <a:chExt cx="151920" cy="152640"/>
          </a:xfrm>
        </p:grpSpPr>
        <p:sp>
          <p:nvSpPr>
            <p:cNvPr id="198" name=""/>
            <p:cNvSpPr/>
            <p:nvPr/>
          </p:nvSpPr>
          <p:spPr>
            <a:xfrm flipV="1">
              <a:off x="7772400" y="1752480"/>
              <a:ext cx="7596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48360" y="1752480"/>
              <a:ext cx="7596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086600" y="2286000"/>
            <a:ext cx="228600" cy="76320"/>
            <a:chOff x="7086600" y="2286000"/>
            <a:chExt cx="228600" cy="76320"/>
          </a:xfrm>
        </p:grpSpPr>
        <p:sp>
          <p:nvSpPr>
            <p:cNvPr id="201" name=""/>
            <p:cNvSpPr/>
            <p:nvPr/>
          </p:nvSpPr>
          <p:spPr>
            <a:xfrm>
              <a:off x="7086600" y="2286000"/>
              <a:ext cx="2286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15200" y="228600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001000" y="2209680"/>
            <a:ext cx="151920" cy="152640"/>
            <a:chOff x="8001000" y="2209680"/>
            <a:chExt cx="151920" cy="152640"/>
          </a:xfrm>
        </p:grpSpPr>
        <p:sp>
          <p:nvSpPr>
            <p:cNvPr id="204" name=""/>
            <p:cNvSpPr/>
            <p:nvPr/>
          </p:nvSpPr>
          <p:spPr>
            <a:xfrm flipV="1">
              <a:off x="8001000" y="2209680"/>
              <a:ext cx="7596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6960" y="2209680"/>
              <a:ext cx="7596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781680" y="2895480"/>
            <a:ext cx="304920" cy="76320"/>
            <a:chOff x="6781680" y="2895480"/>
            <a:chExt cx="304920" cy="76320"/>
          </a:xfrm>
        </p:grpSpPr>
        <p:sp>
          <p:nvSpPr>
            <p:cNvPr id="207" name=""/>
            <p:cNvSpPr/>
            <p:nvPr/>
          </p:nvSpPr>
          <p:spPr>
            <a:xfrm>
              <a:off x="6781680" y="2895480"/>
              <a:ext cx="3049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6600" y="289548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772400" y="2895480"/>
            <a:ext cx="532800" cy="152640"/>
            <a:chOff x="7772400" y="2895480"/>
            <a:chExt cx="532800" cy="152640"/>
          </a:xfrm>
        </p:grpSpPr>
        <p:sp>
          <p:nvSpPr>
            <p:cNvPr id="210" name=""/>
            <p:cNvSpPr/>
            <p:nvPr/>
          </p:nvSpPr>
          <p:spPr>
            <a:xfrm flipV="1">
              <a:off x="7772400" y="2895480"/>
              <a:ext cx="26640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38800" y="2895480"/>
              <a:ext cx="26640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086600" y="3352680"/>
            <a:ext cx="304920" cy="76320"/>
            <a:chOff x="7086600" y="3352680"/>
            <a:chExt cx="304920" cy="76320"/>
          </a:xfrm>
        </p:grpSpPr>
        <p:sp>
          <p:nvSpPr>
            <p:cNvPr id="213" name=""/>
            <p:cNvSpPr/>
            <p:nvPr/>
          </p:nvSpPr>
          <p:spPr>
            <a:xfrm>
              <a:off x="7086600" y="3352680"/>
              <a:ext cx="3049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91520" y="335268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924680" y="3276360"/>
            <a:ext cx="152640" cy="152640"/>
            <a:chOff x="7924680" y="3276360"/>
            <a:chExt cx="152640" cy="152640"/>
          </a:xfrm>
        </p:grpSpPr>
        <p:sp>
          <p:nvSpPr>
            <p:cNvPr id="216" name=""/>
            <p:cNvSpPr/>
            <p:nvPr/>
          </p:nvSpPr>
          <p:spPr>
            <a:xfrm flipV="1">
              <a:off x="7924680" y="3276360"/>
              <a:ext cx="7632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01000" y="3276720"/>
              <a:ext cx="7632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858000" y="4038480"/>
            <a:ext cx="304920" cy="76320"/>
            <a:chOff x="6858000" y="4038480"/>
            <a:chExt cx="304920" cy="76320"/>
          </a:xfrm>
        </p:grpSpPr>
        <p:sp>
          <p:nvSpPr>
            <p:cNvPr id="219" name=""/>
            <p:cNvSpPr/>
            <p:nvPr/>
          </p:nvSpPr>
          <p:spPr>
            <a:xfrm>
              <a:off x="6858000" y="4038480"/>
              <a:ext cx="3049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62920" y="403848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7924680" y="3962160"/>
            <a:ext cx="457200" cy="152640"/>
            <a:chOff x="7924680" y="3962160"/>
            <a:chExt cx="457200" cy="152640"/>
          </a:xfrm>
        </p:grpSpPr>
        <p:sp>
          <p:nvSpPr>
            <p:cNvPr id="222" name=""/>
            <p:cNvSpPr/>
            <p:nvPr/>
          </p:nvSpPr>
          <p:spPr>
            <a:xfrm flipV="1">
              <a:off x="7924680" y="3962160"/>
              <a:ext cx="22860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53280" y="3962520"/>
              <a:ext cx="22860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010280" y="4495680"/>
            <a:ext cx="228600" cy="76320"/>
            <a:chOff x="7010280" y="4495680"/>
            <a:chExt cx="228600" cy="76320"/>
          </a:xfrm>
        </p:grpSpPr>
        <p:sp>
          <p:nvSpPr>
            <p:cNvPr id="225" name=""/>
            <p:cNvSpPr/>
            <p:nvPr/>
          </p:nvSpPr>
          <p:spPr>
            <a:xfrm>
              <a:off x="7010280" y="4495680"/>
              <a:ext cx="2286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38880" y="449568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696080" y="4419360"/>
            <a:ext cx="380880" cy="152640"/>
            <a:chOff x="7696080" y="4419360"/>
            <a:chExt cx="380880" cy="152640"/>
          </a:xfrm>
        </p:grpSpPr>
        <p:sp>
          <p:nvSpPr>
            <p:cNvPr id="228" name=""/>
            <p:cNvSpPr/>
            <p:nvPr/>
          </p:nvSpPr>
          <p:spPr>
            <a:xfrm flipV="1">
              <a:off x="7696080" y="4419360"/>
              <a:ext cx="19044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86520" y="4419720"/>
              <a:ext cx="19044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858000" y="5105520"/>
            <a:ext cx="304920" cy="75960"/>
            <a:chOff x="6858000" y="5105520"/>
            <a:chExt cx="304920" cy="75960"/>
          </a:xfrm>
        </p:grpSpPr>
        <p:sp>
          <p:nvSpPr>
            <p:cNvPr id="231" name=""/>
            <p:cNvSpPr/>
            <p:nvPr/>
          </p:nvSpPr>
          <p:spPr>
            <a:xfrm>
              <a:off x="6858000" y="5105520"/>
              <a:ext cx="3049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62920" y="5105520"/>
              <a:ext cx="0" cy="759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772400" y="5028840"/>
            <a:ext cx="457200" cy="152640"/>
            <a:chOff x="7772400" y="5028840"/>
            <a:chExt cx="457200" cy="152640"/>
          </a:xfrm>
        </p:grpSpPr>
        <p:sp>
          <p:nvSpPr>
            <p:cNvPr id="234" name=""/>
            <p:cNvSpPr/>
            <p:nvPr/>
          </p:nvSpPr>
          <p:spPr>
            <a:xfrm flipV="1">
              <a:off x="7772400" y="5028840"/>
              <a:ext cx="22860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01000" y="5029200"/>
              <a:ext cx="228600" cy="152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629400" y="5791320"/>
            <a:ext cx="228600" cy="75960"/>
            <a:chOff x="6629400" y="5791320"/>
            <a:chExt cx="228600" cy="75960"/>
          </a:xfrm>
        </p:grpSpPr>
        <p:sp>
          <p:nvSpPr>
            <p:cNvPr id="237" name=""/>
            <p:cNvSpPr/>
            <p:nvPr/>
          </p:nvSpPr>
          <p:spPr>
            <a:xfrm>
              <a:off x="6629400" y="5791320"/>
              <a:ext cx="2286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8000" y="5791320"/>
              <a:ext cx="0" cy="759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8153280" y="5638680"/>
            <a:ext cx="228240" cy="152640"/>
            <a:chOff x="8153280" y="5638680"/>
            <a:chExt cx="228240" cy="152640"/>
          </a:xfrm>
        </p:grpSpPr>
        <p:sp>
          <p:nvSpPr>
            <p:cNvPr id="240" name=""/>
            <p:cNvSpPr/>
            <p:nvPr/>
          </p:nvSpPr>
          <p:spPr>
            <a:xfrm flipV="1">
              <a:off x="8153280" y="5638680"/>
              <a:ext cx="11412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67400" y="5638680"/>
              <a:ext cx="11412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858000" y="6172200"/>
            <a:ext cx="228600" cy="76320"/>
            <a:chOff x="6858000" y="6172200"/>
            <a:chExt cx="228600" cy="76320"/>
          </a:xfrm>
        </p:grpSpPr>
        <p:sp>
          <p:nvSpPr>
            <p:cNvPr id="243" name=""/>
            <p:cNvSpPr/>
            <p:nvPr/>
          </p:nvSpPr>
          <p:spPr>
            <a:xfrm>
              <a:off x="6858000" y="6172200"/>
              <a:ext cx="22860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86600" y="6172200"/>
              <a:ext cx="0" cy="763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924680" y="6095880"/>
            <a:ext cx="304560" cy="152640"/>
            <a:chOff x="7924680" y="6095880"/>
            <a:chExt cx="304560" cy="152640"/>
          </a:xfrm>
        </p:grpSpPr>
        <p:sp>
          <p:nvSpPr>
            <p:cNvPr id="246" name=""/>
            <p:cNvSpPr/>
            <p:nvPr/>
          </p:nvSpPr>
          <p:spPr>
            <a:xfrm flipV="1">
              <a:off x="7924680" y="6095880"/>
              <a:ext cx="15228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76960" y="6095880"/>
              <a:ext cx="152280" cy="1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Я выполнял практические упражнения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400800" y="838080"/>
            <a:ext cx="2743200" cy="1662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152280" y="457200"/>
            <a:ext cx="1459080" cy="2057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-152280" y="3048120"/>
            <a:ext cx="9296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1-12-08T12:29:2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