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3C12-51D7-4AC6-B022-36984B8B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4720-5B33-4D8E-9CBE-12324D55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071D-A6D6-4F10-B98F-9A3C7177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29EC-C231-4443-8E9C-08B50D8E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2CFE-240D-4D1B-81D6-7C2797ECE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353C-082C-4844-805C-431BA04C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A30C-FE07-4F75-B4B5-549CC1DE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A5E0-1BD2-439B-86D2-F9FBC431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3E9F-88C4-4290-BFA9-F32D2344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43C3-3AB8-4781-A8EE-7DFD83B2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7DF2-E84F-4903-A3C0-90FC1BD7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2746-C663-4E02-9F9A-8FB62A5A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495C-2311-4AF1-A4A0-7027663C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E5E3-FDDA-4899-8E00-9A2CA760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29FE-ED27-4F39-9F1A-E33D0A28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0850-A567-4121-8242-B91ED2E8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EE76-DC98-4A42-9217-C66A9E7C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A1CF-A727-44AC-BE89-688A16B5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7772-CF78-43E0-8B56-41E72785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30F8-27CB-4E00-9C5A-760CF502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7E0D-7386-4A50-BA62-9EF29888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C38-F7C9-4E16-8080-E1733B93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D17A-7008-44AC-B07E-43A8AA1F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D1D8-1996-474B-A35D-D83FCB79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7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7b5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9026-0CF9-4132-800E-C07D6BB73E2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7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3648-EF58-4E52-AA61-66E1C849B7B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Bookman Old Style"/>
              </a:rPr>
              <a:t>МОУ СОШ № 12</a:t>
            </a:r>
            <a:endParaRPr b="0" lang="en-US" sz="29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00600" y="3352320"/>
            <a:ext cx="5105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Подготов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Андрущак Ив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Ученик 4в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Консульта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Белькова О.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Классный руководи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Сухарева С.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447920" y="609480"/>
            <a:ext cx="70246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накомтесь: части речи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62520" y="1752480"/>
            <a:ext cx="3809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Наречие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57200" y="1752480"/>
            <a:ext cx="320508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-360" y="1600200"/>
            <a:ext cx="9144360" cy="5257800"/>
            <a:chOff x="-360" y="1600200"/>
            <a:chExt cx="9144360" cy="5257800"/>
          </a:xfrm>
        </p:grpSpPr>
        <p:sp>
          <p:nvSpPr>
            <p:cNvPr id="102" name=""/>
            <p:cNvSpPr/>
            <p:nvPr/>
          </p:nvSpPr>
          <p:spPr>
            <a:xfrm>
              <a:off x="5105520" y="3657600"/>
              <a:ext cx="1066680" cy="320040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437920" y="3657600"/>
              <a:ext cx="1295640" cy="320040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48520" y="3581280"/>
              <a:ext cx="2895480" cy="213372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48520" y="1981080"/>
              <a:ext cx="2590560" cy="91440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-360" y="3657600"/>
              <a:ext cx="2590920" cy="236232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-360" y="2133720"/>
              <a:ext cx="2590920" cy="91440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2666880" y="1600200"/>
              <a:ext cx="3505320" cy="1981080"/>
            </a:xfrm>
            <a:prstGeom prst="rect">
              <a:avLst/>
            </a:prstGeom>
            <a:ln w="76320">
              <a:solidFill>
                <a:srgbClr val="ffff66"/>
              </a:solidFill>
              <a:miter/>
            </a:ln>
          </p:spPr>
        </p:pic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7724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Разряды наречий по значению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685800"/>
            <a:ext cx="55627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Что обозначают нареч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048120"/>
            <a:ext cx="1981080" cy="6094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им образ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143000"/>
            <a:ext cx="2362320" cy="3808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де? Куда? Отку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3962520"/>
            <a:ext cx="2209680" cy="990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колько (раз)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 сколько (раз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какой степен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какой мер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3048120"/>
            <a:ext cx="2361960" cy="6094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чему? Отче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какой причи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1066680"/>
            <a:ext cx="2361960" cy="5335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чем? Для чег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какой цель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loud"/>
          <p:cNvSpPr/>
          <p:nvPr/>
        </p:nvSpPr>
        <p:spPr>
          <a:xfrm>
            <a:off x="6477120" y="1981080"/>
            <a:ext cx="2438280" cy="914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Умышл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наз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loud"/>
          <p:cNvSpPr/>
          <p:nvPr/>
        </p:nvSpPr>
        <p:spPr>
          <a:xfrm>
            <a:off x="0" y="1981080"/>
            <a:ext cx="2057400" cy="99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Вдал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Кое-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loud"/>
          <p:cNvSpPr/>
          <p:nvPr/>
        </p:nvSpPr>
        <p:spPr>
          <a:xfrm>
            <a:off x="0" y="4495680"/>
            <a:ext cx="2057400" cy="99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Жар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быс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loud"/>
          <p:cNvSpPr/>
          <p:nvPr/>
        </p:nvSpPr>
        <p:spPr>
          <a:xfrm>
            <a:off x="-6019920" y="4952880"/>
            <a:ext cx="2057400" cy="1379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loud"/>
          <p:cNvSpPr/>
          <p:nvPr/>
        </p:nvSpPr>
        <p:spPr>
          <a:xfrm>
            <a:off x="1371600" y="5707080"/>
            <a:ext cx="2819520" cy="1150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Тот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впоследств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loud"/>
          <p:cNvSpPr/>
          <p:nvPr/>
        </p:nvSpPr>
        <p:spPr>
          <a:xfrm>
            <a:off x="12649320" y="5029200"/>
            <a:ext cx="2057400" cy="1379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loud"/>
          <p:cNvSpPr/>
          <p:nvPr/>
        </p:nvSpPr>
        <p:spPr>
          <a:xfrm>
            <a:off x="7086600" y="4267080"/>
            <a:ext cx="2057400" cy="1067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Сгоря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сосле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loud"/>
          <p:cNvSpPr/>
          <p:nvPr/>
        </p:nvSpPr>
        <p:spPr>
          <a:xfrm>
            <a:off x="4648320" y="5691240"/>
            <a:ext cx="2514600" cy="1166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Вд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Чуть-ч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3962520"/>
            <a:ext cx="1905120" cy="990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гд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 каких пор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 каких пор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ак долг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600200"/>
            <a:ext cx="16621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есто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0" y="1600200"/>
            <a:ext cx="1295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цел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33720" y="5105520"/>
            <a:ext cx="1662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рем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3657600"/>
            <a:ext cx="2286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образ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действи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0" y="5029200"/>
            <a:ext cx="1981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ера 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епен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934320" y="3809880"/>
            <a:ext cx="22096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ричин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066680" y="1038240"/>
            <a:ext cx="7543800" cy="5819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28600" y="152280"/>
            <a:ext cx="883908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Какую роль в языке выполняют нареч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3160" y="281952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Береги честь смолод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Послови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Он всегда немного бледнел, когда смеялся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В. Кавер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0"/>
            <a:ext cx="69339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Роль наречия в предлож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0" y="608400"/>
            <a:ext cx="4343400" cy="213372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Где? Куда? Когда? Отку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Почему? Зачем? и Ка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аре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стоя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981080"/>
            <a:ext cx="3505320" cy="0"/>
          </a:xfrm>
          <a:prstGeom prst="line">
            <a:avLst/>
          </a:prstGeom>
          <a:ln w="57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1600200"/>
            <a:ext cx="1447920" cy="6858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562720" y="1676520"/>
            <a:ext cx="3295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нтаксический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знак наречий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3733920"/>
            <a:ext cx="8839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ечия зависят от глаголов, прилагательных или от других наречий, образуя с ними словосочет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Быстро бежать, очень вкусный, слишком гром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4864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0066"/>
                </a:solidFill>
                <a:latin typeface="Arial"/>
              </a:rPr>
              <a:t>Морфологическим признаком является из неизменяемость. Они не имеют рода, числа, падежа, не склоняются и не спрягаются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85800" y="4800600"/>
            <a:ext cx="6781680" cy="228600"/>
            <a:chOff x="685800" y="4800600"/>
            <a:chExt cx="6781680" cy="228600"/>
          </a:xfrm>
        </p:grpSpPr>
        <p:grpSp>
          <p:nvGrpSpPr>
            <p:cNvPr id="142" name=""/>
            <p:cNvGrpSpPr/>
            <p:nvPr/>
          </p:nvGrpSpPr>
          <p:grpSpPr>
            <a:xfrm>
              <a:off x="685800" y="4800600"/>
              <a:ext cx="1295280" cy="228600"/>
              <a:chOff x="685800" y="4800600"/>
              <a:chExt cx="1295280" cy="228600"/>
            </a:xfrm>
          </p:grpSpPr>
          <p:sp>
            <p:nvSpPr>
              <p:cNvPr id="143" name=""/>
              <p:cNvSpPr/>
              <p:nvPr/>
            </p:nvSpPr>
            <p:spPr>
              <a:xfrm>
                <a:off x="685800" y="4800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85800" y="480060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981080" y="4800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200400" y="4800600"/>
              <a:ext cx="1295280" cy="228600"/>
              <a:chOff x="3200400" y="4800600"/>
              <a:chExt cx="1295280" cy="228600"/>
            </a:xfrm>
          </p:grpSpPr>
          <p:sp>
            <p:nvSpPr>
              <p:cNvPr id="147" name=""/>
              <p:cNvSpPr/>
              <p:nvPr/>
            </p:nvSpPr>
            <p:spPr>
              <a:xfrm>
                <a:off x="3200400" y="4800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00400" y="480060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95680" y="4800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5638680" y="4800600"/>
              <a:ext cx="1295640" cy="228600"/>
              <a:chOff x="5638680" y="4800600"/>
              <a:chExt cx="1295640" cy="228600"/>
            </a:xfrm>
          </p:grpSpPr>
          <p:sp>
            <p:nvSpPr>
              <p:cNvPr id="151" name=""/>
              <p:cNvSpPr/>
              <p:nvPr/>
            </p:nvSpPr>
            <p:spPr>
              <a:xfrm>
                <a:off x="5638680" y="4800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638680" y="480060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934320" y="4800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 txBox="1"/>
            <p:nvPr/>
          </p:nvSpPr>
          <p:spPr>
            <a:xfrm>
              <a:off x="2209680" y="4876920"/>
              <a:ext cx="15264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4800600" y="4876920"/>
              <a:ext cx="15228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7315200" y="4876920"/>
              <a:ext cx="15228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419720" y="32004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3657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5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5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5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9320" y="0"/>
            <a:ext cx="69339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Образование наре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52280" y="685800"/>
          <a:ext cx="8839440" cy="6019920"/>
        </p:xfrm>
        <a:graphic>
          <a:graphicData uri="http://schemas.openxmlformats.org/drawingml/2006/table">
            <a:tbl>
              <a:tblPr/>
              <a:tblGrid>
                <a:gridCol w="2743200"/>
                <a:gridCol w="1600200"/>
                <a:gridCol w="1676520"/>
                <a:gridCol w="281952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От какой части речи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С помощью какой морфемы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8000"/>
                          </a:solidFill>
                          <a:latin typeface="Agency FB"/>
                        </a:rPr>
                        <a:t>Существ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ер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вер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шк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льк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о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удач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</a:tr>
              <a:tr h="106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8000"/>
                          </a:solidFill>
                          <a:latin typeface="Agency FB"/>
                        </a:rPr>
                        <a:t>Прилага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гк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вуч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-ново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ух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8000"/>
                          </a:solidFill>
                          <a:latin typeface="Agency FB"/>
                        </a:rPr>
                        <a:t>Числ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ж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-втор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дво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8000"/>
                          </a:solidFill>
                          <a:latin typeface="Agency FB"/>
                        </a:rPr>
                        <a:t>Местоим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-мое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8000"/>
                          </a:solidFill>
                          <a:latin typeface="Agency FB"/>
                        </a:rPr>
                        <a:t>Глаг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припрыж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догон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1" name=""/>
          <p:cNvGrpSpPr/>
          <p:nvPr/>
        </p:nvGrpSpPr>
        <p:grpSpPr>
          <a:xfrm>
            <a:off x="3276720" y="1295280"/>
            <a:ext cx="838080" cy="304920"/>
            <a:chOff x="3276720" y="1295280"/>
            <a:chExt cx="838080" cy="304920"/>
          </a:xfrm>
        </p:grpSpPr>
        <p:sp>
          <p:nvSpPr>
            <p:cNvPr id="162" name=""/>
            <p:cNvSpPr/>
            <p:nvPr/>
          </p:nvSpPr>
          <p:spPr>
            <a:xfrm>
              <a:off x="3276720" y="1295280"/>
              <a:ext cx="83808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105520" y="1219320"/>
            <a:ext cx="380880" cy="304560"/>
            <a:chOff x="5105520" y="1219320"/>
            <a:chExt cx="380880" cy="304560"/>
          </a:xfrm>
        </p:grpSpPr>
        <p:sp>
          <p:nvSpPr>
            <p:cNvPr id="165" name=""/>
            <p:cNvSpPr/>
            <p:nvPr/>
          </p:nvSpPr>
          <p:spPr>
            <a:xfrm flipV="1">
              <a:off x="5105520" y="1219320"/>
              <a:ext cx="190440" cy="304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5960" y="1219320"/>
              <a:ext cx="190440" cy="304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400800" y="1295280"/>
            <a:ext cx="838080" cy="228600"/>
            <a:chOff x="6400800" y="1295280"/>
            <a:chExt cx="838080" cy="228600"/>
          </a:xfrm>
        </p:grpSpPr>
        <p:sp>
          <p:nvSpPr>
            <p:cNvPr id="168" name=""/>
            <p:cNvSpPr/>
            <p:nvPr/>
          </p:nvSpPr>
          <p:spPr>
            <a:xfrm>
              <a:off x="6400800" y="1295280"/>
              <a:ext cx="83808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880" y="1295280"/>
              <a:ext cx="0" cy="2286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8229600" y="1294920"/>
            <a:ext cx="380880" cy="305280"/>
            <a:chOff x="8229600" y="1294920"/>
            <a:chExt cx="380880" cy="305280"/>
          </a:xfrm>
        </p:grpSpPr>
        <p:sp>
          <p:nvSpPr>
            <p:cNvPr id="171" name=""/>
            <p:cNvSpPr/>
            <p:nvPr/>
          </p:nvSpPr>
          <p:spPr>
            <a:xfrm flipV="1">
              <a:off x="8229600" y="1294920"/>
              <a:ext cx="190440" cy="30492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20040" y="1295280"/>
              <a:ext cx="190440" cy="30492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124080" y="1828800"/>
            <a:ext cx="304920" cy="76320"/>
            <a:chOff x="3124080" y="1828800"/>
            <a:chExt cx="304920" cy="76320"/>
          </a:xfrm>
        </p:grpSpPr>
        <p:sp>
          <p:nvSpPr>
            <p:cNvPr id="174" name=""/>
            <p:cNvSpPr/>
            <p:nvPr/>
          </p:nvSpPr>
          <p:spPr>
            <a:xfrm>
              <a:off x="3124080" y="1828800"/>
              <a:ext cx="30492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29000" y="1828800"/>
              <a:ext cx="0" cy="763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200400" y="2286000"/>
            <a:ext cx="304920" cy="76320"/>
            <a:chOff x="3200400" y="2286000"/>
            <a:chExt cx="304920" cy="76320"/>
          </a:xfrm>
        </p:grpSpPr>
        <p:sp>
          <p:nvSpPr>
            <p:cNvPr id="177" name=""/>
            <p:cNvSpPr/>
            <p:nvPr/>
          </p:nvSpPr>
          <p:spPr>
            <a:xfrm>
              <a:off x="3200400" y="2286000"/>
              <a:ext cx="30492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05320" y="2286000"/>
              <a:ext cx="0" cy="763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334120" y="1752480"/>
            <a:ext cx="380880" cy="152640"/>
            <a:chOff x="5334120" y="1752480"/>
            <a:chExt cx="380880" cy="152640"/>
          </a:xfrm>
        </p:grpSpPr>
        <p:sp>
          <p:nvSpPr>
            <p:cNvPr id="180" name=""/>
            <p:cNvSpPr/>
            <p:nvPr/>
          </p:nvSpPr>
          <p:spPr>
            <a:xfrm flipV="1">
              <a:off x="5334120" y="1752480"/>
              <a:ext cx="190440" cy="1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24560" y="1752480"/>
              <a:ext cx="190440" cy="1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410080" y="2209680"/>
            <a:ext cx="380880" cy="152640"/>
            <a:chOff x="5410080" y="2209680"/>
            <a:chExt cx="380880" cy="152640"/>
          </a:xfrm>
        </p:grpSpPr>
        <p:sp>
          <p:nvSpPr>
            <p:cNvPr id="183" name=""/>
            <p:cNvSpPr/>
            <p:nvPr/>
          </p:nvSpPr>
          <p:spPr>
            <a:xfrm flipV="1">
              <a:off x="5410080" y="2209680"/>
              <a:ext cx="190440" cy="1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600520" y="2209680"/>
              <a:ext cx="190440" cy="1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181480" y="2895480"/>
            <a:ext cx="152640" cy="152640"/>
            <a:chOff x="5181480" y="2895480"/>
            <a:chExt cx="152640" cy="152640"/>
          </a:xfrm>
        </p:grpSpPr>
        <p:sp>
          <p:nvSpPr>
            <p:cNvPr id="186" name=""/>
            <p:cNvSpPr/>
            <p:nvPr/>
          </p:nvSpPr>
          <p:spPr>
            <a:xfrm flipV="1">
              <a:off x="5181480" y="2895480"/>
              <a:ext cx="76320" cy="1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57800" y="2895480"/>
              <a:ext cx="76320" cy="1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410080" y="3276360"/>
            <a:ext cx="152640" cy="152640"/>
            <a:chOff x="5410080" y="3276360"/>
            <a:chExt cx="152640" cy="152640"/>
          </a:xfrm>
        </p:grpSpPr>
        <p:sp>
          <p:nvSpPr>
            <p:cNvPr id="189" name=""/>
            <p:cNvSpPr/>
            <p:nvPr/>
          </p:nvSpPr>
          <p:spPr>
            <a:xfrm flipV="1">
              <a:off x="5410080" y="3276360"/>
              <a:ext cx="76320" cy="152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3276720"/>
              <a:ext cx="76320" cy="152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952880" y="4190760"/>
            <a:ext cx="761760" cy="76320"/>
            <a:chOff x="4952880" y="4190760"/>
            <a:chExt cx="761760" cy="76320"/>
          </a:xfrm>
        </p:grpSpPr>
        <p:sp>
          <p:nvSpPr>
            <p:cNvPr id="192" name=""/>
            <p:cNvSpPr/>
            <p:nvPr/>
          </p:nvSpPr>
          <p:spPr>
            <a:xfrm flipV="1">
              <a:off x="4952880" y="4190760"/>
              <a:ext cx="380880" cy="759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33760" y="4191120"/>
              <a:ext cx="380880" cy="759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7086600" y="1828800"/>
            <a:ext cx="228600" cy="76320"/>
            <a:chOff x="7086600" y="1828800"/>
            <a:chExt cx="228600" cy="76320"/>
          </a:xfrm>
        </p:grpSpPr>
        <p:sp>
          <p:nvSpPr>
            <p:cNvPr id="195" name=""/>
            <p:cNvSpPr/>
            <p:nvPr/>
          </p:nvSpPr>
          <p:spPr>
            <a:xfrm>
              <a:off x="7086600" y="1828800"/>
              <a:ext cx="22860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15200" y="1828800"/>
              <a:ext cx="0" cy="763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7772400" y="1752480"/>
            <a:ext cx="151920" cy="152640"/>
            <a:chOff x="7772400" y="1752480"/>
            <a:chExt cx="151920" cy="152640"/>
          </a:xfrm>
        </p:grpSpPr>
        <p:sp>
          <p:nvSpPr>
            <p:cNvPr id="198" name=""/>
            <p:cNvSpPr/>
            <p:nvPr/>
          </p:nvSpPr>
          <p:spPr>
            <a:xfrm flipV="1">
              <a:off x="7772400" y="1752480"/>
              <a:ext cx="75960" cy="1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48360" y="1752480"/>
              <a:ext cx="75960" cy="1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7086600" y="2286000"/>
            <a:ext cx="228600" cy="76320"/>
            <a:chOff x="7086600" y="2286000"/>
            <a:chExt cx="228600" cy="76320"/>
          </a:xfrm>
        </p:grpSpPr>
        <p:sp>
          <p:nvSpPr>
            <p:cNvPr id="201" name=""/>
            <p:cNvSpPr/>
            <p:nvPr/>
          </p:nvSpPr>
          <p:spPr>
            <a:xfrm>
              <a:off x="7086600" y="2286000"/>
              <a:ext cx="22860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15200" y="2286000"/>
              <a:ext cx="0" cy="763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8001000" y="2209680"/>
            <a:ext cx="151920" cy="152640"/>
            <a:chOff x="8001000" y="2209680"/>
            <a:chExt cx="151920" cy="152640"/>
          </a:xfrm>
        </p:grpSpPr>
        <p:sp>
          <p:nvSpPr>
            <p:cNvPr id="204" name=""/>
            <p:cNvSpPr/>
            <p:nvPr/>
          </p:nvSpPr>
          <p:spPr>
            <a:xfrm flipV="1">
              <a:off x="8001000" y="2209680"/>
              <a:ext cx="75960" cy="1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76960" y="2209680"/>
              <a:ext cx="75960" cy="1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781680" y="2895480"/>
            <a:ext cx="304920" cy="76320"/>
            <a:chOff x="6781680" y="2895480"/>
            <a:chExt cx="304920" cy="76320"/>
          </a:xfrm>
        </p:grpSpPr>
        <p:sp>
          <p:nvSpPr>
            <p:cNvPr id="207" name=""/>
            <p:cNvSpPr/>
            <p:nvPr/>
          </p:nvSpPr>
          <p:spPr>
            <a:xfrm>
              <a:off x="6781680" y="2895480"/>
              <a:ext cx="30492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86600" y="2895480"/>
              <a:ext cx="0" cy="763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772400" y="2895480"/>
            <a:ext cx="532800" cy="152640"/>
            <a:chOff x="7772400" y="2895480"/>
            <a:chExt cx="532800" cy="152640"/>
          </a:xfrm>
        </p:grpSpPr>
        <p:sp>
          <p:nvSpPr>
            <p:cNvPr id="210" name=""/>
            <p:cNvSpPr/>
            <p:nvPr/>
          </p:nvSpPr>
          <p:spPr>
            <a:xfrm flipV="1">
              <a:off x="7772400" y="2895480"/>
              <a:ext cx="266400" cy="1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038800" y="2895480"/>
              <a:ext cx="266400" cy="1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7086600" y="3352680"/>
            <a:ext cx="304920" cy="76320"/>
            <a:chOff x="7086600" y="3352680"/>
            <a:chExt cx="304920" cy="76320"/>
          </a:xfrm>
        </p:grpSpPr>
        <p:sp>
          <p:nvSpPr>
            <p:cNvPr id="213" name=""/>
            <p:cNvSpPr/>
            <p:nvPr/>
          </p:nvSpPr>
          <p:spPr>
            <a:xfrm>
              <a:off x="7086600" y="3352680"/>
              <a:ext cx="30492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91520" y="3352680"/>
              <a:ext cx="0" cy="763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7924680" y="3276360"/>
            <a:ext cx="152640" cy="152640"/>
            <a:chOff x="7924680" y="3276360"/>
            <a:chExt cx="152640" cy="152640"/>
          </a:xfrm>
        </p:grpSpPr>
        <p:sp>
          <p:nvSpPr>
            <p:cNvPr id="216" name=""/>
            <p:cNvSpPr/>
            <p:nvPr/>
          </p:nvSpPr>
          <p:spPr>
            <a:xfrm flipV="1">
              <a:off x="7924680" y="3276360"/>
              <a:ext cx="76320" cy="152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001000" y="3276720"/>
              <a:ext cx="76320" cy="152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858000" y="4038480"/>
            <a:ext cx="304920" cy="76320"/>
            <a:chOff x="6858000" y="4038480"/>
            <a:chExt cx="304920" cy="76320"/>
          </a:xfrm>
        </p:grpSpPr>
        <p:sp>
          <p:nvSpPr>
            <p:cNvPr id="219" name=""/>
            <p:cNvSpPr/>
            <p:nvPr/>
          </p:nvSpPr>
          <p:spPr>
            <a:xfrm>
              <a:off x="6858000" y="4038480"/>
              <a:ext cx="30492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62920" y="4038480"/>
              <a:ext cx="0" cy="763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7924680" y="3962160"/>
            <a:ext cx="457200" cy="152640"/>
            <a:chOff x="7924680" y="3962160"/>
            <a:chExt cx="457200" cy="152640"/>
          </a:xfrm>
        </p:grpSpPr>
        <p:sp>
          <p:nvSpPr>
            <p:cNvPr id="222" name=""/>
            <p:cNvSpPr/>
            <p:nvPr/>
          </p:nvSpPr>
          <p:spPr>
            <a:xfrm flipV="1">
              <a:off x="7924680" y="3962160"/>
              <a:ext cx="228600" cy="152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153280" y="3962520"/>
              <a:ext cx="228600" cy="152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7010280" y="4495680"/>
            <a:ext cx="228600" cy="76320"/>
            <a:chOff x="7010280" y="4495680"/>
            <a:chExt cx="228600" cy="76320"/>
          </a:xfrm>
        </p:grpSpPr>
        <p:sp>
          <p:nvSpPr>
            <p:cNvPr id="225" name=""/>
            <p:cNvSpPr/>
            <p:nvPr/>
          </p:nvSpPr>
          <p:spPr>
            <a:xfrm>
              <a:off x="7010280" y="4495680"/>
              <a:ext cx="22860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38880" y="4495680"/>
              <a:ext cx="0" cy="763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696080" y="4419360"/>
            <a:ext cx="380880" cy="152640"/>
            <a:chOff x="7696080" y="4419360"/>
            <a:chExt cx="380880" cy="152640"/>
          </a:xfrm>
        </p:grpSpPr>
        <p:sp>
          <p:nvSpPr>
            <p:cNvPr id="228" name=""/>
            <p:cNvSpPr/>
            <p:nvPr/>
          </p:nvSpPr>
          <p:spPr>
            <a:xfrm flipV="1">
              <a:off x="7696080" y="4419360"/>
              <a:ext cx="190440" cy="152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886520" y="4419720"/>
              <a:ext cx="190440" cy="152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858000" y="5105520"/>
            <a:ext cx="304920" cy="75960"/>
            <a:chOff x="6858000" y="5105520"/>
            <a:chExt cx="304920" cy="75960"/>
          </a:xfrm>
        </p:grpSpPr>
        <p:sp>
          <p:nvSpPr>
            <p:cNvPr id="231" name=""/>
            <p:cNvSpPr/>
            <p:nvPr/>
          </p:nvSpPr>
          <p:spPr>
            <a:xfrm>
              <a:off x="6858000" y="5105520"/>
              <a:ext cx="30492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62920" y="5105520"/>
              <a:ext cx="0" cy="759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772400" y="5028840"/>
            <a:ext cx="457200" cy="152640"/>
            <a:chOff x="7772400" y="5028840"/>
            <a:chExt cx="457200" cy="152640"/>
          </a:xfrm>
        </p:grpSpPr>
        <p:sp>
          <p:nvSpPr>
            <p:cNvPr id="234" name=""/>
            <p:cNvSpPr/>
            <p:nvPr/>
          </p:nvSpPr>
          <p:spPr>
            <a:xfrm flipV="1">
              <a:off x="7772400" y="5028840"/>
              <a:ext cx="228600" cy="152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01000" y="5029200"/>
              <a:ext cx="228600" cy="152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629400" y="5791320"/>
            <a:ext cx="228600" cy="75960"/>
            <a:chOff x="6629400" y="5791320"/>
            <a:chExt cx="228600" cy="75960"/>
          </a:xfrm>
        </p:grpSpPr>
        <p:sp>
          <p:nvSpPr>
            <p:cNvPr id="237" name=""/>
            <p:cNvSpPr/>
            <p:nvPr/>
          </p:nvSpPr>
          <p:spPr>
            <a:xfrm>
              <a:off x="6629400" y="5791320"/>
              <a:ext cx="22860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58000" y="5791320"/>
              <a:ext cx="0" cy="759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8153280" y="5638680"/>
            <a:ext cx="228240" cy="152640"/>
            <a:chOff x="8153280" y="5638680"/>
            <a:chExt cx="228240" cy="152640"/>
          </a:xfrm>
        </p:grpSpPr>
        <p:sp>
          <p:nvSpPr>
            <p:cNvPr id="240" name=""/>
            <p:cNvSpPr/>
            <p:nvPr/>
          </p:nvSpPr>
          <p:spPr>
            <a:xfrm flipV="1">
              <a:off x="8153280" y="5638680"/>
              <a:ext cx="114120" cy="1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67400" y="5638680"/>
              <a:ext cx="114120" cy="1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858000" y="6172200"/>
            <a:ext cx="228600" cy="76320"/>
            <a:chOff x="6858000" y="6172200"/>
            <a:chExt cx="228600" cy="76320"/>
          </a:xfrm>
        </p:grpSpPr>
        <p:sp>
          <p:nvSpPr>
            <p:cNvPr id="243" name=""/>
            <p:cNvSpPr/>
            <p:nvPr/>
          </p:nvSpPr>
          <p:spPr>
            <a:xfrm>
              <a:off x="6858000" y="6172200"/>
              <a:ext cx="22860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86600" y="6172200"/>
              <a:ext cx="0" cy="763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924680" y="6095880"/>
            <a:ext cx="304560" cy="152640"/>
            <a:chOff x="7924680" y="6095880"/>
            <a:chExt cx="304560" cy="152640"/>
          </a:xfrm>
        </p:grpSpPr>
        <p:sp>
          <p:nvSpPr>
            <p:cNvPr id="246" name=""/>
            <p:cNvSpPr/>
            <p:nvPr/>
          </p:nvSpPr>
          <p:spPr>
            <a:xfrm flipV="1">
              <a:off x="7924680" y="6095880"/>
              <a:ext cx="152280" cy="1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076960" y="6095880"/>
              <a:ext cx="152280" cy="1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Я выполнял практические упражнения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6400800" y="838080"/>
            <a:ext cx="2743200" cy="16621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152280" y="457200"/>
            <a:ext cx="1459080" cy="20574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-152280" y="3048120"/>
            <a:ext cx="9296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</cp:lastModifiedBy>
  <dcterms:modified xsi:type="dcterms:W3CDTF">2011-12-08T12:29:2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