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3EB-16C1-45DC-B0AA-1B17E728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09E-DA70-4FCD-A4CE-92297F6B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A46-1B40-44F3-BE7A-651D8106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5A4-724A-4BAB-8C18-F7F06C2F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A424-3135-4465-A8F1-214BE214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4640-B449-4BFA-9322-5F80C686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C85F-D41D-4ACD-9F8D-5BFBF102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F7C2-B855-4294-86C5-845DE043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7B4E-FC19-47A9-B002-E462FF28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7AB9-11CD-46FF-8223-B7C481B5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9172-B817-4CE5-BBD1-E048AC43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918-262A-4976-B491-5F5CEAF7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0881-3F85-49AC-96BE-FFEC2C66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A4CF-4690-4C23-8EC7-EF4EC6F9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27B3-E809-4C78-B2E9-48F16EEF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FD58-EC72-402C-B733-7F6AF599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04CA-CF3F-42F1-8F6C-7F0AE241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D605E-D430-4D0B-A7C4-C1462981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F6D54-5BB9-4451-A66C-64D06F69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AFB8B-C29F-40CE-A511-F3D3BDA0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DDACD-506F-444C-BBDD-8C23D2F2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EFF54-1A74-4709-80C2-2BC185DF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154-DE04-4DC8-B097-38337C86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0F5B0-9D82-4D14-BE90-131A459A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0515C-C4BD-4099-9B4B-E36A113F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8BAC8-1CFB-4E78-AFFD-287DEACF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913D7-88B2-47E7-AC57-1FEADB7D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DA6EC-7E5E-4489-B359-172EC54A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7452E-B137-4976-B490-B611467A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B7DBC9-9E29-4BA5-B13B-70BD783F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1E757-938A-4E24-A409-6DDF70D1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7E487-AD88-4ED3-94C1-40FF3534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5EBAB-9CB9-40E4-9CB8-1744292A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ADAD-8805-4577-9CF0-0F16D892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0762E-EF91-4E21-9DCC-0C8DCE0B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C0F9C-D5D4-409B-9241-0C818625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CCB94-75BC-469F-A833-028061A9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263A9-8E2B-4E81-9072-8F2D376D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F55C1-E0FD-4A49-B6E6-3160D7F9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3D5B9-E96E-4A84-80D9-FBE7915B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97925-60C8-4AD1-B6A3-4B00ADF0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3DE33-1218-4C18-8FE4-DA4A5E75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BA2CA-13F0-4DC2-B698-304F06E8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B7FF53-10D8-43DC-9960-C4E25D5B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E628-AA84-45B5-B50D-2C7473F9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1FFFF5-1964-4083-AE31-BBD7D53D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D6FE64-38F9-4CD3-8A15-F73EC5B1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2161DA-ED73-4265-A315-A45EF97A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E5F0A-B287-48D6-8F22-D47C3523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08F2F-3F34-4C3C-B999-52F05DF6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D76FD-8C5C-424D-BD17-25D5788A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9D27DF-C686-4D4D-AC09-A0667051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87620-26A2-4624-AF5D-4C077A62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CE83E1-8C89-4045-93D8-45907BC9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8C591-A1D7-4BFB-BD94-C97C7745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CB4D-C354-4D5E-B843-809A6261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EEB504-64C4-401C-863B-D9EB83CD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26E541-3A1C-4531-8CF6-95410889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0882BE-2D1E-4183-AC77-7ACD4464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135E25-9DF4-4B23-8F92-FB4EBC7F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076378-CFF6-47F8-A913-1ABD3125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AD3F1B-09AD-487F-BB8E-B1556BF5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D12913-29BE-404F-9E38-AAD10F75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344728-E223-4EDB-A344-E7554D3B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6DEC95-E37F-4BB3-9D3A-FFE258B6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703B0-D7AD-4BDA-B04A-22D2E793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483-5D58-430D-82CF-926B761C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2DF8A5-9C7B-4CEA-BDA4-EED2EE92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5E22B8-9A7F-4B1D-AEF3-51A77D56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72CDD9-F5AD-493E-AC33-69EC7AFA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42907D-1013-4308-BC3F-1D9DF93D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08AA91-E8B4-4B95-9DEB-06ECB39C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34700E-5D5F-4E9E-A719-22712D27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494220-30E1-4DCE-A2A3-009C2130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F63361-78DA-4297-8ECE-BEB27467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857C99-A58E-417C-83AF-D8712799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6C10AD-859E-47BB-9416-1B3E132F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942-6126-446F-B5BB-D89ADE32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39BF8C-2DD4-40E3-B2C6-11D6989D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2E2DBC-5100-4538-B047-AD9DA32F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199BCE-BE4D-40DB-AF76-50803E8F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289D96-F9B8-45EA-BB5B-8B2DC4F0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B728C6-D84D-41AE-9FED-40D2B78B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D63F-996C-48AE-998F-822956B9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5C03-71E4-45F6-BA5C-7CBE5D63A4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F832-E6F9-45DF-BA6D-182E524582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D5E6-BB69-4B99-A16E-D59163EABF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6758-EBCA-4AB8-85DE-F2C2D43872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146C-98E5-4B9D-8F63-AB2EC9F382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E36E-7277-4BED-8AE0-F85887CEC68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2F2E-4D46-4929-97D4-0CF369FB93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360" y="1142640"/>
            <a:ext cx="650052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300" spc="-1" strike="noStrike">
                <a:solidFill>
                  <a:srgbClr val="ff00ff"/>
                </a:solidFill>
                <a:latin typeface="Century Schoolbook"/>
              </a:rPr>
              <a:t>АРХИМЕДОВА</a:t>
            </a:r>
            <a:r>
              <a:rPr b="1" lang="ru-RU" sz="7200" spc="-1" strike="noStrike">
                <a:solidFill>
                  <a:srgbClr val="ff00ff"/>
                </a:solidFill>
                <a:latin typeface="Century Schoolbook"/>
              </a:rPr>
              <a:t>                 </a:t>
            </a:r>
            <a:r>
              <a:rPr b="1" lang="ru-RU" sz="7200" spc="-1" strike="noStrike">
                <a:solidFill>
                  <a:srgbClr val="ff00ff"/>
                </a:solidFill>
                <a:latin typeface="Century Schoolbook"/>
              </a:rPr>
              <a:t>	</a:t>
            </a:r>
            <a:r>
              <a:rPr b="1" lang="ru-RU" sz="7200" spc="-1" strike="noStrike">
                <a:solidFill>
                  <a:srgbClr val="ff00ff"/>
                </a:solidFill>
                <a:latin typeface="Century Schoolbook"/>
              </a:rPr>
              <a:t>	</a:t>
            </a:r>
            <a:r>
              <a:rPr b="1" lang="ru-RU" sz="7200" spc="-1" strike="noStrike">
                <a:solidFill>
                  <a:srgbClr val="ff00ff"/>
                </a:solidFill>
                <a:latin typeface="Century Schoolbook"/>
              </a:rPr>
              <a:t>СИЛА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999880" y="4357440"/>
            <a:ext cx="57150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entury Schoolbook"/>
              </a:rPr>
              <a:t>Учитель физики «МОУ Бабежская СОШ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ff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ff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ff"/>
                </a:solidFill>
                <a:latin typeface="Century Schoolbook"/>
              </a:rPr>
              <a:t>Тетенькина Е.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785600"/>
            <a:ext cx="3828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Century Schoolbook"/>
              </a:rPr>
              <a:t>О ВЫТАЛКИВАЮЩЕЙ СИЛЕ ЗНАЛИ ВСЕ, А ЧЕМУ ОНА РАВНА, ПОНЯЛ ОДИН…?</a:t>
            </a:r>
            <a:br>
              <a:rPr sz="2500"/>
            </a:br>
            <a:br>
              <a:rPr sz="2500"/>
            </a:br>
            <a:br>
              <a:rPr sz="25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4429080" y="571680"/>
            <a:ext cx="3938760" cy="50576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355" name="Круглая лента лицом вниз 5"/>
          <p:cNvSpPr/>
          <p:nvPr/>
        </p:nvSpPr>
        <p:spPr>
          <a:xfrm>
            <a:off x="571680" y="642960"/>
            <a:ext cx="2000160" cy="928800"/>
          </a:xfrm>
          <a:custGeom>
            <a:avLst/>
            <a:gdLst>
              <a:gd name="textAreaLeft" fmla="*/ 500040 w 2000160"/>
              <a:gd name="textAreaRight" fmla="*/ 1500120 w 2000160"/>
              <a:gd name="textAreaTop" fmla="*/ 232200 h 928800"/>
              <a:gd name="textAreaBottom" fmla="*/ 90144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Круглая лента лицом вниз 6"/>
          <p:cNvSpPr/>
          <p:nvPr/>
        </p:nvSpPr>
        <p:spPr>
          <a:xfrm>
            <a:off x="2214720" y="4714920"/>
            <a:ext cx="2000160" cy="928800"/>
          </a:xfrm>
          <a:custGeom>
            <a:avLst/>
            <a:gdLst>
              <a:gd name="textAreaLeft" fmla="*/ 500040 w 2000160"/>
              <a:gd name="textAreaRight" fmla="*/ 1500120 w 2000160"/>
              <a:gd name="textAreaTop" fmla="*/ 232200 h 928800"/>
              <a:gd name="textAreaBottom" fmla="*/ 90144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429760" cy="1357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СИЛУ, ВЫТАЛКИВАЮЩУЮ ТЕЛО ИЗ ЖИДКОСТИ ИЛИ ГАЗА, НАЗЫВАЮТ </a:t>
            </a:r>
            <a:r>
              <a:rPr b="1" i="1" lang="ru-RU" sz="2000" spc="-1" strike="noStrike">
                <a:solidFill>
                  <a:srgbClr val="cc00ff"/>
                </a:solidFill>
                <a:latin typeface="Century Schoolbook"/>
              </a:rPr>
              <a:t>АРХИМЕДОВОЙ СИЛОЙ</a:t>
            </a: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, В ЧЕСТЬ ДРЕВНЕГРЕЧЕСКОГО УЧЁНОГО </a:t>
            </a:r>
            <a:r>
              <a:rPr b="1" lang="ru-RU" sz="2000" spc="-1" strike="noStrike">
                <a:solidFill>
                  <a:srgbClr val="cc00ff"/>
                </a:solidFill>
                <a:latin typeface="Century Schoolbook"/>
              </a:rPr>
              <a:t>АРХИМЕДА</a:t>
            </a: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, КОТОРЫЙ ВПЕРВЫЕ УКАЗАЛ НА ЕЁ СУЩЕСТВОВАНИЕ И РАССЧИТАЛ ЕЁ ЗНАЧЕНИЕ.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00080" y="1856880"/>
            <a:ext cx="7143840" cy="4286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3333ff"/>
                </a:solidFill>
                <a:latin typeface="Century Schoolbook"/>
              </a:rPr>
              <a:t>Проверьте  догадку Архимеда с помощью прибора «Ведёрко  Архимеда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3643200" y="3214800"/>
            <a:ext cx="1928880" cy="28303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360" name="Picture 6" descr=""/>
          <p:cNvPicPr/>
          <p:nvPr/>
        </p:nvPicPr>
        <p:blipFill>
          <a:blip r:embed="rId2"/>
          <a:stretch/>
        </p:blipFill>
        <p:spPr>
          <a:xfrm>
            <a:off x="5929200" y="3214800"/>
            <a:ext cx="1928880" cy="28573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361" name="Picture 7" descr=""/>
          <p:cNvPicPr/>
          <p:nvPr/>
        </p:nvPicPr>
        <p:blipFill>
          <a:blip r:embed="rId3"/>
          <a:stretch/>
        </p:blipFill>
        <p:spPr>
          <a:xfrm>
            <a:off x="1285920" y="3214800"/>
            <a:ext cx="1874880" cy="28573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5640" y="1071720"/>
            <a:ext cx="61722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ЗАКОН АРХИМЕДА ГЛАСИТ</a:t>
            </a:r>
            <a:br>
              <a:rPr sz="3600"/>
            </a:br>
            <a:br>
              <a:rPr sz="3600"/>
            </a:br>
            <a:br>
              <a:rPr sz="1800"/>
            </a:br>
            <a:r>
              <a:rPr b="1" lang="ru-RU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СИЛА, ВЫТАЛКИВАЮЩАЯ ЦЕЛИКОМ ПОГРУЖЁННОЕ В ЖИДКОСТЬ ИЛИ ГАЗ ТЕЛО, РАВНА ВЕСУ ЖИДКОСТИ ИЛИ ГАЗА В ОБЪЁМЕ ЭТОГО ТЕЛА»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3142800" y="4357800"/>
            <a:ext cx="4643640" cy="1428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Verdana"/>
              </a:rPr>
              <a:t>F</a:t>
            </a:r>
            <a:r>
              <a:rPr b="1" lang="ru-RU" sz="1800" spc="-1" strike="noStrike">
                <a:solidFill>
                  <a:srgbClr val="ff00ff"/>
                </a:solidFill>
                <a:latin typeface="Verdana"/>
              </a:rPr>
              <a:t>А</a:t>
            </a:r>
            <a:r>
              <a:rPr b="1" lang="ru-RU" sz="4000" spc="-1" strike="noStrike">
                <a:solidFill>
                  <a:srgbClr val="ff00ff"/>
                </a:solidFill>
                <a:latin typeface="Verdana"/>
              </a:rPr>
              <a:t>  = </a:t>
            </a:r>
            <a:r>
              <a:rPr b="1" lang="en-US" sz="4000" spc="-1" strike="noStrike">
                <a:solidFill>
                  <a:srgbClr val="ff00ff"/>
                </a:solidFill>
                <a:latin typeface="Verdana"/>
              </a:rPr>
              <a:t>g·</a:t>
            </a:r>
            <a:r>
              <a:rPr b="1" lang="ru-RU" sz="4000" spc="-1" strike="noStrike">
                <a:solidFill>
                  <a:srgbClr val="ff00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00ff"/>
                </a:solidFill>
                <a:latin typeface="Verdana"/>
              </a:rPr>
              <a:t>p</a:t>
            </a:r>
            <a:r>
              <a:rPr b="1" lang="ru-RU" sz="1800" spc="-1" strike="noStrike">
                <a:solidFill>
                  <a:srgbClr val="ff00ff"/>
                </a:solidFill>
                <a:latin typeface="Verdana"/>
              </a:rPr>
              <a:t>ж</a:t>
            </a:r>
            <a:r>
              <a:rPr b="1" lang="ru-RU" sz="4000" spc="-1" strike="noStrike">
                <a:solidFill>
                  <a:srgbClr val="ff00ff"/>
                </a:solidFill>
                <a:latin typeface="Verdana"/>
              </a:rPr>
              <a:t> · </a:t>
            </a:r>
            <a:r>
              <a:rPr b="1" lang="en-US" sz="4000" spc="-1" strike="noStrike">
                <a:solidFill>
                  <a:srgbClr val="ff00ff"/>
                </a:solidFill>
                <a:latin typeface="Verdana"/>
              </a:rPr>
              <a:t>V</a:t>
            </a:r>
            <a:r>
              <a:rPr b="1" lang="ru-RU" sz="1800" spc="-1" strike="noStrike">
                <a:solidFill>
                  <a:srgbClr val="ff00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64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ЕГЕНДА ОБ АРХИМЕДЕ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714240"/>
            <a:ext cx="6858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акузский царь Гиерон (250 лет до н.э.) поручил Архимеду проверить честность мастера , изготовившего золотую корону. Хотя корона весила столько, сколько было отпущено  на неё золота, царь заподозрил, что она изготовлена из сплава золота с другими более дешёвыми металлами. Архимеду было поручено узнать, не ломая короны, есть ли в ней примесь. </a:t>
            </a:r>
            <a:r>
              <a:rPr b="1" i="1" lang="ru-RU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Взвесить корону было легко, но как найти её объём?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дней мучила Архимеда эта задача. И вот однажды, когда он, находясь в бане, погрузился в наполненную водой ванну, его внезапно осенила мысль, давшая решение задачи. Ликующий  Архимед воскликнул: </a:t>
            </a:r>
            <a:r>
              <a:rPr b="1" lang="ru-RU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«Эврика! Эврика!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начит: </a:t>
            </a:r>
            <a:r>
              <a:rPr b="1" lang="ru-RU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«Нашёл! Нашёл!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мед  взвесил корону сначала в воздухе, затем в воде. По разнице в весе он рассчитал выталкивающую силу, равную весу воды в объёме короны. Определив  объём короны, он затем смог вычислить её плотность, а зная плотность, ответить на вопрос царя: нет ли примесей дешёвых металлов в золотой короне?  Легенда гласит, что плотность вещества короны оказалась меньше плотности чистого золота. Тем самым мастер был изобличён в обма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ука обогатилась замечательным открытием.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7" descr=""/>
          <p:cNvPicPr/>
          <p:nvPr/>
        </p:nvPicPr>
        <p:blipFill>
          <a:blip r:embed="rId1"/>
          <a:stretch/>
        </p:blipFill>
        <p:spPr>
          <a:xfrm rot="715800">
            <a:off x="6818040" y="948960"/>
            <a:ext cx="1857240" cy="2579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1:42:58Z</dcterms:created>
  <dc:creator>Екатерина</dc:creator>
  <dc:description/>
  <dc:language>en-US</dc:language>
  <cp:lastModifiedBy>Екатерина</cp:lastModifiedBy>
  <dcterms:modified xsi:type="dcterms:W3CDTF">2010-11-19T09:02:51Z</dcterms:modified>
  <cp:revision>28</cp:revision>
  <dc:subject/>
  <dc:title>Архимедова сила</dc:title>
</cp:coreProperties>
</file>