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5837-95C9-4C06-AA8A-60B2428C8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48D1-7F77-4E8D-A3A4-19866FD0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4243-020A-4999-9592-4ECD2C568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9D09-4FAD-4E25-BDE7-54AAD1F51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BC7F-D878-42D9-A3F7-ABFDB2D9A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22F5-566A-413E-932D-ABEFCD01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79A5-D4D3-4031-8428-6EDADF97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7C7B-48EA-418E-A510-28A1043A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1744-58C3-4FD1-9120-46D23054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D0B7-187C-4A58-92D8-8AFE6F8D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244D-C51F-4634-B8B0-6E83F9BE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05DE-783F-42D7-B467-A8F5A9EA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CB5F-C938-40C8-A62D-D0EB309D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92CF-401D-4160-A248-65ADC575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F138-2D97-46E2-B043-1A1E8AA7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516C-78AD-474A-A9AA-CA73117AD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19DA-878F-429B-B817-BCB23F84B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F68475-2EB1-4C42-8B49-E37D8D37D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7C19B4-49C7-4CA8-9BF5-E7D6FC26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8D8C73-1F70-4067-B33A-04DE33B5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443CEE-8BCD-437B-A89D-4708C3B7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98E462-C1C6-4474-AB7F-F6539328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CF49-194D-4003-9EFC-2F0833B3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1BB975-FFB4-44D8-8CAF-F86CF290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E4EF32-18F2-4219-BB94-5864AAA7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B04E81-8F4F-4CDE-83D7-98679D04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8754A1-F371-469D-97EA-A193D648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DD2489-D352-495F-BC63-3C84ADB2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C78899-CB50-467A-A520-A85EBC9D8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C22E65-E6DB-48F4-AD26-E9528079A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A7002-12CD-4DD1-BA60-783D3CB3D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AC70D-F3F3-4B36-BCB6-F16C49A0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AFD5C-2896-4192-B2D2-F939DBE7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8011-99A8-4DAD-AC1C-E0DF4792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1D2C1-3AE1-477B-806D-5FE646E9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A6924-5758-481F-8B3A-CFA0F8AA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6B26E-F7CC-48C4-8C43-5AA103FD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5DC30-87C9-43C5-830E-B9DCF07F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3DA73-39F8-46F7-9A5C-62FA927B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8FCA6-E006-4595-A350-6AB76DF8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71C29-165F-474E-82DA-3C405726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4B0F8-3C7C-4066-A608-2B813D4FE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879C4-865C-4A3A-BAA1-52841F94E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5ADC56-7398-45F4-AC1C-1F9C86ABA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586E-59A6-4B14-BBEE-DC0C95A0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4A281E-B83E-431E-A9AE-C28E4634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03E7DE-9EA7-4F57-BD17-FDEBC518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E4C839-1C7C-494A-9297-5F328043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B542E9-2DEE-4065-9290-CB2E76E4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4318C2-64CD-4FF2-ADAD-1E16EF79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362E99-C48C-4A17-BCF5-4AAD88CB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E8B621-B3BE-4649-94E2-FB6DD8E0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896D7C-8589-48AB-8841-EA78945E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BF90C0-3D02-41D0-A819-C719877E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4CFBFD-4AC4-42D4-B069-D1CAC732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A5E8-1BF2-4177-849E-344BCEC0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2B19C6-680E-4561-8BEF-56B637E3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82983F-B7CD-436B-9A6B-979A43B4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B81152-6126-4734-83D2-69B2D400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6019EB-9E1B-469E-A467-BF0805A5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5EE2B7-63E1-4FAD-824D-02450E78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7BC7A0-AB84-4B9F-B479-52743CA5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A9E32B-6990-4813-B3D7-39E875A4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0562A1-C908-4F61-B756-EF436E8D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FA4DD0-D227-4BC3-8A15-8148BC42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C08E8D-BF19-4608-A204-7387AE09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1A97-C6FA-497B-9B9F-31010D2D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9AA394-54C6-4E17-99FA-0CA09516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B842A2-5C8B-40DC-B2C5-DD04402DF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C27A55-CA1B-4FDC-BEA7-1B1B4263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287C61-70FE-4605-AAE8-8F010DE8F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508EDE-3F52-41F5-BDD9-448B7B6F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793B65-EDE1-4626-8038-60F15EB8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155218-FD5E-4FB8-AFF0-C198FA24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FA7F45-5F2A-4207-824D-B336F7C7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7F3588-3AE9-4A8C-9100-B3B498A3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CE723C-25A7-43B6-AD47-7731A029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63B5-D489-4C61-B198-5D4E199D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E4C217-5E9A-4452-BE22-7593BA78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D6243A-49A3-4D88-B0CE-23FFA757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44AFDE-6618-4412-B503-5C41C6A7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195D13-C8B0-42E6-996F-414EA183C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7AFD2E-7345-4104-9D05-FF9BF6A4A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43FE-31A1-4648-9FB2-3D3973E0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F2B8-8BD9-4BBA-AB8B-D56A3D26C3F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BB9A-A0BE-4DF1-ADDB-148FDD4402E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51E6-6A55-4E3F-B32C-BA106FD8AA2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F0DF-B4DC-4AF8-9BD6-064821A4F17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D4F7-5400-4E70-8567-531DDB25FCF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AFD0-607E-4810-84A1-DEAE03C768C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4FAD-2D7D-48F7-AF10-96CBCE0D08A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14360" y="1142640"/>
            <a:ext cx="650052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300" spc="-1" strike="noStrike">
                <a:solidFill>
                  <a:srgbClr val="ff00ff"/>
                </a:solidFill>
                <a:latin typeface="Century Schoolbook"/>
              </a:rPr>
              <a:t>АРХИМЕДОВА</a:t>
            </a:r>
            <a:r>
              <a:rPr b="1" lang="ru-RU" sz="7200" spc="-1" strike="noStrike">
                <a:solidFill>
                  <a:srgbClr val="ff00ff"/>
                </a:solidFill>
                <a:latin typeface="Century Schoolbook"/>
              </a:rPr>
              <a:t>                 </a:t>
            </a:r>
            <a:r>
              <a:rPr b="1" lang="ru-RU" sz="7200" spc="-1" strike="noStrike">
                <a:solidFill>
                  <a:srgbClr val="ff00ff"/>
                </a:solidFill>
                <a:latin typeface="Century Schoolbook"/>
              </a:rPr>
              <a:t>	</a:t>
            </a:r>
            <a:r>
              <a:rPr b="1" lang="ru-RU" sz="7200" spc="-1" strike="noStrike">
                <a:solidFill>
                  <a:srgbClr val="ff00ff"/>
                </a:solidFill>
                <a:latin typeface="Century Schoolbook"/>
              </a:rPr>
              <a:t>	</a:t>
            </a:r>
            <a:r>
              <a:rPr b="1" lang="ru-RU" sz="7200" spc="-1" strike="noStrike">
                <a:solidFill>
                  <a:srgbClr val="ff00ff"/>
                </a:solidFill>
                <a:latin typeface="Century Schoolbook"/>
              </a:rPr>
              <a:t>СИЛА</a:t>
            </a:r>
            <a:endParaRPr b="0" lang="en-US" sz="7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999880" y="4357440"/>
            <a:ext cx="57150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entury Schoolbook"/>
              </a:rPr>
              <a:t>Учитель физики «МОУ Бабежская СОШ»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entury Schoolbook"/>
              </a:rPr>
              <a:t>	</a:t>
            </a:r>
            <a:r>
              <a:rPr b="1" lang="ru-RU" sz="1800" spc="-1" strike="noStrike">
                <a:solidFill>
                  <a:srgbClr val="0000ff"/>
                </a:solidFill>
                <a:latin typeface="Century Schoolbook"/>
              </a:rPr>
              <a:t>	</a:t>
            </a:r>
            <a:r>
              <a:rPr b="1" lang="ru-RU" sz="1800" spc="-1" strike="noStrike">
                <a:solidFill>
                  <a:srgbClr val="0000ff"/>
                </a:solidFill>
                <a:latin typeface="Century Schoolbook"/>
              </a:rPr>
              <a:t>	</a:t>
            </a:r>
            <a:r>
              <a:rPr b="1" lang="ru-RU" sz="1800" spc="-1" strike="noStrike">
                <a:solidFill>
                  <a:srgbClr val="0000ff"/>
                </a:solidFill>
                <a:latin typeface="Century Schoolbook"/>
              </a:rPr>
              <a:t>Тетенькина Е.В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785600"/>
            <a:ext cx="3828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ff"/>
                </a:solidFill>
                <a:latin typeface="Century Schoolbook"/>
              </a:rPr>
              <a:t>О ВЫТАЛКИВАЮЩЕЙ СИЛЕ ЗНАЛИ ВСЕ, А ЧЕМУ ОНА РАВНА, ПОНЯЛ ОДИН…?</a:t>
            </a:r>
            <a:br>
              <a:rPr sz="2500"/>
            </a:br>
            <a:br>
              <a:rPr sz="2500"/>
            </a:br>
            <a:br>
              <a:rPr sz="25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4429080" y="571680"/>
            <a:ext cx="3938760" cy="505764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sp>
        <p:nvSpPr>
          <p:cNvPr id="355" name="Круглая лента лицом вниз 5"/>
          <p:cNvSpPr/>
          <p:nvPr/>
        </p:nvSpPr>
        <p:spPr>
          <a:xfrm>
            <a:off x="571680" y="642960"/>
            <a:ext cx="2000160" cy="928800"/>
          </a:xfrm>
          <a:custGeom>
            <a:avLst/>
            <a:gdLst>
              <a:gd name="textAreaLeft" fmla="*/ 500040 w 2000160"/>
              <a:gd name="textAreaRight" fmla="*/ 1500120 w 2000160"/>
              <a:gd name="textAreaTop" fmla="*/ 232200 h 928800"/>
              <a:gd name="textAreaBottom" fmla="*/ 90144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Круглая лента лицом вниз 6"/>
          <p:cNvSpPr/>
          <p:nvPr/>
        </p:nvSpPr>
        <p:spPr>
          <a:xfrm>
            <a:off x="2214720" y="4714920"/>
            <a:ext cx="2000160" cy="928800"/>
          </a:xfrm>
          <a:custGeom>
            <a:avLst/>
            <a:gdLst>
              <a:gd name="textAreaLeft" fmla="*/ 500040 w 2000160"/>
              <a:gd name="textAreaRight" fmla="*/ 1500120 w 2000160"/>
              <a:gd name="textAreaTop" fmla="*/ 232200 h 928800"/>
              <a:gd name="textAreaBottom" fmla="*/ 90144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429760" cy="1357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СИЛУ, ВЫТАЛКИВАЮЩУЮ ТЕЛО ИЗ ЖИДКОСТИ ИЛИ ГАЗА, НАЗЫВАЮТ </a:t>
            </a:r>
            <a:r>
              <a:rPr b="1" i="1" lang="ru-RU" sz="2000" spc="-1" strike="noStrike">
                <a:solidFill>
                  <a:srgbClr val="cc00ff"/>
                </a:solidFill>
                <a:latin typeface="Century Schoolbook"/>
              </a:rPr>
              <a:t>АРХИМЕДОВОЙ СИЛОЙ</a:t>
            </a: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, В ЧЕСТЬ ДРЕВНЕГРЕЧЕСКОГО УЧЁНОГО </a:t>
            </a:r>
            <a:r>
              <a:rPr b="1" lang="ru-RU" sz="2000" spc="-1" strike="noStrike">
                <a:solidFill>
                  <a:srgbClr val="cc00ff"/>
                </a:solidFill>
                <a:latin typeface="Century Schoolbook"/>
              </a:rPr>
              <a:t>АРХИМЕДА</a:t>
            </a: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, КОТОРЫЙ ВПЕРВЫЕ УКАЗАЛ НА ЕЁ СУЩЕСТВОВАНИЕ И РАССЧИТАЛ ЕЁ ЗНАЧЕНИЕ.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00080" y="1856880"/>
            <a:ext cx="7143840" cy="42865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3333ff"/>
                </a:solidFill>
                <a:latin typeface="Century Schoolbook"/>
              </a:rPr>
              <a:t>Проверьте  догадку Архимеда с помощью прибора «Ведёрко  Архимеда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9" name="Picture 5" descr=""/>
          <p:cNvPicPr/>
          <p:nvPr/>
        </p:nvPicPr>
        <p:blipFill>
          <a:blip r:embed="rId1"/>
          <a:stretch/>
        </p:blipFill>
        <p:spPr>
          <a:xfrm>
            <a:off x="3643200" y="3214800"/>
            <a:ext cx="1928880" cy="283032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pic>
        <p:nvPicPr>
          <p:cNvPr id="360" name="Picture 6" descr=""/>
          <p:cNvPicPr/>
          <p:nvPr/>
        </p:nvPicPr>
        <p:blipFill>
          <a:blip r:embed="rId2"/>
          <a:stretch/>
        </p:blipFill>
        <p:spPr>
          <a:xfrm>
            <a:off x="5929200" y="3214800"/>
            <a:ext cx="1928880" cy="285732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pic>
        <p:nvPicPr>
          <p:cNvPr id="361" name="Picture 7" descr=""/>
          <p:cNvPicPr/>
          <p:nvPr/>
        </p:nvPicPr>
        <p:blipFill>
          <a:blip r:embed="rId3"/>
          <a:stretch/>
        </p:blipFill>
        <p:spPr>
          <a:xfrm>
            <a:off x="1285920" y="3214800"/>
            <a:ext cx="1874880" cy="285732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285640" y="1071720"/>
            <a:ext cx="61722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ЗАКОН АРХИМЕДА ГЛАСИТ</a:t>
            </a:r>
            <a:br>
              <a:rPr sz="3600"/>
            </a:br>
            <a:br>
              <a:rPr sz="3600"/>
            </a:br>
            <a:br>
              <a:rPr sz="1800"/>
            </a:br>
            <a:r>
              <a:rPr b="1" lang="ru-RU" sz="2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СИЛА, ВЫТАЛКИВАЮЩАЯ ЦЕЛИКОМ ПОГРУЖЁННОЕ В ЖИДКОСТЬ ИЛИ ГАЗ ТЕЛО, РАВНА ВЕСУ ЖИДКОСТИ ИЛИ ГАЗА В ОБЪЁМЕ ЭТОГО ТЕЛА».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3142800" y="4357800"/>
            <a:ext cx="4643640" cy="1428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Verdana"/>
              </a:rPr>
              <a:t>F</a:t>
            </a:r>
            <a:r>
              <a:rPr b="1" lang="ru-RU" sz="1800" spc="-1" strike="noStrike">
                <a:solidFill>
                  <a:srgbClr val="ff00ff"/>
                </a:solidFill>
                <a:latin typeface="Verdana"/>
              </a:rPr>
              <a:t>А</a:t>
            </a:r>
            <a:r>
              <a:rPr b="1" lang="ru-RU" sz="4000" spc="-1" strike="noStrike">
                <a:solidFill>
                  <a:srgbClr val="ff00ff"/>
                </a:solidFill>
                <a:latin typeface="Verdana"/>
              </a:rPr>
              <a:t>  = </a:t>
            </a:r>
            <a:r>
              <a:rPr b="1" lang="en-US" sz="4000" spc="-1" strike="noStrike">
                <a:solidFill>
                  <a:srgbClr val="ff00ff"/>
                </a:solidFill>
                <a:latin typeface="Verdana"/>
              </a:rPr>
              <a:t>g·</a:t>
            </a:r>
            <a:r>
              <a:rPr b="1" lang="ru-RU" sz="4000" spc="-1" strike="noStrike">
                <a:solidFill>
                  <a:srgbClr val="ff00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00ff"/>
                </a:solidFill>
                <a:latin typeface="Verdana"/>
              </a:rPr>
              <a:t>p</a:t>
            </a:r>
            <a:r>
              <a:rPr b="1" lang="ru-RU" sz="1800" spc="-1" strike="noStrike">
                <a:solidFill>
                  <a:srgbClr val="ff00ff"/>
                </a:solidFill>
                <a:latin typeface="Verdana"/>
              </a:rPr>
              <a:t>ж</a:t>
            </a:r>
            <a:r>
              <a:rPr b="1" lang="ru-RU" sz="4000" spc="-1" strike="noStrike">
                <a:solidFill>
                  <a:srgbClr val="ff00ff"/>
                </a:solidFill>
                <a:latin typeface="Verdana"/>
              </a:rPr>
              <a:t> · </a:t>
            </a:r>
            <a:r>
              <a:rPr b="1" lang="en-US" sz="4000" spc="-1" strike="noStrike">
                <a:solidFill>
                  <a:srgbClr val="ff00ff"/>
                </a:solidFill>
                <a:latin typeface="Verdana"/>
              </a:rPr>
              <a:t>V</a:t>
            </a:r>
            <a:r>
              <a:rPr b="1" lang="ru-RU" sz="1800" spc="-1" strike="noStrike">
                <a:solidFill>
                  <a:srgbClr val="ff00ff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64296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ЕГЕНДА ОБ АРХИМЕДЕ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0" y="714240"/>
            <a:ext cx="6858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ракузский царь Гиерон (250 лет до н.э.) поручил Архимеду проверить честность мастера , изготовившего золотую корону. Хотя корона весила столько, сколько было отпущено  на неё золота, царь заподозрил, что она изготовлена из сплава золота с другими более дешёвыми металлами. Архимеду было поручено узнать, не ломая короны, есть ли в ней примесь. </a:t>
            </a:r>
            <a:r>
              <a:rPr b="1" i="1" lang="ru-RU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Взвесить корону было легко, но как найти её объём?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дней мучила Архимеда эта задача. И вот однажды, когда он, находясь в бане, погрузился в наполненную водой ванну, его внезапно осенила мысль, давшая решение задачи. Ликующий  Архимед воскликнул: </a:t>
            </a:r>
            <a:r>
              <a:rPr b="1" lang="ru-RU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«Эврика! Эврика!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значит: </a:t>
            </a:r>
            <a:r>
              <a:rPr b="1" lang="ru-RU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«Нашёл! Нашёл!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мед  взвесил корону сначала в воздухе, затем в воде. По разнице в весе он рассчитал выталкивающую силу, равную весу воды в объёме короны. Определив  объём короны, он затем смог вычислить её плотность, а зная плотность, ответить на вопрос царя: нет ли примесей дешёвых металлов в золотой короне?  Легенда гласит, что плотность вещества короны оказалась меньше плотности чистого золота. Тем самым мастер был изобличён в обман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ука обогатилась замечательным открытием.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Picture 7" descr=""/>
          <p:cNvPicPr/>
          <p:nvPr/>
        </p:nvPicPr>
        <p:blipFill>
          <a:blip r:embed="rId1"/>
          <a:stretch/>
        </p:blipFill>
        <p:spPr>
          <a:xfrm rot="715800">
            <a:off x="6818040" y="948960"/>
            <a:ext cx="1857240" cy="2579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1:42:58Z</dcterms:created>
  <dc:creator>Екатерина</dc:creator>
  <dc:description/>
  <dc:language>en-US</dc:language>
  <cp:lastModifiedBy>Екатерина</cp:lastModifiedBy>
  <dcterms:modified xsi:type="dcterms:W3CDTF">2010-11-19T09:02:51Z</dcterms:modified>
  <cp:revision>28</cp:revision>
  <dc:subject/>
  <dc:title>Архимедова сила</dc:title>
</cp:coreProperties>
</file>