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163.wav" ContentType="audio/x-wav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9F3-F76F-4C43-BE42-43461D18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9FC-85D7-47AF-8B79-44CFFAD6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0DE-7638-4F7E-8492-D12B2567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B0-70C9-41A8-9328-9EED3C8E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2E3-3387-4E3E-A7D9-21ACA034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1717-43AF-4EBC-B129-598F694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36F5-FAF0-440E-B1AA-7845AAA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3DDE-9245-440B-B495-CBE8CBC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9F2-9AFD-4DF5-9D99-474ECC5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524-6800-4ACD-B0D6-D4AC35CA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25E-897A-4B37-A250-3A237F6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43F-29B4-489F-A2B0-610A6E5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608-6282-4519-99B7-6D160D7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F47-54CB-4DF2-AB80-C43533B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2E0-B6F7-4D62-B349-8B67BC7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CF1-1753-429B-9642-D007F53D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F093-7369-4BEC-8673-08664430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678-6771-488F-9A3E-4BE73A3B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52E-86D6-474E-A5F4-11D0FCAA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48C-046B-489D-A791-26E4890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3F5-6732-42D6-87B5-BD977AA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19B-0331-4AC0-B45D-09A23C8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7A2-156D-4A43-B3D4-8FA33CA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A8E-9685-4436-B533-C604AB1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CCB-FFEB-40EE-AC9F-E725932656C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D50-9E73-43C1-86D3-7E78F869165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3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-%20&#1082;&#1091;&#1083;&#1100;&#1090;&#1091;&#1088;&#1080;&#1079;&#1084;.ppt" TargetMode="External"/><Relationship Id="rId2" Type="http://schemas.openxmlformats.org/officeDocument/2006/relationships/hyperlink" Target="file:///&#1055;&#1088;&#1077;&#1079;&#1077;&#1085;&#1090;&#1072;&#1094;&#1080;&#1103;%20-%20&#1082;&#1091;&#1083;&#1100;&#1090;&#1091;&#1088;&#1080;&#1079;&#1084;.ppt" TargetMode="External"/><Relationship Id="rId3" Type="http://schemas.openxmlformats.org/officeDocument/2006/relationships/hyperlink" Target="file:///&#1055;&#1091;&#1073;&#1083;&#1080;&#1082;&#1072;&#1094;&#1080;&#1103;1.pub" TargetMode="External"/><Relationship Id="rId4" Type="http://schemas.openxmlformats.org/officeDocument/2006/relationships/hyperlink" Target="file:///&#1087;&#1088;&#1077;&#1079;&#1077;&#1085;&#1090;&#1072;&#1094;&#1080;&#1103;%20&#1091;&#1095;&#1080;&#1090;&#1077;&#1083;&#1103;.ppt" TargetMode="External"/><Relationship Id="rId5" Type="http://schemas.openxmlformats.org/officeDocument/2006/relationships/hyperlink" Target="file:///&#1080;&#1090;&#1086;&#1075;&#1086;&#1074;&#1099;&#1081;%20&#1082;&#1086;&#1085;&#1090;&#1088;&#1086;&#1083;&#1100;..xls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2913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ь – это способ     существования белковых тел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Ф.Энгель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285264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474660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льченко С.М.  - уч. хим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еньковская Е.М. – уч. биолог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МОУ СОШ № 7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г.Сальск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advTm="4000">
    <p:wedge/>
    <p:sndAc>
      <p:stSnd>
        <p:snd r:embed="rId1" name="16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680" y="931680"/>
            <a:ext cx="8596080" cy="541080"/>
          </a:xfrm>
          <a:prstGeom prst="rect">
            <a:avLst/>
          </a:prstGeom>
          <a:noFill/>
          <a:ln w="9360">
            <a:solidFill>
              <a:srgbClr val="e0914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Белки – это главные части клетки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лияют ли белки на нашу индивидуальность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Какую роль играют белки в жизни организма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95640" y="765000"/>
            <a:ext cx="496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новные вопрос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75204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2013120"/>
            <a:ext cx="67500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о биологии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зучить структуру белковой молекулы, значение белков в процессах жизнедеятельности, свойства белковой молекулы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о химии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зучить важнейшие химические и физические свойства белков, какую роль играют виды химических связей в формировании белковых молекул, с помощью каких реакций можно распознать белки, как происходит соединение аминокислот друг с другом, как соотносится между собой понятие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липепт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епт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елок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лиам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редметы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химия, биология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Участники</a:t>
            </a: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чащиеся 10 класс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946080"/>
            <a:ext cx="792360" cy="39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68360" y="765000"/>
            <a:ext cx="5759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просы учебной тем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641160"/>
            <a:ext cx="841716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2040" y="1981080"/>
            <a:ext cx="763092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Стимулирование познавательного интерес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формирование навыков работы в команде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приобретение умений самостоятельной работы с информацие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своение навыков проведения химического анализа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Сформировать знания об особенностях строения и функциях молекул белков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Установить зависимость между строением, свойствами  молекул белков и их функциями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84360" y="83664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дактические цел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24000" y="3500280"/>
            <a:ext cx="511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тодические цел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3000" y="656280"/>
            <a:ext cx="7256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Выбор тем исследований школьников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Формирование групп для проведения исследован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Обсуждение плана работы групп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Самостоятельная работа групп по выполнению задан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Подготовка учащимися презентаций к отчету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Защита полученных результатов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62064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тапы и сроки проведения проект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5320" y="657360"/>
            <a:ext cx="7777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ых исследова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.Презентация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Стоит ли красота жертв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?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2.практическая работа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Как обнаружить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белок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3. буклет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жно ли прожить на растительных   белках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?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43640" y="4653000"/>
            <a:ext cx="1727280" cy="135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130032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2914" t="54675" r="8878" b="5578"/>
          <a:stretch/>
        </p:blipFill>
        <p:spPr>
          <a:xfrm>
            <a:off x="1835280" y="4149720"/>
            <a:ext cx="2160360" cy="237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340000" y="620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блемные вопрос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680" y="707760"/>
            <a:ext cx="8596080" cy="531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332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4400" y="1412640"/>
            <a:ext cx="7707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изит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меры работ учащихся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презентаци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букле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идактические материалы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презентация учител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инструкция к практической работ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контроль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писок используемой литератур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00360" y="69228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риалы УМП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05:30Z</dcterms:created>
  <dc:creator>1</dc:creator>
  <dc:description/>
  <dc:language>en-US</dc:language>
  <cp:lastModifiedBy>1</cp:lastModifiedBy>
  <dcterms:modified xsi:type="dcterms:W3CDTF">2007-04-03T14:07:13Z</dcterms:modified>
  <cp:revision>32</cp:revision>
  <dc:subject/>
  <dc:title>Слайд 1</dc:title>
</cp:coreProperties>
</file>