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C1D-A460-4F33-9C23-E488585B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7DE-540A-4611-90E0-8E6AB909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1D7-3F54-4D77-B256-50ABDF51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6F8-D989-42B0-A849-77600CE8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AE15-1524-4BCA-97FC-0D6F6198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2CFA-7260-4E2B-AF88-712F0BE6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73EA-D6A8-42D9-893D-15A86029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67F3-BFA4-47C3-BCAF-30413384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F40F-E7D8-4907-B778-0B96F587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EC2B-CBE7-4E7C-AE73-87499D29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834C-91F9-436D-9473-A055A5CD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AAB-C341-4257-9577-1CCA2096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DF5E-36B5-4629-82E0-35C5BD6A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38DC-662F-4E93-999A-717B7589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850C-D370-4E1C-80CD-8CD182A9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51CA-E434-4F31-9187-22041362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02C5-111E-4D8C-94F8-A87D9D9A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BEB-B03E-4668-B326-422D7C8A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D9C-4FFA-48C0-8FBB-E4FCB36B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987-39F4-44D0-8C89-2BB102C0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6B8-4413-4AF6-8DF5-19ED08CE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632-3043-47C3-BA1C-8B003CA5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4F7-91AC-4487-81EC-B4B9F55D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04C-BF18-4E50-86A2-C3B0F1AB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FB99-0CEA-45A8-AB01-692E93189DC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D8C0-C768-44F8-84E5-5C9D9232B43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53880" y="1682640"/>
            <a:ext cx="8710920" cy="2352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8592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ОБУ СОШ с. Имай-Карма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читель исто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арипов Ш.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317520" y="96840"/>
            <a:ext cx="8601120" cy="144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олное подчинение производителя государств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тсутствие свободы труда и замена ее внеэкономическим принужде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Монополия государства на средства производств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Милитаризация экономи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Государственное регулирование имущественных отнош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45520" cy="1446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200016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днопартийная систем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Сращивание партийного и государственного аппарат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нификация всей общественной жизн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тсутствие реальных свобод в обществ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аличие мощного репрессивного аппара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45520" cy="1446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214272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Господство партийной моноидеолог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олный государственный контроль над образованием и средствами массовой информа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нификация духовной жизн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Диктат атеиз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291960" y="-182520"/>
            <a:ext cx="8778960" cy="2011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Федеративное государство по форме, унитарное по су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Тенденция к русификации народов ССС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граничение политических и экономических прав союзных и автономных республ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чебник «Отечественная история 20-начала 21 века» под редак. А.О. Чубарьяна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§16-18. стр. 91-105. Составление таблиц по заданию учителя. Ответить на вопрос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01760" y="1566720"/>
            <a:ext cx="83134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Наращивание военно-экономического потенциал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Создание мощной арми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Укрепление централизации и единоличной власти общенационального вожд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Утверждение однопартийной системы в государстве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Формирование идеологического аппарата для обработки массового сознани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Создание мощной репрессивной машины для  уничтожения «врагов народа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а основе максимального перенапряжения сил всего общества в предельно короткие сро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еобходимость для этого создания жесткой политической систем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законивание этой системы в новой Конституции СССР 1936 г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32920" cy="1446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дея В. Ленина о полновластии Советов, как органов народной власти и являющейся источником создания исполнительной, законодательной и судебной влас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Стремление к самоутверждению Сталина и возвеличиванию коммунистического партийного руководства государств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скоренение остатков политических оппозиционных партий путем репресс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Формирование культа личности Стали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857160" y="1571760"/>
            <a:ext cx="75726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8821800" cy="968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епрессии – как инструмент сохранения режима личной власти Сталина от его возможных противник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епрессии – как главная форма внеэкономического принуждения насе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епрессии – как определяющее условие сплочения, сохранения и укрепления тоталитарного общества советского тип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31200" cy="14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отребности в идеологическом обеспечении функционирования тоталитарной систем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изкий уровень культуры масс, допускавший существование народной веры в величие и непогрешимость вожд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Личные качества И. Стал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93560" y="1639800"/>
            <a:ext cx="852804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3:54:27Z</dcterms:created>
  <dc:creator>1</dc:creator>
  <dc:description/>
  <dc:language>en-US</dc:language>
  <cp:lastModifiedBy>1</cp:lastModifiedBy>
  <dcterms:modified xsi:type="dcterms:W3CDTF">2011-12-07T05:17:34Z</dcterms:modified>
  <cp:revision>13</cp:revision>
  <dc:subject/>
  <dc:title>Слайд 1</dc:title>
</cp:coreProperties>
</file>