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86C-AD68-4B42-93B8-074F0CCC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57B-0BB1-4D3F-A777-41DBC49C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ED2-98DC-4B1C-9746-B509E428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FEC-3132-4A1E-BC9F-CF60090A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0729-58EC-4AC7-AAEB-53E42673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5401-323E-47AE-BD6B-1C049BE1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A114-1A45-4DF9-9A1D-7219F5ED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008E-B69E-4056-9A0E-85AC234B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879B-42B8-433B-B6BE-5457EFA9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D478-2771-40E2-8229-B2E0B931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BDCD-964D-4751-BBF4-FF9F1C22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3BB-5182-46AE-AD39-C1B05A05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C4AA-962B-4C28-B648-9FCDC86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BCF2-6048-4651-BD8F-BA83BE4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61EF-8F31-48FF-90D8-1A038B0E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A9CD-A659-402C-961D-C61D5177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3369-1FEC-46BA-B7FA-B59163DA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8C4-CF0E-4E4B-AF7E-2A26500D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0B5-49BF-4514-893C-5DDC6BF3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8D4-9E8F-4309-82F7-A467984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51F-07EF-45D9-94D7-14FDE4E4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24C-91F9-4686-ABA5-B14D512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969-685A-433F-911E-1C477042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FA7-E6F9-43FE-8E90-5D8AA22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7CD-CA6E-4F8A-8F25-CD4564B2558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4D5E-7675-4DDA-90ED-B9DF42E2A38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53880" y="1682640"/>
            <a:ext cx="8710920" cy="2352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8592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ОБУ СОШ с. Имай-Карма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читель исто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арипов Ш.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17520" y="96840"/>
            <a:ext cx="860112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лное подчинение производителя государств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тсутствие свободы труда и замена ее внеэкономическим принуждение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Монополия государства на средства производств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Милитаризация экономи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Государственное регулирование имущественных отнош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45520" cy="1446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200016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днопартийная систем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Сращивание партийного и государственного аппарат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нификация всей общественной жизн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тсутствие реальных свобод в обществ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личие мощного репрессивного аппара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45520" cy="1446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214272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Господство партийной моноидеолог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лный государственный контроль над образованием и средствами массовой информа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нификация духовной жизн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Диктат ате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291960" y="-182520"/>
            <a:ext cx="8778960" cy="2011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едеративное государство по форме, унитарное по су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Тенденция к русификации народов ССС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граничение политических и экономических прав союзных и автономных республ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чебник «Отечественная история 20-начала 21 века» под редак. А.О. Чубарьяна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§16-18. стр. 91-105. Составление таблиц по заданию учителя.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01760" y="1566720"/>
            <a:ext cx="83134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Наращивание военно-экономического потенциал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Создание мощной арми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Укрепление централизации и единоличной власти общенационального вожд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Утверждение однопартийной системы в государстве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Формирование идеологического аппарата для обработки массового созна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</a:rPr>
              <a:t>Создание мощной репрессивной машины для  уничтожения «врагов народа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 основе максимального перенапряжения сил всего общества в предельно короткие сро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еобходимость для этого создания жесткой политической систем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законивание этой системы в новой Конституции СССР 1936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32920" cy="144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дея В. Ленина о полновластии Советов, как органов народной власти и являющейся источником создания исполнительной, законодательной и судебной власт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Стремление к самоутверждению Сталина и возвеличиванию коммунистического партийного руководства государств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Искоренение остатков политических оппозиционных партий путем репресс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Формирование культа личности Стали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857160" y="1571760"/>
            <a:ext cx="75726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212760" y="165240"/>
            <a:ext cx="8821800" cy="968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прессии – как инструмент сохранения режима личной власти Сталина от его возможных противник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прессии – как главная форма внеэкономического принуждения насел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епрессии – как определяющее условие сплочения, сохранения и укрепления тоталитарного общества советского тип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31200" cy="14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отребности в идеологическом обеспечении функционирования тоталитарной систем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изкий уровень культуры масс, допускавший существование народной веры в величие и непогрешимость вожд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Личные качества И. Стал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52804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3:54:27Z</dcterms:created>
  <dc:creator>1</dc:creator>
  <dc:description/>
  <dc:language>en-US</dc:language>
  <cp:lastModifiedBy>1</cp:lastModifiedBy>
  <dcterms:modified xsi:type="dcterms:W3CDTF">2011-12-07T05:17:34Z</dcterms:modified>
  <cp:revision>13</cp:revision>
  <dc:subject/>
  <dc:title>Слайд 1</dc:title>
</cp:coreProperties>
</file>