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8893-576F-4E38-ADF9-C080C9BFEC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5227-088C-48E7-B06D-F8F9973521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C13-FDE4-473D-BE21-D9C122B5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C32-777A-4B34-BE20-80292C14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8A8-41C0-4AFE-B37C-BBF2BAD4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207-8D15-4F6A-A0FD-AABD692E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E980-6FDD-47B0-A689-AC49EF9A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6B0C-6838-40D9-B40B-1C7FA49E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F83C-B4C8-483A-A1EC-6D45426B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BAD8-6A72-4FEE-B41B-65B56E75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EC35-3934-468E-A087-34EAB0A6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51A3-36A5-4BD2-88FB-6307BC0D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6F69-0C00-404F-AFBD-9906D066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ABE-E9FA-4364-A1E6-5B0DBA5B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0EAE-6C59-4683-AFB2-2039E4D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80D3-6622-42A9-854C-696A1E2C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CC36-52D6-4BCF-8DA5-1BCC752E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38B9-CDD6-4A36-8AE4-AB54F896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1E9A-BA67-4555-B42F-956C1E65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8C282-30BD-4F25-B9BA-FB2D9EB1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2A80-0F2B-4BF4-91DD-AAB70E48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7A3F9-5DBB-4A3A-9D9C-329259F6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5E60-3CA9-44B7-9B7F-3EEA322C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5FA2-C562-453C-8542-7687BA02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49A-E1A8-4E97-BB51-3269C465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12D4-A224-43A8-AF35-94BA51E9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122D-D1E0-41F7-BE82-99159F7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9051-529C-40B8-920F-00D76A20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EAC35-271B-4F00-9199-E01AC933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F0D6-E342-4E09-9F1F-DD2485E4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E921-B443-442D-BDE4-72D239A5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E9FE-0C64-491E-8E58-9CA11321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CBBF-7F2F-43F0-9733-F0F4138E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6461-EED8-4F55-8894-4B69C67E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6972-D447-41A8-8C4E-0CD4BAC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899-45EB-4EB1-A912-DB485C86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0DB4-EA59-46FC-8863-0FC831CB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1B3F2-F0C1-4CE8-BE62-A8AE46EE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EAE7-16F1-42B2-8E6C-30D224EA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CCDEB-F056-4DA5-9C22-B127133E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2A7F-82B9-49BA-873A-BEE5C9C0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EFAE-035D-4EBD-BD76-89BEAE2A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DCFF4-96F0-4BCD-87D2-C23BC8F3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47CA-4B9D-4DF7-B7BA-20F3E3B1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0776A-D21B-4FEC-A671-C64AC774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74D-9ACC-4920-AC91-1E2318FB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3A1-8690-4984-B7C9-E00E714B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58A-5E9A-438F-A235-CAA70FA8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6B5-46DE-4FDB-BBC8-79EAA8FB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E66-F06A-4ED9-9E0F-BA1A1ECB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3289-E987-4AC0-B19A-51CCFC86297C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B4E0-B610-4B18-AF11-97D621672C2F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9925-95DF-4B8A-AD72-88DD322C2985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30C4-D783-422E-941F-80906CF8D781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609480" y="1182600"/>
            <a:ext cx="7723440" cy="32562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395280" y="260280"/>
            <a:ext cx="84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униципальное Общеобразовательное Учреждение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Крутоярская  средняя общеобразовательная школа»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оррекционные классы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VIII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вида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072040" y="12600"/>
            <a:ext cx="3395520" cy="21812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140000" y="2060640"/>
            <a:ext cx="489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c7aa"/>
                </a:solidFill>
                <a:latin typeface="Trebuchet MS"/>
              </a:rPr>
              <a:t>Всего– 60 деревье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c7aa"/>
                </a:solidFill>
                <a:latin typeface="Trebuchet MS"/>
              </a:rPr>
              <a:t>Берёз - </a:t>
            </a:r>
            <a:r>
              <a:rPr b="1" lang="ru-RU" sz="2800" spc="-1" strike="noStrike">
                <a:solidFill>
                  <a:srgbClr val="5eccf3"/>
                </a:solidFill>
                <a:latin typeface="Trebuchet MS"/>
              </a:rPr>
              <a:t>?</a:t>
            </a:r>
            <a:r>
              <a:rPr b="1" lang="ru-RU" sz="2800" spc="-1" strike="noStrike">
                <a:solidFill>
                  <a:srgbClr val="56c7aa"/>
                </a:solidFill>
                <a:latin typeface="Trebuchet MS"/>
              </a:rPr>
              <a:t>, половина</a:t>
            </a:r>
            <a:r>
              <a:rPr b="1" lang="ru-RU" sz="3600" spc="-1" strike="noStrike">
                <a:solidFill>
                  <a:srgbClr val="56c7a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56c7aa"/>
                </a:solidFill>
                <a:latin typeface="Trebuchet MS"/>
              </a:rPr>
              <a:t>от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8298000" y="3529080"/>
            <a:ext cx="6285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6"/>
          <p:cNvSpPr/>
          <p:nvPr/>
        </p:nvSpPr>
        <p:spPr>
          <a:xfrm flipV="1">
            <a:off x="8939160" y="2852280"/>
            <a:ext cx="0" cy="647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7"/>
          <p:cNvSpPr/>
          <p:nvPr/>
        </p:nvSpPr>
        <p:spPr>
          <a:xfrm flipH="1">
            <a:off x="7667280" y="2852640"/>
            <a:ext cx="12589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8" descr="C:\Users\Психолог\Desktop\картинки\мультящки\0_4d633_32f11717_M.png"/>
          <p:cNvPicPr/>
          <p:nvPr/>
        </p:nvPicPr>
        <p:blipFill>
          <a:blip r:embed="rId2"/>
          <a:stretch/>
        </p:blipFill>
        <p:spPr>
          <a:xfrm>
            <a:off x="14400" y="495360"/>
            <a:ext cx="41972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523800" y="225360"/>
            <a:ext cx="8382240" cy="29750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24000" y="2924280"/>
            <a:ext cx="85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числит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  90:3+4 *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 15 * 6-42: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10т5ц * 3+70т2ц: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ариан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82:2+ 23 *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10м7дм-3м2дм *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536400" y="60480"/>
            <a:ext cx="8369640" cy="1390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95280" y="155736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23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rebuchet MS"/>
              </a:rPr>
              <a:t>Планируемый особым образом организуемый педагогический процесс, направленный не только на исправление индивидуальных качеств, но и на создание необходимых условий для личного развития каждого учащегос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1116000" y="-30240"/>
            <a:ext cx="6510240" cy="1498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755640" y="1483920"/>
            <a:ext cx="741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CD, DVD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Принтер, сканер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Цифровая съемк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Локальная сет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Интерне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ЦОР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Базы данных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Базы знаний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700360" y="767880"/>
            <a:ext cx="4392720" cy="1191240"/>
          </a:xfrm>
          <a:prstGeom prst="rect">
            <a:avLst/>
          </a:prstGeom>
          <a:solidFill>
            <a:srgbClr val="59a8d1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2571"/>
                </a:solidFill>
                <a:latin typeface="Arial"/>
              </a:rPr>
              <a:t>Цифровые образовательные ресур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3"/>
          <p:cNvSpPr/>
          <p:nvPr/>
        </p:nvSpPr>
        <p:spPr>
          <a:xfrm flipH="1">
            <a:off x="2195280" y="1989000"/>
            <a:ext cx="863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14200" y="3432600"/>
            <a:ext cx="4643640" cy="1618560"/>
          </a:xfrm>
          <a:prstGeom prst="rect">
            <a:avLst/>
          </a:prstGeom>
          <a:solidFill>
            <a:srgbClr val="59a8d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71"/>
                </a:solidFill>
                <a:latin typeface="Arial"/>
              </a:rPr>
              <a:t>1.Электронные учебные издания (ЭУИ) на </a:t>
            </a:r>
            <a:r>
              <a:rPr b="1" i="1" lang="en-US" sz="2000" spc="-1" strike="noStrike">
                <a:solidFill>
                  <a:srgbClr val="252571"/>
                </a:solidFill>
                <a:latin typeface="Arial"/>
              </a:rPr>
              <a:t>CD-ROM</a:t>
            </a:r>
            <a:r>
              <a:rPr b="1" i="1" lang="ru-RU" sz="2000" spc="-1" strike="noStrike">
                <a:solidFill>
                  <a:srgbClr val="252571"/>
                </a:solidFill>
                <a:latin typeface="Arial"/>
              </a:rPr>
              <a:t> и </a:t>
            </a:r>
            <a:r>
              <a:rPr b="1" i="1" lang="en-US" sz="2000" spc="-1" strike="noStrike">
                <a:solidFill>
                  <a:srgbClr val="252571"/>
                </a:solidFill>
                <a:latin typeface="Arial"/>
              </a:rPr>
              <a:t>DVD-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71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252571"/>
                </a:solidFill>
                <a:latin typeface="Arial"/>
              </a:rPr>
              <a:t>.Презентации учителей-    предметни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6357960" y="2000160"/>
            <a:ext cx="934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796000" y="3621600"/>
            <a:ext cx="3024000" cy="703800"/>
          </a:xfrm>
          <a:prstGeom prst="rect">
            <a:avLst/>
          </a:prstGeom>
          <a:solidFill>
            <a:srgbClr val="59a8d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71"/>
                </a:solidFill>
                <a:latin typeface="Arial"/>
              </a:rPr>
              <a:t>Сайты (порталы) – </a:t>
            </a:r>
            <a:r>
              <a:rPr b="1" i="1" lang="en-US" sz="2000" spc="-1" strike="noStrike">
                <a:solidFill>
                  <a:srgbClr val="252571"/>
                </a:solidFill>
                <a:latin typeface="Arial"/>
              </a:rPr>
              <a:t>edu.ru </a:t>
            </a:r>
            <a:r>
              <a:rPr b="1" i="1" lang="ru-RU" sz="2000" spc="-1" strike="noStrike">
                <a:solidFill>
                  <a:srgbClr val="252571"/>
                </a:solidFill>
                <a:latin typeface="Arial"/>
              </a:rPr>
              <a:t>,СФ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682560" y="-55440"/>
            <a:ext cx="7772400" cy="1896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394920" y="1557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отивация и психологический настро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витие ВПФ через специальные упражн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Любой материал начинается с повтор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амое важное в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половине уро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блюдение порционности материал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мена видов деятельности каждые 10 мину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циональное количество наглядности, наличие образца выполняемого зад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лгоритмизация действий учащихся (не более одной инструкции одновременно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инамическая пау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ифференцированный личностно-ориентированный подход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1835280" y="549360"/>
            <a:ext cx="5473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21274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урока</a:t>
            </a:r>
            <a:endParaRPr b="0" lang="en-US" sz="2400" spc="1" strike="noStrike">
              <a:ln w="0">
                <a:noFill/>
              </a:ln>
              <a:solidFill>
                <a:srgbClr val="21274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468360" y="1434960"/>
            <a:ext cx="82072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ый эта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 проверки домашнего зад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 подготовки учащихся к активному и сознательному усвоению нового материал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 усвоения новых зна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 закрепления новых зна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 информации учащихся о домашнем задании, инструктаж по его выполнению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609480" y="133200"/>
            <a:ext cx="7772400" cy="1214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едостаточное количество информационного материала в существующих учебно-методических пособиях (в учебниках нет определенных иллюстраций, схем, текстов и т.д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эффективность индивидуального подхода к работе учащихся на данном этапе урока (индивидуальная траектория освоения материала, индивидуальное время освоени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тенсификация учебно-воспитательного процесса (уменьшение времени подачи материала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вышение эффективности усвоения учебного материала за счет одновременного изложения учителем необходимых сведений и показа демонстрационных фрагмент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C:\Users\Психолог\Desktop\картинки\мультящки\rpgbcbyfxkhfqulhjawko.gif"/>
          <p:cNvPicPr/>
          <p:nvPr/>
        </p:nvPicPr>
        <p:blipFill>
          <a:blip r:embed="rId1"/>
          <a:stretch/>
        </p:blipFill>
        <p:spPr>
          <a:xfrm>
            <a:off x="-252360" y="-387360"/>
            <a:ext cx="5616360" cy="60069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3" descr=""/>
          <p:cNvPicPr/>
          <p:nvPr/>
        </p:nvPicPr>
        <p:blipFill>
          <a:blip r:embed="rId2"/>
          <a:stretch/>
        </p:blipFill>
        <p:spPr>
          <a:xfrm>
            <a:off x="1914480" y="4608360"/>
            <a:ext cx="7248600" cy="244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645080" y="-30240"/>
            <a:ext cx="3767040" cy="21765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203280" y="2133360"/>
            <a:ext cx="594036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88a"/>
                </a:solidFill>
                <a:latin typeface="Trebuchet MS"/>
              </a:rPr>
              <a:t>Журавлей – 64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88a"/>
                </a:solidFill>
                <a:latin typeface="Trebuchet MS"/>
              </a:rPr>
              <a:t>Уток - ?, в 4 раза меньш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88a"/>
                </a:solidFill>
                <a:latin typeface="Trebuchet MS"/>
              </a:rPr>
              <a:t>Всего птиц -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5eccf3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8255160" y="3573360"/>
            <a:ext cx="431640" cy="0"/>
          </a:xfrm>
          <a:prstGeom prst="line">
            <a:avLst/>
          </a:prstGeom>
          <a:ln cap="sq" w="28440">
            <a:solidFill>
              <a:srgbClr val="1e2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V="1">
            <a:off x="8686800" y="2781000"/>
            <a:ext cx="0" cy="733320"/>
          </a:xfrm>
          <a:prstGeom prst="line">
            <a:avLst/>
          </a:prstGeom>
          <a:ln cap="sq" w="28440">
            <a:solidFill>
              <a:srgbClr val="1e2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7"/>
          <p:cNvSpPr/>
          <p:nvPr/>
        </p:nvSpPr>
        <p:spPr>
          <a:xfrm flipH="1">
            <a:off x="6588000" y="2781360"/>
            <a:ext cx="2098800" cy="0"/>
          </a:xfrm>
          <a:prstGeom prst="line">
            <a:avLst/>
          </a:prstGeom>
          <a:ln cap="sq" w="28440">
            <a:solidFill>
              <a:srgbClr val="1e288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Picture 8" descr="C:\Users\Психолог\Desktop\картинки\мультящки\e808812e7ac5.png"/>
          <p:cNvPicPr/>
          <p:nvPr/>
        </p:nvPicPr>
        <p:blipFill>
          <a:blip r:embed="rId2"/>
          <a:stretch/>
        </p:blipFill>
        <p:spPr>
          <a:xfrm>
            <a:off x="25560" y="133200"/>
            <a:ext cx="3809880" cy="407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07:44:28Z</dcterms:created>
  <dc:creator>юлия</dc:creator>
  <dc:description/>
  <dc:language>en-US</dc:language>
  <cp:lastModifiedBy>Психолог</cp:lastModifiedBy>
  <dcterms:modified xsi:type="dcterms:W3CDTF">2011-12-08T04:36:49Z</dcterms:modified>
  <cp:revision>33</cp:revision>
  <dc:subject/>
  <dc:title>Использование ИКТ  на уроках математики в коррекционной школе</dc:title>
</cp:coreProperties>
</file>