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AC4C-884D-40E6-8DE8-648058C2C5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6B06-F2A1-4CC0-AE31-8A16423F8A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6214-27BB-4811-A2D9-7510DD4D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645E-3D08-4F42-A74F-6E7A6528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9A7F-80A7-456F-9D0B-82286D27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3F8-CFA1-4665-AC4E-F8E0C8BF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1CAD-A400-4285-ACB4-5ABD0F97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AE84-3AB6-4F5E-B630-AC28663F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B829-BB74-454F-8C75-807E307F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74DC-5B49-419C-9CE9-77DD2365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6245-89D9-48F8-A313-5A5733D1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30E7-CC1B-4BAE-9FFA-6B5F0EB4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10E0-FCEF-47FC-9313-187177DC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212-A508-4D29-A5A6-89CEE888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87B2-88DA-415A-9A68-1C051BFF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492E-FF2D-4F7A-B959-7852C605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2B6C-1B7A-471E-AE30-B96AB130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3F55-33BB-470D-AAF7-D508C6E6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8885-8BB6-48F3-A5AB-D216DDAF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8D89B-ACB5-4082-93F8-A1AE94BE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6436E-E1FC-4289-918C-7CFC3C71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32A07-266E-42A9-9C3F-1666B564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B518E-FD05-4890-94F7-09E15756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C965E-DCB9-4DB5-AD7F-31AE949F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DC1-C30D-4C5A-AD18-0E4D6078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560E2-4D13-490D-9793-1A121FF3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A1B49-0288-4720-BB79-3EF308F1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18ED7-FBC7-4C45-969F-7F4578F8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1A38D-1494-4990-A689-6A542ADB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EC1FF-75E0-49DB-A622-46B3AEF7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BD884-9EBB-49F3-8154-B1F3A16C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01936-1F77-43F5-AB11-70172A80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C2291-ED22-4FEC-A490-4F7E25EC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E53B6-EDDF-4E3D-8296-6D0525F5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1BE62-380B-4CBE-8EF2-CAD160D2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C762-2C9A-4B2B-8AAF-5328BAF3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CF835-2D53-468B-B078-B9BB1F0C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98188-BCC5-41B8-999D-BCA61A62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926A6-6CFF-4493-90F3-58458CED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E954C-5047-41FA-AB92-4DE5BB48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0F063-AEB1-4057-9639-07BAE2D2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D3A24-01DE-4C50-BBBF-26E67AAA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ADC7C-E041-4DD6-B5DF-55BA6C89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9D1CF-C38A-4AFE-BDF9-A4A50AE2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9F46E-7B6F-4A32-90F5-9B055794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A5A-BBDA-4F47-B80D-E9884E91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AEA-42C7-44E6-8D4D-B60B18AD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0772-593C-4968-A0BD-335494D0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035-2743-4EE3-9CFA-2E913D3C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64C-6C9E-48EE-83FE-1953E84D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7B04-4ED4-44C0-AC2E-FACF9A29CC26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183D-2D6D-4389-8C4C-E37A11E01EE4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9ED4-59D8-4BE6-8807-3563476CE69C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5E9A-505E-40CA-881C-0B1A981DA59A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609480" y="1182600"/>
            <a:ext cx="7723440" cy="32562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"/>
          <p:cNvSpPr/>
          <p:nvPr/>
        </p:nvSpPr>
        <p:spPr>
          <a:xfrm>
            <a:off x="395280" y="260280"/>
            <a:ext cx="846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Муниципальное Общеобразовательное Учреждение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«Крутоярская  средняя общеобразовательная школа»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коррекционные классы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VIII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вида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5072040" y="12600"/>
            <a:ext cx="3395520" cy="21812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140000" y="2060640"/>
            <a:ext cx="489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c7aa"/>
                </a:solidFill>
                <a:latin typeface="Trebuchet MS"/>
              </a:rPr>
              <a:t>Всего– 60 деревье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c7aa"/>
                </a:solidFill>
                <a:latin typeface="Trebuchet MS"/>
              </a:rPr>
              <a:t>Берёз - </a:t>
            </a:r>
            <a:r>
              <a:rPr b="1" lang="ru-RU" sz="2800" spc="-1" strike="noStrike">
                <a:solidFill>
                  <a:srgbClr val="5eccf3"/>
                </a:solidFill>
                <a:latin typeface="Trebuchet MS"/>
              </a:rPr>
              <a:t>?</a:t>
            </a:r>
            <a:r>
              <a:rPr b="1" lang="ru-RU" sz="2800" spc="-1" strike="noStrike">
                <a:solidFill>
                  <a:srgbClr val="56c7aa"/>
                </a:solidFill>
                <a:latin typeface="Trebuchet MS"/>
              </a:rPr>
              <a:t>, половина</a:t>
            </a:r>
            <a:r>
              <a:rPr b="1" lang="ru-RU" sz="3600" spc="-1" strike="noStrike">
                <a:solidFill>
                  <a:srgbClr val="56c7aa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56c7aa"/>
                </a:solidFill>
                <a:latin typeface="Trebuchet MS"/>
              </a:rPr>
              <a:t>от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8298000" y="3529080"/>
            <a:ext cx="6285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Line 6"/>
          <p:cNvSpPr/>
          <p:nvPr/>
        </p:nvSpPr>
        <p:spPr>
          <a:xfrm flipV="1">
            <a:off x="8939160" y="2852280"/>
            <a:ext cx="0" cy="647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Line 7"/>
          <p:cNvSpPr/>
          <p:nvPr/>
        </p:nvSpPr>
        <p:spPr>
          <a:xfrm flipH="1">
            <a:off x="7667280" y="2852640"/>
            <a:ext cx="12589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Picture 8" descr="C:\Users\Психолог\Desktop\картинки\мультящки\0_4d633_32f11717_M.png"/>
          <p:cNvPicPr/>
          <p:nvPr/>
        </p:nvPicPr>
        <p:blipFill>
          <a:blip r:embed="rId2"/>
          <a:stretch/>
        </p:blipFill>
        <p:spPr>
          <a:xfrm>
            <a:off x="14400" y="495360"/>
            <a:ext cx="419724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2" descr=""/>
          <p:cNvPicPr/>
          <p:nvPr/>
        </p:nvPicPr>
        <p:blipFill>
          <a:blip r:embed="rId1"/>
          <a:stretch/>
        </p:blipFill>
        <p:spPr>
          <a:xfrm>
            <a:off x="523800" y="225360"/>
            <a:ext cx="8382240" cy="297504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24000" y="2924280"/>
            <a:ext cx="85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риан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числит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   90:3+4 *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  15 * 6-42: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) 10т5ц * 3+70т2ц: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ариан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 82:2+ 23 *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 10м7дм-3м2дм *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536400" y="60480"/>
            <a:ext cx="8369640" cy="1390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395280" y="1557360"/>
            <a:ext cx="8353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2232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rebuchet MS"/>
              </a:rPr>
              <a:t>Планируемый особым образом организуемый педагогический процесс, направленный не только на исправление индивидуальных качеств, но и на создание необходимых условий для личного развития каждого учащегос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1116000" y="-30240"/>
            <a:ext cx="6510240" cy="14986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755640" y="1483920"/>
            <a:ext cx="741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rebuchet MS"/>
              </a:rPr>
              <a:t>CD, DVD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Принтер, сканер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Цифровая съемка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Локальная сеть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Интернет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ЦОР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Базы данных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rebuchet MS"/>
              </a:rPr>
              <a:t>Базы знаний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700360" y="767880"/>
            <a:ext cx="4392720" cy="1191240"/>
          </a:xfrm>
          <a:prstGeom prst="rect">
            <a:avLst/>
          </a:prstGeom>
          <a:solidFill>
            <a:srgbClr val="59a8d1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2571"/>
                </a:solidFill>
                <a:latin typeface="Arial"/>
              </a:rPr>
              <a:t>Цифровые образовательные ресурс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3"/>
          <p:cNvSpPr/>
          <p:nvPr/>
        </p:nvSpPr>
        <p:spPr>
          <a:xfrm flipH="1">
            <a:off x="2195280" y="1989000"/>
            <a:ext cx="863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214200" y="3432600"/>
            <a:ext cx="4643640" cy="1618560"/>
          </a:xfrm>
          <a:prstGeom prst="rect">
            <a:avLst/>
          </a:prstGeom>
          <a:solidFill>
            <a:srgbClr val="59a8d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2571"/>
                </a:solidFill>
                <a:latin typeface="Arial"/>
              </a:rPr>
              <a:t>1.Электронные учебные издания (ЭУИ) на </a:t>
            </a:r>
            <a:r>
              <a:rPr b="1" i="1" lang="en-US" sz="2000" spc="-1" strike="noStrike">
                <a:solidFill>
                  <a:srgbClr val="252571"/>
                </a:solidFill>
                <a:latin typeface="Arial"/>
              </a:rPr>
              <a:t>CD-ROM</a:t>
            </a:r>
            <a:r>
              <a:rPr b="1" i="1" lang="ru-RU" sz="2000" spc="-1" strike="noStrike">
                <a:solidFill>
                  <a:srgbClr val="252571"/>
                </a:solidFill>
                <a:latin typeface="Arial"/>
              </a:rPr>
              <a:t> и </a:t>
            </a:r>
            <a:r>
              <a:rPr b="1" i="1" lang="en-US" sz="2000" spc="-1" strike="noStrike">
                <a:solidFill>
                  <a:srgbClr val="252571"/>
                </a:solidFill>
                <a:latin typeface="Arial"/>
              </a:rPr>
              <a:t>DVD-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71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252571"/>
                </a:solidFill>
                <a:latin typeface="Arial"/>
              </a:rPr>
              <a:t>.Презентации учителей-    предметни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6357960" y="2000160"/>
            <a:ext cx="934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5796000" y="3621600"/>
            <a:ext cx="3024000" cy="703800"/>
          </a:xfrm>
          <a:prstGeom prst="rect">
            <a:avLst/>
          </a:prstGeom>
          <a:solidFill>
            <a:srgbClr val="59a8d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2571"/>
                </a:solidFill>
                <a:latin typeface="Arial"/>
              </a:rPr>
              <a:t>Сайты (порталы) – </a:t>
            </a:r>
            <a:r>
              <a:rPr b="1" i="1" lang="en-US" sz="2000" spc="-1" strike="noStrike">
                <a:solidFill>
                  <a:srgbClr val="252571"/>
                </a:solidFill>
                <a:latin typeface="Arial"/>
              </a:rPr>
              <a:t>edu.ru </a:t>
            </a:r>
            <a:r>
              <a:rPr b="1" i="1" lang="ru-RU" sz="2000" spc="-1" strike="noStrike">
                <a:solidFill>
                  <a:srgbClr val="252571"/>
                </a:solidFill>
                <a:latin typeface="Arial"/>
              </a:rPr>
              <a:t>,СФ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682560" y="-55440"/>
            <a:ext cx="7772400" cy="1896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394920" y="155700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Мотивация и психологический настро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звитие ВПФ через специальные упражн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Любой материал начинается с повторе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амое важное в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половине урок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облюдение порционности материал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мена видов деятельности каждые 10 мину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циональное количество наглядности, наличие образца выполняемого зад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Алгоритмизация действий учащихся (не более одной инструкции одновременно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инамическая пауз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ифференцированный личностно-ориентированный подход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mb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2"/>
          <p:cNvSpPr txBox="1"/>
          <p:nvPr/>
        </p:nvSpPr>
        <p:spPr>
          <a:xfrm>
            <a:off x="1835280" y="549360"/>
            <a:ext cx="5473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212745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апы урока</a:t>
            </a:r>
            <a:endParaRPr b="0" lang="en-US" sz="2400" spc="1" strike="noStrike">
              <a:ln w="0">
                <a:noFill/>
              </a:ln>
              <a:solidFill>
                <a:srgbClr val="212745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468360" y="1434960"/>
            <a:ext cx="820728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онный эта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ап проверки домашнего зада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ап подготовки учащихся к активному и сознательному усвоению нового материал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ап усвоения новых зна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ап закрепления новых зна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ап информации учащихся о домашнем задании, инструктаж по его выполнению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609480" y="133200"/>
            <a:ext cx="7772400" cy="1214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250920" y="155736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едостаточное количество информационного материала в существующих учебно-методических пособиях (в учебниках нет определенных иллюстраций, схем, текстов и т.д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эффективность индивидуального подхода к работе учащихся на данном этапе урока (индивидуальная траектория освоения материала, индивидуальное время освоени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нтенсификация учебно-воспитательного процесса (уменьшение времени подачи материала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вышение эффективности усвоения учебного материала за счет одновременного изложения учителем необходимых сведений и показа демонстрационных фрагмент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C:\Users\Психолог\Desktop\картинки\мультящки\rpgbcbyfxkhfqulhjawko.gif"/>
          <p:cNvPicPr/>
          <p:nvPr/>
        </p:nvPicPr>
        <p:blipFill>
          <a:blip r:embed="rId1"/>
          <a:stretch/>
        </p:blipFill>
        <p:spPr>
          <a:xfrm>
            <a:off x="-252360" y="-387360"/>
            <a:ext cx="5616360" cy="600696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3" descr=""/>
          <p:cNvPicPr/>
          <p:nvPr/>
        </p:nvPicPr>
        <p:blipFill>
          <a:blip r:embed="rId2"/>
          <a:stretch/>
        </p:blipFill>
        <p:spPr>
          <a:xfrm>
            <a:off x="1914480" y="4608360"/>
            <a:ext cx="7248600" cy="244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4645080" y="-30240"/>
            <a:ext cx="3767040" cy="21765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203280" y="2133360"/>
            <a:ext cx="594036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288a"/>
                </a:solidFill>
                <a:latin typeface="Trebuchet MS"/>
              </a:rPr>
              <a:t>Журавлей – 64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288a"/>
                </a:solidFill>
                <a:latin typeface="Trebuchet MS"/>
              </a:rPr>
              <a:t>Уток - ?, в 4 раза меньш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288a"/>
                </a:solidFill>
                <a:latin typeface="Trebuchet MS"/>
              </a:rPr>
              <a:t>Всего птиц -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5eccf3"/>
                </a:solidFill>
                <a:latin typeface="Trebuchet MS"/>
              </a:rPr>
              <a:t>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8255160" y="3573360"/>
            <a:ext cx="431640" cy="0"/>
          </a:xfrm>
          <a:prstGeom prst="line">
            <a:avLst/>
          </a:prstGeom>
          <a:ln cap="sq" w="28440">
            <a:solidFill>
              <a:srgbClr val="1e2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6"/>
          <p:cNvSpPr/>
          <p:nvPr/>
        </p:nvSpPr>
        <p:spPr>
          <a:xfrm flipV="1">
            <a:off x="8686800" y="2781000"/>
            <a:ext cx="0" cy="733320"/>
          </a:xfrm>
          <a:prstGeom prst="line">
            <a:avLst/>
          </a:prstGeom>
          <a:ln cap="sq" w="28440">
            <a:solidFill>
              <a:srgbClr val="1e2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7"/>
          <p:cNvSpPr/>
          <p:nvPr/>
        </p:nvSpPr>
        <p:spPr>
          <a:xfrm flipH="1">
            <a:off x="6588000" y="2781360"/>
            <a:ext cx="2098800" cy="0"/>
          </a:xfrm>
          <a:prstGeom prst="line">
            <a:avLst/>
          </a:prstGeom>
          <a:ln cap="sq" w="28440">
            <a:solidFill>
              <a:srgbClr val="1e288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5" name="Picture 8" descr="C:\Users\Психолог\Desktop\картинки\мультящки\e808812e7ac5.png"/>
          <p:cNvPicPr/>
          <p:nvPr/>
        </p:nvPicPr>
        <p:blipFill>
          <a:blip r:embed="rId2"/>
          <a:stretch/>
        </p:blipFill>
        <p:spPr>
          <a:xfrm>
            <a:off x="25560" y="133200"/>
            <a:ext cx="3809880" cy="407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8T07:44:28Z</dcterms:created>
  <dc:creator>юлия</dc:creator>
  <dc:description/>
  <dc:language>en-US</dc:language>
  <cp:lastModifiedBy>Психолог</cp:lastModifiedBy>
  <dcterms:modified xsi:type="dcterms:W3CDTF">2011-12-08T04:36:49Z</dcterms:modified>
  <cp:revision>33</cp:revision>
  <dc:subject/>
  <dc:title>Использование ИКТ  на уроках математики в коррекционной школе</dc:title>
</cp:coreProperties>
</file>