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67D-9437-442D-AF8E-72D714CB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483-A0C9-4D42-87F9-D16032E6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CBD-6310-44EE-8979-D9272AED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F42-50B6-4DAD-A265-E6433F22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B12-E6A4-4F5C-B997-9F95696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FD1-FB29-45B1-9A84-5C289B96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E5F-88F0-4E5C-9AA3-EC363D7E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60C-C439-4BE5-9A27-37294CC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456-1536-4C82-BCDA-3C82046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4BD-CBFC-4E24-A154-EA620FC9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2AA-A3FF-4320-BAA0-12494C9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EA1-543B-430C-9105-4D4D234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A5B2-3C32-4CA0-8D9D-6F91337C7D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1/&#1044;&#1080;&#1089;&#1090;&#1088;&#1086;&#1092;&#1080;&#1103;_&#1072;&#1083;&#1080;&#1084;&#1077;&#1085;&#1090;&#1072;&#1088;&#1085;&#1072;&#1103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&#1051;&#1072;&#1076;&#1086;&#1078;&#1089;&#1082;&#1086;&#1077;_&#1086;&#1079;&#1077;&#1088;&#1086;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«Им в сорок третьем выдали медали и только в сорок пятом паспорт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рок посвящённый героическим страницам ремесленников РУ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b7e7ff"/>
                </a:solidFill>
                <a:uFillTx/>
                <a:latin typeface="Arial"/>
              </a:rPr>
              <a:t>Голод- страшное испы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 год- ноябрь от голода погибло 11 тысяч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 год-декабрь погибло 53 тысячи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2 год-200 тысяч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4427640" y="1700280"/>
          <a:ext cx="43210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43210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а 1941—1942 годов выдалась значительно холоднее, чем в прошлые г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ртиры ленинградцы отапливали мини-печками. В них жгли всё, что могло гореть, в том числе мебель и кни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4" descr="C:\Users\роман\Downloads\A000F07F.jpg"/>
          <p:cNvPicPr/>
          <p:nvPr/>
        </p:nvPicPr>
        <p:blipFill>
          <a:blip r:embed="rId1"/>
          <a:stretch/>
        </p:blipFill>
        <p:spPr>
          <a:xfrm>
            <a:off x="0" y="0"/>
            <a:ext cx="6172200" cy="409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роман\Downloads\6267ea70a7cd43d1f2b31063c0c.jpg"/>
          <p:cNvPicPr/>
          <p:nvPr/>
        </p:nvPicPr>
        <p:blipFill>
          <a:blip r:embed="rId2"/>
          <a:stretch/>
        </p:blipFill>
        <p:spPr>
          <a:xfrm>
            <a:off x="5029200" y="3090960"/>
            <a:ext cx="411480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25 блокадных грамм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C:\Users\роман\Downloads\d99c09a9-4529-4369-9976-499175c98b63_B.jpg"/>
          <p:cNvPicPr/>
          <p:nvPr/>
        </p:nvPicPr>
        <p:blipFill>
          <a:blip r:embed="rId1"/>
          <a:stretch/>
        </p:blipFill>
        <p:spPr>
          <a:xfrm>
            <a:off x="1743120" y="1792440"/>
            <a:ext cx="5657760" cy="41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C:\Users\роман\Downloads\0057-057-Na-parte-ostalas-otkrytoj-tetrad-Ne-vypalo-im-dopisat-dochitat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Ленинградская болезнь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3" descr="Изображение:Дистрофия алиментарна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2400" y="1676520"/>
            <a:ext cx="5299200" cy="442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 днём и ночью люди работали на побед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4" descr="8C9D2481A00BCE63411315D899BF904A"/>
          <p:cNvPicPr/>
          <p:nvPr/>
        </p:nvPicPr>
        <p:blipFill>
          <a:blip r:embed="rId1"/>
          <a:stretch/>
        </p:blipFill>
        <p:spPr>
          <a:xfrm>
            <a:off x="2050920" y="1844640"/>
            <a:ext cx="4897440" cy="482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А если падал - у станка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к падает солдат в сраженье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4" descr="C:\Users\роман\Downloads\deti_v_blokade_vo_vremya_vov3.JPG"/>
          <p:cNvPicPr/>
          <p:nvPr/>
        </p:nvPicPr>
        <p:blipFill>
          <a:blip r:embed="rId1"/>
          <a:stretch/>
        </p:blipFill>
        <p:spPr>
          <a:xfrm>
            <a:off x="2114640" y="2077920"/>
            <a:ext cx="4914720" cy="3619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 u="sng">
                <a:solidFill>
                  <a:srgbClr val="b7e7ff"/>
                </a:solidFill>
                <a:uFillTx/>
                <a:latin typeface="바탕"/>
                <a:ea typeface="바탕"/>
              </a:rPr>
              <a:t>«Доро́га жи́зни»</a:t>
            </a:r>
            <a:endParaRPr b="0" lang="en-US" sz="5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оро́га жи́зни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во время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Великой Отечественной вой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единственная транспортная магистраль через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дожское озер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периоды навигации — по воде, зимой — по льду), связывавшая с 12 сентября 1941 по март 1943 года блокадный Ленинград со страной. Автодорога, проложенная по льду часто называется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едовой дорогой жи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C:\Users\роман\Downloads\ris20.gif"/>
          <p:cNvPicPr/>
          <p:nvPr/>
        </p:nvPicPr>
        <p:blipFill>
          <a:blip r:embed="rId1"/>
          <a:stretch/>
        </p:blipFill>
        <p:spPr>
          <a:xfrm>
            <a:off x="1619280" y="1628640"/>
            <a:ext cx="590544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Блокада-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город окружё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со всех сторо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1941_le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Изображение:Road of life 17 km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90" name="6. На дороге жизни.mp3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243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едаль за оборону Ленингра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Picture 3" descr="Изображение:Medal Leningrad USSR.jpg"/>
          <p:cNvPicPr/>
          <p:nvPr/>
        </p:nvPicPr>
        <p:blipFill>
          <a:blip r:embed="rId1"/>
          <a:stretch/>
        </p:blipFill>
        <p:spPr>
          <a:xfrm>
            <a:off x="2484360" y="2349360"/>
            <a:ext cx="4175280" cy="388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должите фраз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узнала сегодня на уроке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иг ленинградцев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итаю что война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мосфера на уроке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чу чтобы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ей открыл для меня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b7e7ff"/>
                </a:solidFill>
                <a:latin typeface="Arial"/>
              </a:rPr>
              <a:t>Спасибо за урок</a:t>
            </a:r>
            <a:endParaRPr b="0" lang="en-US" sz="7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2435040"/>
            <a:ext cx="25192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976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етство и война не совместим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5" name="Picture 3" descr="дети"/>
          <p:cNvPicPr/>
          <p:nvPr/>
        </p:nvPicPr>
        <p:blipFill>
          <a:blip r:embed="rId1"/>
          <a:stretch/>
        </p:blipFill>
        <p:spPr>
          <a:xfrm>
            <a:off x="611280" y="1484280"/>
            <a:ext cx="8137440" cy="5373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Юрий Фомич Помоз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68360" y="24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окад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нига о ремесленниках РУ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У войны не детское лицо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1692360" y="170028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рашная зима 1941 го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C:\Users\роман\Downloads\0008-008-Deti-blokady.jpg"/>
          <p:cNvPicPr/>
          <p:nvPr/>
        </p:nvPicPr>
        <p:blipFill>
          <a:blip r:embed="rId1"/>
          <a:stretch/>
        </p:blipFill>
        <p:spPr>
          <a:xfrm>
            <a:off x="1623960" y="1676520"/>
            <a:ext cx="5896080" cy="4422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5" descr="C:\Users\роман\Downloads\0016-016-Deti-blokadnogo-Leningrada.jpg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74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5" descr="C:\Users\роман\Downloads\image4d3eb_1223875_2393108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рашная правда о блокад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оябре 1941 года были отмечены первые случаи потери жителями сознания от голода на улицах, в магазинах и на рабочих местах, а затем - случаи смерти от истощения. В этом месяце в Ленинграде начался настоящий гол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наступления зимы в городе практически закончились запасы топлива. Прекратилось централизованное отопление домов, были отключены водопровод и канализ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-за недостатка электроэнергии и разрушений контактных сетей прекратилось движение трамваев и троллейбу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9:18:58Z</dcterms:created>
  <dc:creator>сергей</dc:creator>
  <dc:description/>
  <dc:language>en-US</dc:language>
  <cp:lastModifiedBy>роман</cp:lastModifiedBy>
  <dcterms:modified xsi:type="dcterms:W3CDTF">2011-12-04T20:38:16Z</dcterms:modified>
  <cp:revision>23</cp:revision>
  <dc:subject/>
  <dc:title>Им в сорок третьем выдали медали и только в сорок пятом паспорта</dc:title>
</cp:coreProperties>
</file>