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369-8176-4490-BC05-A562087C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8936-9B88-4CF0-95AE-530B2297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3487-47D5-4FB6-9C9E-C9E6E45C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2A1-F3BA-41BA-9A61-1B8D4C81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DD9-ABB3-4FCD-9D3E-74D13FDE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A56-02EC-4F6F-9405-6DDFE3DA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623-0607-488A-B558-770D261E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58A6-9FB3-4C8B-BAB8-53A760C5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836-BE16-4B8F-9CBA-8721C517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5A1-C09A-4181-BA73-0A742EE1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8AD-4AB1-450B-8631-B4BBA5C0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4C7-D730-4E0E-BE1B-2C8F5DC9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FE08-3781-401A-ACD0-DC1D46F557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1/&#1044;&#1080;&#1089;&#1090;&#1088;&#1086;&#1092;&#1080;&#1103;_&#1072;&#1083;&#1080;&#1084;&#1077;&#1085;&#1090;&#1072;&#1088;&#1085;&#1072;&#1103;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" TargetMode="External"/><Relationship Id="rId2" Type="http://schemas.openxmlformats.org/officeDocument/2006/relationships/hyperlink" Target="http://ru.wikipedia.org/wiki/&#1051;&#1072;&#1076;&#1086;&#1078;&#1089;&#1082;&#1086;&#1077;_&#1086;&#1079;&#1077;&#1088;&#1086;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7e7ff"/>
                </a:solidFill>
                <a:latin typeface="Arial"/>
              </a:rPr>
              <a:t>«Им в сорок третьем выдали медали и только в сорок пятом паспорта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рок посвящённый героическим страницам ремесленников РУ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b7e7ff"/>
                </a:solidFill>
                <a:uFillTx/>
                <a:latin typeface="Arial"/>
              </a:rPr>
              <a:t>Голод- страшное испыт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1680" y="1676160"/>
            <a:ext cx="41925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41 год- ноябрь от голода погибло 11 тысяч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41 год-декабрь погибло 53 тысячи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42 год-200 тысяч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4427640" y="1700280"/>
          <a:ext cx="432108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700280"/>
                    <a:ext cx="43210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има 1941—1942 годов выдалась значительно холоднее, чем в прошлые г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ртиры ленинградцы отапливали мини-печками. В них жгли всё, что могло гореть, в том числе мебель и кни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8" name="Picture 4" descr="C:\Users\роман\Downloads\A000F07F.jpg"/>
          <p:cNvPicPr/>
          <p:nvPr/>
        </p:nvPicPr>
        <p:blipFill>
          <a:blip r:embed="rId1"/>
          <a:stretch/>
        </p:blipFill>
        <p:spPr>
          <a:xfrm>
            <a:off x="0" y="0"/>
            <a:ext cx="6172200" cy="4098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Users\роман\Downloads\6267ea70a7cd43d1f2b31063c0c.jpg"/>
          <p:cNvPicPr/>
          <p:nvPr/>
        </p:nvPicPr>
        <p:blipFill>
          <a:blip r:embed="rId2"/>
          <a:stretch/>
        </p:blipFill>
        <p:spPr>
          <a:xfrm>
            <a:off x="5029200" y="3090960"/>
            <a:ext cx="411480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125 блокадных грамм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1" name="Picture 4" descr="C:\Users\роман\Downloads\d99c09a9-4529-4369-9976-499175c98b63_B.jpg"/>
          <p:cNvPicPr/>
          <p:nvPr/>
        </p:nvPicPr>
        <p:blipFill>
          <a:blip r:embed="rId1"/>
          <a:stretch/>
        </p:blipFill>
        <p:spPr>
          <a:xfrm>
            <a:off x="1743120" y="1792440"/>
            <a:ext cx="5657760" cy="419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4" descr="C:\Users\роман\Downloads\0057-057-Na-parte-ostalas-otkrytoj-tetrad-Ne-vypalo-im-dopisat-dochitat.jpg"/>
          <p:cNvPicPr/>
          <p:nvPr/>
        </p:nvPicPr>
        <p:blipFill>
          <a:blip r:embed="rId1"/>
          <a:stretch/>
        </p:blipFill>
        <p:spPr>
          <a:xfrm>
            <a:off x="1619280" y="184464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«Ленинградская болезнь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5" name="Picture 3" descr="Изображение:Дистрофия алиментарная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22400" y="1676520"/>
            <a:ext cx="5299200" cy="4422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 днём и ночью люди работали на побед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7" name="Picture 4" descr="8C9D2481A00BCE63411315D899BF904A"/>
          <p:cNvPicPr/>
          <p:nvPr/>
        </p:nvPicPr>
        <p:blipFill>
          <a:blip r:embed="rId1"/>
          <a:stretch/>
        </p:blipFill>
        <p:spPr>
          <a:xfrm>
            <a:off x="2050920" y="1844640"/>
            <a:ext cx="4897440" cy="4824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«А если падал - у станка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ак падает солдат в сраженье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9" name="Picture 4" descr="C:\Users\роман\Downloads\deti_v_blokade_vo_vremya_vov3.JPG"/>
          <p:cNvPicPr/>
          <p:nvPr/>
        </p:nvPicPr>
        <p:blipFill>
          <a:blip r:embed="rId1"/>
          <a:stretch/>
        </p:blipFill>
        <p:spPr>
          <a:xfrm>
            <a:off x="2114640" y="2077920"/>
            <a:ext cx="4914720" cy="3619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100" spc="-1" strike="noStrike" u="sng">
                <a:solidFill>
                  <a:srgbClr val="b7e7ff"/>
                </a:solidFill>
                <a:uFillTx/>
                <a:latin typeface="바탕"/>
                <a:ea typeface="바탕"/>
              </a:rPr>
              <a:t>«Доро́га жи́зни»</a:t>
            </a:r>
            <a:endParaRPr b="0" lang="en-US" sz="5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Доро́га жи́зни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во время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Великой Отечественной войн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единственная транспортная магистраль через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Ладожское озер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в периоды навигации — по воде, зимой — по льду), связывавшая с 12 сентября 1941 по март 1943 года блокадный Ленинград со страной. Автодорога, проложенная по льду часто называется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едовой дорогой жиз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4" descr="C:\Users\роман\Downloads\ris20.gif"/>
          <p:cNvPicPr/>
          <p:nvPr/>
        </p:nvPicPr>
        <p:blipFill>
          <a:blip r:embed="rId1"/>
          <a:stretch/>
        </p:blipFill>
        <p:spPr>
          <a:xfrm>
            <a:off x="1619280" y="1628640"/>
            <a:ext cx="5905440" cy="4608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8000" spc="-1" strike="noStrike">
                <a:solidFill>
                  <a:srgbClr val="ffffff"/>
                </a:solidFill>
                <a:latin typeface="Arial"/>
              </a:rPr>
              <a:t>Блокада-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8000" spc="-1" strike="noStrike">
                <a:solidFill>
                  <a:srgbClr val="ffffff"/>
                </a:solidFill>
                <a:latin typeface="Arial"/>
              </a:rPr>
              <a:t>город окружён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8000" spc="-1" strike="noStrike">
                <a:solidFill>
                  <a:srgbClr val="ffffff"/>
                </a:solidFill>
                <a:latin typeface="Arial"/>
              </a:rPr>
              <a:t>со всех сторон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5" descr="1941_len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5" descr="Изображение:Road of life 17 km.jpg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90" name="6. На дороге жизни.mp3" descr=""/>
          <p:cNvPicPr/>
          <p:nvPr/>
        </p:nvPicPr>
        <p:blipFill>
          <a:blip r:embed="rId2"/>
          <a:stretch/>
        </p:blipFill>
        <p:spPr>
          <a:xfrm>
            <a:off x="395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52436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Медаль за оборону Ленинград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Picture 3" descr="Изображение:Medal Leningrad USSR.jpg"/>
          <p:cNvPicPr/>
          <p:nvPr/>
        </p:nvPicPr>
        <p:blipFill>
          <a:blip r:embed="rId1"/>
          <a:stretch/>
        </p:blipFill>
        <p:spPr>
          <a:xfrm>
            <a:off x="2484360" y="2349360"/>
            <a:ext cx="4175280" cy="3888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родолжите фраз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узнала сегодня на уроке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виг ленинградцев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читаю что война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мосфера на уроке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хочу чтобы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ей открыл для меня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b7e7ff"/>
                </a:solidFill>
                <a:latin typeface="Arial"/>
              </a:rPr>
              <a:t>Спасибо за урок</a:t>
            </a:r>
            <a:endParaRPr b="0" lang="en-US" sz="7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6000" y="2435040"/>
            <a:ext cx="251928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9760" y="1676160"/>
            <a:ext cx="41925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Детство и война не совместим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5" name="Picture 3" descr="дети"/>
          <p:cNvPicPr/>
          <p:nvPr/>
        </p:nvPicPr>
        <p:blipFill>
          <a:blip r:embed="rId1"/>
          <a:stretch/>
        </p:blipFill>
        <p:spPr>
          <a:xfrm>
            <a:off x="611280" y="1484280"/>
            <a:ext cx="8137440" cy="5373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Юрий Фомич Помозо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268360" y="2492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локад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ю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нига о ремесленниках РУ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«У войны не детское лицо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Picture 4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1692360" y="170028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рашная зима 1941 год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4" descr="C:\Users\роман\Downloads\0008-008-Deti-blokady.jpg"/>
          <p:cNvPicPr/>
          <p:nvPr/>
        </p:nvPicPr>
        <p:blipFill>
          <a:blip r:embed="rId1"/>
          <a:stretch/>
        </p:blipFill>
        <p:spPr>
          <a:xfrm>
            <a:off x="1623960" y="1676520"/>
            <a:ext cx="5896080" cy="44226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4" name="Picture 5" descr="C:\Users\роман\Downloads\0016-016-Deti-blokadnogo-Leningrada.jpg"/>
          <p:cNvPicPr/>
          <p:nvPr/>
        </p:nvPicPr>
        <p:blipFill>
          <a:blip r:embed="rId1"/>
          <a:stretch/>
        </p:blipFill>
        <p:spPr>
          <a:xfrm>
            <a:off x="539640" y="620640"/>
            <a:ext cx="8064720" cy="574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5" descr="C:\Users\роман\Downloads\image4d3eb_1223875_2393108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рашная правда о блокад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оябре 1941 года были отмечены первые случаи потери жителями сознания от голода на улицах, в магазинах и на рабочих местах, а затем - случаи смерти от истощения. В этом месяце в Ленинграде начался настоящий гол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наступления зимы в городе практически закончились запасы топлива. Прекратилось централизованное отопление домов, были отключены водопровод и канализ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-за недостатка электроэнергии и разрушений контактных сетей прекратилось движение трамваев и троллейбу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19:18:58Z</dcterms:created>
  <dc:creator>сергей</dc:creator>
  <dc:description/>
  <dc:language>en-US</dc:language>
  <cp:lastModifiedBy>роман</cp:lastModifiedBy>
  <dcterms:modified xsi:type="dcterms:W3CDTF">2011-12-04T20:38:16Z</dcterms:modified>
  <cp:revision>23</cp:revision>
  <dc:subject/>
  <dc:title>Им в сорок третьем выдали медали и только в сорок пятом паспорта</dc:title>
</cp:coreProperties>
</file>