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935-F35C-4E6D-B10B-01B5CE33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27F-51EC-4A94-BFAE-CCFD574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0C6-54BC-46E0-8EB1-8E50057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B89-B0FF-493B-9352-83A7BA55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C10-2066-44C9-879C-D67D790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141-F31E-4BF3-B02E-0AF40C0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DC7-67BA-49D8-83E7-DF6638CE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249-F538-4B7B-B751-7AF85BAD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E12-F684-482F-A106-BEEE9151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AE5-9034-408E-9E0E-9C9B11A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0E4-2014-494B-A640-3A486DF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65B-5C61-4FC1-89BD-8CBC426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0C45-94ED-446B-8438-521E47307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002060"/>
                </a:solidFill>
                <a:latin typeface="Franklin Gothic Demi"/>
              </a:rPr>
              <a:t>Избирательное право и избирательный </a:t>
            </a:r>
            <a:r>
              <a:rPr b="0" lang="ru-RU" sz="6000" spc="-1" strike="noStrike">
                <a:solidFill>
                  <a:srgbClr val="002060"/>
                </a:solidFill>
                <a:latin typeface="Franklin Gothic Demi"/>
              </a:rPr>
              <a:t>проце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260280"/>
            <a:ext cx="799308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13840" y="1857240"/>
            <a:ext cx="8643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выборная борьба (прекращается за день до голосова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голосования по избирательным участ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едение итогов голос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 результатов, распределение мест в выборных органах по итогам голос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бирательный процесс – это порядок и основные стадии в организации выбо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бирательные сист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285560"/>
            <a:ext cx="4467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ропорциональная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результатов голосования по принципу распределения мест пропорционально полученным каждой партией количеству голо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00720" y="1285920"/>
            <a:ext cx="4643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Мажоритарная сист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 определения результатов голосования, при котором для получения мандата требуется собрать установленное законом большинство голо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одержимое 2"/>
          <p:cNvSpPr/>
          <p:nvPr/>
        </p:nvSpPr>
        <p:spPr>
          <a:xfrm>
            <a:off x="0" y="435780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Мажоритарно-пропорциональный (смешанный) тип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оссийской Федерации с 200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ы Президента РФ – по мажоритар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ы депутатов Государственной Думы Федерального Собр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опорциональ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4"/>
          <p:cNvCxnSpPr/>
          <p:nvPr/>
        </p:nvCxnSpPr>
        <p:spPr>
          <a:xfrm>
            <a:off x="5357880" y="714240"/>
            <a:ext cx="929520" cy="643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16"/>
          <p:cNvCxnSpPr/>
          <p:nvPr/>
        </p:nvCxnSpPr>
        <p:spPr>
          <a:xfrm flipH="1">
            <a:off x="2356560" y="713160"/>
            <a:ext cx="1072440" cy="715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Прямая со стрелкой 19"/>
          <p:cNvCxnSpPr/>
          <p:nvPr/>
        </p:nvCxnSpPr>
        <p:spPr>
          <a:xfrm>
            <a:off x="2928960" y="4000320"/>
            <a:ext cx="929520" cy="5007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21"/>
          <p:cNvCxnSpPr/>
          <p:nvPr/>
        </p:nvCxnSpPr>
        <p:spPr>
          <a:xfrm flipH="1">
            <a:off x="4785480" y="3999600"/>
            <a:ext cx="1072440" cy="5007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91155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нституция Российской Федерации</a:t>
            </a:r>
            <a:br>
              <a:rPr sz="4000"/>
            </a:b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Статья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сшим непосредственным выражением власти народа является референдум и свободные выб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оры – испытанный способ обретения правительством доверия, поддержки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ократия и выборы – тесно связанные между собой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мократия- народовластие, народная форма правл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2356920"/>
            <a:ext cx="41432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рям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финская демократия реальна при небольшом количестве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29000" y="2428920"/>
            <a:ext cx="6143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едставительна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словный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английский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парламент 13-14 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5"/>
          <p:cNvCxnSpPr/>
          <p:nvPr/>
        </p:nvCxnSpPr>
        <p:spPr>
          <a:xfrm flipH="1">
            <a:off x="1642680" y="1714680"/>
            <a:ext cx="1357920" cy="7862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6"/>
          <p:cNvCxnSpPr/>
          <p:nvPr/>
        </p:nvCxnSpPr>
        <p:spPr>
          <a:xfrm>
            <a:off x="5643360" y="1714320"/>
            <a:ext cx="1286280" cy="8672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демократические выбо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онкурент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озможность вести предвыборную агит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ериодич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избавляет общество от злоупотребления вла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Представительные выбор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 них участвует большое количество избир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кончательность выб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ыражается в том, что результаты не пересматр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29680" y="1600200"/>
            <a:ext cx="125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збирательное право 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о принципы и условия участия граждан в формировании выборных орг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857400"/>
            <a:ext cx="403848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ивное – право избир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3928680"/>
            <a:ext cx="403848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ссивное - право быть избран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право с вырезом 4"/>
          <p:cNvSpPr/>
          <p:nvPr/>
        </p:nvSpPr>
        <p:spPr>
          <a:xfrm rot="8184600">
            <a:off x="2499480" y="321444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с вырезом 5"/>
          <p:cNvSpPr/>
          <p:nvPr/>
        </p:nvSpPr>
        <p:spPr>
          <a:xfrm rot="2650200">
            <a:off x="5928840" y="314316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ринципы демократических выбор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общее избирательное право – право на участие всех граждан, достигших 18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е избирательное право – каждый избиратель имеет одинаковое количество голосов по формуле: 1 избиратель – 1 голо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ямое избирательное право – каждый избиратель голосует непосредственно за избираемого кандид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йное голосование – отсутствует контроль за волеизъявлением избирате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выборах доброволь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57760" y="1600200"/>
            <a:ext cx="32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емократичность выборов в России обеспечивается соответствующими законами: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Федеральный закон «Об основных гарантиях избирательных прав граждан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Федеральный закон «О выборах президента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Федеральный закон «О выборах депутатов Государственной Думы Федерального Собрания РФ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Федеральный закон «О порядке формирования Совета Федерации Федерального Собрания РФ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бирательный процесс – это порядок и основные стадии в организации выбо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857240"/>
            <a:ext cx="88581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начение выборов главой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избирательных округов с приблизительно равным числом избир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избирательных комиссий, обеспечивающих подготовку и проведение выб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истрация избирателей в установленном законом порядке, составление списков избира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вижение кандидатов на выборные должности и их регистр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1-12-08T17:49:42Z</dcterms:modified>
  <cp:revision>11</cp:revision>
  <dc:subject/>
  <dc:title>Слайд 1</dc:title>
</cp:coreProperties>
</file>