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A6A-3273-44FF-A4B4-445502C2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2FB-7D5D-4E0C-B893-71AAD07C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20C-6AF1-4861-83C0-45582396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2A0-48F0-41CF-81C1-B684CF71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308-29AA-49CD-A1C3-9AA491DF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078-0FA1-483B-A370-FC6E2B2E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6A0-A5C9-4AC3-954A-E0C24FD7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ABF-E804-48EA-AD50-C00D8F03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81A-9672-4DE6-BB2B-BF363BDE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E23-B633-4D0D-93B9-BCB71912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653-ABEF-401E-A78E-A559826A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F56-36F3-45EB-B52B-028981D2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1C8E0-2AA8-4A18-8334-229B35CF85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1260360"/>
            <a:ext cx="8820360" cy="378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Как люди открывали 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изучали Землю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60360" y="179280"/>
            <a:ext cx="9360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мецкий ученый Мартин Бехайм изготовил большой глоб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95440" y="1619280"/>
            <a:ext cx="3363840" cy="485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19640" y="1440000"/>
            <a:ext cx="2519640" cy="4222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9640" y="6119640"/>
            <a:ext cx="2519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9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60360" y="360360"/>
            <a:ext cx="936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е плавание испанской экспедиции Х. Колумба и открытие Нового Света (Амери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40360" y="1440000"/>
            <a:ext cx="5759280" cy="594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9640" y="2519280"/>
            <a:ext cx="2880000" cy="360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60360" y="6659640"/>
            <a:ext cx="25196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492-1493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179280"/>
            <a:ext cx="899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ко да Гама по морскому пути вокруг Африки, достигает берегов Инд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58800" y="2085840"/>
            <a:ext cx="2581200" cy="331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600360" y="1440000"/>
            <a:ext cx="6300720" cy="467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00720" y="6300720"/>
            <a:ext cx="4859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497- 1499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0720" y="179280"/>
            <a:ext cx="8640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е кругосветное путешествие Ф. Магелл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60360" y="900000"/>
            <a:ext cx="3467160" cy="4000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232080" y="1852560"/>
            <a:ext cx="6667560" cy="4448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19640" y="6659640"/>
            <a:ext cx="5940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21 - 1524 г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0360" y="179280"/>
            <a:ext cx="918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38 г. - Издание фламандским ученым Г. Меркатором карты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738000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0360" y="179280"/>
            <a:ext cx="936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диция в северо — восточные районы под началом В. Баре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19640" y="930240"/>
            <a:ext cx="4567320" cy="627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79640" y="1079640"/>
            <a:ext cx="2842920" cy="341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5219640"/>
            <a:ext cx="3959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94 — 1597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9640" y="360360"/>
            <a:ext cx="899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вание к берегам Австралии — голландская экспедиция А. Тас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0000" y="1800360"/>
            <a:ext cx="5040360" cy="450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99880" y="2519280"/>
            <a:ext cx="420084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140360" y="1979640"/>
            <a:ext cx="5759280" cy="5219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20720" y="179280"/>
            <a:ext cx="84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. Дежнев совершил плавание из Северного Ледовитого океана в Тих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60360" y="900000"/>
            <a:ext cx="3257640" cy="4762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6300720"/>
            <a:ext cx="3060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48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0360" y="1440000"/>
            <a:ext cx="2340000" cy="2519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257560" y="1623960"/>
            <a:ext cx="4762440" cy="2695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040520" y="2519280"/>
            <a:ext cx="2859120" cy="3565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440000" y="4500720"/>
            <a:ext cx="414000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700360" y="539640"/>
            <a:ext cx="575928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Новое время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179280"/>
            <a:ext cx="899964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утешествие на Камчатку землепроходцев В. Атласова  и Л. Морозк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1619280"/>
            <a:ext cx="3419640" cy="37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580000" y="1079640"/>
            <a:ext cx="3780000" cy="6300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79640" y="5940360"/>
            <a:ext cx="3958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97- 1699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440000"/>
            <a:ext cx="899964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е знания о Земле уходят корнями на территорию Древнего Востока — жителей Месопотамии, Персии, Египта, Финикии. Занятия населения: земледелие, скотоводство, торговля, расселение народов и войны все больше расширяли знания о земле. Перемещаясь через пустыни и плавая по морям люди научились ориентироваться по Солнцу, Луне и звезд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19280" y="3959280"/>
            <a:ext cx="5219640" cy="324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340000" y="360360"/>
            <a:ext cx="55800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Древний мир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60360" y="179280"/>
            <a:ext cx="936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е морского пути от Камчатки к Север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77920" y="720720"/>
            <a:ext cx="4762440" cy="2695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979640" y="2573280"/>
            <a:ext cx="7920000" cy="4807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940360" y="1440000"/>
            <a:ext cx="324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4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360360"/>
            <a:ext cx="8999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светные плавания английской экспедиции Дж. К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900000"/>
            <a:ext cx="899964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60360" y="179280"/>
            <a:ext cx="936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ервая русская антарктическая экспедиция  Ф.Ф. Беллинсгаузена и М.П. Лазаре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9640" y="1079640"/>
            <a:ext cx="918072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60360" y="179280"/>
            <a:ext cx="9360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60360" y="1079640"/>
            <a:ext cx="4019400" cy="5572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0000" y="2700360"/>
            <a:ext cx="46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йф «Фрама» Ф. Нансена в Северном Ледовитом оке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3 - 1896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619280" y="539640"/>
            <a:ext cx="7016760" cy="4140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9640" y="5219640"/>
            <a:ext cx="88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стижение Северного полюса Ф. Куком и Р. Пи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908 — 1909 г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3959280" cy="4680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580000" y="720720"/>
            <a:ext cx="3959280" cy="5219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0360" y="6119640"/>
            <a:ext cx="9180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 Амудсен и Р. Скотт достигли Южного полю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160720" y="360360"/>
            <a:ext cx="5759280" cy="12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Новейшее время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3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. Первое сквозное плавание Северным морским путем на ледокольном пароходе « Сибиря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37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рейф первой станции на льдине « Северный полюс» И.Д. Папа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55-59г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Работа советской экспедиции в Антаркти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5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пуск первого спу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61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олет космического корабля «Вост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од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619280"/>
            <a:ext cx="395928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19640" y="2519280"/>
            <a:ext cx="414036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егреческий ученый, историк и путешественник написал труд - «История в девяти книга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1619280"/>
            <a:ext cx="3780000" cy="485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59280" y="2519280"/>
            <a:ext cx="468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егреческий филосов, путем исследований и наблюдений за затмениями Луны и Солнца, сделал вывод, что Земля имеет форму ш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ратосф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6040" y="1440000"/>
            <a:ext cx="513396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00720" y="2340000"/>
            <a:ext cx="324000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л диаметр Земли. Написал книгу «География». Дал начало названию науки - ге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0360" y="1440000"/>
            <a:ext cx="9360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96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860 г. - Норманны открыли остров Исланд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982 г. - Норманны открыли остров Гренланд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коло 1000 г. - Норманны открыли восточные берега Северной Амер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7920" y="3240000"/>
            <a:ext cx="3862440" cy="2879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020000" y="2879640"/>
            <a:ext cx="2519280" cy="413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6300720"/>
            <a:ext cx="360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. Исланд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3240000"/>
            <a:ext cx="53964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97240" y="1260360"/>
            <a:ext cx="3600360" cy="344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60720" y="539640"/>
            <a:ext cx="5759280" cy="5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Средние века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ко По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60360" y="1979640"/>
            <a:ext cx="2879640" cy="3959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419640" y="1619280"/>
            <a:ext cx="611964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71-1295 гг. - Путешествие итальянского купца Марко Поло в Китай. Он описал природу Памира, муссоны Индии, узнал много о полезных растениях Ки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600360" y="3600360"/>
            <a:ext cx="594036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фанасий Никит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60360" y="1800360"/>
            <a:ext cx="4319640" cy="485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19640" y="2879640"/>
            <a:ext cx="4319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фанасий Никитин во второй половине XV в. Пересек Персию и Аравийское море и достиг Индии, составил  подробное описание стра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60360" y="179280"/>
            <a:ext cx="936000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тугальская экспедиция Б. Диаша достигла южной оконечности Африки, открыт мыс Доброй Надеж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59280" y="1440000"/>
            <a:ext cx="3419640" cy="485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20720" y="2340000"/>
            <a:ext cx="3240000" cy="377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9640" y="6480000"/>
            <a:ext cx="2700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487 — 1488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07:50:08Z</dcterms:created>
  <dc:creator/>
  <dc:description/>
  <dc:language>en-US</dc:language>
  <cp:lastModifiedBy/>
  <dcterms:modified xsi:type="dcterms:W3CDTF">2011-09-13T05:03:45Z</dcterms:modified>
  <cp:revision>9</cp:revision>
  <dc:subject/>
  <dc:title/>
</cp:coreProperties>
</file>