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9D-60E2-4EA9-BE3F-0CB030A2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77A-857F-4FC3-8DCD-74992FD2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C4C-4BFC-4CE1-B95D-1BF56399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53B-9975-4390-AA44-89FD3EB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E12-D849-4C54-B619-60E3671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B83-7A10-4BA7-B4BD-82B334A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A50-9DC0-4D15-808E-2038D2A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0A2-CAA0-4568-A01C-69671D3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851-D046-4FFF-9AEA-FDF19D94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CD9-8D9F-473C-9158-3472E26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A85-3E02-4F7B-BDD7-09BAC5A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A09-D2F8-4811-B584-CE4BB2B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8CB87-C7D5-4495-A752-F01C845715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260360"/>
            <a:ext cx="8820360" cy="37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Как люди открывали 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изучали Землю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0360" y="179280"/>
            <a:ext cx="9360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ецкий ученый Мартин Бехайм изготовил большой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5440" y="1619280"/>
            <a:ext cx="3363840" cy="48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19640" y="1440000"/>
            <a:ext cx="2519640" cy="422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9640" y="6119640"/>
            <a:ext cx="251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9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360360"/>
            <a:ext cx="936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плавание испанской экспедиции Х. Колумба и открытие Нового Света (Амер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40360" y="1440000"/>
            <a:ext cx="5759280" cy="59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2519280"/>
            <a:ext cx="2880000" cy="360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60360" y="6659640"/>
            <a:ext cx="251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92-1493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179280"/>
            <a:ext cx="899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ко да Гама по морскому пути вокруг Африки, достигает берегов И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8800" y="2085840"/>
            <a:ext cx="2581200" cy="331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600360" y="1440000"/>
            <a:ext cx="6300720" cy="467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00720" y="6300720"/>
            <a:ext cx="485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97- 1499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0720" y="179280"/>
            <a:ext cx="864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кругосветное путешествие Ф. Магел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0360" y="900000"/>
            <a:ext cx="3467160" cy="4000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32080" y="1852560"/>
            <a:ext cx="6667560" cy="4448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19640" y="6659640"/>
            <a:ext cx="594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21 - 1524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360" y="179280"/>
            <a:ext cx="918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38 г. - Издание фламандским ученым Г. Меркатором карты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38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0360" y="179280"/>
            <a:ext cx="936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диция в северо — восточные районы под началом В. Баре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19640" y="930240"/>
            <a:ext cx="4567320" cy="627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79640" y="1079640"/>
            <a:ext cx="2842920" cy="341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219640"/>
            <a:ext cx="395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94 — 159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360360"/>
            <a:ext cx="899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вание к берегам Австралии — голландская экспедиция А. Тас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0000" y="1800360"/>
            <a:ext cx="5040360" cy="45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9880" y="2519280"/>
            <a:ext cx="42008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5759280" cy="521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20720" y="17928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. Дежнев совершил плавание из Северного Ледовитого океана в Тих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0360" y="900000"/>
            <a:ext cx="3257640" cy="4762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300720"/>
            <a:ext cx="306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48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2340000" cy="251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57560" y="1623960"/>
            <a:ext cx="4762440" cy="2695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40520" y="2519280"/>
            <a:ext cx="2859120" cy="356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40000" y="4500720"/>
            <a:ext cx="414000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700360" y="539640"/>
            <a:ext cx="575928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Новое врем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79280"/>
            <a:ext cx="89996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тешествие на Камчатку землепроходцев В. Атласова  и Л. Морозк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4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80000" y="1079640"/>
            <a:ext cx="3780000" cy="630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79640" y="5940360"/>
            <a:ext cx="3958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97- 169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40000"/>
            <a:ext cx="8999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знания о Земле уходят корнями на территорию Древнего Востока — жителей Месопотамии, Персии, Египта, Финикии. Занятия населения: земледелие, скотоводство, торговля, расселение народов и войны все больше расширяли знания о земле. Перемещаясь через пустыни и плавая по морям люди научились ориентироваться по Солнцу, Луне и звез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9280" y="3959280"/>
            <a:ext cx="521964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340000" y="360360"/>
            <a:ext cx="5580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Древний мир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60360" y="179280"/>
            <a:ext cx="936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морского пути от Камчатки к Север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7920" y="720720"/>
            <a:ext cx="4762440" cy="2695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79640" y="2573280"/>
            <a:ext cx="7920000" cy="480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0360" y="1440000"/>
            <a:ext cx="32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360360"/>
            <a:ext cx="899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светные плавания английской экспедиции Дж. К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900000"/>
            <a:ext cx="8999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0360" y="179280"/>
            <a:ext cx="936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ая русская антарктическая экспедиция  Ф.Ф. Беллинсгаузена и М.П. Лазар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079640"/>
            <a:ext cx="918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0360" y="179280"/>
            <a:ext cx="936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60360" y="1079640"/>
            <a:ext cx="4019400" cy="5572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0000" y="270036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йф «Фрама» Ф. Нансена в Северном Ледовитом оке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3 - 189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19280" y="539640"/>
            <a:ext cx="7016760" cy="414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5219640"/>
            <a:ext cx="88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стижение Северного полюса Ф. Куком и Р. Пи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908 — 1909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39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580000" y="720720"/>
            <a:ext cx="3959280" cy="5219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0360" y="6119640"/>
            <a:ext cx="918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Амудсен и Р. Скотт достигли Южного полю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60720" y="360360"/>
            <a:ext cx="5759280" cy="12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Новейшее врем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Первое сквозное плавание Северным морским путем на ледокольном пароходе « Сибиря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37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рейф первой станции на льдине « Северный полюс» И.Д. Папа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5-59г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бота советской экспедиции в Антаркт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пуск первого спу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61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олет космического корабля «Вос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д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19640" y="2519280"/>
            <a:ext cx="414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ученый, историк и путешественник написал труд - «История в девяти книг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780000" cy="485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59280" y="2519280"/>
            <a:ext cx="468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филосов, путем исследований и наблюдений за затмениями Луны и Солнца, сделал вывод, что Земля имеет форму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ратосф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6040" y="1440000"/>
            <a:ext cx="51339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00720" y="2340000"/>
            <a:ext cx="32400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л диаметр Земли. Написал книгу «География». Дал начало названию науки - ге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0360" y="1440000"/>
            <a:ext cx="936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860 г. - Норманны открыли остров Исланд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982 г. - Норманны открыли остров Гренланд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коло 1000 г. - Норманны открыли восточные берега Северной Амер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7920" y="3240000"/>
            <a:ext cx="386244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020000" y="2879640"/>
            <a:ext cx="2519280" cy="413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300720"/>
            <a:ext cx="360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. Исланд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3240000"/>
            <a:ext cx="53964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97240" y="1260360"/>
            <a:ext cx="3600360" cy="344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60720" y="539640"/>
            <a:ext cx="5759280" cy="5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Средние века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ко По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0360" y="197964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19640" y="1619280"/>
            <a:ext cx="6119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71-1295 гг. - Путешествие итальянского купца Марко Поло в Китай. Он описал природу Памира, муссоны Индии, узнал много о полезных растениях К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00360" y="3600360"/>
            <a:ext cx="59403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анасий Ники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4319640" cy="485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19640" y="2879640"/>
            <a:ext cx="431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фанасий Никитин во второй половине XV в. Пересек Персию и Аравийское море и достиг Индии, составил  подробное описание стра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0360" y="179280"/>
            <a:ext cx="9360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угальская экспедиция Б. Диаша достигла южной оконечности Африки, открыт мыс Доброй На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3419640" cy="485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20720" y="2340000"/>
            <a:ext cx="3240000" cy="37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9640" y="6480000"/>
            <a:ext cx="2700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87 — 1488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7:50:08Z</dcterms:created>
  <dc:creator/>
  <dc:description/>
  <dc:language>en-US</dc:language>
  <cp:lastModifiedBy/>
  <dcterms:modified xsi:type="dcterms:W3CDTF">2011-09-13T05:03:45Z</dcterms:modified>
  <cp:revision>9</cp:revision>
  <dc:subject/>
  <dc:title/>
</cp:coreProperties>
</file>