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E92-E26A-4117-8B2A-56C3ABA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630-AC13-4113-8973-87E2A6E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34-6C9C-4DF8-90BB-8ECFBBA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EB3-6E15-4EB3-90F7-D006846E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B985-CEBC-447B-ACF6-758F6342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77BA-080C-4D25-A349-8072160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01BD-568C-4458-894E-7B83437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F3A-0E7C-47CF-8278-0490373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768-0730-4C42-9990-8F40D4AA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5FB-7C3A-444F-A0DC-17AB1F7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5D7-0E47-4883-A397-781D43C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E30-E1F1-4EEB-8C70-C5398C9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B2AD-55B2-4C3B-8A89-A85F331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9AD-846D-4289-90E2-CC84513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D6E1-EE72-4690-B1E8-B0E289EA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AA0-3DF4-4A0D-9B31-7E38073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9543-949B-412D-9B09-B4CA12C0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77B-7FCD-4E1E-8C65-9717E008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E97-A0AA-4A9C-B051-51AD8BF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D60-EBA8-4019-9407-77ECC24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63D-3F1B-4439-8B3D-6864AE3D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36A-B64F-4F49-8964-03CF2F9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3AA-232A-4533-BE6D-B4AE33F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CFA-053F-485A-A824-4BDB3BE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946E-D44A-4581-9065-E38FC3720C4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19D2-B05A-4864-9678-14ED467AB6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 Black"/>
              </a:rPr>
              <a:t>Классный час на тему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«Содружество Независимых Государств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Выполнил: учитель МБОУ СОШ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С.Первомайско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С.В.Заварзи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Флаг Координационного совета руководителей органов налоговых (финансовых) расследован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Рисунок 10" descr=""/>
          <p:cNvPicPr/>
          <p:nvPr/>
        </p:nvPicPr>
        <p:blipFill>
          <a:blip r:embed="rId1"/>
          <a:stretch/>
        </p:blipFill>
        <p:spPr>
          <a:xfrm>
            <a:off x="1644480" y="2662200"/>
            <a:ext cx="598824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Карта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5" descr="Карта СНГ. Приведены заявленные границы стран-членов ООН.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Страны СНГ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Азербайдж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Белорусс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Казах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Киргиз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Молдав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Росс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Узбеки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Таджики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413c84"/>
                </a:solidFill>
                <a:latin typeface="Arial Black"/>
              </a:rPr>
              <a:t>Туркмения ассоциированный член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Монголия участвует в некоторых структурах СНГ в качестве наблюдател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Афганистан в 2008 году заявил о своём желании вступить в СНГ, является наблюдателем в Межпарламентской ассамбле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Украина не ратифицировала Устав СНГ, поэтому, де-юре — она не является государством-членом СНГ, относясь к государствам-учредителям и государствам-участникам Содруже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Грузия до 18 августа 2009г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Ассоциированные участники и наблюдате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Уставом организации предусматриваются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.Категории </a:t>
            </a: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ассоциированных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членов (это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государства, участвующие в отдельных видах деятельности организации, на условиях, определяемых соглашением об ассоциированном членстве)  -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Туркмения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. </a:t>
            </a: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Наблюдатели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(это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государства, чьи представители могут присутствовать на заседаниях органов Содружества по решению Совета глав государств)  - 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Монголия и Афганистан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1258920" cy="692280"/>
          </a:xfrm>
          <a:custGeom>
            <a:avLst/>
            <a:gdLst>
              <a:gd name="textAreaLeft" fmla="*/ 44640 w 1258920"/>
              <a:gd name="textAreaRight" fmla="*/ 1214280 w 125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9271" h="21600">
                <a:moveTo>
                  <a:pt x="0" y="0"/>
                </a:moveTo>
                <a:lnTo>
                  <a:pt x="39271" y="0"/>
                </a:lnTo>
                <a:lnTo>
                  <a:pt x="39271" y="21600"/>
                </a:lnTo>
                <a:lnTo>
                  <a:pt x="0" y="21600"/>
                </a:lnTo>
                <a:close/>
              </a:path>
              <a:path fill="lightenLess" w="39271" h="21600">
                <a:moveTo>
                  <a:pt x="0" y="0"/>
                </a:moveTo>
                <a:lnTo>
                  <a:pt x="39271" y="0"/>
                </a:lnTo>
                <a:lnTo>
                  <a:pt x="37871" y="1400"/>
                </a:lnTo>
                <a:lnTo>
                  <a:pt x="1400" y="1400"/>
                </a:lnTo>
                <a:close/>
              </a:path>
              <a:path fill="darken" w="39271" h="21600">
                <a:moveTo>
                  <a:pt x="39271" y="0"/>
                </a:moveTo>
                <a:lnTo>
                  <a:pt x="39271" y="21600"/>
                </a:lnTo>
                <a:lnTo>
                  <a:pt x="37871" y="20200"/>
                </a:lnTo>
                <a:lnTo>
                  <a:pt x="37871" y="1400"/>
                </a:lnTo>
                <a:close/>
              </a:path>
              <a:path fill="darkenLess" w="39271" h="21600">
                <a:moveTo>
                  <a:pt x="39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1" y="20200"/>
                </a:lnTo>
                <a:close/>
              </a:path>
              <a:path fill="lighten" w="39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1" h="21600">
                <a:moveTo>
                  <a:pt x="12629" y="7493"/>
                </a:moveTo>
                <a:lnTo>
                  <a:pt x="16136" y="7493"/>
                </a:lnTo>
                <a:lnTo>
                  <a:pt x="16136" y="12828"/>
                </a:lnTo>
                <a:cubicBezTo>
                  <a:pt x="16136" y="13751"/>
                  <a:pt x="16937" y="14482"/>
                  <a:pt x="17973" y="14482"/>
                </a:cubicBezTo>
                <a:lnTo>
                  <a:pt x="19635" y="14482"/>
                </a:lnTo>
                <a:cubicBezTo>
                  <a:pt x="20671" y="14482"/>
                  <a:pt x="21472" y="13751"/>
                  <a:pt x="21472" y="12828"/>
                </a:cubicBezTo>
                <a:lnTo>
                  <a:pt x="21472" y="7493"/>
                </a:lnTo>
                <a:lnTo>
                  <a:pt x="19635" y="7493"/>
                </a:lnTo>
                <a:lnTo>
                  <a:pt x="23143" y="3985"/>
                </a:lnTo>
                <a:lnTo>
                  <a:pt x="26816" y="7493"/>
                </a:lnTo>
                <a:lnTo>
                  <a:pt x="24979" y="7493"/>
                </a:lnTo>
                <a:lnTo>
                  <a:pt x="24979" y="12828"/>
                </a:lnTo>
                <a:cubicBezTo>
                  <a:pt x="24979" y="15596"/>
                  <a:pt x="22403" y="18155"/>
                  <a:pt x="19635" y="18155"/>
                </a:cubicBezTo>
                <a:lnTo>
                  <a:pt x="17973" y="18155"/>
                </a:lnTo>
                <a:cubicBezTo>
                  <a:pt x="15205" y="18155"/>
                  <a:pt x="12629" y="15596"/>
                  <a:pt x="12629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зербайдж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Азербайджан"/>
          <p:cNvPicPr/>
          <p:nvPr/>
        </p:nvPicPr>
        <p:blipFill>
          <a:blip r:embed="rId1"/>
          <a:stretch/>
        </p:blipFill>
        <p:spPr>
          <a:xfrm>
            <a:off x="2700360" y="1413000"/>
            <a:ext cx="3456000" cy="1944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Герб Азербайджана"/>
          <p:cNvPicPr/>
          <p:nvPr/>
        </p:nvPicPr>
        <p:blipFill>
          <a:blip r:embed="rId2"/>
          <a:stretch/>
        </p:blipFill>
        <p:spPr>
          <a:xfrm>
            <a:off x="2700360" y="3357720"/>
            <a:ext cx="345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5" descr="Армения"/>
          <p:cNvPicPr/>
          <p:nvPr/>
        </p:nvPicPr>
        <p:blipFill>
          <a:blip r:embed="rId1"/>
          <a:stretch/>
        </p:blipFill>
        <p:spPr>
          <a:xfrm>
            <a:off x="2556000" y="907920"/>
            <a:ext cx="3960720" cy="230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Герб Армении"/>
          <p:cNvPicPr/>
          <p:nvPr/>
        </p:nvPicPr>
        <p:blipFill>
          <a:blip r:embed="rId2"/>
          <a:stretch/>
        </p:blipFill>
        <p:spPr>
          <a:xfrm>
            <a:off x="2700360" y="328464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Белорусс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5" descr="Белоруссия"/>
          <p:cNvPicPr/>
          <p:nvPr/>
        </p:nvPicPr>
        <p:blipFill>
          <a:blip r:embed="rId1"/>
          <a:stretch/>
        </p:blipFill>
        <p:spPr>
          <a:xfrm>
            <a:off x="2556000" y="981000"/>
            <a:ext cx="4248000" cy="237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Герб Белоруссии"/>
          <p:cNvPicPr/>
          <p:nvPr/>
        </p:nvPicPr>
        <p:blipFill>
          <a:blip r:embed="rId2"/>
          <a:stretch/>
        </p:blipFill>
        <p:spPr>
          <a:xfrm>
            <a:off x="2843280" y="3429000"/>
            <a:ext cx="39607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Казах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Казахстан"/>
          <p:cNvPicPr/>
          <p:nvPr/>
        </p:nvPicPr>
        <p:blipFill>
          <a:blip r:embed="rId1"/>
          <a:stretch/>
        </p:blipFill>
        <p:spPr>
          <a:xfrm>
            <a:off x="2484360" y="83664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Герб Казахстана"/>
          <p:cNvPicPr/>
          <p:nvPr/>
        </p:nvPicPr>
        <p:blipFill>
          <a:blip r:embed="rId2"/>
          <a:stretch/>
        </p:blipFill>
        <p:spPr>
          <a:xfrm>
            <a:off x="2556000" y="3284640"/>
            <a:ext cx="41036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иргиз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5" descr="Flag of Kyrgyzstan.svg"/>
          <p:cNvPicPr/>
          <p:nvPr/>
        </p:nvPicPr>
        <p:blipFill>
          <a:blip r:embed="rId1"/>
          <a:stretch/>
        </p:blipFill>
        <p:spPr>
          <a:xfrm>
            <a:off x="2340000" y="1125360"/>
            <a:ext cx="4392720" cy="2303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Герб Киргизии"/>
          <p:cNvPicPr/>
          <p:nvPr/>
        </p:nvPicPr>
        <p:blipFill>
          <a:blip r:embed="rId2"/>
          <a:stretch/>
        </p:blipFill>
        <p:spPr>
          <a:xfrm>
            <a:off x="2556000" y="3573360"/>
            <a:ext cx="410364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лдав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5" descr="Молдавия"/>
          <p:cNvPicPr/>
          <p:nvPr/>
        </p:nvPicPr>
        <p:blipFill>
          <a:blip r:embed="rId1"/>
          <a:stretch/>
        </p:blipFill>
        <p:spPr>
          <a:xfrm>
            <a:off x="2484360" y="1197000"/>
            <a:ext cx="3888000" cy="2087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Герб Молдавии"/>
          <p:cNvPicPr/>
          <p:nvPr/>
        </p:nvPicPr>
        <p:blipFill>
          <a:blip r:embed="rId2"/>
          <a:stretch/>
        </p:blipFill>
        <p:spPr>
          <a:xfrm>
            <a:off x="2627280" y="3357720"/>
            <a:ext cx="36734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знакомить учащихся с историей создания Содружества Независимых Государств, с достижениями стран СНГ в различных сферах общественной жизн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Формировать осмысленное отношение к межкультурным и межнациональным проблемам современного обществ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ывать толерантное, гуманное отношение и уважение к национальным различиям, стремление к культурному взаимодействи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осс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5" descr="Россия"/>
          <p:cNvPicPr/>
          <p:nvPr/>
        </p:nvPicPr>
        <p:blipFill>
          <a:blip r:embed="rId1"/>
          <a:stretch/>
        </p:blipFill>
        <p:spPr>
          <a:xfrm>
            <a:off x="2340000" y="692280"/>
            <a:ext cx="4103640" cy="237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Герб России"/>
          <p:cNvPicPr/>
          <p:nvPr/>
        </p:nvPicPr>
        <p:blipFill>
          <a:blip r:embed="rId2"/>
          <a:stretch/>
        </p:blipFill>
        <p:spPr>
          <a:xfrm>
            <a:off x="2916360" y="3213000"/>
            <a:ext cx="3311280" cy="3645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340000" y="692280"/>
            <a:ext cx="4103640" cy="93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збеки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Picture 5" descr="Узбекистан"/>
          <p:cNvPicPr/>
          <p:nvPr/>
        </p:nvPicPr>
        <p:blipFill>
          <a:blip r:embed="rId1"/>
          <a:stretch/>
        </p:blipFill>
        <p:spPr>
          <a:xfrm>
            <a:off x="2627280" y="981000"/>
            <a:ext cx="4537080" cy="2664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Герб Узбекистана"/>
          <p:cNvPicPr/>
          <p:nvPr/>
        </p:nvPicPr>
        <p:blipFill>
          <a:blip r:embed="rId2"/>
          <a:stretch/>
        </p:blipFill>
        <p:spPr>
          <a:xfrm>
            <a:off x="3348000" y="3716280"/>
            <a:ext cx="3529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Таджики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1" name="Picture 5" descr="Flag of Tajikistan.svg"/>
          <p:cNvPicPr/>
          <p:nvPr/>
        </p:nvPicPr>
        <p:blipFill>
          <a:blip r:embed="rId1"/>
          <a:stretch/>
        </p:blipFill>
        <p:spPr>
          <a:xfrm>
            <a:off x="2340000" y="836640"/>
            <a:ext cx="4537080" cy="237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Герб Таджикистана"/>
          <p:cNvPicPr/>
          <p:nvPr/>
        </p:nvPicPr>
        <p:blipFill>
          <a:blip r:embed="rId2"/>
          <a:stretch/>
        </p:blipFill>
        <p:spPr>
          <a:xfrm>
            <a:off x="2700360" y="3284640"/>
            <a:ext cx="41036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уркм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643120" y="114300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2714760" y="3714840"/>
            <a:ext cx="39290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Укра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8" name="Picture 5" descr="Украина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Герб Украины"/>
          <p:cNvPicPr/>
          <p:nvPr/>
        </p:nvPicPr>
        <p:blipFill>
          <a:blip r:embed="rId2"/>
          <a:stretch/>
        </p:blipFill>
        <p:spPr>
          <a:xfrm>
            <a:off x="2916360" y="3284640"/>
            <a:ext cx="3095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руз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3786120" cy="2071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2857680" y="3214800"/>
            <a:ext cx="35002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нгол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2643120" y="114300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2928960" y="357192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фганист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786040" y="1143000"/>
            <a:ext cx="3500640" cy="2143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2857680" y="342900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Цели организации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НГ основано на началах суверенного равенства всех его членов, поэтому, — все государства-члены являются самостоятельными субъектами международного права. Содружество не является государством и не обладает наднациональными полномочиям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сновными целями организации являются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политической, экономической, экологической, гуманитарной, культурной и иных областях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сестороннее развитие государств-членов в рамках общего экономического пространства, межгосударственной кооперации и интеграци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беспечение прав и свобод человек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обеспечении международного мира и безопасности, достижение всеобщего и полного разоружения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заимная правовая помощь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мирное разрешение споров и конфликтов между государствами организаци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 сферам совместной деятельности государств-членов относятся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беспечение прав и основных свобод человек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оординация внешнеполитической деятельност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формировании и развитии общего экономического пространства, таможенной политик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развитии систем транспорта, связ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храна здоровья и окружающей среды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опросы социальной и миграционной политик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борьба с организованной преступностью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области оборонной политики и охраны внешних границ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Органы СНГ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Высшим органом организации является Совет глав государств СНГ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в котором представлены все государства-члены и который обсуждает и решает принципиальные вопросы, связанные с деятельностью организации. Совет глав государств собирается на заседания два раза в год Совет глав правительств СНГ координирует сотрудничество органов исполнительной власти государств-членов в экономической, социальной и иных областях общих интересов. Собирается четыре раза в год. Все решения как в Совете глав государств, так и в Совете глав правительств, принимаются на основе консенсуса. Главы двух этих органов СНГ председательствуют поочерёдно в порядке русского алфавита названий государств-членов Содружеств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Предпосылки создания СН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cc00"/>
                </a:solidFill>
                <a:latin typeface="Arial Black"/>
              </a:rPr>
              <a:t>Союз ССР прекратил своё существование как субъект международного права и геополитической реальности. Однако, основываясь на исторической общности народов, связях между ними, учитывая двусторонние договоры, стремление к демократическому правовому государству, намерение развивать свои отношения на основе взаимного признания и уважения государственного суверенитета, стороны договорились об образовании СНГ. Нам всем предстоит сформировать гражданское общество и правовое государство, эффективную экономику с развитой системой социальных гарантий, включить экономику независимых стран в мировую хозяйственную систему, возродить культуру, такие исторические и традиционные ценности общества, как дом, семья, уважение к старшим, забота о слабых . В последнее время все более отчетливо обозначились объединительные тенденции республик бывшего СССР. И это вполне закономерно. Страны Западной Европы и США стремятся ко все большей интеграции и сотрудничеству (экономическое сотрудничество в рамках ЕЭС). Мировой опыт свидетельствует, что путь к возрождению, прогрессу лежит через свободу экономической деятельности при разумной системе налогообложения и кредитно-финансовой политики, при решительном избавлении от национального и идеологического чванства, при возрождении лучших национальных и культурных традиций. Только на путях интеграции на основе равноправия и взаимовыгодного сотрудничества государства СНГ могут выйти из нынешнего кризиса и превратиться в динамично развивающееся сообщество, с интересами которого будут считаться другие центры силы в мировой политике и экономике.</a:t>
            </a:r>
            <a:endParaRPr b="0" lang="en-US" sz="1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Black"/>
              </a:rPr>
              <a:t>Председатели Совета глав государств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учма Леонид Данилович; Путин Владимир Владимирович; </a:t>
            </a:r>
            <a:r>
              <a:rPr b="0" lang="en-US" sz="1600" spc="-1" strike="noStrike">
                <a:solidFill>
                  <a:srgbClr val="0070c0"/>
                </a:solidFill>
                <a:latin typeface="Arial Black"/>
              </a:rPr>
              <a:t>Медведев Дмитрий Анатольеви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7" name="Picture 8" descr="Файл:Dmitry Medvedev official large photo -5.jpg"/>
          <p:cNvPicPr/>
          <p:nvPr/>
        </p:nvPicPr>
        <p:blipFill>
          <a:blip r:embed="rId1"/>
          <a:stretch/>
        </p:blipFill>
        <p:spPr>
          <a:xfrm>
            <a:off x="2556000" y="981000"/>
            <a:ext cx="4392360" cy="5877000"/>
          </a:xfrm>
          <a:prstGeom prst="rect">
            <a:avLst/>
          </a:prstGeom>
          <a:ln w="0">
            <a:noFill/>
          </a:ln>
        </p:spPr>
      </p:pic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7493"/>
                </a:moveTo>
                <a:lnTo>
                  <a:pt x="14645" y="7493"/>
                </a:lnTo>
                <a:lnTo>
                  <a:pt x="14645" y="12828"/>
                </a:lnTo>
                <a:cubicBezTo>
                  <a:pt x="14645" y="13751"/>
                  <a:pt x="15446" y="14482"/>
                  <a:pt x="16482" y="14482"/>
                </a:cubicBezTo>
                <a:lnTo>
                  <a:pt x="18144" y="14482"/>
                </a:lnTo>
                <a:cubicBezTo>
                  <a:pt x="19180" y="14482"/>
                  <a:pt x="19980" y="13751"/>
                  <a:pt x="19980" y="12828"/>
                </a:cubicBezTo>
                <a:lnTo>
                  <a:pt x="19980" y="7493"/>
                </a:lnTo>
                <a:lnTo>
                  <a:pt x="18144" y="7493"/>
                </a:lnTo>
                <a:lnTo>
                  <a:pt x="21652" y="3985"/>
                </a:lnTo>
                <a:lnTo>
                  <a:pt x="25325" y="7493"/>
                </a:lnTo>
                <a:lnTo>
                  <a:pt x="23488" y="7493"/>
                </a:lnTo>
                <a:lnTo>
                  <a:pt x="23488" y="12828"/>
                </a:lnTo>
                <a:cubicBezTo>
                  <a:pt x="23488" y="15596"/>
                  <a:pt x="20912" y="18155"/>
                  <a:pt x="18144" y="18155"/>
                </a:cubicBezTo>
                <a:lnTo>
                  <a:pt x="16482" y="18155"/>
                </a:lnTo>
                <a:cubicBezTo>
                  <a:pt x="13714" y="18155"/>
                  <a:pt x="11138" y="15596"/>
                  <a:pt x="1113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66880" y="466200"/>
            <a:ext cx="748656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Постоянно действующий орган СН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1" lang="en-US" sz="1800" spc="-1" strike="noStrike">
                <a:solidFill>
                  <a:srgbClr val="00b050"/>
                </a:solidFill>
                <a:latin typeface="Arial Black"/>
              </a:rPr>
              <a:t>Исполком СНГ в Минск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1" name="Picture 4" descr="Файл:Belarus-Minsk-CIS Headquarter-1.jpg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522936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493"/>
                </a:moveTo>
                <a:lnTo>
                  <a:pt x="12754" y="7493"/>
                </a:lnTo>
                <a:lnTo>
                  <a:pt x="12754" y="12828"/>
                </a:lnTo>
                <a:cubicBezTo>
                  <a:pt x="12754" y="13751"/>
                  <a:pt x="13555" y="14482"/>
                  <a:pt x="14591" y="14482"/>
                </a:cubicBezTo>
                <a:lnTo>
                  <a:pt x="16253" y="14482"/>
                </a:lnTo>
                <a:cubicBezTo>
                  <a:pt x="17289" y="14482"/>
                  <a:pt x="18090" y="13751"/>
                  <a:pt x="18090" y="12828"/>
                </a:cubicBezTo>
                <a:lnTo>
                  <a:pt x="18090" y="7493"/>
                </a:lnTo>
                <a:lnTo>
                  <a:pt x="16253" y="7493"/>
                </a:lnTo>
                <a:lnTo>
                  <a:pt x="19761" y="3985"/>
                </a:lnTo>
                <a:lnTo>
                  <a:pt x="23434" y="7493"/>
                </a:lnTo>
                <a:lnTo>
                  <a:pt x="21597" y="7493"/>
                </a:lnTo>
                <a:lnTo>
                  <a:pt x="21597" y="12828"/>
                </a:lnTo>
                <a:cubicBezTo>
                  <a:pt x="21597" y="15596"/>
                  <a:pt x="19021" y="18155"/>
                  <a:pt x="16253" y="18155"/>
                </a:cubicBezTo>
                <a:lnTo>
                  <a:pt x="14591" y="18155"/>
                </a:lnTo>
                <a:cubicBezTo>
                  <a:pt x="11823" y="18155"/>
                  <a:pt x="9247" y="15596"/>
                  <a:pt x="9247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Председатели Совета глав правительств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Владимир Пути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5" name="Picture 5" descr="Владимир Владимирович Путин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5589720"/>
          </a:xfrm>
          <a:prstGeom prst="rect">
            <a:avLst/>
          </a:prstGeom>
          <a:ln w="0">
            <a:noFill/>
          </a:ln>
        </p:spPr>
      </p:pic>
      <p:sp>
        <p:nvSpPr>
          <p:cNvPr id="456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Председатели Совета министров иностранных де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                                 </a:t>
            </a:r>
            <a:r>
              <a:rPr b="0" lang="en-US" sz="2000" spc="-1" strike="noStrike">
                <a:solidFill>
                  <a:srgbClr val="0070c0"/>
                </a:solidFill>
                <a:latin typeface="Arial Black"/>
              </a:rPr>
              <a:t>Сергей Лавр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9" name="Picture 5" descr="Сергей Викторович Лавров"/>
          <p:cNvPicPr/>
          <p:nvPr/>
        </p:nvPicPr>
        <p:blipFill>
          <a:blip r:embed="rId1"/>
          <a:stretch/>
        </p:blipFill>
        <p:spPr>
          <a:xfrm>
            <a:off x="1908000" y="1125360"/>
            <a:ext cx="5185080" cy="57326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Исполнительные секретари СНГ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олжность исполнительного секретаря введена в 1993 году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оротченя Иван Михайлович (1993—1998 гг.) Белоруссия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ерезовский Борис Абрамович(1998—1999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Яров Юрий Федорович (1999—2004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ушайло Владимир Борисович (2004—2007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Лебедев Сергей Николаевич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с 2007 г.). (все РФ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271476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1187280" cy="692280"/>
          </a:xfrm>
          <a:custGeom>
            <a:avLst/>
            <a:gdLst>
              <a:gd name="textAreaLeft" fmla="*/ 44640 w 1187280"/>
              <a:gd name="textAreaRight" fmla="*/ 1142640 w 118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7037" h="21600">
                <a:moveTo>
                  <a:pt x="0" y="0"/>
                </a:moveTo>
                <a:lnTo>
                  <a:pt x="37037" y="0"/>
                </a:lnTo>
                <a:lnTo>
                  <a:pt x="37037" y="21600"/>
                </a:lnTo>
                <a:lnTo>
                  <a:pt x="0" y="21600"/>
                </a:lnTo>
                <a:close/>
              </a:path>
              <a:path fill="lightenLess" w="37037" h="21600">
                <a:moveTo>
                  <a:pt x="0" y="0"/>
                </a:moveTo>
                <a:lnTo>
                  <a:pt x="37037" y="0"/>
                </a:lnTo>
                <a:lnTo>
                  <a:pt x="35637" y="1400"/>
                </a:lnTo>
                <a:lnTo>
                  <a:pt x="1400" y="1400"/>
                </a:lnTo>
                <a:close/>
              </a:path>
              <a:path fill="darken" w="37037" h="21600">
                <a:moveTo>
                  <a:pt x="37037" y="0"/>
                </a:moveTo>
                <a:lnTo>
                  <a:pt x="37037" y="21600"/>
                </a:lnTo>
                <a:lnTo>
                  <a:pt x="35637" y="20200"/>
                </a:lnTo>
                <a:lnTo>
                  <a:pt x="35637" y="1400"/>
                </a:lnTo>
                <a:close/>
              </a:path>
              <a:path fill="darkenLess" w="37037" h="21600">
                <a:moveTo>
                  <a:pt x="37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7" y="20200"/>
                </a:lnTo>
                <a:close/>
              </a:path>
              <a:path fill="lighten" w="37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7" h="21600">
                <a:moveTo>
                  <a:pt x="11512" y="7493"/>
                </a:moveTo>
                <a:lnTo>
                  <a:pt x="15019" y="7493"/>
                </a:lnTo>
                <a:lnTo>
                  <a:pt x="15019" y="12828"/>
                </a:lnTo>
                <a:cubicBezTo>
                  <a:pt x="15019" y="13751"/>
                  <a:pt x="15820" y="14482"/>
                  <a:pt x="16856" y="14482"/>
                </a:cubicBezTo>
                <a:lnTo>
                  <a:pt x="18518" y="14482"/>
                </a:lnTo>
                <a:cubicBezTo>
                  <a:pt x="19554" y="14482"/>
                  <a:pt x="20355" y="13751"/>
                  <a:pt x="20355" y="12828"/>
                </a:cubicBezTo>
                <a:lnTo>
                  <a:pt x="20355" y="7493"/>
                </a:lnTo>
                <a:lnTo>
                  <a:pt x="18518" y="7493"/>
                </a:lnTo>
                <a:lnTo>
                  <a:pt x="22026" y="3985"/>
                </a:lnTo>
                <a:lnTo>
                  <a:pt x="25699" y="7493"/>
                </a:lnTo>
                <a:lnTo>
                  <a:pt x="23862" y="7493"/>
                </a:lnTo>
                <a:lnTo>
                  <a:pt x="23862" y="12828"/>
                </a:lnTo>
                <a:cubicBezTo>
                  <a:pt x="23862" y="15596"/>
                  <a:pt x="21286" y="18155"/>
                  <a:pt x="18518" y="18155"/>
                </a:cubicBezTo>
                <a:lnTo>
                  <a:pt x="16856" y="18155"/>
                </a:lnTo>
                <a:cubicBezTo>
                  <a:pt x="14088" y="18155"/>
                  <a:pt x="11512" y="15596"/>
                  <a:pt x="11512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Другие органы СН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иностранных дел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обороны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внутренних дел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объединенных вооруженных сил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командующих пограничными войсками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руководителей органов безопасности и специальных служб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экономиче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парламентская ассамблея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кономический суд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татистически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Финансово-банков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нтитеррористический Центр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миссия по правам человека и д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ординационно-консультативны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сполнительны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экономически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кономиче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банк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7493"/>
                </a:moveTo>
                <a:lnTo>
                  <a:pt x="17156" y="7493"/>
                </a:lnTo>
                <a:lnTo>
                  <a:pt x="17156" y="12828"/>
                </a:lnTo>
                <a:cubicBezTo>
                  <a:pt x="17156" y="13751"/>
                  <a:pt x="17956" y="14482"/>
                  <a:pt x="18992" y="14482"/>
                </a:cubicBezTo>
                <a:lnTo>
                  <a:pt x="20655" y="14482"/>
                </a:lnTo>
                <a:cubicBezTo>
                  <a:pt x="21690" y="14482"/>
                  <a:pt x="22491" y="13751"/>
                  <a:pt x="22491" y="12828"/>
                </a:cubicBezTo>
                <a:lnTo>
                  <a:pt x="22491" y="7493"/>
                </a:lnTo>
                <a:lnTo>
                  <a:pt x="20655" y="7493"/>
                </a:lnTo>
                <a:lnTo>
                  <a:pt x="24162" y="3985"/>
                </a:lnTo>
                <a:lnTo>
                  <a:pt x="27835" y="7493"/>
                </a:lnTo>
                <a:lnTo>
                  <a:pt x="25999" y="7493"/>
                </a:lnTo>
                <a:lnTo>
                  <a:pt x="25999" y="12828"/>
                </a:lnTo>
                <a:cubicBezTo>
                  <a:pt x="25999" y="15596"/>
                  <a:pt x="23422" y="18155"/>
                  <a:pt x="20655" y="18155"/>
                </a:cubicBezTo>
                <a:lnTo>
                  <a:pt x="18992" y="18155"/>
                </a:lnTo>
                <a:cubicBezTo>
                  <a:pt x="16224" y="18155"/>
                  <a:pt x="13648" y="15596"/>
                  <a:pt x="1364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Дата образования СНГ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2.Какие страны входят в СНГ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3.Как Вы думаете, для чего нужно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4.Высший орган СН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5.Кто является председателем Совета глав государств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6.Кто является председателем Совета глав правительств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7.Кто сейчас исполняет обязанности председателя Совета министров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8. Кто является исполнительным секретарем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9. Какие Вы знаете органы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0. Что значит «ассоциированный член содружества»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1</a:t>
            </a: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. </a:t>
            </a: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Что означает статус наблюдателя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2. Где находится исполком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236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8360" y="981000"/>
            <a:ext cx="83516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Б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6200" y="369720"/>
            <a:ext cx="74898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8948"/>
                </a:solidFill>
                <a:latin typeface="Arial Black"/>
              </a:rPr>
              <a:t>СНГ - ОБЩИЕ СВЕД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оглашение о создании Содружества Независимых Государств подписано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8 декабря 1991 года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уководителями Республики Беларусь, Российской Федерации и Украины. Участники Соглашения констатировали, что Союз ССР как субъект международного права и геополитическая реальность прекращает свое существование. Договаривающиеся Стороны образовали Содружество Независимых Государств. В Соглашении сформулированы основные направления и принципы сотрудничества, определена сфера совместной деятельности, реализуемая на равноправной основе через общие координирующие институты Содружества. Договаривающиеся Стороны гарантировали выполнение международных обязательств, вытекающих для них из договоров и соглашений бывшего Союза ССР. Протокол к соглашению о создании СНГ подписан главами одиннадцати государств 21 декабря 1991 года в Алма-Ате. Он является составной частью подписанного 8 декабря 1991 года Соглашения о создании Содружества и определяет, что все эти одиннадцать стран на равноправных началах образуют СНГ (Грузия присоединилась к Содружеству Независимых Государств в декабре 1993 года в соответствии с Решением Совета глав государств СНГ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900000" cy="503280"/>
          </a:xfrm>
          <a:custGeom>
            <a:avLst/>
            <a:gdLst>
              <a:gd name="textAreaLeft" fmla="*/ 32400 w 900000"/>
              <a:gd name="textAreaRight" fmla="*/ 867600 w 90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8614" h="21600">
                <a:moveTo>
                  <a:pt x="0" y="0"/>
                </a:moveTo>
                <a:lnTo>
                  <a:pt x="38614" y="0"/>
                </a:lnTo>
                <a:lnTo>
                  <a:pt x="38614" y="21600"/>
                </a:lnTo>
                <a:lnTo>
                  <a:pt x="0" y="21600"/>
                </a:lnTo>
                <a:close/>
              </a:path>
              <a:path fill="lightenLess" w="38614" h="21600">
                <a:moveTo>
                  <a:pt x="0" y="0"/>
                </a:moveTo>
                <a:lnTo>
                  <a:pt x="38614" y="0"/>
                </a:lnTo>
                <a:lnTo>
                  <a:pt x="37214" y="1400"/>
                </a:lnTo>
                <a:lnTo>
                  <a:pt x="1400" y="1400"/>
                </a:lnTo>
                <a:close/>
              </a:path>
              <a:path fill="darken" w="38614" h="21600">
                <a:moveTo>
                  <a:pt x="38614" y="0"/>
                </a:moveTo>
                <a:lnTo>
                  <a:pt x="38614" y="21600"/>
                </a:lnTo>
                <a:lnTo>
                  <a:pt x="37214" y="20200"/>
                </a:lnTo>
                <a:lnTo>
                  <a:pt x="37214" y="1400"/>
                </a:lnTo>
                <a:close/>
              </a:path>
              <a:path fill="darkenLess" w="38614" h="21600">
                <a:moveTo>
                  <a:pt x="38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4" y="20200"/>
                </a:lnTo>
                <a:close/>
              </a:path>
              <a:path fill="lighten" w="38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4" h="21600">
                <a:moveTo>
                  <a:pt x="12301" y="7493"/>
                </a:moveTo>
                <a:lnTo>
                  <a:pt x="15808" y="7493"/>
                </a:lnTo>
                <a:lnTo>
                  <a:pt x="15808" y="12828"/>
                </a:lnTo>
                <a:cubicBezTo>
                  <a:pt x="15808" y="13751"/>
                  <a:pt x="16609" y="14482"/>
                  <a:pt x="17645" y="14482"/>
                </a:cubicBezTo>
                <a:lnTo>
                  <a:pt x="19307" y="14482"/>
                </a:lnTo>
                <a:cubicBezTo>
                  <a:pt x="20343" y="14482"/>
                  <a:pt x="21144" y="13751"/>
                  <a:pt x="21144" y="12828"/>
                </a:cubicBezTo>
                <a:lnTo>
                  <a:pt x="21144" y="7493"/>
                </a:lnTo>
                <a:lnTo>
                  <a:pt x="19307" y="7493"/>
                </a:lnTo>
                <a:lnTo>
                  <a:pt x="22815" y="3985"/>
                </a:lnTo>
                <a:lnTo>
                  <a:pt x="26488" y="7493"/>
                </a:lnTo>
                <a:lnTo>
                  <a:pt x="24651" y="7493"/>
                </a:lnTo>
                <a:lnTo>
                  <a:pt x="24651" y="12828"/>
                </a:lnTo>
                <a:cubicBezTo>
                  <a:pt x="24651" y="15596"/>
                  <a:pt x="22075" y="18155"/>
                  <a:pt x="19307" y="18155"/>
                </a:cubicBezTo>
                <a:lnTo>
                  <a:pt x="17645" y="18155"/>
                </a:lnTo>
                <a:cubicBezTo>
                  <a:pt x="14877" y="18155"/>
                  <a:pt x="12301" y="15596"/>
                  <a:pt x="1230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00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лма-Атинская Декларация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дписана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1 декабря 1991 года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уководителями одиннадцати государств. В документе отмечена приверженность целям и принципам Соглашения о создании Содружества Независимых Государств, заявлено, что взаимодействие участников Содружества будет осуществляться на принципе равноправия через координирующие институты, формируемые на паритетной основе. Подтверждена приверженность сотрудничеству в создании и развитии общего экономического пространства, общеевропейского и евразийского рынков. Государства - участники Содружества гарантировали, в соответствии со своими конституционными процедурами, выполнение международных обязательств, вытекающих из договоров и соглашений бывшего СССР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став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Содружества Независимых Государств принят Советом глав государств Содружества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2 января 1993 года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Минске. В Уставе Содружества определены условия членства государств в СНГ, сформулированы цели и принципы межгосударственного сотрудничества, взаимодействия в экономической, социальной и правовой областях, межпарламентских связей, закреплено суверенное равенство всех его членов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Символика Содружества Независимых Государст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этот флаг использовался спортсменами стран СНГ до принятия нового флаг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2233440"/>
          </a:xfrm>
          <a:prstGeom prst="rect">
            <a:avLst/>
          </a:prstGeom>
          <a:ln w="0">
            <a:noFill/>
          </a:ln>
        </p:spPr>
      </p:pic>
      <p:sp>
        <p:nvSpPr>
          <p:cNvPr id="364" name="Line 5"/>
          <p:cNvSpPr/>
          <p:nvPr/>
        </p:nvSpPr>
        <p:spPr>
          <a:xfrm>
            <a:off x="2411280" y="3141720"/>
            <a:ext cx="4105440" cy="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411280" y="3141720"/>
            <a:ext cx="0" cy="244800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6516720" y="3141720"/>
            <a:ext cx="0" cy="244800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411280" y="5589720"/>
            <a:ext cx="4105440" cy="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Флаг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1644480" y="2465280"/>
            <a:ext cx="639468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Герб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Файл:Emblem of CIS.svg"/>
          <p:cNvPicPr/>
          <p:nvPr/>
        </p:nvPicPr>
        <p:blipFill>
          <a:blip r:embed="rId1"/>
          <a:stretch/>
        </p:blipFill>
        <p:spPr>
          <a:xfrm>
            <a:off x="1908000" y="1268280"/>
            <a:ext cx="55692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Флаг Черноморского фло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Рисунок 7" descr=""/>
          <p:cNvPicPr/>
          <p:nvPr/>
        </p:nvPicPr>
        <p:blipFill>
          <a:blip r:embed="rId1"/>
          <a:stretch/>
        </p:blipFill>
        <p:spPr>
          <a:xfrm>
            <a:off x="1784520" y="2270160"/>
            <a:ext cx="5030640" cy="3141720"/>
          </a:xfrm>
          <a:prstGeom prst="rect">
            <a:avLst/>
          </a:prstGeom>
          <a:ln w="38160">
            <a:solidFill>
              <a:srgbClr val="ffe103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52:38Z</dcterms:created>
  <dc:creator>User</dc:creator>
  <dc:description/>
  <dc:language>en-US</dc:language>
  <cp:lastModifiedBy>User</cp:lastModifiedBy>
  <dcterms:modified xsi:type="dcterms:W3CDTF">2011-01-17T18:26:05Z</dcterms:modified>
  <cp:revision>23</cp:revision>
  <dc:subject/>
  <dc:title>Классный час на тему:</dc:title>
</cp:coreProperties>
</file>