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png" ContentType="image/png"/>
  <Override PartName="/ppt/media/image9.gif" ContentType="image/gif"/>
  <Override PartName="/ppt/media/J0214098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D5E-53D8-4C11-8496-A4244AA3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981-2E71-4988-BCAC-A162572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EAA-F8CA-4434-AE5D-860D2C29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D35-2AAC-4F9E-B652-A155F96F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BA2-D7C9-41F4-B155-7EAB86DB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AD2-A801-4C03-B37C-F179EED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7777-2F26-46A5-841E-ABE016F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30B-6B8B-4C2E-9485-B2C97109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637-B814-42CD-A149-1E312DD6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47BD-22E7-4E9E-B64B-8995779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6FAE-86A1-4387-B5EA-3CF6F3B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EA9-5EA0-42E7-8841-4E5F9C2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A6C3-4B33-4B94-95F6-B880971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3EC-2E39-4C84-988E-9B4B596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AADB-6032-41CC-8AD0-6A64B63B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17C2-3041-4076-B912-8AAEC6BC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3B4-44B5-4B65-8A5D-947F3758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4CC-73FE-4717-93AB-47D181DE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FD9E-3320-4A06-97FA-4A4FB82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9E47-FA6E-4393-912A-D4FAFFA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4BB7-393D-47EA-A4A3-A622471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22B4-6F26-488B-8902-FF7DDE7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6D1-04BA-40A6-8F1D-3E6B2C8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C2EF-7E7C-4ADB-948D-1B967B4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7DC9-B786-45B4-929A-02B1D74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1637-2912-4395-B43A-67224E1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04B4-557C-42F9-9427-D1512DB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EED2-2D45-47D9-B68A-E39CAC5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A2F4-38A9-43F0-9DB8-F61BE97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5E27-0B51-417A-A0F3-4802889D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440C-6627-475D-9D02-B0413F15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1EEC-3BA6-44A8-87F6-6682FB1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51B6-6107-46C8-B7C6-A62747A1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0D1-A359-4A4A-B858-B456B5B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F326-3540-4382-BBB1-1513891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D77D-CF16-45AC-83C6-A41B09C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9F15-582D-4633-B8FB-7AF40500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67D1-D440-4F67-8247-2B42896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1406-F341-466B-956B-179844D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DC24-CB60-4197-8FC5-AD0C364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A66D-AA76-4C76-A9A6-8729C3C4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288A-C79F-4ED6-A6D7-32A1CEA9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CD18-EAF5-4E34-95F6-F9782F2D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82CF-8DE4-464B-A1FF-19A7B0B0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78F-9236-4989-A456-FF514C9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5D4A6-9EAE-4550-BB19-355D1201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48D2-A2D2-4FFA-A48D-0450912C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A3B9-AEB6-45EE-9D5D-9495DED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D268A-A05C-4DC4-ACD8-339CBF6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73D9-D415-4943-9A3A-7C08C3A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B6E4-5C4B-4EDF-A03C-AEB5E57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144F-5A42-46DB-89B9-3B3AA17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B7A9-D644-4613-812D-31DFEF4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96D6-51FC-45E6-893E-1C7E996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FD38-1513-4D90-BABC-BC73C55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5E8-2EE2-4979-A44D-6911500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0480-B119-4BE3-BCE7-34EE5D76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D07-6BB8-4DCE-83D9-3F7FF47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41C-50B0-4069-AEB7-43DBDDC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5B8-1D9A-4B8E-BC39-28D7895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BC7-11A7-4C69-8140-C8516AC3D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0AF-FBC5-4F03-A907-9564B764D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47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50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51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51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73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8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36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37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38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44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50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56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62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68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69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72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75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78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81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84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87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90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D4F-E728-4DCE-B4C3-668662D6ECC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334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336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338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395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75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407" name="Line 76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77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78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79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80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81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82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83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84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85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86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87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88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89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90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13C-C42D-4C55-AB68-E526EB4D06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465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466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467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476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477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486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Line 26"/>
                    <p:cNvSpPr/>
                    <p:nvPr/>
                  </p:nvSpPr>
                  <p:spPr>
                    <a:xfrm>
                      <a:off x="2037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Line 27"/>
                    <p:cNvSpPr/>
                    <p:nvPr/>
                  </p:nvSpPr>
                  <p:spPr>
                    <a:xfrm>
                      <a:off x="838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Line 28"/>
                    <p:cNvSpPr/>
                    <p:nvPr/>
                  </p:nvSpPr>
                  <p:spPr>
                    <a:xfrm>
                      <a:off x="97092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Line 29"/>
                    <p:cNvSpPr/>
                    <p:nvPr/>
                  </p:nvSpPr>
                  <p:spPr>
                    <a:xfrm>
                      <a:off x="2237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495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Line 35"/>
                    <p:cNvSpPr/>
                    <p:nvPr/>
                  </p:nvSpPr>
                  <p:spPr>
                    <a:xfrm>
                      <a:off x="2037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Line 36"/>
                    <p:cNvSpPr/>
                    <p:nvPr/>
                  </p:nvSpPr>
                  <p:spPr>
                    <a:xfrm>
                      <a:off x="838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Line 37"/>
                    <p:cNvSpPr/>
                    <p:nvPr/>
                  </p:nvSpPr>
                  <p:spPr>
                    <a:xfrm>
                      <a:off x="97092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Line 38"/>
                    <p:cNvSpPr/>
                    <p:nvPr/>
                  </p:nvSpPr>
                  <p:spPr>
                    <a:xfrm>
                      <a:off x="2237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504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Line 44"/>
                    <p:cNvSpPr/>
                    <p:nvPr/>
                  </p:nvSpPr>
                  <p:spPr>
                    <a:xfrm>
                      <a:off x="2037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Line 45"/>
                    <p:cNvSpPr/>
                    <p:nvPr/>
                  </p:nvSpPr>
                  <p:spPr>
                    <a:xfrm>
                      <a:off x="838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46"/>
                    <p:cNvSpPr/>
                    <p:nvPr/>
                  </p:nvSpPr>
                  <p:spPr>
                    <a:xfrm>
                      <a:off x="97092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47"/>
                    <p:cNvSpPr/>
                    <p:nvPr/>
                  </p:nvSpPr>
                  <p:spPr>
                    <a:xfrm>
                      <a:off x="2237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2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513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514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519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2320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2453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66"/>
                    <p:cNvSpPr/>
                    <p:nvPr/>
                  </p:nvSpPr>
                  <p:spPr>
                    <a:xfrm>
                      <a:off x="371988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3519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73"/>
                    <p:cNvSpPr/>
                    <p:nvPr/>
                  </p:nvSpPr>
                  <p:spPr>
                    <a:xfrm>
                      <a:off x="2320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2453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1988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81"/>
                    <p:cNvSpPr/>
                    <p:nvPr/>
                  </p:nvSpPr>
                  <p:spPr>
                    <a:xfrm>
                      <a:off x="3519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82"/>
                    <p:cNvSpPr/>
                    <p:nvPr/>
                  </p:nvSpPr>
                  <p:spPr>
                    <a:xfrm>
                      <a:off x="2320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Line 83"/>
                    <p:cNvSpPr/>
                    <p:nvPr/>
                  </p:nvSpPr>
                  <p:spPr>
                    <a:xfrm>
                      <a:off x="2453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Line 84"/>
                    <p:cNvSpPr/>
                    <p:nvPr/>
                  </p:nvSpPr>
                  <p:spPr>
                    <a:xfrm>
                      <a:off x="371988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9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560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>
                      <a:off x="5002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>
                      <a:off x="38034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102"/>
                    <p:cNvSpPr/>
                    <p:nvPr/>
                  </p:nvSpPr>
                  <p:spPr>
                    <a:xfrm>
                      <a:off x="39362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103"/>
                    <p:cNvSpPr/>
                    <p:nvPr/>
                  </p:nvSpPr>
                  <p:spPr>
                    <a:xfrm>
                      <a:off x="520272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569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109"/>
                    <p:cNvSpPr/>
                    <p:nvPr/>
                  </p:nvSpPr>
                  <p:spPr>
                    <a:xfrm>
                      <a:off x="5002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110"/>
                    <p:cNvSpPr/>
                    <p:nvPr/>
                  </p:nvSpPr>
                  <p:spPr>
                    <a:xfrm>
                      <a:off x="38034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>
                      <a:off x="39362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>
                      <a:off x="520272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578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118"/>
                    <p:cNvSpPr/>
                    <p:nvPr/>
                  </p:nvSpPr>
                  <p:spPr>
                    <a:xfrm>
                      <a:off x="5002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119"/>
                    <p:cNvSpPr/>
                    <p:nvPr/>
                  </p:nvSpPr>
                  <p:spPr>
                    <a:xfrm>
                      <a:off x="38034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120"/>
                    <p:cNvSpPr/>
                    <p:nvPr/>
                  </p:nvSpPr>
                  <p:spPr>
                    <a:xfrm>
                      <a:off x="39362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121"/>
                    <p:cNvSpPr/>
                    <p:nvPr/>
                  </p:nvSpPr>
                  <p:spPr>
                    <a:xfrm>
                      <a:off x="520272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6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587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588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6485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5286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541908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6685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6485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5286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48"/>
                    <p:cNvSpPr/>
                    <p:nvPr/>
                  </p:nvSpPr>
                  <p:spPr>
                    <a:xfrm>
                      <a:off x="541908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6685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55"/>
                    <p:cNvSpPr/>
                    <p:nvPr/>
                  </p:nvSpPr>
                  <p:spPr>
                    <a:xfrm>
                      <a:off x="6485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5286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541908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6685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3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624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625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634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>
                      <a:off x="7967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>
                      <a:off x="6768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>
                      <a:off x="6901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77"/>
                    <p:cNvSpPr/>
                    <p:nvPr/>
                  </p:nvSpPr>
                  <p:spPr>
                    <a:xfrm>
                      <a:off x="81680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643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>
                      <a:off x="7967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84"/>
                    <p:cNvSpPr/>
                    <p:nvPr/>
                  </p:nvSpPr>
                  <p:spPr>
                    <a:xfrm>
                      <a:off x="6768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85"/>
                    <p:cNvSpPr/>
                    <p:nvPr/>
                  </p:nvSpPr>
                  <p:spPr>
                    <a:xfrm>
                      <a:off x="6901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>
                      <a:off x="81680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652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92"/>
                    <p:cNvSpPr/>
                    <p:nvPr/>
                  </p:nvSpPr>
                  <p:spPr>
                    <a:xfrm>
                      <a:off x="7967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>
                      <a:off x="6768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>
                      <a:off x="6901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>
                      <a:off x="81680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60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661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673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679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680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683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686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689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692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695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698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701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703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29C2-7802-4367-8CA9-FCB01239DF8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0214098.WAV" TargetMode="External"/><Relationship Id="rId2" Type="http://schemas.openxmlformats.org/officeDocument/2006/relationships/image" Target="../media/image10.gif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уравнение реакций, с помощью которых можно осуществить следующие перехо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39280" y="234900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н    этиловый спирт    уксусный альдегид                     уксусная кислота      хлоруксусная кислота         аминоуксусная кислота          полипепт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1835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8"/>
          <p:cNvSpPr/>
          <p:nvPr/>
        </p:nvSpPr>
        <p:spPr>
          <a:xfrm>
            <a:off x="4067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"/>
          <p:cNvSpPr/>
          <p:nvPr/>
        </p:nvSpPr>
        <p:spPr>
          <a:xfrm>
            <a:off x="485928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0"/>
          <p:cNvSpPr/>
          <p:nvPr/>
        </p:nvSpPr>
        <p:spPr>
          <a:xfrm>
            <a:off x="684360" y="2997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"/>
          <p:cNvSpPr/>
          <p:nvPr/>
        </p:nvSpPr>
        <p:spPr>
          <a:xfrm>
            <a:off x="406728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9272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684360" y="3500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5" descr="1"/>
          <p:cNvPicPr/>
          <p:nvPr/>
        </p:nvPicPr>
        <p:blipFill>
          <a:blip r:embed="rId2"/>
          <a:stretch/>
        </p:blipFill>
        <p:spPr>
          <a:xfrm>
            <a:off x="826920" y="3933720"/>
            <a:ext cx="3745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5"/>
          <p:cNvSpPr/>
          <p:nvPr/>
        </p:nvSpPr>
        <p:spPr>
          <a:xfrm>
            <a:off x="539640" y="1916280"/>
            <a:ext cx="806472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оединения являются мономерами бел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2" action="ppaction://hlinksldjump"/>
              </a:rPr>
              <a:t>глюкоза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б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3" action="ppaction://hlinksldjump"/>
              </a:rPr>
              <a:t>) глицерин       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в)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4" action="ppaction://hlinksldjump"/>
              </a:rPr>
              <a:t>аминокислоты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 г)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5" action="ppaction://hlinksldjump"/>
              </a:rPr>
              <a:t>жирны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аминокислот образует все многообразие бел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26          б) 20        в) 40     г) 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связь между аминокислотами в молекуле белка первичн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исульфидная    б) водородная    в) пептид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3132000" y="126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1619280" y="981000"/>
            <a:ext cx="496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верн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8" name="Picture 5" descr="food20"/>
          <p:cNvPicPr/>
          <p:nvPr/>
        </p:nvPicPr>
        <p:blipFill>
          <a:blip r:embed="rId1"/>
          <a:stretch/>
        </p:blipFill>
        <p:spPr>
          <a:xfrm>
            <a:off x="3564000" y="3429000"/>
            <a:ext cx="2736720" cy="2603520"/>
          </a:xfrm>
          <a:prstGeom prst="rect">
            <a:avLst/>
          </a:prstGeom>
          <a:ln w="0">
            <a:noFill/>
          </a:ln>
        </p:spPr>
      </p:pic>
      <p:sp>
        <p:nvSpPr>
          <p:cNvPr id="759" name="AutoShape 6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6470"/>
                </a:moveTo>
                <a:lnTo>
                  <a:pt x="17806" y="13476"/>
                </a:lnTo>
                <a:lnTo>
                  <a:pt x="3794" y="20483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4"/>
          <p:cNvSpPr txBox="1"/>
          <p:nvPr/>
        </p:nvSpPr>
        <p:spPr>
          <a:xfrm>
            <a:off x="2124000" y="1341360"/>
            <a:ext cx="4896000" cy="25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61" name="Picture 5" descr="little_orange_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573360"/>
            <a:ext cx="3744720" cy="2533680"/>
          </a:xfrm>
          <a:prstGeom prst="rect">
            <a:avLst/>
          </a:prstGeom>
          <a:ln w="0">
            <a:noFill/>
          </a:ln>
        </p:spPr>
      </p:pic>
      <p:sp>
        <p:nvSpPr>
          <p:cNvPr id="762" name="AutoShape 6"/>
          <p:cNvSpPr/>
          <p:nvPr/>
        </p:nvSpPr>
        <p:spPr>
          <a:xfrm>
            <a:off x="845964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5:51:36Z</dcterms:created>
  <dc:creator>1</dc:creator>
  <dc:description/>
  <dc:language>en-US</dc:language>
  <cp:lastModifiedBy>All</cp:lastModifiedBy>
  <dcterms:modified xsi:type="dcterms:W3CDTF">2011-01-14T17:15:39Z</dcterms:modified>
  <cp:revision>9</cp:revision>
  <dc:subject/>
  <dc:title>Напишите уравнение реакций, с помощью которых можно осуществить следующие переходы:</dc:title>
</cp:coreProperties>
</file>