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png" ContentType="image/png"/>
  <Override PartName="/ppt/media/image9.gif" ContentType="image/gif"/>
  <Override PartName="/ppt/media/J0214098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214-C218-41AF-BB90-7173E64A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243-0D15-428D-BC19-A3C88F6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E27-6077-4E9E-B251-6BD2C34C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7B8-52E4-447C-8C98-7C581367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B8DC-AD09-4A74-8CCC-58567FC8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2483-A6BF-4840-9C5D-FEA40B2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19EC-D8AA-46D3-84F0-60BE0EA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3E5B-7B5D-40A0-B01B-54A6E5D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B99B-E7E0-4884-94E3-AE8830B9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190-FAEC-48E2-8A56-F1802DE4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CCE9-EA95-4016-9E1B-7574F759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5D3-CF08-424C-A025-872E9FA1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40E6-CA76-412A-9B1A-578062A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047-23BA-436A-AF27-53A64F99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9BFD-314E-4653-9764-48B8346D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78BB-7B3F-43F3-BAD9-F2DF1547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4F4C-C777-49AB-A5BC-C9FDE8A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6834-C1E4-4173-9084-F43A8599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37DD-8A06-4ED4-9055-405E1DE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3BCF-44EE-450A-B8E7-04B87209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142E-6DD4-4446-93A2-C8F916E0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A596-8546-4D3E-9B4A-249F8D50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DE7-0B62-4BC1-869F-A8923C65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D96F6-0490-4400-B804-F0A83F1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ACE2-8B90-400A-A162-59D611A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5F5B-D052-4420-B0DB-BCB02571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5D17-45C8-4C8E-96B0-648F708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0258-090A-43A0-A67E-1E4CAC5B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1CF9-7EF9-4020-A8D7-6E1CCE08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4056-A5A8-45AD-AD91-E06645F3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BAAE-E2E9-4D5B-9927-D17778FE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6118-9E75-4DBB-B718-BB30D38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A020-10E4-4D14-B2BE-4672A87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E03-09AD-4755-93EF-7B7E82FA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8EBBB-8812-4EB1-8C0E-7FA5032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8758-DEC3-46EF-A0BE-568499ED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A4D7-CBB5-46D1-B002-92E4C05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7C3F-22E9-46D4-96F1-E38F495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F550-0624-4F87-8A09-41BC4968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07E8-4D9F-463C-AA08-A250900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76AC-C614-41C4-940A-728FEA12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5F99-E846-4773-804F-AE6DFBDE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10F9-1AB1-4556-9973-93250EE7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C7959-CA6C-49DD-A036-8A34795E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7A8-6BEB-4FA3-B556-0E1A50F7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A7FC-AF72-4D99-A0A7-EC774BC3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47B5-26F2-4FFF-BA13-4FC6F489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AA7F5-4699-4328-9D6B-BA0AE94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0D31-E772-428C-9629-8A23232E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F029-7907-4CF0-9153-ADDFD2A0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8B5A-79F6-4919-81CF-02921BF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23539-486F-4890-8071-11D16309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3F1C-1805-41D2-B07E-47E5A6C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059C-D162-425B-8D58-6EE4E46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4E950-213F-4ED1-A083-5FC7D129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19C-558F-418A-8337-A1560284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F570-5615-4F4C-9BE1-179D8AD2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AAD-3DA3-45A7-98AD-97E6F99D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C91-EB88-4B0F-B20D-2B616FD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C40-F847-403C-A393-C64F4C1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F98-BBFC-433B-AA56-2A291287A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4FC1-5203-474E-86E4-1203B8FDC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47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50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51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51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73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8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36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37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38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44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50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56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62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68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69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72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75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78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81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84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87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90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A290-CE22-49B2-8E51-F6D4AACC563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334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336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338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395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75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407" name="Line 76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77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78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79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80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81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82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83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84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85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86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87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88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89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90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0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1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EF08-6980-488E-8425-E735FEA19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465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466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467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476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477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486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Line 26"/>
                    <p:cNvSpPr/>
                    <p:nvPr/>
                  </p:nvSpPr>
                  <p:spPr>
                    <a:xfrm>
                      <a:off x="2037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Line 27"/>
                    <p:cNvSpPr/>
                    <p:nvPr/>
                  </p:nvSpPr>
                  <p:spPr>
                    <a:xfrm>
                      <a:off x="8380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Line 28"/>
                    <p:cNvSpPr/>
                    <p:nvPr/>
                  </p:nvSpPr>
                  <p:spPr>
                    <a:xfrm>
                      <a:off x="97092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Line 29"/>
                    <p:cNvSpPr/>
                    <p:nvPr/>
                  </p:nvSpPr>
                  <p:spPr>
                    <a:xfrm>
                      <a:off x="2237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495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Line 35"/>
                    <p:cNvSpPr/>
                    <p:nvPr/>
                  </p:nvSpPr>
                  <p:spPr>
                    <a:xfrm>
                      <a:off x="2037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Line 36"/>
                    <p:cNvSpPr/>
                    <p:nvPr/>
                  </p:nvSpPr>
                  <p:spPr>
                    <a:xfrm>
                      <a:off x="8380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Line 37"/>
                    <p:cNvSpPr/>
                    <p:nvPr/>
                  </p:nvSpPr>
                  <p:spPr>
                    <a:xfrm>
                      <a:off x="97092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Line 38"/>
                    <p:cNvSpPr/>
                    <p:nvPr/>
                  </p:nvSpPr>
                  <p:spPr>
                    <a:xfrm>
                      <a:off x="2237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504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Line 44"/>
                    <p:cNvSpPr/>
                    <p:nvPr/>
                  </p:nvSpPr>
                  <p:spPr>
                    <a:xfrm>
                      <a:off x="2037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Line 45"/>
                    <p:cNvSpPr/>
                    <p:nvPr/>
                  </p:nvSpPr>
                  <p:spPr>
                    <a:xfrm>
                      <a:off x="8380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46"/>
                    <p:cNvSpPr/>
                    <p:nvPr/>
                  </p:nvSpPr>
                  <p:spPr>
                    <a:xfrm>
                      <a:off x="97092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47"/>
                    <p:cNvSpPr/>
                    <p:nvPr/>
                  </p:nvSpPr>
                  <p:spPr>
                    <a:xfrm>
                      <a:off x="2237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2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513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514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519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2320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2453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66"/>
                    <p:cNvSpPr/>
                    <p:nvPr/>
                  </p:nvSpPr>
                  <p:spPr>
                    <a:xfrm>
                      <a:off x="371988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3519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73"/>
                    <p:cNvSpPr/>
                    <p:nvPr/>
                  </p:nvSpPr>
                  <p:spPr>
                    <a:xfrm>
                      <a:off x="2320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2453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1988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81"/>
                    <p:cNvSpPr/>
                    <p:nvPr/>
                  </p:nvSpPr>
                  <p:spPr>
                    <a:xfrm>
                      <a:off x="3519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82"/>
                    <p:cNvSpPr/>
                    <p:nvPr/>
                  </p:nvSpPr>
                  <p:spPr>
                    <a:xfrm>
                      <a:off x="2320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Line 83"/>
                    <p:cNvSpPr/>
                    <p:nvPr/>
                  </p:nvSpPr>
                  <p:spPr>
                    <a:xfrm>
                      <a:off x="2453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Line 84"/>
                    <p:cNvSpPr/>
                    <p:nvPr/>
                  </p:nvSpPr>
                  <p:spPr>
                    <a:xfrm>
                      <a:off x="371988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9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560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>
                      <a:off x="5002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>
                      <a:off x="38034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102"/>
                    <p:cNvSpPr/>
                    <p:nvPr/>
                  </p:nvSpPr>
                  <p:spPr>
                    <a:xfrm>
                      <a:off x="39362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103"/>
                    <p:cNvSpPr/>
                    <p:nvPr/>
                  </p:nvSpPr>
                  <p:spPr>
                    <a:xfrm>
                      <a:off x="520272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569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109"/>
                    <p:cNvSpPr/>
                    <p:nvPr/>
                  </p:nvSpPr>
                  <p:spPr>
                    <a:xfrm>
                      <a:off x="5002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110"/>
                    <p:cNvSpPr/>
                    <p:nvPr/>
                  </p:nvSpPr>
                  <p:spPr>
                    <a:xfrm>
                      <a:off x="38034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>
                      <a:off x="39362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>
                      <a:off x="520272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578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118"/>
                    <p:cNvSpPr/>
                    <p:nvPr/>
                  </p:nvSpPr>
                  <p:spPr>
                    <a:xfrm>
                      <a:off x="5002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119"/>
                    <p:cNvSpPr/>
                    <p:nvPr/>
                  </p:nvSpPr>
                  <p:spPr>
                    <a:xfrm>
                      <a:off x="38034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120"/>
                    <p:cNvSpPr/>
                    <p:nvPr/>
                  </p:nvSpPr>
                  <p:spPr>
                    <a:xfrm>
                      <a:off x="39362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Line 121"/>
                    <p:cNvSpPr/>
                    <p:nvPr/>
                  </p:nvSpPr>
                  <p:spPr>
                    <a:xfrm>
                      <a:off x="520272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6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587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588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6485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5286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541908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6685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6485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5286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48"/>
                    <p:cNvSpPr/>
                    <p:nvPr/>
                  </p:nvSpPr>
                  <p:spPr>
                    <a:xfrm>
                      <a:off x="541908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6685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55"/>
                    <p:cNvSpPr/>
                    <p:nvPr/>
                  </p:nvSpPr>
                  <p:spPr>
                    <a:xfrm>
                      <a:off x="6485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5286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541908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6685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3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624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625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634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>
                      <a:off x="79678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>
                      <a:off x="6768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>
                      <a:off x="6901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77"/>
                    <p:cNvSpPr/>
                    <p:nvPr/>
                  </p:nvSpPr>
                  <p:spPr>
                    <a:xfrm>
                      <a:off x="81680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643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>
                      <a:off x="79678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84"/>
                    <p:cNvSpPr/>
                    <p:nvPr/>
                  </p:nvSpPr>
                  <p:spPr>
                    <a:xfrm>
                      <a:off x="6768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85"/>
                    <p:cNvSpPr/>
                    <p:nvPr/>
                  </p:nvSpPr>
                  <p:spPr>
                    <a:xfrm>
                      <a:off x="6901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>
                      <a:off x="81680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652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92"/>
                    <p:cNvSpPr/>
                    <p:nvPr/>
                  </p:nvSpPr>
                  <p:spPr>
                    <a:xfrm>
                      <a:off x="79678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>
                      <a:off x="6768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>
                      <a:off x="6901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>
                      <a:off x="81680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60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661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673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679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680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683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686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689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692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695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698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701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703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2E91-4B94-4952-9AA3-8B135E3144B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0214098.WAV" TargetMode="External"/><Relationship Id="rId2" Type="http://schemas.openxmlformats.org/officeDocument/2006/relationships/image" Target="../media/image10.gif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уравнение реакций, с помощью которых можно осуществить следующие перехо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39280" y="234900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н    этиловый спирт    уксусный альдегид                     уксусная кислота      хлоруксусная кислота         аминоуксусная кислота          полипепт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1835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8"/>
          <p:cNvSpPr/>
          <p:nvPr/>
        </p:nvSpPr>
        <p:spPr>
          <a:xfrm>
            <a:off x="4067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"/>
          <p:cNvSpPr/>
          <p:nvPr/>
        </p:nvSpPr>
        <p:spPr>
          <a:xfrm>
            <a:off x="4859280" y="26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0"/>
          <p:cNvSpPr/>
          <p:nvPr/>
        </p:nvSpPr>
        <p:spPr>
          <a:xfrm>
            <a:off x="684360" y="2997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"/>
          <p:cNvSpPr/>
          <p:nvPr/>
        </p:nvSpPr>
        <p:spPr>
          <a:xfrm>
            <a:off x="406728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"/>
          <p:cNvSpPr/>
          <p:nvPr/>
        </p:nvSpPr>
        <p:spPr>
          <a:xfrm>
            <a:off x="529272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3"/>
          <p:cNvSpPr/>
          <p:nvPr/>
        </p:nvSpPr>
        <p:spPr>
          <a:xfrm>
            <a:off x="684360" y="3500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5" descr="1"/>
          <p:cNvPicPr/>
          <p:nvPr/>
        </p:nvPicPr>
        <p:blipFill>
          <a:blip r:embed="rId2"/>
          <a:stretch/>
        </p:blipFill>
        <p:spPr>
          <a:xfrm>
            <a:off x="826920" y="3933720"/>
            <a:ext cx="3745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5"/>
          <p:cNvSpPr/>
          <p:nvPr/>
        </p:nvSpPr>
        <p:spPr>
          <a:xfrm>
            <a:off x="539640" y="1916280"/>
            <a:ext cx="806472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оединения являются мономерами бел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2" action="ppaction://hlinksldjump"/>
              </a:rPr>
              <a:t>глюкоза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б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3" action="ppaction://hlinksldjump"/>
              </a:rPr>
              <a:t>) глицерин       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в) 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4" action="ppaction://hlinksldjump"/>
              </a:rPr>
              <a:t>аминокислоты 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 г) </a:t>
            </a:r>
            <a:r>
              <a:rPr b="0" lang="ru-RU" sz="1800" spc="-1" strike="noStrike" u="sng">
                <a:solidFill>
                  <a:srgbClr val="e5d093"/>
                </a:solidFill>
                <a:uFillTx/>
                <a:latin typeface="Arial"/>
                <a:hlinkClick r:id="rId5" action="ppaction://hlinksldjump"/>
              </a:rPr>
              <a:t>жирные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аминокислот образует все многообразие бел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26          б) 20        в) 40     г) 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связь между аминокислотами в молекуле белка первичной 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исульфидная    б) водородная    в) пептид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3132000" y="126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1619280" y="981000"/>
            <a:ext cx="496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верн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8" name="Picture 5" descr="food20"/>
          <p:cNvPicPr/>
          <p:nvPr/>
        </p:nvPicPr>
        <p:blipFill>
          <a:blip r:embed="rId1"/>
          <a:stretch/>
        </p:blipFill>
        <p:spPr>
          <a:xfrm>
            <a:off x="3564000" y="3429000"/>
            <a:ext cx="2736720" cy="2603520"/>
          </a:xfrm>
          <a:prstGeom prst="rect">
            <a:avLst/>
          </a:prstGeom>
          <a:ln w="0">
            <a:noFill/>
          </a:ln>
        </p:spPr>
      </p:pic>
      <p:sp>
        <p:nvSpPr>
          <p:cNvPr id="759" name="AutoShape 6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288720" cy="360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6470"/>
                </a:moveTo>
                <a:lnTo>
                  <a:pt x="17806" y="13476"/>
                </a:lnTo>
                <a:lnTo>
                  <a:pt x="3794" y="20483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4"/>
          <p:cNvSpPr txBox="1"/>
          <p:nvPr/>
        </p:nvSpPr>
        <p:spPr>
          <a:xfrm>
            <a:off x="2124000" y="1341360"/>
            <a:ext cx="4896000" cy="25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61" name="Picture 5" descr="little_orange_gu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3573360"/>
            <a:ext cx="3744720" cy="2533680"/>
          </a:xfrm>
          <a:prstGeom prst="rect">
            <a:avLst/>
          </a:prstGeom>
          <a:ln w="0">
            <a:noFill/>
          </a:ln>
        </p:spPr>
      </p:pic>
      <p:sp>
        <p:nvSpPr>
          <p:cNvPr id="762" name="AutoShape 6"/>
          <p:cNvSpPr/>
          <p:nvPr/>
        </p:nvSpPr>
        <p:spPr>
          <a:xfrm>
            <a:off x="845964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3794"/>
                </a:moveTo>
                <a:lnTo>
                  <a:pt x="17850" y="10800"/>
                </a:lnTo>
                <a:lnTo>
                  <a:pt x="3837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5:51:36Z</dcterms:created>
  <dc:creator>1</dc:creator>
  <dc:description/>
  <dc:language>en-US</dc:language>
  <cp:lastModifiedBy>All</cp:lastModifiedBy>
  <dcterms:modified xsi:type="dcterms:W3CDTF">2011-01-14T17:15:39Z</dcterms:modified>
  <cp:revision>9</cp:revision>
  <dc:subject/>
  <dc:title>Напишите уравнение реакций, с помощью которых можно осуществить следующие переходы:</dc:title>
</cp:coreProperties>
</file>