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35B-20E9-43C3-A18C-0D10A975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DBE-E8FF-4095-87A1-F9EC0BB2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603C2-068A-4F79-A5E1-C64C9D4B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225E0-E092-425C-8A47-EF435E4B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25B8E-AD1F-45C7-BF13-3CC466B0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CB3E1-5F16-49E9-B0B6-75DF3E76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F9267-357A-44C7-9444-A7F151F8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908BF-3900-4432-BCF6-8F5B377D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40725-6580-4766-9789-23933969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A88A1-F886-4A88-9CD8-95E6C4B7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CBB55-2DE2-4C80-9CE6-6A93BDD3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3A9C1-EC62-4425-9929-4DA8826D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E49-3963-4591-81D5-34E22D30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C3C5E-93FF-45A5-B161-EB82B5DC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3597C-5528-4C99-968A-5436426A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A56E7-5030-4204-AF8E-BDF77F21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C169C-811E-4DED-9658-3AF9BA9D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69747-D462-4E67-ADC2-5FF7581E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CECFE-714F-4CB3-965D-A35A1B99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A05F0-52BF-42EF-A229-0631318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E637F-1373-467D-B6B9-54E976C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17AC1-49A7-4355-93AB-885FC951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17376-043B-43B4-A751-B2578041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6CF-4C60-4F20-93C9-F5DF2391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C5E9B-A2F1-4870-A29F-19E3FFF4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7FBAA-FB1D-4B45-B877-1155DC83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7189A-D2DD-4E6F-ACF3-CF616D87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D6106-3A17-422A-A97F-D950BD74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93B83-6266-4899-AA1F-3C8A8D2C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5AEB4-E44F-4432-B3C0-6D3B358D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5176D-D362-4EF4-8ECF-62008747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171C7-0805-4DA5-BD23-335D6F31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EACC6-B729-42EF-9148-86D2805C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6AB02-7F8A-43D0-BB70-776114FD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DDE1-56F6-46B0-A686-C703BBC4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0F7EA-6044-41D9-BF53-2250A293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D907F-69A3-4A5A-95AD-641C544B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DDA38-5303-4E76-97A4-EA243BCB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A5656-E722-4A89-8665-DB5656F3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83384-7C29-487E-9FAE-4F723589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A35F7-2F0B-4C3E-A3D8-DDFCBC0A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53222-E5E5-457F-A7AF-244F7B30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64585-49A0-4F2F-B6E5-DDEC7AA8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6528D-D308-4F3E-AA0B-FDF542B1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1E192-4323-4D21-87D1-C17D6E07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E598-0F3A-4CF5-809E-C15C641B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C9ED1-FBB0-4167-8BBC-D5CFA682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49BAE-8EEB-49A4-9C2A-19FD263F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72B4C-4ED5-4953-B3C6-2FCEFCD8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9CAAE-B32C-467A-9E8B-907A2918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80AF0-5885-4D39-B9E7-66F28D9F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566A8-4B25-4FCB-9BA3-4E7A7F24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4B352-06F6-4F3F-8D21-71B7A281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DEE0E-77B1-4F4D-B35F-B7E0EADE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F548A-7DE0-4694-A3F5-F4107E01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38E38-D99F-46FD-A3BE-8CDC9864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88B4-A766-49DD-865A-BA551423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59B19-DDAB-4229-AC2D-FAAF7B71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F1246-972B-41D4-91EF-CAAE8784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59587-D5FE-4A03-BE56-B40C1921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DD95B-9E4F-4F23-B16D-3EA9B03F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00FA7-FB05-4947-91F4-E2A5E081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C52E6-3F55-4F2F-9E09-40550E7D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282D0-471E-4476-AC40-9FA890C5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2D2B-1CEB-4F94-A30D-A97C3003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B5FD-4037-46A4-A02A-AA6FFF8C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289F-9B6C-4484-8C59-B6F80427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F4B6-1880-4FAD-86E7-DDFC8A00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902-955D-45DC-ADF4-4E7BEBB2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0E18-B3BC-4F98-984F-0411E0B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5A6D-51A1-44A7-BFEE-81E81A59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3C56-1443-40B2-A921-1ADF1C3B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1FE4-03E0-4881-B0A2-DD8CC070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C51F-6D8F-4E5E-9EC7-59B6A64A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97D2-1DE7-452A-9DCD-FDFE8C3D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C72AF-B871-4707-9614-C38DABA0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7F16-40D7-4DA3-B4D8-9BC2BFF6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C0C3-1591-4551-99BE-BEA22F8D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5114-B651-4A12-B803-ED9A4454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F07-EC78-4886-AC59-C78E3722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EFA9-D7AF-4841-BFEC-2E249985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1FFA-227D-4072-9380-EA2F6F45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CBED3-DBF6-4EFB-B525-A3148714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0714-4117-4ABA-81EE-10E7EFDA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7A50-B493-4013-BB8C-2BC0CAB0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DDCC-2901-477F-B243-2D052163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69C4D-6892-4A7F-954D-E8806FA0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B721-3097-48D8-B14F-228BF4E0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26B05-0000-449F-8E80-C5CE5C1C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022B-514F-4E85-8A26-0B311C83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C4F-36D3-472E-8244-B93AD502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18E9-17EA-4676-9629-A4BE2050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02E3-05EF-4D36-9492-937F4EC1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5C36B-39BE-44A0-8DDB-BB3898C2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AA88-972F-4B9B-9400-76CA2856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BBA7-1915-4530-A486-DD70DD7C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F7521-8ABD-4629-82DD-A4CCEFCB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D911-E4D8-472A-8D32-21CE7FE4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3A70-D747-41F7-AB84-531A52EE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91D0-7771-4137-AFE3-C1EE1B75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A80BC-DC23-4B43-B300-2DDCDD96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B1E-E921-41E8-A544-BBE881A5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B07D7-2429-4FBC-8B01-9DA2C7F5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13C8C-8742-4261-BADF-A5D7D7CE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FD5A7-1ECC-4161-8F45-5608553A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27227-F8E0-4503-9B43-5DD64DEE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28E97-A25A-44B4-9112-3C9C4217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89888-D7DD-42B7-98B2-30E4485B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BE510-356A-4B65-88B5-64FAF3D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389A8-6F49-453A-A12E-9C2EF25C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25112-1E80-4C97-8B8D-4DB66178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7BAFF-9782-4389-8317-5AAB5984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F7D-A97C-4958-92BD-F5F14382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FDE10-2B85-480A-B816-AC73A183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E025D-9999-4B5C-AFF7-9A0AF4B4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5D6B2-D748-44FD-B73C-E82FF0BB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64478-3C16-4F22-9458-4FFBCB88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E2AD8-C78E-4F8B-860A-3B7B23AC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A8D24-3C9D-47E0-A1E3-AA96EDF6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CC800-AD90-47C6-9069-4950637B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6D29-8D19-4FB5-9C0D-88C603C2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F232-8BB7-4406-A4F9-C8ECC3AF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FC27-303B-4394-B824-62C1A23E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79D-C8FB-4418-91E6-F42A8FFC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DFD25-3505-4E18-BCAA-8A28FD92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C626A-A5F5-4FBF-B2F0-939E30C6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ED1BA-D9A3-4C6B-8A6D-EC11625D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07BA9-C1E9-4751-879A-F779C5DC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3AB44-1D5A-477E-8F99-A6AA486D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33828-C25A-451F-935D-0ED7DEF5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7A3B8-60E8-4BB8-A759-4579F807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E51CD-4EA6-4AF0-83CE-918D817D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4C9A8-9006-43F3-9E42-12768BD0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F1EB8-07CB-4246-9733-A00BAEF6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4F2-5FB2-4DE8-BAAF-CAE6CEC2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A0817-B1A4-4D7D-9586-067988C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B4804-4D41-44EA-A55A-97ADA9F7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14B16-517C-4250-8E0E-26830663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20E25-FA7E-4590-B8AF-ED9508E1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2011D-5E4D-48E1-AC10-1C3A02D1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D8328-6358-4401-9D53-0685475D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FD76D-A6AA-4C2E-BBEE-6BE87B2E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E9A94-B854-436C-9ED2-60897A18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DF954-A318-4D6B-A16D-E3132BC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DA302-3C12-47F6-A462-9AFC6A66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8AD-7623-417E-B20E-1BF39FB4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66CD2-8630-4F49-8E5D-C793DAE7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6B10E-1946-4666-8948-C2F4C0EC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8CAAF-74E8-4BE6-BEE3-A8BAE58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8A1AD-2E26-40F8-BFB0-14C6356D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AE7C9-3F1F-430A-8DB2-FC3EC28B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8D07B-B61F-46CE-9B24-E38BBD75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C48F4-7C00-46DC-A981-1A104E57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ADA7F-902E-4EA5-9B33-5C321151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8AB01-C39C-4C5F-A842-C68D3D44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09CD5-EC77-4E54-937C-4067BA5C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DBA0-2083-477B-BB2C-70FE7D4A85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4789-AEE1-4DFB-8989-24C25C6EFA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096-F556-4F92-A54A-44F7E1A836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FB51-5CF0-4741-B8A0-BC8715F95E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7394-5B24-434D-BC86-EB9B226C60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8C9C-1CFF-44E4-8146-8DD0C9CB15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2699-CA7C-4AB3-8800-1CE7D36E0E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AF2A-97B9-43A4-B495-3A5D4B3DCC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0428-5CA9-49F7-9AD3-D26962E9C9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88B3-DA25-4B5E-AAEB-7C3B1A0BEA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A9AA-50FE-4794-9F7E-1957E1A485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0CD5-3A6E-41AC-A3EF-504E680943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2949-75AA-4CD6-93D6-8CE7C8A464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Гидролиз – это обменное взаимодействие веществ с водой, приводящее к их разложению.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FFD0-2480-43A6-8635-E9728C1AB6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Прямоугольник 6"/>
          <p:cNvSpPr/>
          <p:nvPr/>
        </p:nvSpPr>
        <p:spPr>
          <a:xfrm>
            <a:off x="428760" y="2759040"/>
            <a:ext cx="642924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и – вещества, состоящие из катионов металлов и анионов кислотного оста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и – вещества, образованные основанием и кисло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433" name=""/>
          <p:cNvGraphicFramePr/>
          <p:nvPr/>
        </p:nvGraphicFramePr>
        <p:xfrm>
          <a:off x="500040" y="1857240"/>
          <a:ext cx="7858080" cy="4821480"/>
        </p:xfrm>
        <a:graphic>
          <a:graphicData uri="http://schemas.openxmlformats.org/drawingml/2006/table">
            <a:tbl>
              <a:tblPr/>
              <a:tblGrid>
                <a:gridCol w="5286240"/>
                <a:gridCol w="257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 выполнения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Определяем, каким основанием и какой кислотой образована со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абое осн.   Сильная к-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Выбираем слабый ион, т.к. гидролиз идёт по слабому ио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катио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ыбираем сильный ион, т.к. он определяет реакцию сред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ая кислот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а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Формулируем вывод: соль образована слабым основанием и сильной кислотой, гидролизуется по </a:t>
                      </a:r>
                      <a:r>
                        <a:rPr b="0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катиону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 образованием </a:t>
                      </a:r>
                      <a:r>
                        <a:rPr b="0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кислой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ре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4" name="Rectangle 49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Arial"/>
              </a:rPr>
              <a:t>Установление соответствия между составом со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Arial"/>
              </a:rPr>
              <a:t>реакцией среды её водного раств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Arial"/>
              </a:rPr>
              <a:t>и отношением к гидроли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5" name="Прямая со стрелкой 5"/>
          <p:cNvCxnSpPr/>
          <p:nvPr/>
        </p:nvCxnSpPr>
        <p:spPr>
          <a:xfrm flipH="1">
            <a:off x="6571800" y="2785680"/>
            <a:ext cx="215280" cy="214920"/>
          </a:xfrm>
          <a:prstGeom prst="straightConnector1">
            <a:avLst/>
          </a:prstGeom>
          <a:ln w="255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1436" name="Прямая со стрелкой 7"/>
          <p:cNvCxnSpPr/>
          <p:nvPr/>
        </p:nvCxnSpPr>
        <p:spPr>
          <a:xfrm>
            <a:off x="7356960" y="2857320"/>
            <a:ext cx="214920" cy="214920"/>
          </a:xfrm>
          <a:prstGeom prst="straightConnector1">
            <a:avLst/>
          </a:prstGeom>
          <a:ln w="255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1437" name="Стрелка вниз 20"/>
          <p:cNvSpPr/>
          <p:nvPr/>
        </p:nvSpPr>
        <p:spPr>
          <a:xfrm>
            <a:off x="6500880" y="450072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304B-EC78-42DD-A88C-2D92E75481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Закрепление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(«учимся говорить»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е тип соли, тип гидролиза, реакцию среды по алгоритму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бонат натр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оль образована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ильн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снованием 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лаб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ислотой,  гидролизуется п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нион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образованием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щелочно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f91d"/>
                </a:solidFill>
                <a:latin typeface="Arial"/>
              </a:rPr>
              <a:t>AlCl</a:t>
            </a:r>
            <a:r>
              <a:rPr b="1" lang="en-US" sz="2400" spc="-1" strike="noStrike" baseline="-25000">
                <a:solidFill>
                  <a:srgbClr val="f4f91d"/>
                </a:solidFill>
                <a:latin typeface="Arial"/>
              </a:rPr>
              <a:t>3</a:t>
            </a:r>
            <a:r>
              <a:rPr b="1" lang="ru-RU" sz="2400" spc="-1" strike="noStrike" baseline="-25000">
                <a:solidFill>
                  <a:srgbClr val="f4f91d"/>
                </a:solidFill>
                <a:latin typeface="Arial"/>
              </a:rPr>
              <a:t>  </a:t>
            </a:r>
            <a:r>
              <a:rPr b="1" lang="en-US" sz="2400" spc="-1" strike="noStrike" baseline="-25000">
                <a:solidFill>
                  <a:srgbClr val="f4f91d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f4f91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0ffff"/>
                </a:solidFill>
                <a:latin typeface="Arial"/>
              </a:rPr>
              <a:t>Fe</a:t>
            </a:r>
            <a:r>
              <a:rPr b="1" lang="en-US" sz="2400" spc="-1" strike="noStrike" baseline="-25000">
                <a:solidFill>
                  <a:srgbClr val="70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70ff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70ffff"/>
                </a:solidFill>
                <a:latin typeface="Arial"/>
              </a:rPr>
              <a:t>3</a:t>
            </a:r>
            <a:r>
              <a:rPr b="1" lang="ru-RU" sz="2400" spc="-1" strike="noStrike" baseline="-25000">
                <a:solidFill>
                  <a:srgbClr val="70ffff"/>
                </a:solidFill>
                <a:latin typeface="Arial"/>
              </a:rPr>
              <a:t>  </a:t>
            </a:r>
            <a:r>
              <a:rPr b="1" lang="en-US" sz="2400" spc="-1" strike="noStrike" baseline="-25000">
                <a:solidFill>
                  <a:srgbClr val="f4f91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4f91d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f4f91d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4f91d"/>
                </a:solidFill>
                <a:latin typeface="Arial"/>
              </a:rPr>
              <a:t>SO</a:t>
            </a:r>
            <a:r>
              <a:rPr b="1" lang="en-US" sz="1600" spc="-1" strike="noStrike">
                <a:solidFill>
                  <a:srgbClr val="f4f91d"/>
                </a:solidFill>
                <a:latin typeface="Arial"/>
              </a:rPr>
              <a:t>4   </a:t>
            </a:r>
            <a:r>
              <a:rPr b="1" lang="en-US" sz="2400" spc="-1" strike="noStrike">
                <a:solidFill>
                  <a:srgbClr val="29ffff"/>
                </a:solidFill>
                <a:latin typeface="Arial"/>
              </a:rPr>
              <a:t>FeBr</a:t>
            </a:r>
            <a:r>
              <a:rPr b="1" lang="ru-RU" sz="2400" spc="-1" strike="noStrike" baseline="-25000">
                <a:solidFill>
                  <a:srgbClr val="29ffff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29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f5216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29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29ffff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29ffff"/>
                </a:solidFill>
                <a:latin typeface="Arial"/>
              </a:rPr>
              <a:t>u(NO</a:t>
            </a:r>
            <a:r>
              <a:rPr b="1" lang="en-US" sz="1600" spc="-1" strike="noStrike">
                <a:solidFill>
                  <a:srgbClr val="29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29ffff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29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мни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п гидролиза определяем по слабому иону (катион или ани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ю среды устанавливаем по сильному иону (кислая, щелочная, нейтральная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WordArt 4"/>
          <p:cNvSpPr txBox="1"/>
          <p:nvPr/>
        </p:nvSpPr>
        <p:spPr>
          <a:xfrm>
            <a:off x="1692360" y="620640"/>
            <a:ext cx="54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4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59F8-3E83-4C1D-A425-CE181E08AE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дролиз в ЕГЭ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ния А-26 (ЕГЭ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слую среду имеет водный раств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n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7" name=""/>
          <p:cNvGraphicFramePr/>
          <p:nvPr/>
        </p:nvGraphicFramePr>
        <p:xfrm>
          <a:off x="4429080" y="2786040"/>
          <a:ext cx="4071960" cy="2373480"/>
        </p:xfrm>
        <a:graphic>
          <a:graphicData uri="http://schemas.openxmlformats.org/drawingml/2006/table">
            <a:tbl>
              <a:tblPr/>
              <a:tblGrid>
                <a:gridCol w="2038320"/>
                <a:gridCol w="2033640"/>
              </a:tblGrid>
              <a:tr h="68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ОРМУЛА С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858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РЕДА РАСТВО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А) 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NaNO</a:t>
                      </a:r>
                      <a:r>
                        <a:rPr b="0" lang="ru-RU" sz="20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Б) 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0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0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) 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NaNO</a:t>
                      </a:r>
                      <a:r>
                        <a:rPr b="0" lang="ru-RU" sz="20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Г) 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KC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) кис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2) щелоч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) нейтр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8" name=""/>
          <p:cNvGraphicFramePr/>
          <p:nvPr/>
        </p:nvGraphicFramePr>
        <p:xfrm>
          <a:off x="4572000" y="5357880"/>
          <a:ext cx="2162160" cy="455400"/>
        </p:xfrm>
        <a:graphic>
          <a:graphicData uri="http://schemas.openxmlformats.org/drawingml/2006/table">
            <a:tbl>
              <a:tblPr/>
              <a:tblGrid>
                <a:gridCol w="539640"/>
                <a:gridCol w="541440"/>
                <a:gridCol w="539640"/>
                <a:gridCol w="541440"/>
              </a:tblGrid>
              <a:tr h="22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9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Rectangle 33"/>
          <p:cNvSpPr/>
          <p:nvPr/>
        </p:nvSpPr>
        <p:spPr>
          <a:xfrm>
            <a:off x="4786200" y="1505160"/>
            <a:ext cx="4143600" cy="13136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Задания В-4 (ЕГЭ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-2011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Установите соответствие между составом соли  и реакцией среды её водного раств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FEFB-7506-4AB7-A201-FC10739D55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83" name="Схема 6" descr=""/>
          <p:cNvPicPr/>
          <p:nvPr/>
        </p:nvPicPr>
        <p:blipFill>
          <a:blip r:embed="rId1"/>
          <a:stretch/>
        </p:blipFill>
        <p:spPr>
          <a:xfrm>
            <a:off x="2779560" y="993600"/>
            <a:ext cx="3584880" cy="2724480"/>
          </a:xfrm>
          <a:prstGeom prst="rect">
            <a:avLst/>
          </a:prstGeom>
          <a:ln w="0">
            <a:noFill/>
          </a:ln>
        </p:spPr>
      </p:pic>
      <p:cxnSp>
        <p:nvCxnSpPr>
          <p:cNvPr id="1384" name="Прямая со стрелкой 11"/>
          <p:cNvCxnSpPr/>
          <p:nvPr/>
        </p:nvCxnSpPr>
        <p:spPr>
          <a:xfrm flipH="1">
            <a:off x="2214000" y="3427920"/>
            <a:ext cx="1143720" cy="78660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sp>
        <p:nvSpPr>
          <p:cNvPr id="1385" name="Скругленный прямоугольник 17"/>
          <p:cNvSpPr/>
          <p:nvPr/>
        </p:nvSpPr>
        <p:spPr>
          <a:xfrm>
            <a:off x="285840" y="4214880"/>
            <a:ext cx="26431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Скругленный прямоугольник 18"/>
          <p:cNvSpPr/>
          <p:nvPr/>
        </p:nvSpPr>
        <p:spPr>
          <a:xfrm>
            <a:off x="1143000" y="5572080"/>
            <a:ext cx="29145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Скругленный прямоугольник 19"/>
          <p:cNvSpPr/>
          <p:nvPr/>
        </p:nvSpPr>
        <p:spPr>
          <a:xfrm>
            <a:off x="6215040" y="421488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357120" y="42886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Сильные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Li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Na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K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Rb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Cs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Fr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Ca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Sr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Ba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+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Rectangle 8"/>
          <p:cNvSpPr/>
          <p:nvPr/>
        </p:nvSpPr>
        <p:spPr>
          <a:xfrm>
            <a:off x="6286680" y="4340520"/>
            <a:ext cx="28573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Сильные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Cl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,  Br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, I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, NO</a:t>
            </a:r>
            <a:r>
              <a:rPr b="1" lang="en-US" sz="14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3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, SO</a:t>
            </a:r>
            <a:r>
              <a:rPr b="1" lang="en-US" sz="14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4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–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, ClO</a:t>
            </a:r>
            <a:r>
              <a:rPr b="1" lang="en-US" sz="14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4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0" name="Прямая со стрелкой 24"/>
          <p:cNvCxnSpPr/>
          <p:nvPr/>
        </p:nvCxnSpPr>
        <p:spPr>
          <a:xfrm>
            <a:off x="5785920" y="3428640"/>
            <a:ext cx="1001160" cy="78660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sp>
        <p:nvSpPr>
          <p:cNvPr id="1391" name="Rectangle 9"/>
          <p:cNvSpPr/>
          <p:nvPr/>
        </p:nvSpPr>
        <p:spPr>
          <a:xfrm>
            <a:off x="1143000" y="5628240"/>
            <a:ext cx="28576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Calibri"/>
              </a:rPr>
              <a:t>Слабые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Calibri"/>
              </a:rPr>
              <a:t>Все остальные металлы  (ионы) и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NH</a:t>
            </a:r>
            <a:r>
              <a:rPr b="0" lang="ru-RU" sz="13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4</a:t>
            </a:r>
            <a:r>
              <a:rPr b="0" lang="ru-RU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Скругленный прямоугольник 29"/>
          <p:cNvSpPr/>
          <p:nvPr/>
        </p:nvSpPr>
        <p:spPr>
          <a:xfrm>
            <a:off x="5143680" y="5572080"/>
            <a:ext cx="321444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Rectangle 10"/>
          <p:cNvSpPr/>
          <p:nvPr/>
        </p:nvSpPr>
        <p:spPr>
          <a:xfrm>
            <a:off x="5143680" y="5769720"/>
            <a:ext cx="32144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Calibri"/>
              </a:rPr>
              <a:t>Слабые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F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S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CO</a:t>
            </a:r>
            <a:r>
              <a:rPr b="1" lang="en-US" sz="13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3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SO</a:t>
            </a:r>
            <a:r>
              <a:rPr b="1" lang="en-US" sz="13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3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PO</a:t>
            </a:r>
            <a:r>
              <a:rPr b="1" lang="en-US" sz="13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4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3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SiO</a:t>
            </a:r>
            <a:r>
              <a:rPr b="1" lang="en-US" sz="13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3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CN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-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4" name="Прямая со стрелкой 32"/>
          <p:cNvCxnSpPr/>
          <p:nvPr/>
        </p:nvCxnSpPr>
        <p:spPr>
          <a:xfrm flipH="1">
            <a:off x="2999880" y="3714480"/>
            <a:ext cx="858240" cy="178668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1395" name="Прямая со стрелкой 37"/>
          <p:cNvCxnSpPr/>
          <p:nvPr/>
        </p:nvCxnSpPr>
        <p:spPr>
          <a:xfrm>
            <a:off x="5213880" y="3714480"/>
            <a:ext cx="857880" cy="178668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sp>
        <p:nvSpPr>
          <p:cNvPr id="1396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C905-2021-4C06-BED3-1FEBEAF5F3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ипы солей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399" name=""/>
          <p:cNvGraphicFramePr/>
          <p:nvPr/>
        </p:nvGraphicFramePr>
        <p:xfrm>
          <a:off x="457200" y="1600200"/>
          <a:ext cx="8229600" cy="3828960"/>
        </p:xfrm>
        <a:graphic>
          <a:graphicData uri="http://schemas.openxmlformats.org/drawingml/2006/table">
            <a:tbl>
              <a:tblPr/>
              <a:tblGrid>
                <a:gridCol w="2743200"/>
                <a:gridCol w="2871720"/>
                <a:gridCol w="261468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ионы (–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ионы (+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Сильное основание</a:t>
                      </a: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Li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, Na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K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Rb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Cs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Fr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Ca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, Sr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, Ba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Слабое основание</a:t>
                      </a: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се остальные метал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Сильная кислота</a:t>
                      </a:r>
                      <a:r>
                        <a:rPr b="0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 Br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I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N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S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Cl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е гидролизую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Среда: </a:t>
                      </a: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кислая</a:t>
                      </a: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pH</a:t>
                      </a: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&lt;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Гидролиз </a:t>
                      </a: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по катио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Слабая кислота</a:t>
                      </a:r>
                      <a:r>
                        <a:rPr b="0" lang="en-US" sz="18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S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C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S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P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3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Si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CN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Среда: </a:t>
                      </a: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щелочная</a:t>
                      </a: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pH&gt;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Гидролиз </a:t>
                      </a: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по анио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Гидролизуются с образованием слабых кислот и основ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sp>
        <p:nvSpPr>
          <p:cNvPr id="1400" name="WordArt 10"/>
          <p:cNvSpPr txBox="1"/>
          <p:nvPr/>
        </p:nvSpPr>
        <p:spPr>
          <a:xfrm>
            <a:off x="1692360" y="620640"/>
            <a:ext cx="54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7F00-299B-43AA-A0A8-67E20A3781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зменение окраски индикаторов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 разных среда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периментальная задача: исследуйте реакцию среды растворов солей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C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результаты занесите в таблицу и на основании наблюдений сделайте вывод о типе соли, типе гидролиза (по какому иону) и образующейся сред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5" name=""/>
          <p:cNvGraphicFramePr/>
          <p:nvPr/>
        </p:nvGraphicFramePr>
        <p:xfrm>
          <a:off x="214200" y="1500120"/>
          <a:ext cx="8643960" cy="3384720"/>
        </p:xfrm>
        <a:graphic>
          <a:graphicData uri="http://schemas.openxmlformats.org/drawingml/2006/table">
            <a:tbl>
              <a:tblPr/>
              <a:tblGrid>
                <a:gridCol w="1295640"/>
                <a:gridCol w="1044360"/>
                <a:gridCol w="949320"/>
                <a:gridCol w="1470240"/>
                <a:gridCol w="1098360"/>
                <a:gridCol w="1490760"/>
                <a:gridCol w="129528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е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еакция сре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кати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ани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лакму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Метил-оран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Фенол-фтале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Кисло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547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f0139"/>
                          </a:solidFill>
                          <a:latin typeface="Calibri"/>
                          <a:ea typeface="Calibri"/>
                        </a:rPr>
                        <a:t>роз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3d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бесцв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Кисл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Н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жё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c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малин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1b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Щелоч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о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ранж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5e0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бесцв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ейтр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a</a:t>
                      </a:r>
                      <a:r>
                        <a:rPr b="1" lang="ru-RU" sz="18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  <p:sp>
        <p:nvSpPr>
          <p:cNvPr id="140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D2BE-B010-443E-8855-A86862A1DC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спериментальная задач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409" name=""/>
          <p:cNvGraphicFramePr/>
          <p:nvPr/>
        </p:nvGraphicFramePr>
        <p:xfrm>
          <a:off x="214200" y="1928880"/>
          <a:ext cx="8786880" cy="2889360"/>
        </p:xfrm>
        <a:graphic>
          <a:graphicData uri="http://schemas.openxmlformats.org/drawingml/2006/table">
            <a:tbl>
              <a:tblPr/>
              <a:tblGrid>
                <a:gridCol w="1295640"/>
                <a:gridCol w="1044360"/>
                <a:gridCol w="949320"/>
                <a:gridCol w="1470240"/>
                <a:gridCol w="1295280"/>
                <a:gridCol w="1293840"/>
                <a:gridCol w="1438200"/>
              </a:tblGrid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е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ати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ни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акму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тил-оран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енол-фтале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ыво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9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a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a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l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ранж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бесцве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ейтра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75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a</a:t>
                      </a:r>
                      <a:r>
                        <a:rPr b="1" lang="ru-RU" sz="18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a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о анио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жё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малин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Щелоч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Arial"/>
                          <a:ea typeface="Calibri"/>
                        </a:rPr>
                        <a:t>ОН</a:t>
                      </a:r>
                      <a:r>
                        <a:rPr b="1" lang="ru-RU" sz="1800" spc="-1" strike="noStrike" baseline="30000">
                          <a:solidFill>
                            <a:srgbClr val="008ae8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80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l</a:t>
                      </a:r>
                      <a:r>
                        <a:rPr b="1" lang="en-US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о катио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2060"/>
                          </a:solidFill>
                          <a:latin typeface="Arial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роз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бесцве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Кисл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Arial"/>
                          <a:ea typeface="Calibri"/>
                        </a:rPr>
                        <a:t>Н</a:t>
                      </a:r>
                      <a:r>
                        <a:rPr b="1" lang="ru-RU" sz="1800" spc="-1" strike="noStrike" baseline="30000">
                          <a:solidFill>
                            <a:srgbClr val="008ae8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sp>
        <p:nvSpPr>
          <p:cNvPr id="14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4424-4855-4DE3-8B83-C2C8DD642F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79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88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им образом образуются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растворах солей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оны </a:t>
            </a:r>
            <a:br>
              <a:rPr sz="4400"/>
            </a:br>
            <a:r>
              <a:rPr b="1" lang="ru-RU" sz="4400" spc="-1" strike="noStrike">
                <a:solidFill>
                  <a:srgbClr val="29ffff"/>
                </a:solidFill>
                <a:latin typeface="Arial"/>
              </a:rPr>
              <a:t>ОН</a:t>
            </a:r>
            <a:r>
              <a:rPr b="1" lang="ru-RU" sz="4400" spc="-1" strike="noStrike" baseline="30000">
                <a:solidFill>
                  <a:srgbClr val="29ffff"/>
                </a:solidFill>
                <a:latin typeface="Arial"/>
              </a:rPr>
              <a:t>-</a:t>
            </a:r>
            <a:r>
              <a:rPr b="1" lang="ru-RU" sz="4400" spc="-1" strike="noStrike">
                <a:solidFill>
                  <a:srgbClr val="29ffff"/>
                </a:solidFill>
                <a:latin typeface="Calibri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29ffff"/>
                </a:solidFill>
                <a:latin typeface="Calibri"/>
                <a:ea typeface="Calibri"/>
              </a:rPr>
              <a:t>и</a:t>
            </a: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29ffff"/>
                </a:solidFill>
                <a:latin typeface="Arial"/>
              </a:rPr>
              <a:t>Н</a:t>
            </a:r>
            <a:r>
              <a:rPr b="1" lang="ru-RU" sz="4400" spc="-1" strike="noStrike" baseline="30000">
                <a:solidFill>
                  <a:srgbClr val="29ffff"/>
                </a:solidFill>
                <a:latin typeface="Arial"/>
              </a:rPr>
              <a:t>+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70BA-857F-4D76-8092-2715053CC0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ление уравнения гидролиза </a:t>
            </a:r>
            <a:br>
              <a:rPr sz="44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ли, образованные сильным основанием и слабой кислотой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213840" y="2786040"/>
            <a:ext cx="4357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2800" spc="-1" strike="noStrike" u="sng">
                <a:solidFill>
                  <a:srgbClr val="29ffff"/>
                </a:solidFill>
                <a:uFillTx/>
                <a:latin typeface="Arial"/>
              </a:rPr>
              <a:t>CO</a:t>
            </a:r>
            <a:r>
              <a:rPr b="1" lang="ru-RU" sz="2800" spc="-1" strike="noStrike" u="sng" baseline="-25000">
                <a:solidFill>
                  <a:srgbClr val="29ffff"/>
                </a:solidFill>
                <a:uFillTx/>
                <a:latin typeface="Arial"/>
              </a:rPr>
              <a:t>3</a:t>
            </a:r>
            <a:r>
              <a:rPr b="1" lang="ru-RU" sz="2800" spc="-1" strike="noStrike" baseline="30000">
                <a:solidFill>
                  <a:srgbClr val="29ffff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 u="sng">
                <a:solidFill>
                  <a:srgbClr val="29ffff"/>
                </a:solidFill>
                <a:uFillTx/>
                <a:latin typeface="Arial"/>
              </a:rPr>
              <a:t>H</a:t>
            </a:r>
            <a:r>
              <a:rPr b="1" lang="ru-RU" sz="2800" spc="-1" strike="noStrike" u="sng" baseline="30000">
                <a:solidFill>
                  <a:srgbClr val="29ffff"/>
                </a:solidFill>
                <a:uFillTx/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29ffff"/>
                </a:solidFill>
                <a:latin typeface="Arial"/>
              </a:rPr>
              <a:t>по ани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4648320" y="2786040"/>
            <a:ext cx="40384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N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идрокарбон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т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ffff"/>
                </a:solidFill>
                <a:latin typeface="Arial"/>
              </a:rPr>
              <a:t>HCO</a:t>
            </a:r>
            <a:r>
              <a:rPr b="0" lang="ru-RU" sz="2800" spc="-1" strike="noStrike" baseline="-25000">
                <a:solidFill>
                  <a:srgbClr val="29ffff"/>
                </a:solidFill>
                <a:latin typeface="Arial"/>
              </a:rPr>
              <a:t>3</a:t>
            </a:r>
            <a:r>
              <a:rPr b="0" lang="ru-RU" sz="2800" spc="-1" strike="noStrike" baseline="30000">
                <a:solidFill>
                  <a:srgbClr val="29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H</a:t>
            </a:r>
            <a:r>
              <a:rPr b="1" lang="ru-RU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щелочная сре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EB9D-1BEF-43CD-904A-1C27962614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ление уравнения гидролиза </a:t>
            </a:r>
            <a:br>
              <a:rPr sz="44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ли, образованные слабым основанием и сильной кислотой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457200" y="2500200"/>
            <a:ext cx="403848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ffff"/>
                </a:solidFill>
                <a:uFillTx/>
                <a:latin typeface="Arial"/>
              </a:rPr>
              <a:t>Mg</a:t>
            </a:r>
            <a:r>
              <a:rPr b="1" lang="ru-RU" sz="2800" spc="-1" strike="noStrike" baseline="30000">
                <a:solidFill>
                  <a:srgbClr val="29ffff"/>
                </a:solidFill>
                <a:latin typeface="Arial"/>
              </a:rPr>
              <a:t>2+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 u="sng">
                <a:solidFill>
                  <a:srgbClr val="29ffff"/>
                </a:solidFill>
                <a:uFillTx/>
                <a:latin typeface="Arial"/>
              </a:rPr>
              <a:t>OH</a:t>
            </a:r>
            <a:r>
              <a:rPr b="1" lang="ru-RU" sz="2800" spc="-1" strike="noStrike" u="sng" baseline="30000">
                <a:solidFill>
                  <a:srgbClr val="29ffff"/>
                </a:solidFill>
                <a:uFillTx/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9ffff"/>
                </a:solidFill>
                <a:latin typeface="Arial"/>
              </a:rPr>
              <a:t>по кат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4648320" y="2428920"/>
            <a:ext cx="40384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OHC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идроксохлори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г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ffff"/>
                </a:solidFill>
                <a:latin typeface="Arial"/>
              </a:rPr>
              <a:t>MgOH</a:t>
            </a:r>
            <a:r>
              <a:rPr b="0" lang="ru-RU" sz="2800" spc="-1" strike="noStrike" baseline="30000">
                <a:solidFill>
                  <a:srgbClr val="29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1" lang="en-US" sz="2800" spc="-1" strike="noStrike">
                <a:solidFill>
                  <a:srgbClr val="e51bbf"/>
                </a:solidFill>
                <a:latin typeface="Arial"/>
              </a:rPr>
              <a:t>H</a:t>
            </a:r>
            <a:r>
              <a:rPr b="1" lang="ru-RU" sz="2800" spc="-1" strike="noStrike" baseline="30000">
                <a:solidFill>
                  <a:srgbClr val="e51bb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f3db4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ef3db4"/>
                </a:solidFill>
                <a:latin typeface="Arial"/>
              </a:rPr>
              <a:t>(кисл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B1FD-2A7C-46C6-A130-09B45A0620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ление уравнения гидролиза </a:t>
            </a:r>
            <a:br>
              <a:rPr sz="44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ли, образованные слабым основанием и слабой кислотой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457200" y="299988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4f91d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f4f91d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4f91d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f4f91d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4648320" y="2999880"/>
            <a:ext cx="4038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Al(OH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28" name="Прямая со стрелкой 5"/>
          <p:cNvCxnSpPr/>
          <p:nvPr/>
        </p:nvCxnSpPr>
        <p:spPr>
          <a:xfrm flipH="1" flipV="1">
            <a:off x="7643520" y="3071160"/>
            <a:ext cx="15120" cy="300600"/>
          </a:xfrm>
          <a:prstGeom prst="straightConnector1">
            <a:avLst/>
          </a:prstGeom>
          <a:ln w="255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1429" name="Прямоугольник 10"/>
          <p:cNvSpPr/>
          <p:nvPr/>
        </p:nvSpPr>
        <p:spPr>
          <a:xfrm>
            <a:off x="1643040" y="4357800"/>
            <a:ext cx="60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еакцию с водой вступает и катион, и анион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Гидролиз идёт по катиону и ан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4FA0-BB56-4861-8BE0-0DC2E83352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3:56:32Z</dcterms:created>
  <dc:creator>Марченко Елена Павловна</dc:creator>
  <dc:description/>
  <dc:language>en-US</dc:language>
  <cp:lastModifiedBy>Admin</cp:lastModifiedBy>
  <dcterms:modified xsi:type="dcterms:W3CDTF">2011-12-07T21:07:24Z</dcterms:modified>
  <cp:revision>99</cp:revision>
  <dc:subject/>
  <dc:title>Слайд 1</dc:title>
</cp:coreProperties>
</file>