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F1B-CA59-4208-A757-2E8F5270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5DD-26B3-47DD-A0B4-E5758CE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48191-D128-4980-8614-58FD6984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B1A0-E5D6-45CE-8A04-B5C3383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FF28-367C-4C14-A4D3-CDB775A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32D37-9CD9-447C-902B-194DA71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9C884-CFB7-4CE4-800F-05F58131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2ED4E-640B-4A1A-9839-024B4ED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6DC6-75AF-472D-8EB1-37170DEA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19E62-ABEB-4C4C-B639-C4C971AB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83F71-AB73-4730-B23E-25CE8779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5D72B-A32E-43CE-8F19-16D5FEE6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D3A-77D4-4E85-B017-19AB10BB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887F5-ACE6-4115-9D39-418C2C50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F9568-BD15-4B1B-B1FC-B401646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CAF1-6446-4085-A60E-CB23261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C0518-1BC2-4024-B2B8-1AC54CAE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D60C5-637C-41A9-8AC0-6E11DB73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81146-5FA0-4110-A3CE-43DA47D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66863-A075-409D-A95E-5910CB7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1A3F5-45DB-453C-A423-5DD02AD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D4B7C-0DA7-4146-9129-3AC8DE0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2247-9743-4FCE-A815-90D0020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A17-BD2F-4074-91F2-E6D7AE16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F84D0-E82B-47A9-9AE8-3A9C1D28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8DCD6-6DB7-4AFB-B6F7-0BFDCFB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4B215-5B96-4AAF-9EDA-5FFA816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95061-B74E-400D-9181-5EF6517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1587A-487D-48CE-9FC8-674B69C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C508C-9FAB-43B5-A201-B7F5756B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315A-09BB-44C5-99A8-020DFDCB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DAD48-C776-4B76-B2A6-27765F1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5966E-73CB-47E9-98A1-356573B5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D7A2C-CEFA-412D-B209-9FD062C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362E-07A1-4C21-9DD9-8A829B24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708B-1088-49EC-B645-D50FEDE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B0A90-3FD9-4458-B1CD-089FB5CA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8817A-AF0F-4826-BAB1-6A640B18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19D0A-853B-4649-918D-09CCC907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60AF8-A268-4B64-AEC5-4DB81B02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047C5-974E-4293-A370-F652232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96129-694C-4DF2-9C07-32F6C2A5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A83A5-569E-462E-BE15-74232842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C358F-BE4F-4C3A-A5C6-175909E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7262E-B3F0-41FF-B204-1B94275C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4D58-5DCC-4D87-8E1C-9B19C55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5A35-F98A-4F9C-B03A-78535E9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1DC69-A1C9-46D0-810E-F27910F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10276-559E-4508-918C-182AA945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F0400-76B4-49CC-B83D-17B68ECD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7547B-10C5-4922-97F5-79CA5A88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267FB-69FE-4B35-8C1E-D544BD38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1DC1B-66D2-434E-9964-E771E3B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F0BA2-C356-40FB-BAE9-5BD56D8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100B3-E25C-4B14-91C1-F0F29AA9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423CD-C2D9-454B-B7C4-4A1DC581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0EF-E975-408D-A672-80AF3CCC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0240E-837D-4A18-BAE0-C61073E8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7026F-6067-4D55-A840-B0518668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BEFF6-D41B-4530-AB04-05C29761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2DD5B-66AF-4860-9C82-DC4F7C8F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E373E-7989-4667-A870-F6B70452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F596C-A6C2-4190-BEB6-64FB9820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E40F0-6BF4-44F5-B423-CFC711A8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FB6B-EDE9-4A6E-A2CD-5EAAF3C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8F09-8F5B-45EB-A991-3268022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508F-EDC7-42D5-B651-693E1CDB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8E9-DD59-41AE-988A-AE32948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8BE-37C1-4492-9488-C5BCB7E6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ABCC-1819-4C14-B74D-85832D7C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CD6-28E8-4037-B190-06C1229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AF21-7227-4CDB-8B0C-637DFD1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0D9C-53FE-4D2B-B3CD-F89215B7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3063-E60B-4D95-B3A5-0AFDFB39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F601-40C6-4984-B0FD-E48BCD5F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9831-408E-40F5-A143-610D3E29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B722-D530-406D-8E23-81589A50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DADD-B29C-4A53-8EAB-ECDCF8AA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825E-AC6C-46D1-B054-BFA9FBF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09C-800E-48F0-A77C-7202EA9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5F38-4F21-4973-9AD6-C40B7AEC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B98A-18EB-4AC4-97B0-24B859C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EAE5-A37A-4532-A9EC-92445D21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5ABD-3F32-43C2-BCBF-F254C9B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9C58-0D52-4561-A779-27E48F5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2225-4CD2-4D2E-B957-0667BFE2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2E39-1CD3-419F-951D-019D51F3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DB1D-FCDB-49D9-A02F-51E66DDD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2BCA-B8A9-4A41-A9FF-5B2F0348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F8AB-7760-46BB-A6D3-4777D52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E12-2298-4A80-86B8-14F515B3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8651-5BA2-4110-AAC7-C2D0473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0636-4886-4FEF-9A60-55FA261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078F-3EF5-4FC6-8B04-74F014E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792E6-6BFB-41D4-8E92-7442DE8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2E7D-5811-4EEE-892F-614AB56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2F173-AC13-4745-ADBF-D89B3D5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E08E-5784-4F1B-9D37-AED14D1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0992-F7C1-474D-845D-7575C8D5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20EC-9084-4666-A380-527915B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2489-B7E0-4359-8164-F2B72183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065-4935-444B-B8F4-FABA4A2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DF31-5FC1-487D-90B4-268A3D1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0F51F-12F7-4D29-83CA-2FDA7AE6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CC7C-5FF2-47B2-9ACB-EAD4A5D0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4B92-0AAF-4A4B-940B-CC0CAB8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7868-1846-41C5-81DC-3BA9267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86D1-18FA-452F-A3D7-0ED3B5A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14E8-4788-405C-BB86-52B5CDC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A41E-9412-40E5-A5F3-DEEEBA9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E5A22-6C43-47C8-84A5-7C1CF59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0F2C-1038-4B7B-A420-1C73AC4B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E65-5D65-411D-8B45-E633DA6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D13B-C26B-4D64-8C2F-9610C6A3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FBEAA-7958-4594-8C99-FDD7A28C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3350-B054-4A92-901B-FB62BEE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65772-F92C-4A9F-93B4-A57571A9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4C2CF-9BD7-4439-BB3A-D573E90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9881-0A21-4B62-9E89-9F1A5A3F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038A7-6839-457A-9F65-051B27EB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5D7B-D4CC-45B3-A0A2-60E3E58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32F4-5829-472A-A3BD-A5064DB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B973F-241D-42D8-AD0E-B075B0C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EF2-37F2-4535-ACA5-B4A1EF3C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C3BC-B2E6-40C5-B432-6EBF4E3C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6EFF-D448-48A1-87AA-E163F3E6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0CED-E958-4DAB-B527-ADD9029C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2066-04C9-4174-A3D8-2FF70872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C0D31-93B9-4A28-A151-69DA29D4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E86C-68BD-4133-B2BF-F60D7CB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AA3F-BF74-4C04-AA1E-FB524F8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59DA-EC2A-4C5B-ADB2-9631C144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8057-27D6-4419-977F-788015A1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2A379-A6EC-4BD5-BC9B-17E65B2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74D-3417-4A8C-80C1-177D4B1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64B8-B556-424D-A38B-878512A5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20F4-7EB6-4682-925B-0A9B129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2B66B-1CDE-45FF-98F4-17590D03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3913A-AD10-44CE-B07E-B5BB25DF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7045C-6DB8-4F39-87FA-E813F432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6208-997B-4F55-9F04-611AD063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52979-E5FD-47CE-BD10-69E4361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A260-3441-4367-9605-29A88929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7B6B-FF4A-4FE5-AA9E-036770A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BECA-D451-4893-82C7-564251FC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700-6306-41B3-BA84-DE15B35D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41EE3-3DB1-4B76-B812-5FC4248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1916-A30B-46D7-8218-C6D3AD7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DB191-4E12-42D0-9025-F7124B6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F328-C467-4EF4-A10D-C5011A86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13C39-7332-4A2E-A78B-C427CCF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0E320-0BFD-4C92-BBDD-93EBA754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BAC2D-B026-48C4-9021-73501CEB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33C6-5A71-4E20-BA8D-09282DE7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5C10-E9B4-4302-A295-BE18D0DF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5B94F-53F3-4549-AFE6-0FC6C1C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B06-D44A-4DAC-8174-E7FBBC49B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15C-0310-462C-A3EA-3E4ED23A18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7239-B2FB-4FDE-82DF-E6FD04041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EE01-E7A9-4C8C-BFBA-D760792270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1F7-3EC0-4988-BD24-0EA8A9C42A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E00-E47B-495B-8358-60BF6A7307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325-E61B-4D82-82AB-08B058A0E1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CAF7-B8D7-437A-8E72-865D753F5F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366F-EED9-4826-89C8-62CFCC6F65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C72-CBE9-47B1-B3DE-3D46D12395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E8B8-0233-4DB1-93F2-BDBDAEF23B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8EC-1D33-4E04-9A9B-CB3DB10C9D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рченко Е.П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3B39-B7D1-4126-9157-27C4AB72E2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57120" y="114264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идролиз – это обменное взаимодействие веществ с водой, приводящее к их разложению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777-8EFD-4031-8D75-6424FDCA71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Прямоугольник 6"/>
          <p:cNvSpPr/>
          <p:nvPr/>
        </p:nvSpPr>
        <p:spPr>
          <a:xfrm>
            <a:off x="428760" y="2759040"/>
            <a:ext cx="642924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и – вещества, состоящие из катионов металлов и анионов кислотного оста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и – вещества, образованные основанием и кисло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500040" y="1857240"/>
          <a:ext cx="7858080" cy="4821480"/>
        </p:xfrm>
        <a:graphic>
          <a:graphicData uri="http://schemas.openxmlformats.org/drawingml/2006/table">
            <a:tbl>
              <a:tblPr/>
              <a:tblGrid>
                <a:gridCol w="5286240"/>
                <a:gridCol w="257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 выполнения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Определяем, каким основанием и какой кислотой образована с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абое осн.   Сильная к-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бираем слабый ион, т.к. гидролиз идёт по слабому ио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катион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ыбираем сильный ион, т.к. он определяет реакцию сре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ая кислот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Формулируем вывод: соль образована слабым основанием и сильной кислотой, гидролизуется по </a:t>
                      </a:r>
                      <a:r>
                        <a:rPr b="0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атиону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 образованием </a:t>
                      </a:r>
                      <a:r>
                        <a:rPr b="0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ислой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ре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4" name="Rectangle 49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Установление соответствия между составом со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реакцией среды её водного раств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и отношением к гидроли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5" name="Прямая со стрелкой 5"/>
          <p:cNvCxnSpPr/>
          <p:nvPr/>
        </p:nvCxnSpPr>
        <p:spPr>
          <a:xfrm flipH="1">
            <a:off x="6571800" y="2785680"/>
            <a:ext cx="215280" cy="21492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1436" name="Прямая со стрелкой 7"/>
          <p:cNvCxnSpPr/>
          <p:nvPr/>
        </p:nvCxnSpPr>
        <p:spPr>
          <a:xfrm>
            <a:off x="7356960" y="2857320"/>
            <a:ext cx="214920" cy="21492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437" name="Стрелка вниз 20"/>
          <p:cNvSpPr/>
          <p:nvPr/>
        </p:nvSpPr>
        <p:spPr>
          <a:xfrm>
            <a:off x="6500880" y="450072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F0BC-EB2B-495B-8181-F6643D6FA3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Закрепление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(«учимся говорить»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тип соли, тип гидролиза, реакцию среды по алгоритму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бонат на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ль образована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ильн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снованием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аб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ислотой,  гидролизуется п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ион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образованием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щелочн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AlCl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f4f91d"/>
                </a:solidFill>
                <a:latin typeface="Arial"/>
              </a:rPr>
              <a:t>  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0ffff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70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70ffff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70ffff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70ffff"/>
                </a:solidFill>
                <a:latin typeface="Arial"/>
              </a:rPr>
              <a:t>  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f4f91d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4f91d"/>
                </a:solidFill>
                <a:latin typeface="Arial"/>
              </a:rPr>
              <a:t>SO</a:t>
            </a:r>
            <a:r>
              <a:rPr b="1" lang="en-US" sz="1600" spc="-1" strike="noStrike">
                <a:solidFill>
                  <a:srgbClr val="f4f91d"/>
                </a:solidFill>
                <a:latin typeface="Arial"/>
              </a:rPr>
              <a:t>4   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FeBr</a:t>
            </a:r>
            <a:r>
              <a:rPr b="1" lang="ru-RU" sz="2400" spc="-1" strike="noStrike" baseline="-25000">
                <a:solidFill>
                  <a:srgbClr val="29ffff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29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f5216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9ffff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u(NO</a:t>
            </a:r>
            <a:r>
              <a:rPr b="1" lang="en-US" sz="1600" spc="-1" strike="noStrike">
                <a:solidFill>
                  <a:srgbClr val="29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29ffff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29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мни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п гидролиза определяем по слабому иону (катион или ани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ю среды устанавливаем по сильному иону (кислая, щелочная, нейтральная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WordArt 4"/>
          <p:cNvSpPr txBox="1"/>
          <p:nvPr/>
        </p:nvSpPr>
        <p:spPr>
          <a:xfrm>
            <a:off x="1692360" y="620640"/>
            <a:ext cx="54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4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77EC-305F-41BB-B069-6D9B0CEE63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дролиз в ЕГ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А-26 (ЕГЭ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слую среду имеет водный раств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4429080" y="2786040"/>
          <a:ext cx="4071960" cy="2373480"/>
        </p:xfrm>
        <a:graphic>
          <a:graphicData uri="http://schemas.openxmlformats.org/drawingml/2006/table">
            <a:tbl>
              <a:tblPr/>
              <a:tblGrid>
                <a:gridCol w="2038320"/>
                <a:gridCol w="2033640"/>
              </a:tblGrid>
              <a:tr h="68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ОРМУЛА С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58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РЕДА РАСТВ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6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А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aNO</a:t>
                      </a:r>
                      <a:r>
                        <a:rPr b="0" lang="ru-RU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Б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aNO</a:t>
                      </a:r>
                      <a:r>
                        <a:rPr b="0" lang="ru-RU" sz="20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Г) 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KC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) кис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) щел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) ней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4572000" y="5357880"/>
          <a:ext cx="2162160" cy="455400"/>
        </p:xfrm>
        <a:graphic>
          <a:graphicData uri="http://schemas.openxmlformats.org/drawingml/2006/table">
            <a:tbl>
              <a:tblPr/>
              <a:tblGrid>
                <a:gridCol w="539640"/>
                <a:gridCol w="541440"/>
                <a:gridCol w="539640"/>
                <a:gridCol w="541440"/>
              </a:tblGrid>
              <a:tr h="22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9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33"/>
          <p:cNvSpPr/>
          <p:nvPr/>
        </p:nvSpPr>
        <p:spPr>
          <a:xfrm>
            <a:off x="4786200" y="1505160"/>
            <a:ext cx="4143600" cy="131364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дания В-4 (ЕГЭ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-2011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Установите соответствие между составом соли  и реакцией среды её водного раст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5CD-0CE8-499B-B2BF-7A39229232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83" name="Схема 6" descr=""/>
          <p:cNvPicPr/>
          <p:nvPr/>
        </p:nvPicPr>
        <p:blipFill>
          <a:blip r:embed="rId1"/>
          <a:stretch/>
        </p:blipFill>
        <p:spPr>
          <a:xfrm>
            <a:off x="2779560" y="993600"/>
            <a:ext cx="3584880" cy="2724480"/>
          </a:xfrm>
          <a:prstGeom prst="rect">
            <a:avLst/>
          </a:prstGeom>
          <a:ln w="0">
            <a:noFill/>
          </a:ln>
        </p:spPr>
      </p:pic>
      <p:cxnSp>
        <p:nvCxnSpPr>
          <p:cNvPr id="1384" name="Прямая со стрелкой 11"/>
          <p:cNvCxnSpPr/>
          <p:nvPr/>
        </p:nvCxnSpPr>
        <p:spPr>
          <a:xfrm flipH="1">
            <a:off x="2214000" y="3427920"/>
            <a:ext cx="1143720" cy="78660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85" name="Скругленный прямоугольник 17"/>
          <p:cNvSpPr/>
          <p:nvPr/>
        </p:nvSpPr>
        <p:spPr>
          <a:xfrm>
            <a:off x="285840" y="4214880"/>
            <a:ext cx="26431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Скругленный прямоугольник 18"/>
          <p:cNvSpPr/>
          <p:nvPr/>
        </p:nvSpPr>
        <p:spPr>
          <a:xfrm>
            <a:off x="1143000" y="5572080"/>
            <a:ext cx="29145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Скругленный прямоугольник 19"/>
          <p:cNvSpPr/>
          <p:nvPr/>
        </p:nvSpPr>
        <p:spPr>
          <a:xfrm>
            <a:off x="6215040" y="421488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357120" y="42886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Сильны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Li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N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K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Rb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Cs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F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C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S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 , Ba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+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6286680" y="4340520"/>
            <a:ext cx="28573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Сильны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Cl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 Br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I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N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S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, ClO</a:t>
            </a:r>
            <a:r>
              <a:rPr b="1" lang="en-US" sz="14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0" name="Прямая со стрелкой 24"/>
          <p:cNvCxnSpPr/>
          <p:nvPr/>
        </p:nvCxnSpPr>
        <p:spPr>
          <a:xfrm>
            <a:off x="5785920" y="3428640"/>
            <a:ext cx="1001160" cy="78660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91" name="Rectangle 9"/>
          <p:cNvSpPr/>
          <p:nvPr/>
        </p:nvSpPr>
        <p:spPr>
          <a:xfrm>
            <a:off x="1143000" y="5628240"/>
            <a:ext cx="2857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Слабые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Все остальные металлы  (ионы) и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NH</a:t>
            </a:r>
            <a:r>
              <a:rPr b="0" lang="ru-RU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0" lang="ru-RU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+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Скругленный прямоугольник 29"/>
          <p:cNvSpPr/>
          <p:nvPr/>
        </p:nvSpPr>
        <p:spPr>
          <a:xfrm>
            <a:off x="5143680" y="5572080"/>
            <a:ext cx="321444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0"/>
          <p:cNvSpPr/>
          <p:nvPr/>
        </p:nvSpPr>
        <p:spPr>
          <a:xfrm>
            <a:off x="5143680" y="5769720"/>
            <a:ext cx="3214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  <a:ea typeface="Calibri"/>
              </a:rPr>
              <a:t>Слабые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F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C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P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4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3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SiO</a:t>
            </a:r>
            <a:r>
              <a:rPr b="1" lang="en-US" sz="1300" spc="-1" strike="noStrike" baseline="-30000">
                <a:solidFill>
                  <a:srgbClr val="ffffff"/>
                </a:solidFill>
                <a:latin typeface="Arial"/>
                <a:ea typeface="Calibri"/>
              </a:rPr>
              <a:t>3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2–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"/>
              </a:rPr>
              <a:t>, CN</a:t>
            </a:r>
            <a:r>
              <a:rPr b="1" lang="en-US" sz="13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-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4" name="Прямая со стрелкой 32"/>
          <p:cNvCxnSpPr/>
          <p:nvPr/>
        </p:nvCxnSpPr>
        <p:spPr>
          <a:xfrm flipH="1">
            <a:off x="2999880" y="3714480"/>
            <a:ext cx="858240" cy="17866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1395" name="Прямая со стрелкой 37"/>
          <p:cNvCxnSpPr/>
          <p:nvPr/>
        </p:nvCxnSpPr>
        <p:spPr>
          <a:xfrm>
            <a:off x="5213880" y="3714480"/>
            <a:ext cx="857880" cy="178668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arrow" w="med"/>
          </a:ln>
        </p:spPr>
      </p:cxnSp>
      <p:sp>
        <p:nvSpPr>
          <p:cNvPr id="1396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1EE-C48A-426D-8527-737C9104F8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ипы солей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457200" y="1600200"/>
          <a:ext cx="8229600" cy="3828960"/>
        </p:xfrm>
        <a:graphic>
          <a:graphicData uri="http://schemas.openxmlformats.org/drawingml/2006/table">
            <a:tbl>
              <a:tblPr/>
              <a:tblGrid>
                <a:gridCol w="2743200"/>
                <a:gridCol w="2871720"/>
                <a:gridCol w="261468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ионы (–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ионы (+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ильное основание</a:t>
                      </a: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Li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N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K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Rb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s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F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S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, Ba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лабое основание</a:t>
                      </a: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се остальные метал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ильная кислота</a:t>
                      </a:r>
                      <a:r>
                        <a:rPr b="0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 Br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I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N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l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 гидролизую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Среда: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pH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&lt;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Гидролиз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по кати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Слабая кислота</a:t>
                      </a:r>
                      <a:r>
                        <a:rPr b="0" lang="en-US" sz="18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P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3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SiO</a:t>
                      </a:r>
                      <a:r>
                        <a:rPr b="1" lang="en-US" sz="1800" spc="-1" strike="noStrike" baseline="-25000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2–</a:t>
                      </a:r>
                      <a:r>
                        <a:rPr b="1" lang="en-US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, CN</a:t>
                      </a:r>
                      <a:r>
                        <a:rPr b="1" lang="en-US" sz="1800" spc="-1" strike="noStrike" baseline="30000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Среда: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щелочная</a:t>
                      </a: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pH&gt;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Гидролиз </a:t>
                      </a: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по ани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Гидролизуются с образованием слабых кислот и основ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1400" name="WordArt 10"/>
          <p:cNvSpPr txBox="1"/>
          <p:nvPr/>
        </p:nvSpPr>
        <p:spPr>
          <a:xfrm>
            <a:off x="1692360" y="620640"/>
            <a:ext cx="54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CDE-05CB-4222-A397-A513222C26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зменение окраски индикаторов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 разных среда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ериментальная задача: исследуйте реакцию среды растворов солей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результаты занесите в таблицу и на основании наблюдений сделайте вывод о типе соли, типе гидролиза (по какому иону) и образующейся сре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14200" y="1500120"/>
          <a:ext cx="8643960" cy="3384720"/>
        </p:xfrm>
        <a:graphic>
          <a:graphicData uri="http://schemas.openxmlformats.org/drawingml/2006/table">
            <a:tbl>
              <a:tblPr/>
              <a:tblGrid>
                <a:gridCol w="1295640"/>
                <a:gridCol w="1044360"/>
                <a:gridCol w="949320"/>
                <a:gridCol w="1470240"/>
                <a:gridCol w="1098360"/>
                <a:gridCol w="1490760"/>
                <a:gridCol w="1295280"/>
              </a:tblGrid>
              <a:tr h="371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акция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кат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ан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лакм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Метил-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Calibri"/>
                          <a:ea typeface="Calibri"/>
                        </a:rPr>
                        <a:t>Фенол-фта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от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547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f0139"/>
                          </a:solidFill>
                          <a:latin typeface="Calibri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3d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Н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c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алин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1b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Щелоч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о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5e0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йтр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140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E21-8AB4-4D66-ADA5-250BF366CE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спериментальная 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09" name=""/>
          <p:cNvGraphicFramePr/>
          <p:nvPr/>
        </p:nvGraphicFramePr>
        <p:xfrm>
          <a:off x="214200" y="1928880"/>
          <a:ext cx="8786880" cy="2889360"/>
        </p:xfrm>
        <a:graphic>
          <a:graphicData uri="http://schemas.openxmlformats.org/drawingml/2006/table">
            <a:tbl>
              <a:tblPr/>
              <a:tblGrid>
                <a:gridCol w="1295640"/>
                <a:gridCol w="1044360"/>
                <a:gridCol w="949320"/>
                <a:gridCol w="1470240"/>
                <a:gridCol w="1295280"/>
                <a:gridCol w="1293840"/>
                <a:gridCol w="1438200"/>
              </a:tblGrid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ат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ни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акму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тил-оран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Фенол-фта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в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9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l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оранже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нейтра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CO</a:t>
                      </a:r>
                      <a:r>
                        <a:rPr b="1" lang="ru-RU" sz="18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 анио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малин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Щелоч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ОН</a:t>
                      </a:r>
                      <a:r>
                        <a:rPr b="1" lang="ru-RU" sz="1800" spc="-1" strike="noStrike" baseline="30000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l</a:t>
                      </a:r>
                      <a:r>
                        <a:rPr b="1" lang="en-US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1" lang="ru-RU" sz="18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по катио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Кисл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Н</a:t>
                      </a:r>
                      <a:r>
                        <a:rPr b="1" lang="ru-RU" sz="1800" spc="-1" strike="noStrike" baseline="30000">
                          <a:solidFill>
                            <a:srgbClr val="008ae8"/>
                          </a:solidFill>
                          <a:latin typeface="Arial"/>
                          <a:ea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sp>
        <p:nvSpPr>
          <p:cNvPr id="14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D18D-ABBA-4044-ABE4-5C9698A456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79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88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м образом образуются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растворах солей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оны </a:t>
            </a:r>
            <a:br>
              <a:rPr sz="4400"/>
            </a:br>
            <a:r>
              <a:rPr b="1" lang="ru-RU" sz="4400" spc="-1" strike="noStrike">
                <a:solidFill>
                  <a:srgbClr val="29ffff"/>
                </a:solidFill>
                <a:latin typeface="Arial"/>
              </a:rPr>
              <a:t>ОН</a:t>
            </a:r>
            <a:r>
              <a:rPr b="1" lang="ru-RU" sz="4400" spc="-1" strike="noStrike" baseline="30000">
                <a:solidFill>
                  <a:srgbClr val="29ffff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29ffff"/>
                </a:solidFill>
                <a:latin typeface="Calibri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29ffff"/>
                </a:solidFill>
                <a:latin typeface="Calibri"/>
                <a:ea typeface="Calibri"/>
              </a:rPr>
              <a:t>и</a:t>
            </a: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29ffff"/>
                </a:solidFill>
                <a:latin typeface="Arial"/>
              </a:rPr>
              <a:t>Н</a:t>
            </a:r>
            <a:r>
              <a:rPr b="1" lang="ru-RU" sz="4400" spc="-1" strike="noStrike" baseline="30000">
                <a:solidFill>
                  <a:srgbClr val="29ffff"/>
                </a:solidFill>
                <a:latin typeface="Arial"/>
              </a:rPr>
              <a:t>+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CFD-DB40-415C-85E8-13F46F9DD9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ильным основанием и слаб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213840" y="2786040"/>
            <a:ext cx="4357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CO</a:t>
            </a:r>
            <a:r>
              <a:rPr b="1" lang="ru-RU" sz="2800" spc="-1" strike="noStrike" u="sng" baseline="-25000">
                <a:solidFill>
                  <a:srgbClr val="29ffff"/>
                </a:solidFill>
                <a:uFillTx/>
                <a:latin typeface="Arial"/>
              </a:rPr>
              <a:t>3</a:t>
            </a:r>
            <a:r>
              <a:rPr b="1" lang="ru-RU" sz="2800" spc="-1" strike="noStrike" baseline="30000">
                <a:solidFill>
                  <a:srgbClr val="29ffff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H</a:t>
            </a:r>
            <a:r>
              <a:rPr b="1" lang="ru-RU" sz="2800" spc="-1" strike="noStrike" u="sng" baseline="30000">
                <a:solidFill>
                  <a:srgbClr val="29ffff"/>
                </a:solidFill>
                <a:uFillTx/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29ffff"/>
                </a:solidFill>
                <a:latin typeface="Arial"/>
              </a:rPr>
              <a:t>по ан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4648320" y="2786040"/>
            <a:ext cx="4038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дрокарбо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т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ffff"/>
                </a:solidFill>
                <a:latin typeface="Arial"/>
              </a:rPr>
              <a:t>HCO</a:t>
            </a:r>
            <a:r>
              <a:rPr b="0" lang="ru-RU" sz="2800" spc="-1" strike="noStrike" baseline="-25000">
                <a:solidFill>
                  <a:srgbClr val="29ffff"/>
                </a:solidFill>
                <a:latin typeface="Arial"/>
              </a:rPr>
              <a:t>3</a:t>
            </a:r>
            <a:r>
              <a:rPr b="0" lang="ru-RU" sz="2800" spc="-1" strike="noStrike" baseline="30000">
                <a:solidFill>
                  <a:srgbClr val="29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29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H</a:t>
            </a:r>
            <a:r>
              <a:rPr b="1" lang="ru-R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щелочная сре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434D-F241-4342-B2F8-7B08819A9F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лабым основанием и сильн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457200" y="2500200"/>
            <a:ext cx="40384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Mg</a:t>
            </a:r>
            <a:r>
              <a:rPr b="1" lang="ru-RU" sz="2800" spc="-1" strike="noStrike" baseline="30000">
                <a:solidFill>
                  <a:srgbClr val="29ffff"/>
                </a:solidFill>
                <a:latin typeface="Arial"/>
              </a:rPr>
              <a:t>2+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 u="sng">
                <a:solidFill>
                  <a:srgbClr val="29ffff"/>
                </a:solidFill>
                <a:uFillTx/>
                <a:latin typeface="Arial"/>
              </a:rPr>
              <a:t>OH</a:t>
            </a:r>
            <a:r>
              <a:rPr b="1" lang="ru-RU" sz="2800" spc="-1" strike="noStrike" u="sng" baseline="30000">
                <a:solidFill>
                  <a:srgbClr val="29ffff"/>
                </a:solidFill>
                <a:uFillTx/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9ffff"/>
                </a:solidFill>
                <a:latin typeface="Arial"/>
              </a:rPr>
              <a:t>по кат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64832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gOHC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дроксохлори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г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ffff"/>
                </a:solidFill>
                <a:latin typeface="Arial"/>
              </a:rPr>
              <a:t>MgOH</a:t>
            </a:r>
            <a:r>
              <a:rPr b="0" lang="ru-RU" sz="2800" spc="-1" strike="noStrike" baseline="30000">
                <a:solidFill>
                  <a:srgbClr val="29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1" lang="en-US" sz="2800" spc="-1" strike="noStrike">
                <a:solidFill>
                  <a:srgbClr val="e51bbf"/>
                </a:solidFill>
                <a:latin typeface="Arial"/>
              </a:rPr>
              <a:t>H</a:t>
            </a:r>
            <a:r>
              <a:rPr b="1" lang="ru-RU" sz="2800" spc="-1" strike="noStrike" baseline="30000">
                <a:solidFill>
                  <a:srgbClr val="e51bb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f3db4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ef3db4"/>
                </a:solidFill>
                <a:latin typeface="Arial"/>
              </a:rPr>
              <a:t>(кисл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C5F-666C-45EC-AC2F-44D195219A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ление уравнения гидролиза </a:t>
            </a:r>
            <a:br>
              <a:rPr sz="44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оли, образованные слабым основанием и слабой кислото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457200" y="299988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4f91d"/>
                </a:solidFill>
                <a:latin typeface="Arial"/>
              </a:rPr>
              <a:t>Al</a:t>
            </a:r>
            <a:r>
              <a:rPr b="1" lang="en-US" sz="2800" spc="-1" strike="noStrike" baseline="-25000">
                <a:solidFill>
                  <a:srgbClr val="f4f91d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4f91d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f4f91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648320" y="2999880"/>
            <a:ext cx="4038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Al(OH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8" name="Прямая со стрелкой 5"/>
          <p:cNvCxnSpPr/>
          <p:nvPr/>
        </p:nvCxnSpPr>
        <p:spPr>
          <a:xfrm flipH="1" flipV="1">
            <a:off x="7643520" y="3071160"/>
            <a:ext cx="15120" cy="300600"/>
          </a:xfrm>
          <a:prstGeom prst="straightConnector1">
            <a:avLst/>
          </a:prstGeom>
          <a:ln w="255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1429" name="Прямоугольник 10"/>
          <p:cNvSpPr/>
          <p:nvPr/>
        </p:nvSpPr>
        <p:spPr>
          <a:xfrm>
            <a:off x="1643040" y="435780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еакцию с водой вступает и катион, и анион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идролиз идёт по катиону и ан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0860-A76D-43BD-8FD0-95E2FE3E64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рченко Е.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3:56:32Z</dcterms:created>
  <dc:creator>Марченко Елена Павловна</dc:creator>
  <dc:description/>
  <dc:language>en-US</dc:language>
  <cp:lastModifiedBy>Admin</cp:lastModifiedBy>
  <dcterms:modified xsi:type="dcterms:W3CDTF">2011-12-07T21:07:24Z</dcterms:modified>
  <cp:revision>99</cp:revision>
  <dc:subject/>
  <dc:title>Слайд 1</dc:title>
</cp:coreProperties>
</file>