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E16-0DAE-466E-9139-C03215CA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75E-1032-4F1C-81CD-F773B06C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C03-1C1B-43AE-B595-4FDD744D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6DB-0A11-45B3-B588-ED41F15A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9E78-913E-48DE-B085-9B2D3556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67FE-B651-44B8-8CB3-2EB35615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410B-E056-4A5A-B0F5-17B1151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AB1-ED61-43E8-A780-2FE6CF9B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F4A4-EB96-4111-9600-AB082A1B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B684-1C89-43D3-9DCE-A7BE1C03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6FA-CFAB-48ED-AB0E-33A57C0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0A6-610E-414F-9B65-927BAAA6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C71A-DD9E-4763-BEB0-0301DF2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47DD-7E63-49D7-8C64-AAD5D64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71D8-E0C8-4C50-A7E6-DF7F9A25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C03C-3E44-48C2-9B77-2F46762E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CEC2-9EA1-44F8-96D3-C72C1A95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E01-F079-4BA6-9A9E-5DFA53BA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79B-6EB6-4557-A455-5E9D0E62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291-C273-422B-AAD9-0ECA357C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F35-5FCF-4BF1-8191-0F25D393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3AA-9E6C-4D0F-95F8-EFEDAD4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997-F943-4EB3-9D47-2D715A7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1AB-1945-4DD5-9C45-8B49AC5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1551-D4C4-4E38-BD78-3882D1E1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394-BCA4-4932-9762-DE081B04C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5743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оставить кроссворд из предложенных вопросов таким образом, чтобы в клетках по вертикали получилось название безжидкостного бароме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171432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1.Прибор для измерения плотности жидк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2.Прибор для измерения давления большего или меньшего атмосферног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3.Линия, отмечающая наибольшую осадку суд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4.Учёный, который изобрёл ртутный баромет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5.Тип воздушного шара, применяемого для исследования верхних слоёв атмосфе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6.Учёный, доказавший существование атмосферного давления на опыте с «магдебурскими» полушари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7.Учёный, впервые указавший на существование силы и рассчитавший её зна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620400">
            <a:off x="6337440" y="340920"/>
            <a:ext cx="2428560" cy="23796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9:47:30Z</dcterms:created>
  <dc:creator>Екатерина</dc:creator>
  <dc:description/>
  <dc:language>en-US</dc:language>
  <cp:lastModifiedBy>Екатерина</cp:lastModifiedBy>
  <dcterms:modified xsi:type="dcterms:W3CDTF">2010-11-19T09:03:58Z</dcterms:modified>
  <cp:revision>6</cp:revision>
  <dc:subject/>
  <dc:title>Кроссворд </dc:title>
</cp:coreProperties>
</file>