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14B-1E30-42C1-BF07-488031A7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E2C-1F56-4590-B2B9-A42359B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A57-C626-4674-9E84-22D538A0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738-6115-45FB-8919-DF0E31FE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51AC-2B12-46B0-A4F7-01EF668C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70EC-BC3A-492B-8A84-AB54C5A2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F89B-B1C5-4F7D-8437-B36A3B1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BC84-BE69-4520-A75E-BBCCFC8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BE62-9F3A-4E50-80D4-CC0AEAF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DB25-A381-4F58-8DDC-D1B8F50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A9AB-BC69-472A-BF50-EC4AE00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7F3-7F53-4D2E-AB4A-29A01F8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A3EC-4265-4B86-8D99-D212C27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3649-03BC-485F-AB99-54045C0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AB58-9817-4B73-B147-5B83006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559D-245B-4AB6-BCDC-C681A1A3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426-22CA-4B63-902B-7CF78F27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60E-FA5C-4A42-9A57-99DE3F7D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9DB-2E0C-4C55-975D-681CD2D7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3A9-41C7-4779-B610-B5FB8A4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2D8-B669-407A-B07B-F74F1D1B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899-8650-45E2-BCD6-47018DD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9C5-92DB-4DA6-A37F-9D781A0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FF7-554A-40EE-93FB-A49F06E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95B6-AEE4-4FE1-88E9-74E012A7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AC1-AF24-401F-BEC3-5CE194AF6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5743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ставить кроссворд из предложенных вопросов таким образом, чтобы в клетках по вертикали получилось название безжидкостного баро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171432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1.Прибор для измерения плотности жидк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2.Прибор для измерения давления большего или меньшего атмосферн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3.Линия, отмечающая наибольшую осадку суд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4.Учёный, который изобрёл ртутный баромет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5.Тип воздушного шара, применяемого для исследования верхних слоёв атмосфе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6.Учёный, доказавший существование атмосферного давления на опыте с «магдебурскими» полушари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7.Учёный, впервые указавший на существование силы и рассчитавший её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620400">
            <a:off x="6337440" y="340920"/>
            <a:ext cx="2428560" cy="23796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9:47:30Z</dcterms:created>
  <dc:creator>Екатерина</dc:creator>
  <dc:description/>
  <dc:language>en-US</dc:language>
  <cp:lastModifiedBy>Екатерина</cp:lastModifiedBy>
  <dcterms:modified xsi:type="dcterms:W3CDTF">2010-11-19T09:03:58Z</dcterms:modified>
  <cp:revision>6</cp:revision>
  <dc:subject/>
  <dc:title>Кроссворд </dc:title>
</cp:coreProperties>
</file>