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AA2-4478-4735-8A94-32270C24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70C-0B49-497E-9D77-35CEAE37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92BDE-EB73-48CB-B7D6-5BF3EEB5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AE187-46AE-40B0-9D5A-8A660E2F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648DE-FFA4-46A9-A642-3BA2499F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DD320-0C28-4AE2-980C-3B68FCBF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12E6E-83B1-4D9F-B210-20CA11D0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997EE-5703-4A72-9C3A-C4406764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5979F-E5DE-45DF-B400-1D9DF1C5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3149B-353A-4C66-B640-03FB743B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C2640-9FBF-4ECF-A3B4-54DD1288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491E8-EBCC-43C6-9C7D-7B45D82A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313-22DD-4697-9F30-8DDD5874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FF0F3-3BB7-4734-97CD-F43C2AE5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F8985-7D94-4CCF-AD1E-B41B3556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5097C-3713-4F7E-89A1-6AFE6048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71D77-584C-479F-855B-3CD4EBC4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3D573-79CB-472A-8AFA-B2F04B22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50D27-1CFF-4CC5-AD31-94023244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FA907-87AD-45E4-BD44-0A741655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C3BE2-99CB-4D84-8C09-0889F767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7D955-0398-4FEA-92E1-827005C5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FEFA4-3EFF-4646-AB00-673D81FD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820-3B7A-4BF2-B3C2-B962F0C9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5A3FC-ABDA-48D6-9A04-3F691B29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3BBB-555C-4609-A116-FC09036D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0BF0-1BD9-4795-977F-573CE9E6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C19C-088C-42A7-860B-81A5674E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ED4E-AE9F-4DA5-B310-E33AAF7B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130E-ABC6-4038-998A-32524B2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DBF6-C581-4B67-8987-ADCB4E3D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AF53-4264-4F6B-B566-ECAF6999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285-2EA5-4DB6-80DA-A940CB62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B44F-605A-4E98-84D6-51CB2ED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E5CA-066B-438F-9DF8-73A1D60E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BD70-05A3-4E7E-9385-7FD478A3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1D91-9068-453F-9ECC-2D239315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20A9-87AB-4805-98A6-408F4581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A7DE-E6B7-46D4-8F94-D434C9CD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E974-E89D-4630-86D3-539926DD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8A61-5AF8-4508-B0BE-71B729EF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9596-63D3-4ACA-98B9-3F3731BB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B16D-BE8C-41D3-8364-0D45B8AE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FD8-F671-43C1-B36D-99730A0A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0EB4D-1984-4AC3-86C1-3EE6FD57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6AD9-78F5-4CF6-B922-F586D806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CAEC-94DD-4A89-AE7F-CC6790B0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E7DE-755D-4A25-AB12-6A153478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58BA-F785-4182-8FC3-19960BD8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C0DBB-914E-450E-9AE7-C23C91EB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5731D-8DD1-47A9-92D5-64B020C6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433E9-3FE3-46D7-A8C4-92751D68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CEB59-7415-402C-8BAC-BA3A58B5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2045D-DD60-4595-AA26-8861ABAF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DE2-B514-41D4-A7F3-9025DE6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B4C8F-0D54-41E7-B35D-651E8954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C7FD-8685-4948-BE2B-F2ADEBA8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D22F-8306-41ED-9E5D-CD712DAF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61E2A-2B7C-4E07-AFDA-EB734A38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BDD7D-CF5C-4590-B7EC-2A878F74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82A0-0231-4744-B6A7-E0E8F4B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1711-4E5E-4F15-8FF9-4AD31EA6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E6E3-FDD2-4CC2-96DC-09F0C505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405B-BA97-4B07-BC7D-B8CCCF97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7A698-8998-4C0D-A602-E101E150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2C7-75E8-432D-BA38-81C86233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838B3-8BD9-44A0-9D33-944C011D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51BD5-8577-4C2E-BE18-231CFFE0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195EF-BABC-4E30-A702-375E75C1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ED25F-3EE0-4998-9AD5-E5E1556B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9E40F-A02F-45D1-95CF-27C5FC15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D53B3-5782-4C89-BCD0-D25DAEDA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6A006-F8DF-4E97-98A0-F3F8D78B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9CCAC-3D23-4DCB-9CCC-32676D24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305B11-760B-4FB5-8360-A9B44A84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1DAF1-9B40-4C0A-A924-70DAEDB8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68D-227B-42C6-A215-AED8C1E3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BD9E7-2E96-45C0-8810-43E3925C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745D1-819F-463F-BA05-D2F9A7A0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B4E45-BA95-4766-B8F0-CE91E73D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E0189-283F-473E-8A02-5C141D25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C132E-3EE6-4D84-B20A-F9436781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4D69F-6F9F-477F-A766-EC007D9C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7507B-C868-48D4-AC39-26A65573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9EE3-CCD6-463B-A7C6-5FD31C0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0D6F9-1A8D-4886-B72E-E111BBE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8C5C2-5B9D-4B6B-90FB-22CD8C54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B2E-5E8D-4AC5-9735-4B5400E3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874B2-31A3-4D0B-9FD2-C4BE84E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2EDAC-7BBB-46E5-8387-CE402185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F065E-FF97-4D7F-80F4-F07B0FCA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34B01-C21F-48CC-B167-70C0C120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A08CE-5B9F-440C-A01B-CDBC7CE2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B9D3D-E54C-4504-89D7-8B0ED5AE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36C60-6EB7-4137-B0AB-878AD241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6CEBD-91D5-4071-9CF6-BBE0536A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E8C0D-CECE-4E03-B1CC-07B07646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935B9-549E-487A-B4D5-3FEEC62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109-1300-448A-AC50-22593D3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2B173-A1EA-4887-B14D-76AA56BD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E8CB5-A3BE-48AA-A45B-DDFE6E5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E1916-4C21-49A2-936D-F5435DC3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13AC0-B6FB-4DFF-9FB8-82FB57BD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794B4-DBFF-4A64-AC01-BACF9501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33C59-462B-41B2-A7C5-F880AFD2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FD374-4092-4825-BF89-F72E4A0E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07711-D2D0-4481-987A-E0F2EC54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1F8D7-F905-44B1-9978-F2622EF8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5C6C1-BAE8-484D-8DD2-E48F9360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814-140E-4F3D-A0C5-A54D2D1B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09B9A-D66D-4747-970A-56D756A5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9776B-F5E2-4DAE-8567-E9723AE5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25EB4-518B-46EF-AEF3-1630836E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36B73-46C7-471E-8593-A1BB9916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F493D-A22A-48CB-BC91-59AADB5D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B2C8A-9D0F-445B-A921-FB684590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7BB0E-4317-4FE0-8C94-C9C92757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B7D55-464E-41CE-B45A-4E93C13D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FFDE6-B083-43B2-ABEE-570A8265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D09D8-E4F2-4054-AE74-20C1C35E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07D9-495D-482F-A049-3CC1FD56BB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0A49-B0A2-40B2-83BC-7235D2C84CF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8034-0071-4510-B04D-3149D376AD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4559-FE0A-43B0-84AC-E864B2F3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4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4D3C-52AB-40A7-90D2-3704EC82B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A093-A9BA-4260-A96A-54035077B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9CF8-2BF7-45B8-B5D3-0E1DF1451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8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9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1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9C99-150C-4C1D-953F-EB96F4A6C4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6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7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CD30-330D-4F70-85E4-9B0645B37F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D94D-7216-441E-8236-DCEDB3B9514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468360" y="333360"/>
            <a:ext cx="72723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Тема урок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Место человека в жизн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 рассказ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.П. Платоно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Песча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чительниц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638520" cy="461808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7164360" y="6021360"/>
            <a:ext cx="557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Природа-мать! Когда б таких люде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Ты иногда не посылала миру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Заглохла б нива жизнь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Н.А.Некра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020000" y="6278400"/>
            <a:ext cx="84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564000" y="404640"/>
            <a:ext cx="242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42560" y="1598400"/>
            <a:ext cx="660708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пишите мини-сочин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 тем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Роль учителя на селе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7093080" y="6323040"/>
            <a:ext cx="7077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бучающая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ирование целостного видения проблем рассказа “Песчаная учительница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накомство с проблематикой, композиционными и сюжетными особенностями расска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звивающая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развитие логического и образного мыш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ирование диалогических ум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оспитательная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римере образа главной героини формировать активную жизненную позицию, гражданское муж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гиональный компон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244000" y="602136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539640" y="476280"/>
            <a:ext cx="8604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Трудно тебе будет, да сердце у тебя есть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 на сердце и разум придет, а от разума 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трудное легким станет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Из сборника сказо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А.Платон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8586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Викторина – проверка знания текста</a:t>
            </a:r>
            <a:r>
              <a:rPr b="1" lang="en-US" sz="3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). Сколько лет было Марии Никифоровне, когда она начала преподавать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). Почему дети в селе не ходили в школу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. Какой новый предмет пришлось преподавать учительнице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). Смогла ли Мария Никифоровна помочь жителям пустын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). Осталась ли она в Хошутове навсегд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586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Картина «Христос в пустыне»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116000" y="320760"/>
            <a:ext cx="7128000" cy="60451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224000" y="6199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ина «Христос в пусты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586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Духовной жаждою томим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В пустыне мрачной я влачился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И шестикрылый серафим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На перепутье мне явился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А.С.Пушкин «Пророк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8586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Изображение пустыни: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роследите за тем, как автор описывает пустыню, и какой она, предстает в разное время год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очему страшная картина опустошающей бури в мертвой среднеазиатской пустыне завершается описанием другой, “наполненной звоном жизни” земли, которая чудилась путнику за морем бархан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Чем являлась пустыня для жителей се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Найдите описание пустыни, преображенную стараниями жителей села и молодой учитель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 чем заключается Поступок герои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308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2700360" y="49212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ОСТУП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5280" y="134136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дать свои молодые год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и всю жизнь на служение людя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обровольно отказавшис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личного счаст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7308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ННОСТЬ -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Служение людям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381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нимание Марии Никифоров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05520" y="1844640"/>
            <a:ext cx="4038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ше поним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88000" y="2565360"/>
            <a:ext cx="37447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 должен боро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человечное в челове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и есть покорение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39640" y="3068640"/>
            <a:ext cx="382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 должен жертв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м, ради обществ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86720" y="6278400"/>
            <a:ext cx="55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6:06:51Z</dcterms:created>
  <dc:creator>Нурлан</dc:creator>
  <dc:description/>
  <dc:language>en-US</dc:language>
  <cp:lastModifiedBy>Евросеть</cp:lastModifiedBy>
  <dcterms:modified xsi:type="dcterms:W3CDTF">2010-12-13T20:24:2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