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57F-CA27-4890-ABC6-20F19CD4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434-DBFB-4F69-A6BE-40415F7D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60538-F765-4714-B383-974EFFAF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3CB19-6D70-4E81-81E7-FF3F9DBF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EEFF7-184E-444A-BAEC-E1618A8E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D694F-0098-4ED4-AF1A-0EB1AA05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9603-780F-4F2C-B75E-6B385B5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39C1E-FAAB-49DB-976D-E9401E3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C231-9379-4442-A61A-75089272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DF1C-6430-4234-80D3-5F85A834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7631E-807F-4323-81C0-0620BE17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424A-246A-49A9-AAF4-6D54FFBB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51B-F24F-477C-B056-F106FCA0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2A33-34CE-4077-91AE-53349FB7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1931E-1DEF-4475-94E5-C40A23A4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A799C-0CED-4F03-9151-9007181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35D10-4B08-4565-9CEC-38B26FB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9E4ED-B636-41C4-A5A5-48FB6E2A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1A791-BE04-4655-8502-58E7445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20EF-D69F-48D0-BF96-F30BCBCF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D8DDA-B359-4AD4-8E35-AF138A7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D50D6-C9DD-4FCB-BE99-5D26FEE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41C1A-DF6C-4FBD-ABAF-1B135AF1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43A-394D-4B49-BB3A-CB054A73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B588-33E5-4E20-88F6-4F0896B0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4622-15B1-4454-9CE3-A9B14BD6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E7F-D67F-45AB-92CC-0D747C25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B04C-13C2-44CA-B47B-DBB59A64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23CF-D68B-4509-A530-44C246F3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49DB-D12A-46A7-9EC3-9565BAF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853-A5BB-4848-A52F-7D71A6E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B832-AA0D-4FDF-A985-6863C70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020-07DE-4165-9425-36C12240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EAB-A747-4617-992B-B2A0C3F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10DF-E77C-4916-BA30-E6569445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774-E841-43B2-AFD8-D3BB9E5A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7F62-4002-4B09-A958-AF32E2B6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400-597C-4069-B72F-F950BD2E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0D6A-DF06-453A-B563-0FDE50E4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A4A2-B030-4001-9821-5D983A0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931E-4832-43F2-B167-7834877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F885-52E7-4BB0-976D-A9D87C7C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2EBD-8398-44A8-9961-C036643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561-679B-4C2C-B611-C0C83E9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97AC-6FB7-41E7-84C5-C8F8A6A4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2B3B-5832-4A0B-AE5C-72633EB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49FC-FB88-4F58-A76F-067CE9C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2645-C7D4-4342-B87D-987817C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63BB-D7C4-42F5-B9C1-BEA8748C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4840-E711-4286-AF82-A6192877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8FBB-3A00-45D0-9FD6-6333A08B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428A-301C-4DA5-A1D4-036C8CD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3BB0-A473-4564-AD0A-13D43A47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E504-14E9-4B6D-A87D-A2208F9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AD8-2743-4B09-ABE7-0921D54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7B1E-253B-4E0D-9DE5-36470416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D0B2-E996-41A5-A69A-A77628F3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60D8-5145-4897-98DF-467C960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6F1C-29CA-49DB-A937-A5FCC32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2EB2-E5CD-426D-8BD4-BD3EEE7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7C3D-98F4-4D6A-B33E-E6814A7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C02A-9D45-4A95-A40E-E8EC07B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702D-3F53-4E9A-88E5-6B787EB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A8DD-B005-44DB-9E01-54D06724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56DCD-8DDC-40D2-8FB1-1ADDE405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1A4-A53D-48B5-95DE-1EFDF0C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8EB86-8D8E-4AF4-9A29-24D1BAA9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206C8-5CB9-43F8-BD03-83B83CCA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57E0B-3364-43DC-9DCC-B7005162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F33BB-CB32-42C4-A9C9-4BDF207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E4FE8-1005-4528-95B7-82962C3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0CA7D-B115-41D3-8599-423B670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B32F3-A4F2-42EC-998D-75CD082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68BD3-D091-402F-A153-C9BC1EC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F51F6-2CD2-4249-B4BA-709EDAD2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89DB4-C800-4541-A2B3-5E601977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AAC-DA00-408E-80DE-8E6D345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F5F80-4C6F-4370-BD8F-406C0353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B062-7B55-4CCA-89D7-2BDA65D4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BEE5C-2A1E-4BD4-ABFA-9BBB7959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8B6B-38D5-44B9-8D0F-BB67A08B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7A65-AD29-4E43-9856-1DEA851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9F12-3C5D-4BCF-8A0C-029135C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32B4-F2C7-4C73-B27C-BE5DDC6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539E-3513-44A8-9E86-AF78F03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2362-7D0D-40C7-8A37-6C94421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EB96-EE44-41DC-AAA9-2613EA7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6FC-1A3E-4E70-8283-7A8D4B6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74FB0-9995-470E-B98C-E65C745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6D27-D588-4214-AC22-0FD03A51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32B4-4C91-444F-A14A-D3D226A3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5609F-C472-40ED-8C55-166524B2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15EA-7F93-4227-8ACF-3EB2E64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081D-DDB5-479D-B826-5CF0AC3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6066-2F04-41C3-BC60-2783FD46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1A35-BCB8-4A6C-8F8A-63C2019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C26F-3BAF-450C-AEF2-6AF1191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2647-67F5-41B0-BFCA-2C3FC36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B73-6846-45AD-9129-4831951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F26B-AC85-42B5-98EA-BDDF159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DCD5-BE6F-401A-907D-9B1A182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1157-D4DC-45CF-96F3-8E138ED0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52E16-AA49-418F-B558-0E5415A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E8A10-6CB4-404B-9722-1AA8834E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6DD7-547D-4DD0-B51B-57D30032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6E947-7EC2-4A4F-BE30-2F2B66F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96E2-224D-4A65-B978-5FF7B609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267D8-546C-4EF5-BEC1-DB7F372C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EC87-00DE-42C5-B1D2-63B1BBA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F8C-BAEC-4242-92A2-79DFE8D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5783E-6E3F-44CD-9761-BD726E2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3BF73-0447-4CC6-BCD1-DD39631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CE1E-7457-4E68-9140-2F0EA8E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CC6F-E073-418F-92E5-A82228E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E3D1A-8ACE-4959-BD40-900E4E4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519C-3B9F-47B1-8954-8EB9DCD5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7D7F3-B58E-4C46-9B73-81904C2E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BE97A-6414-4022-9FD6-85F15EC3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4023C-9919-4B99-AEB0-A3EB9F9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B697-6821-41A0-84BB-90B92EDB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D6A-FD38-456C-848B-C3A6AA65A9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483-B99A-4B64-8E7B-576D5ED6E9D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B619-F757-4252-A1C6-71C888250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E61-28F1-47BA-8094-48678EF3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C57E-4400-45FD-9F56-12A33B76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750-53ED-4023-9B5D-65719797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581A-D028-4EEA-ACFF-206933C0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8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9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1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30F-4E77-4774-B6A2-0E1027F5F1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6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94C9-C1DB-4464-9EEF-6914CD5319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042-1355-483A-8143-31928FE28F2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68360" y="333360"/>
            <a:ext cx="7272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есто человека в жизн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 рассказ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 Платон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Песча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итель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638520" cy="46180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7164360" y="602136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ирода-мать! Когда б таких люд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Ты иногда не посылала миру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Заглохла б нива жизнь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Н.А.Некра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20000" y="6278400"/>
            <a:ext cx="84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564000" y="404640"/>
            <a:ext cx="242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1598400"/>
            <a:ext cx="660708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пишите мини-сочин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 тем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Роль учителя на селе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7093080" y="6323040"/>
            <a:ext cx="707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учающа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целостного видения проблем рассказа “Песчаная учительниц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комство с проблематикой, композиционными и сюжетными особенностями расск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звивающа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азвитие логического и образного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диалогических у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спитательна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римере образа главной героини формировать активную жизненную позицию, гражданское муж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иональный компон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44000" y="602136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39640" y="476280"/>
            <a:ext cx="860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Трудно тебе будет, да сердце у тебя ест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на сердце и разум придет, а от разума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трудное легким станет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Из сборника сказ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А.Плато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икторина – проверка знания текста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. Сколько лет было Марии Никифоровне, когда она начала преподавать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. Почему дети в селе не ходили в школ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. Какой новый предмет пришлось преподавать учительниц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. Смогла ли Мария Никифоровна помочь жителям пустын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. Осталась ли она в Хошутове навсегд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Картина «Христос в пустыне»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116000" y="320760"/>
            <a:ext cx="7128000" cy="60451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224000" y="6199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ина «Христос в пусты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Духовной жаждою томим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В пустыне мрачной я влачился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И шестикрылый серафим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На перепутье мне явился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С.Пушкин «Пророк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Изображение пустыни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оследите за тем, как автор описывает пустыню, и какой она, предстает в разное время год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чему страшная картина опустошающей бури в мертвой среднеазиатской пустыне завершается описанием другой, “наполненной звоном жизни” земли, которая чудилась путнику за морем бархан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Чем являлась пустыня для жителей се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йдите описание пустыни, преображенную стараниями жителей села и молодой учитель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чем заключается Поступок герои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08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700360" y="4921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ОСТУП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134136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дать свои молодые г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 всю жизнь на служение людя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бровольно отказавшис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личного счаст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7308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ННОСТЬ -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Служение людям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нимание Марии Никифоро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ше поним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88000" y="2565360"/>
            <a:ext cx="37447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должен боро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человечное в челове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и есть покорение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9640" y="3068640"/>
            <a:ext cx="382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должен жер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, ради обществ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06:51Z</dcterms:created>
  <dc:creator>Нурлан</dc:creator>
  <dc:description/>
  <dc:language>en-US</dc:language>
  <cp:lastModifiedBy>Евросеть</cp:lastModifiedBy>
  <dcterms:modified xsi:type="dcterms:W3CDTF">2010-12-13T20:24:2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