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7C2-1332-4A0F-8356-DC608D4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81E-D298-4AED-A968-01FC799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6E7-F1F5-4358-A979-8B5E89DF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9C1-BE1D-4597-AFEE-9401B684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6CEC-4678-48C5-A848-A0993B11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759E-C427-4ACB-A7DF-7059D54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3D1-FEAF-4458-8D72-AC38738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64CE-B749-4794-81AE-CB003E5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2C7-FD94-4144-BA8E-A64ED22A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DDC2-1DCA-4320-BDA5-BBCA124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082-ED8B-404D-AEA2-F9C0FFC5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722-6B03-4FC1-AF09-79C36058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8DD7-FF1B-4DA7-AA82-A6F82E25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3DB1-4006-4471-A345-7BC2F720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116A-F942-4798-AB20-F18D2B7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72A1-02B9-437E-8515-6651AF3A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78C8-222F-4D5C-96F3-C6D4E7F2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B67-A78E-4718-A929-2EB29E6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0F0-AEA4-4730-A7F5-0CC6DEAE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9FA-DDB9-43E2-9805-EF2A84D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DDE-B10E-425F-BFEF-AF9EB15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137-7F9D-4CCC-B0DC-576AC4F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4FB-1D4C-4716-AC8F-6230704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CE3-29DF-4E92-8C92-F6328A6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AAC8-E775-4AA1-B2ED-23A608905FE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2700-10E6-4376-BC9B-B726FBC1E42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78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ГРАММА РАЗВИТ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УНИЦИПАЛЬНОГО ОБРАЗОВАТЕЛЬНОГО УЧРЕЖДЕНИЯ «Покшеньгская основная школа № 21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ИНЕЖСКОГО РАЙО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РХАНГЕЛЬСКОЙ ОБЛАС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 2008-2011 ГОД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3427560"/>
            <a:ext cx="5592960" cy="256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82000" y="5969160"/>
            <a:ext cx="46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: Богданова Л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2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рганизация и проведение в МОУ «Покшеньгской основной школе №21» ЕГЭ в 2008-2009 учебном году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беспечение организационно-технологических, методических и психолого-педагогических условий подготовки и проведения ЕГЭ-2009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работка и реализация механизма организации и проведения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работка и внедрение в практику управления качеством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методов мониторинга, диагностики и прогнозирова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витие, изучение нормативно-распорядительной и инструктивно-методической базы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еализация комплекса мер по повышению эффективности информационного обеспечения ЕГЭ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ние оптимальных организационно-технологических условий подготовки и проведения ЕГЭ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Укрепление и сохранение здоровья дете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здание условий в школе, направленных на укрепление здоровья и привитие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лучшение медицинского обслуживания учащихся и работников школ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гулярная пропаганда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тойкого убеждения в личной ответственности за со­стояние здоровь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учение приемам поведения в разных жизненных ситуациях на осно­ве принципов личной безопасности, экологической и общей культуры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Информатизация МОУ «Покшеньгская основная школа № 21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оэтапный переход к новому уровню образования на основе информационных (Интернет) технологий, с использованием электронных (мультимедийных) учебников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 участие в создании единой информационной среды Пинежского района, обеспечивающей повышение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эффективное использование научно-педагогического потенциала Пинежского района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формирование информационно-технологической инфраструктуры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редоставление участникам образовательного процесса (ученикам, преподавателям) свободного доступа к компьютерной технике, к глобальным информационным ресурсам, программным средствам (электронным учебникам, библиотекам, фонотекам и т. п.)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рименение Интернет-технологий и мультимедийных  учебников в учебном процессе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подготовка административных, педагогических кадров образовательных учреждений, способных эффективно использовать в информационном процесс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использование внебюджетных источников финансирования, включая спонсорские средства и средства благотворительности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Развитие воспитания в школе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оспитание гармонично развитой личност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формирование гражданской ответственности и правового самосознания,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оссийской идентичности, духовности и культуры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инициативности, самостоятельности, толерантност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ешению этих задач должно послужить создание воспитательного пространства школы, в котором необходимо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оспитывать добрые отношения к жизни, умение находить в ней радость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ть атмосферу взаимного понимания между детьми, учителями и родителями в образовательном процесс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азвивать в каждом ученике неповторимую человеческую индивидуальность, ориентировать их на высокие нравственные ценности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оспитать чувство гордости за свое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ело, край, уважение к его истории, народной культуре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дарённые дети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ыявление одаренных дете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оздание условий для оптимального развития одаренных детей, чья одаренность на данный момент может быть еще не проявившейся, а также просто способных детей, в отношении которых есть серьезная надежда на качественный скачок в развитии их способностей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накомство педагогов с научными данными о психологических особенностях и методических приемах работы с одаренными детьм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бучение через методическую учебу, педсоветы, самообразование, КПК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копление библиотечного фонда по данному вопрос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ведение различных внеурочных конкурсов, интеллектуальных игр, олимпиад, позволяющих учащимся проявить свои способности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тбор среди различных систем обучения тех методов и приемов, которые способствуют развитию самостоятельности мышления, инициативности и творчества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едоставление возможности совершенствовать способности в со­вместной деятельности со сверстниками, научным руководителем, через самостоятельную работу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089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ь выпускника начальной школ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Гражданские качества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знание своих прав и обязанностей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долг и ответственность перед семьей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и школой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осознанность своих поступков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атриотизм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равдолюбие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Нравственные качества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нятие чести, достоинства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ыдержка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умение жить в коллективе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заимопонимание и взаимовыручка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8412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Интеллектуальные способност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формированный запас ЗУН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использование ЗУН на практике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понимание, что учеба – это труд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Общая культур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иобщение к ценностям своего народа, традициям, обычаям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чувство прекрасного;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- внешний опрятный вид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438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1089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ь выпускника основной школ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527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Гражданские качеств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знание своих прав и обязанностей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родному краю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природе, охрана е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ение к традициям народ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иметь свое мнение, уметь принимать решение, 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независимость</a:t>
            </a:r>
            <a:r>
              <a:rPr b="0" lang="ru-RU" sz="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убеждений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Нравственные качеств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доброт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милосерди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взаимовыручк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чест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орядоч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онимание другого человек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ение к старшим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здоровый образ жизни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ительное отношение к чужому труду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гуманизм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вь к школе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обязательность.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84120" y="1600200"/>
            <a:ext cx="255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Интеллектуальные способности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стремление к познанию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расширение своего кругозор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мение анализирова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самостоятельность мышления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любознательность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способность к самообразованию.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Общая культура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культура поведения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риобретение навыков этикета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приобщение к художественным ценностям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знание норм морали;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- уважительное отношение к прошлому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77120" y="3124080"/>
            <a:ext cx="2350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жидаемые результаты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Наличие развитой инновационной образовательной среды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озитивная динамика изменения уровня инновационной культуры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Формирование новой управленческой и образовательной практики, позитивно влияющих на повышение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олный охват детей дошкольного возраста предшкольной подготовкой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Охват услугами системы дополнительного образования до 95 % школьников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Готовность 80% учащихся к осознанному выбору индивидуальной образовательной траектории, обеспечивающей выбор будущей професси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Достижение компьютерной грамотности у 100 % школьников и 90 %  учителей на уровне навыков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Владение каждым выпускником одним иностранным языком на уровне функциональной грамотности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Оснащение школы компьютерами в соотношении 1 на 2 учителя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Практическое применение 80 % педагогических работников инновационных образовательных технологий в процессе и воспитания учащихс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Формирование нормативно правовой базы, обеспечивающей достижение высокого уровня современного качества образования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ачественное многопрофильное  психолого-педагогическое, медико-социальное сопровождение участников образовательного процесса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Создание системы формирования достоверной информации о состоянии развития образования в ДОУ и в школе, индивидуальных достижений учащихся, педагогических работников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Цель програм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воспитательно-образовательной среды, способствующей воспитанию и образованию всесторонне развитой личности, способной реализовать свои возможности в условиях современного демократического обществ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У «Покшеньгская основная школа № 21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554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Образована в 1896 году, возникла она как церковно-приходская школа с 4-классным образованием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ле революции школа переименовывается в ШКМ, школу крестьянской молодежи с начальными классам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30-е годы начальные школы (структурные подразделения ШКМ в деревне Кобелёво) открываются и в других деревнях Покшеньги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1960-61 годах строится типовое двухэтажное здание, и школа переименовывается в восьмилетнюю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1990 г. – переименовывается в неполную среднюю школу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через несколько лет становится основно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2008-2009 учебном году в школе 55 учащихся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(начальное звено – 14 , основное – 41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 школе работает 14 педагогов, старшая вожатая,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библиотекарь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73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риоритетные направления работ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новление структуры и содержания образования, совершенствование педагогических технологий, создание условий, обеспечивающих вариативность образования и возможность его получения в различных форма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вышение научной информативности знаний учебного предмета и смежных дисциплин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звитие воспитательного потенциала с использованием традиций, современного опыта и инноваци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сширение инновационной деятельности школы, развитие системы поддержки одаренных дете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Финансовое обеспечение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ыполнение Программы обеспечивается за счет различных источников финансирования: местный бюджет, дополнительные привлеченные средства (спонсорские средства, доходы от дополнительных образовательных услуг, добровольные пожертвования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Этапы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981080"/>
            <a:ext cx="5257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ервый этап – 2008-2009 уч/г.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дготовительны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торой этап – 2009-2010 уч/г.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формирующ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третий этап -2010- 2011 уч/г.,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новной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переходящий в 2012 году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общающи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Миссия школ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ы видим школу как массовое среднее общеобразовательное учреждение, обеспечивающее эффективное физическое развитие ребенка, обладающее своей системой воспитания гуманистического типа, с сетью кружков и секций во вторую половине дня, позволяющее школьнику найти себе занятие здесь по своим интересам. Мы предполагаем, что у каждого учащегося школы будет индивидуальная карта развития для обеспечения индивидуального подхода к развитию каждого учащегося на основе методико–психолого–педагогического изучения детей на каждом возрастном этап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ути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440" y="1523520"/>
            <a:ext cx="5654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ограмма развит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МОУ «Покшеньгская основная школа № 21»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предлагает реализацию ряда модулей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Адаптация учащихся при переходе из начального в среднее звено обучения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рганизация и проведение в МОУ «Покшеньгской основной школе №21» ЕГЭ в 2008-2009 учебном году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крепление и сохранение здоровья детей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Информатизация МОУ «Покшеньгская основная школа № 21» Пинежского района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Развитие воспитания в школе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Одарённые дети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1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УЛ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«Адаптация учащихся при переходе из начального в среднее звено обучения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752120"/>
            <a:ext cx="5257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ЦЕЛЬ 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еспечение плавного, постепенного и нетравмированного перехода учащихся из начальной в основную школу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оздание педагогических и социально-психологических условий, позволяющих учащимся учиться, функционировать и развиваться в новой системе школьных отнош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сформировать умения ориентироваться в новом информационном поле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мочь в освоении нового учебного пространства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овать психолого-педагогическое сопровождение учащихся в период адаптац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9:40:32Z</dcterms:created>
  <dc:creator>User</dc:creator>
  <dc:description/>
  <cp:keywords/>
  <dc:language>en-US</dc:language>
  <cp:lastModifiedBy>1</cp:lastModifiedBy>
  <dcterms:modified xsi:type="dcterms:W3CDTF">2011-02-07T09:33:59Z</dcterms:modified>
  <cp:revision>3</cp:revision>
  <dc:subject/>
  <dc:title>ПРОГРАММА РАЗВИТИЯ МУНИЦИПАЛЬНОГО ОБРАЗОВАТЕЛЬНОГО УЧРЕЖДЕНИЯ «Покшеньгская основная школа № 21»  ПИНЕЖСКОГО РАЙОНА АРХАНГЕЛЬСКОЙ ОБЛАСТИ НА 2008-2011 Г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