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261-8E67-4579-81F5-E35F0B72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45E-3DFC-415E-B7F4-AE74AD93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ED6-21AA-41BC-9AD8-C9982F67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3F3-05B9-477B-8DC7-32B17A2B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D639-54CC-44A9-AD81-CF8AAA77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D1D0-05D8-42CB-BF61-2FFA706A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4719-C134-4984-92B6-831F48F0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B006-7FA3-4893-9E8E-70DFEDB1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2582-4846-4F83-823D-82571DA4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CD61-F1B0-4DB9-ABBA-11603B13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BCDB-A7E8-4FEE-87E2-2F1CBF5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ABD-AFFC-4D57-8014-6FCCB6E0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5873-C098-456A-BE0F-4B283D5C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79EE-F361-4B78-96AB-3675F7E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1680-CB21-4E7B-B177-729AEB48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D39F-80B9-4AA9-B8D5-9BFD071F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6534-C4A4-4430-A694-0802E86A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4AD-3765-4DAF-B12B-495D2CD3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DDE-5303-4226-9EE5-FA33F891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220-6F3E-4F0F-B872-C91D60D8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344-6EB3-4F41-9816-FD1B9246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D89-DB4D-4A58-8220-CCE80408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C46-C30A-4322-A472-1E873B4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044-E926-4F04-B659-FD678D52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E092-4F3C-4899-BF42-DA6939E5318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7DDF-BB67-46A8-B164-A378A78F567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1787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ОГРАММА РАЗВИТ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УНИЦИПАЛЬНОГО ОБРАЗОВАТЕЛЬНОГО УЧРЕЖДЕНИЯ «Покшеньгская основная школа № 21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ИНЕЖСКОГО РАЙО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РХАНГЕЛЬСКОЙ ОБЛАС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 2008-2011 ГОД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3427560"/>
            <a:ext cx="5592960" cy="256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82000" y="5969160"/>
            <a:ext cx="46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а: Богданова Л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25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Организация и проведение в МОУ «Покшеньгской основной школе №21» ЕГЭ в 2008-2009 учебном году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9051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Обеспечение организационно-технологических, методических и психолого-педагогических условий подготовки и проведения ЕГЭ-2009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азработка и реализация механизма организации и проведения ЕГЭ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азработка и внедрение в практику управления качеством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методов мониторинга, диагностики и прогнозирования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азвитие, изучение нормативно-распорядительной и инструктивно-методической базы ЕГЭ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еализация комплекса мер по повышению эффективности информационного обеспечения ЕГЭ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оздание оптимальных организационно-технологических условий подготовки и проведения ЕГЭ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Укрепление и сохранение здоровья дете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оздание условий в школе, направленных на укрепление здоровья и привитие навыков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лучшение медицинского обслуживания учащихся и работников школы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егулярная пропаганда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Формирование стойкого убеждения в личной ответственности за со­стояние здоровья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учение приемам поведения в разных жизненных ситуациях на осно­ве принципов личной безопасности, экологической и общей культуры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Информатизация МОУ «Покшеньгская основная школа № 21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поэтапный переход к новому уровню образования на основе информационных (Интернет) технологий, с использованием электронных (мультимедийных) учебников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 участие в создании единой информационной среды Пинежского района, обеспечивающей повышение качества образования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эффективное использование научно-педагогического потенциала Пинежского района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формирование информационно-технологической инфраструктуры образования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предоставление участникам образовательного процесса (ученикам, преподавателям) свободного доступа к компьютерной технике, к глобальным информационным ресурсам, программным средствам (электронным учебникам, библиотекам, фонотекам и т. п.)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применение Интернет-технологий и мультимедийных  учебников в учебном процессе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подготовка административных, педагогических кадров образовательных учреждений, способных эффективно использовать в информационном процессе информационные технологии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использование внебюджетных источников финансирования, включая спонсорские средства и средства благотворительности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Развитие воспитания в школе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оспитание гармонично развитой личности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формирование гражданской ответственности и правового самосознания,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оссийской идентичности, духовности и культуры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инициативности, самостоятельности, толерантности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ешению этих задач должно послужить создание воспитательного пространства школы, в котором необходимо: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воспитывать добрые отношения к жизни, умение находить в ней радость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оздать атмосферу взаимного понимания между детьми, учителями и родителями в образовательном процессе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азвивать в каждом ученике неповторимую человеческую индивидуальность, ориентировать их на высокие нравственные ценности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воспитать чувство гордости за свое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ело, край, уважение к его истории, народной культуре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Одарённые дети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908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Выявление одаренных детей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оздание условий для оптимального развития одаренных детей, чья одаренность на данный момент может быть еще не проявившейся, а также просто способных детей, в отношении которых есть серьезная надежда на качественный скачок в развитии их способностей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знакомство педагогов с научными данными о психологических особенностях и методических приемах работы с одаренными детьми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обучение через методическую учебу, педсоветы, самообразование, КПК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накопление библиотечного фонда по данному вопросу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роведение различных внеурочных конкурсов, интеллектуальных игр, олимпиад, позволяющих учащимся проявить свои способности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отбор среди различных систем обучения тех методов и приемов, которые способствуют развитию самостоятельности мышления, инициативности и творчества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редоставление возможности совершенствовать способности в со­вместной деятельности со сверстниками, научным руководителем, через самостоятельную работу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1089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дель выпускника начальной школ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5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Гражданские качества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знание своих прав и обязанностей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долг и ответственность перед семьей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и школой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осознанность своих поступков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патриотизм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правдолюбие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Нравственные качества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нятие чести, достоинства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выдержка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умение жить в коллективе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взаимопонимание и взаимовыручка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84120" y="1600200"/>
            <a:ext cx="255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Интеллектуальные способност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формированный запас ЗУН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использование ЗУН на практике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понимание, что учеба – это труд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Общая культур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риобщение к ценностям своего народа, традициям, обычаям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чувство прекрасного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внешний опрятный вид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438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1089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дель выпускника основной школ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527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Гражданские качества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знание своих прав и обязанностей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любовь к родному краю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любовь к природе, охрана ее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уважение к традициям народ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иметь свое мнение, уметь принимать решение, 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независимость</a:t>
            </a: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убеждений.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Нравственные качества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доброт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милосердие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взаимовыручк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честность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порядочность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понимание другого человек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уважение к старшим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здоровый образ жизни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уважительное отношение к чужому труду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гуманизм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любовь к школе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обязательность.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84120" y="1600200"/>
            <a:ext cx="255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Интеллектуальные способности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стремление к познанию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расширение своего кругозор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умение анализировать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самостоятельность мышления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любознательность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способность к самообразованию.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Общая культура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ьтура поведения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приобретение навыков этикет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приобщение к художественным ценностям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знание норм морали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уважительное отношение к прошлому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477120" y="3124080"/>
            <a:ext cx="2350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жидаемые результаты реализации Программы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Наличие развитой инновационной образовательной среды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Позитивная динамика изменения уровня инновационной культуры участников образовательного процесса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Формирование новой управленческой и образовательной практики, позитивно влияющих на повышение качества образования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Полный охват детей дошкольного возраста предшкольной подготовкой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Охват услугами системы дополнительного образования до 95 % школьников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Готовность 80% учащихся к осознанному выбору индивидуальной образовательной траектории, обеспечивающей выбор будущей профессии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Достижение компьютерной грамотности у 100 % школьников и 90 %  учителей на уровне навыков работы с информацией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Владение каждым выпускником одним иностранным языком на уровне функциональной грамотности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Оснащение школы компьютерами в соотношении 1 на 2 учителя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Практическое применение 80 % педагогических работников инновационных образовательных технологий в процессе и воспитания учащихся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Формирование нормативно правовой базы, обеспечивающей достижение высокого уровня современного качества образования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Качественное многопрофильное  психолого-педагогическое, медико-социальное сопровождение участников образовательного процесса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Создание системы формирования достоверной информации о состоянии развития образования в ДОУ и в школе, индивидуальных достижений учащихся, педагогических работников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Цель программ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ние воспитательно-образовательной среды, способствующей воспитанию и образованию всесторонне развитой личности, способной реализовать свои возможности в условиях современного демократического обществ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У «Покшеньгская основная школа № 21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554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Образована в 1896 году, возникла она как церковно-приходская школа с 4-классным образованием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После революции школа переименовывается в ШКМ, школу крестьянской молодежи с начальными классами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 30-е годы начальные школы (структурные подразделения ШКМ в деревне Кобелёво) открываются и в других деревнях Покшеньги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 1960-61 годах строится типовое двухэтажное здание, и школа переименовывается в восьмилетнюю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 1990 г. – переименовывается в неполную среднюю школу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через несколько лет становится основной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 2008-2009 учебном году в школе 55 учащихся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(начальное звено – 14 , основное – 41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 школе работает 14 педагогов, старшая вожатая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библиотекарь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2735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риоритетные направления работ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новление структуры и содержания образования, совершенствование педагогических технологий, создание условий, обеспечивающих вариативность образования и возможность его получения в различных формах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вышение научной информативности знаний учебного предмета и смежных дисциплин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азвитие воспитательного потенциала с использованием традиций, современного опыта и инноваци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асширение инновационной деятельности школы, развитие системы поддержки одаренных дете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Финансовое обеспечение программ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ыполнение Программы обеспечивается за счет различных источников финансирования: местный бюджет, дополнительные привлеченные средства (спонсорские средства, доходы от дополнительных образовательных услуг, добровольные пожертвования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Этапы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ервый этап – 2008-2009 уч/г.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дготовительный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торой этап – 2009-2010 уч/г.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формирующий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тий этап -2010- 2011 уч/г.,    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новной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переходящий в 2012 году в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общающи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Миссия школ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761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ы видим школу как массовое среднее общеобразовательное учреждение, обеспечивающее эффективное физическое развитие ребенка, обладающее своей системой воспитания гуманистического типа, с сетью кружков и секций во вторую половине дня, позволяющее школьнику найти себе занятие здесь по своим интересам. Мы предполагаем, что у каждого учащегося школы будет индивидуальная карта развития для обеспечения индивидуального подхода к развитию каждого учащегося на основе методико–психолого–педагогического изучения детей на каждом возрастном этап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ути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440" y="1523520"/>
            <a:ext cx="5654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Программа развит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МОУ «Покшеньгская основная школа № 21»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предлагает реализацию ряда модулей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Адаптация учащихся при переходе из начального в среднее звено обучения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Организация и проведение в МОУ «Покшеньгской основной школе №21» ЕГЭ в 2008-2009 учебном году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крепление и сохранение здоровья детей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Информатизация МОУ «Покшеньгская основная школа № 21» Пинежского района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Развитие воспитания в школе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Одарённые дети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1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Адаптация учащихся при переходе из начального в среднее звено обучения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752120"/>
            <a:ext cx="5257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ЦЕЛЬ 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еспечение плавного, постепенного и нетравмированного перехода учащихся из начальной в основную школу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оздание педагогических и социально-психологических условий, позволяющих учащимся учиться, функционировать и развиваться в новой системе школьных отношений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формировать умения ориентироваться в новом информационном поле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мочь в освоении нового учебного пространства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рганизовать психолого-педагогическое сопровождение учащихся в период адаптаци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9:40:32Z</dcterms:created>
  <dc:creator>User</dc:creator>
  <dc:description/>
  <cp:keywords/>
  <dc:language>en-US</dc:language>
  <cp:lastModifiedBy>1</cp:lastModifiedBy>
  <dcterms:modified xsi:type="dcterms:W3CDTF">2011-02-07T09:33:59Z</dcterms:modified>
  <cp:revision>3</cp:revision>
  <dc:subject/>
  <dc:title>ПРОГРАММА РАЗВИТИЯ МУНИЦИПАЛЬНОГО ОБРАЗОВАТЕЛЬНОГО УЧРЕЖДЕНИЯ «Покшеньгская основная школа № 21»  ПИНЕЖСКОГО РАЙОНА АРХАНГЕЛЬСКОЙ ОБЛАСТИ НА 2008-2011 Г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