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38C-A66E-4C43-B63F-0A1C3B8B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00C-D03E-4A22-A947-D1775728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385-FEE2-47A1-8AF4-7B5835E3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8C1-2BCB-4966-B11B-93AF3177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421-315E-4A47-81AD-864DABDD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CDB-2D2F-4AAB-8470-42AE347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5E6-9409-40A6-8A11-474D3C1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850-E0A6-4D92-95BB-AAE12FD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A68-7E9D-4CBC-84D7-ADC38BFC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063-B737-40B0-B573-41E6B9E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377A-F0CF-41DA-B3A7-2C2ADE4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23F-1679-4239-8564-2C1FEBE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0CCF-D520-4FC8-A3DD-C3389AFA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iles.33b.ru/smile.29414.html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Ход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онный момен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тные упраж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 упражнений на 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Тема урока: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«Решение неравенств второй степени с одной переменн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7993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торить знания о квадратичной функции, закрепить знания  решения неравен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gt;0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0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≤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основе свойств квадратичн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бучение сотрудничеству, культуре общения «никогда не берись за последующее, не усвоив предыдущее» академик И.П. Пав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умение выделять главное, анализировать,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1773360"/>
            <a:ext cx="11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5200" y="549360"/>
            <a:ext cx="382104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16360" y="549360"/>
            <a:ext cx="3821040" cy="26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3400" y="3429000"/>
            <a:ext cx="3824280" cy="26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788000" y="3573360"/>
            <a:ext cx="3824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200" y="620640"/>
            <a:ext cx="382104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56320" y="620640"/>
            <a:ext cx="38210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63400" y="3645000"/>
            <a:ext cx="3824280" cy="248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754520" y="3645000"/>
            <a:ext cx="3824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9280" y="1413000"/>
            <a:ext cx="36734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х € (-∞;- 6)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(1;+ ∞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х € (- 6; 1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≤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х € [- 6; 1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Запишите ответы по данному графи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413000"/>
            <a:ext cx="418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 Решение  упражнений  на закреплени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: найти область определения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аем неравенство: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2х2 - 12х + 16 ≥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.Рассмотрим функцию: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у = 2х2 - 12х +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.Графиком функции является парабола, ветви которой направлены вверх, т.к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&gt;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.Выясним расположение параболы в координатной плоскости, для этого решаем уравн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х2-12х+16=0,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144 - 4*2*16=16   &gt; 0,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&gt; 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авнение имеет два корн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. Схематически строим 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рисунка видно, что данное неравенство вер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х принадлежит промежутку (-∞;2]  или [4;+∞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множеством решений нераве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яется 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межутков (-∞;2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[4;+∞), запишем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5).Ответ х € (-∞;2]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[4;+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92360" y="3500280"/>
                <a:ext cx="2314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278460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547640" y="981000"/>
                <a:ext cx="1285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 на 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.8 вопрос 1 на стр. 50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№117, 119(а,г,е), 128, 155 (а,б) (из сборника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Самостоятельная раб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 № № 189 (а), 191(а), 154*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вариант № № 189 (б), 191(б), 154* 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00720" y="4862520"/>
            <a:ext cx="2087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b4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86160" y="3005280"/>
            <a:ext cx="4171680" cy="171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763640" y="1628640"/>
            <a:ext cx="4915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 за 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11:33Z</dcterms:created>
  <dc:creator>ADMIN</dc:creator>
  <dc:description/>
  <dc:language>en-US</dc:language>
  <cp:lastModifiedBy>Admin</cp:lastModifiedBy>
  <dcterms:modified xsi:type="dcterms:W3CDTF">2009-10-14T04:45:43Z</dcterms:modified>
  <cp:revision>14</cp:revision>
  <dc:subject/>
  <dc:title>Тема урока: «Решение неравенств второй степени с одной переменной»</dc:title>
</cp:coreProperties>
</file>