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8DCF-508C-4DA2-93B6-43F2AA3B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A8B6-52CA-4BE1-9DE3-75630F2F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297F-7929-4B2F-9904-E455125F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534C-2BAD-4F4D-B400-1CF13BFB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7EF5-AC86-44DE-848B-7305EE36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72A8-A3E2-4F85-90FA-8B55EBB2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073-B3D9-4FA0-8C65-9FBD5FB5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0B7B-42E8-479B-AE0B-B5EFCF7D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CF7B-2696-463E-A213-7DB2B513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41A7-AB7B-4D85-8AC0-E783CB20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7894-4B49-4E51-97D6-5BF0EE23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38EF-696A-44FE-8AE1-40066C45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5B80-632E-42CD-99D2-621119997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miles.33b.ru/smile.29414.html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Ход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рганизационный момен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оверка домашнего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стные упражн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Решение упражнений на закреп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Тема урока: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«Решение неравенств второй степени с одной переменн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9280" y="2491920"/>
            <a:ext cx="7993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торить знания о квадратичной функции, закрепить знания  решения неравен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x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gt;0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x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0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x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≤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основе свойств квадратичной фун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обучение сотрудничеству, культуре общения «никогда не берись за последующее, не усвоив предыдущее» академик И.П. Пав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умение выделять главное, анализировать, 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80360" y="1773360"/>
            <a:ext cx="1181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65200" y="549360"/>
            <a:ext cx="3821040" cy="2663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716360" y="549360"/>
            <a:ext cx="3821040" cy="266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63400" y="3429000"/>
            <a:ext cx="3824280" cy="2697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4788000" y="3573360"/>
            <a:ext cx="38242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5200" y="620640"/>
            <a:ext cx="3821040" cy="2592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756320" y="620640"/>
            <a:ext cx="3821040" cy="259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63400" y="3645000"/>
            <a:ext cx="3824280" cy="248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754520" y="3645000"/>
            <a:ext cx="38242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859280" y="1413000"/>
            <a:ext cx="36734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х € (-∞;- 6)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(1;+ ∞)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х € (- 6; 1)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≤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х € [- 6; 1]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Запишите ответы по данному графи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413000"/>
            <a:ext cx="4186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5. Решение  упражнений  на закрепление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62028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: найти область определения фун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аем неравенство: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2х2 - 12х + 16 ≥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.Рассмотрим функцию: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у = 2х2 - 12х +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.Графиком функции является парабола, ветви которой направлены вверх, т.к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&gt;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.Выясним расположение параболы в координатной плоскости, для этого решаем уравне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х2-12х+16=0,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-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144 - 4*2*16=16   &gt; 0,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&gt; 0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равнение имеет два корн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). Схематически строим график фун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рисунка видно, что данное неравенство вер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х принадлежит промежутку (-∞;2]  или [4;+∞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е. множеством решений неравен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вляется объеди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межутков (-∞;2]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[4;+∞), запишем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5).Ответ х € (-∞;2]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[4;+∞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492360" y="3500280"/>
                <a:ext cx="23148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4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940360" y="3500280"/>
            <a:ext cx="2784600" cy="2305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547640" y="981000"/>
                <a:ext cx="12859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на д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.8 вопрос 1 на стр. 50,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№№117, 119(а,г,е), 128, 155 (а,б) (из сборника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000"/>
                </a:solidFill>
                <a:latin typeface="Arial"/>
              </a:rPr>
              <a:t>Самостоятельная рабо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вариант № № 189 (а), 191(а), 154* (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вариант № № 189 (б), 191(б), 154* (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300720" y="4862520"/>
            <a:ext cx="208764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93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b4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486160" y="3005280"/>
            <a:ext cx="4171680" cy="1714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763640" y="1628640"/>
            <a:ext cx="49150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 за 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9:11:33Z</dcterms:created>
  <dc:creator>ADMIN</dc:creator>
  <dc:description/>
  <dc:language>en-US</dc:language>
  <cp:lastModifiedBy>Admin</cp:lastModifiedBy>
  <dcterms:modified xsi:type="dcterms:W3CDTF">2009-10-14T04:45:43Z</dcterms:modified>
  <cp:revision>14</cp:revision>
  <dc:subject/>
  <dc:title>Тема урока: «Решение неравенств второй степени с одной переменной»</dc:title>
</cp:coreProperties>
</file>