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8461-9215-4CC9-A129-B353C3A37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A026-A8BD-456D-88BA-63855581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19AB-792D-43C7-B235-C1BF2955B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C79E-416D-4234-A9FB-A427200EC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E0E1-A204-4057-89B6-99D42024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91A6-5396-463B-8A2C-0D8E18F1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EF42-DA2E-46C9-A183-B00F5005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F140-6B4F-478E-AED1-8D0485F8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044E-AB5B-479A-A825-2F551D91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4B40-0CD4-4096-84A3-E42DE625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4AA1-B148-4FFB-B8D4-863207B2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1F69-9A31-40DB-A076-89A531F0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A8E7-D44F-4065-BA33-E4DDE3E53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miles.33b.ru/smile.67766.html" TargetMode="External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Структура урока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Организационный этап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Актуализация опорных знаний и ум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Ознакомление учащихся с темой урока; постановка целей и задач уро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Решение задач. Закреп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мостоятельная работ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Определение домашнего зад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Подведение итогов уро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Анк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 rot="924600">
            <a:off x="6006600" y="3854520"/>
            <a:ext cx="2853000" cy="2730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58960" y="260280"/>
            <a:ext cx="74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разец решения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836640"/>
            <a:ext cx="7848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Лизы, у Миши и Саши 47 марок. Причем, у Лизы на 5 марок больше, чем у Миши, а у Саши в 4 раза больше, чем у Миши. Сколько марок у каждог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усть х марок у Миши, тогда у Лизы х+5 марок, у Саши 4х марок. А т.к. по условию задачи у Лизы, у Миши и Саши вместе 47 марок, составим уравн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х + х + 5+ 4х = 4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х + 5 = 4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х = 47 – 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х = 4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 = 42 :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 = 7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+ 5 = 12 (марок) у Лиз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* 4 = 28 (марок) у Са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вет: 7 марок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марок и 28 марок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4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 rot="924600">
            <a:off x="6006600" y="3854520"/>
            <a:ext cx="2853000" cy="2730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11280" y="667080"/>
            <a:ext cx="8137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Домашнее задание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 клас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п. 10, № 383 (а, в, д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87 (б), № 361 (а, 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6 клас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п.11, № 328(г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60 (в, е, и, м, п) № 3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клас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3 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6 =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3 *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= 1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36 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: 3= 1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 + 8 = 27 –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4х + 3х = 4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832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3,2 = 3,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0,6 = 1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,8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4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0,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,5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0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: 1,4 = 0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х + 20) – 8 = 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45 – у) + 18 = 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аем уравнения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5 класс                                   6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3 =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6 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х + 8 = 27 –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х - 3 = 36 :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1484280"/>
            <a:ext cx="3960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3,2 = 3,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0,6 = 1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,8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40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*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0,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,5 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0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: 14 = 0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х + 20) – 8 =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45 – у) + 18 = 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71640" y="476280"/>
          <a:ext cx="6121440" cy="4657680"/>
        </p:xfrm>
        <a:graphic>
          <a:graphicData uri="http://schemas.openxmlformats.org/drawingml/2006/table">
            <a:tbl>
              <a:tblPr/>
              <a:tblGrid>
                <a:gridCol w="5545080"/>
                <a:gridCol w="5763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) 20 – х = 1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) 48 : 6 + 5 -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) 46 + (3 – х) = 48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) 2 (17 – 14,5)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) 6х – 15 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) 13 – х + 2  при х = 9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) 1,5х + 2 , при х =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) 16 – х = 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) 3у – 3х - 1 , при у =3, х =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0" y="4183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9112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ff"/>
                </a:solidFill>
                <a:latin typeface="Arial"/>
              </a:rPr>
              <a:t>Тема урока: Решение уравнений и задач при помощи уравн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Цели урок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Образовательны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5 класс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: Учить формулировать определение уравнения, корня. Объяснить, что значит решить уравнение, учиться решать уравнения и задачи при помощи уравн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6 класс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: продолжить формирование у учащихся умения решать уравнения и задачи с помощью уравнений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и 6 классы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обеспечить понимание содержания учебного материала всеми учащимис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Воспитательны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воспитывать познавательную активность учащихс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прививать самостоятельность и любознательность, интерес и любовь к предмету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формирование навыков совместной деятель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воспитание уважения друг к друг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воспитание  познавательной активности учащихс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Развивающи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 развитие умений и навыков устной и письменной речи, вычислительных навык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развитие интереса к предмет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формирование умения чётко и ясно излагать свои мысли, задавать вопрос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Тип занятия</a:t>
            </a:r>
            <a:r>
              <a:rPr b="0" i="1" lang="en-US" sz="1400" spc="-1" strike="noStrike">
                <a:solidFill>
                  <a:srgbClr val="3333ff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изученного материала в 5 классе, повторение в 6 клас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Доминирующий метод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фронтальная, групповая деятельно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Что же такое уравн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(Равенство, содержащее букву, значение которой надо най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ff"/>
                </a:solidFill>
                <a:latin typeface="Arial"/>
              </a:rPr>
              <a:t>Что значит решить уравнени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(Значит найти все его корни (или убедиться, что это уравнение  не имеет ни одного корня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ff"/>
                </a:solidFill>
                <a:latin typeface="Arial"/>
              </a:rPr>
              <a:t>Что такое корень уравн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(Значение буквы, при котором из уравнения получается верное числовое равенств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ff"/>
                </a:solidFill>
                <a:latin typeface="Arial"/>
              </a:rPr>
              <a:t>Какие правила нам помогут решить уравн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765000"/>
            <a:ext cx="835344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называются компоненты при слож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найти неизвестное слагаемо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называются компоненты при вычита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найти неизвестное вычитаемо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найти неизвестное уменьшаемо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называются компоненты при умнож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найти неизвестный множите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называют компоненты при дел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найти неизвестный делите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найти неизвестное делимо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проверить прави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ения уравн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659640" y="3573360"/>
            <a:ext cx="207972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Решение уравнений и задач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разец устного от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3467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 = 26 – 1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х =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вет: 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– у = 2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= 30 – 22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у =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вет: 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– 34  = 1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= 16 + 34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m  = 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твет : 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78240" y="1484280"/>
            <a:ext cx="61974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Чтобы найти неизвестное слагаем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надо из суммы вычесть второе слагае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верка: 11 + 15 = 26,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1 – корень урав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Чтобы найти неизвестное вычитаемое, надо из уменьшаемого вычесть раз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верка: 22 + 8 = 30, 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8 – корень урав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Чтобы найти неизвестное уменьшаемое, надо к разности прибавить вычитае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верка: 34 + 16 = 50,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50 – корень урав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5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" dur="500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Предмет математики настолько серьёзе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полезно не упускать случа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лать его немного занимательны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.Паскаль, французский учё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-98280"/>
            <a:ext cx="208908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877080" y="5135400"/>
            <a:ext cx="1511280" cy="11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339920" cy="1582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7020000" y="4797360"/>
            <a:ext cx="1095480" cy="1457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780000" y="2708280"/>
            <a:ext cx="1339560" cy="1584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324000" y="4797360"/>
            <a:ext cx="1452240" cy="1559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3440" y="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а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5800" y="436572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и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1240" y="6400800"/>
            <a:ext cx="11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ё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1701720"/>
            <a:ext cx="9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а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8160" y="623556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250920" y="404640"/>
            <a:ext cx="2232000" cy="1713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635280" y="227664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  ма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8949800">
            <a:off x="1654920" y="4025160"/>
            <a:ext cx="18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3  меньш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9573800">
            <a:off x="4641480" y="1267560"/>
            <a:ext cx="21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2 раза больш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668800">
            <a:off x="5098680" y="380016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5 больш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2266800">
            <a:off x="1922400" y="923400"/>
            <a:ext cx="21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4 раза больш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932360" y="1341000"/>
            <a:ext cx="194472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59280" y="3645000"/>
            <a:ext cx="216072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835280" y="3429000"/>
            <a:ext cx="2232000" cy="23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19280" y="595008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59640" y="1700280"/>
            <a:ext cx="43344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987640" y="69228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403280" y="1915920"/>
            <a:ext cx="432000" cy="26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2123640" y="1125000"/>
            <a:ext cx="158436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ьте по рисунку выражение, условие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 – 3 марки у Але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 + 5 марок у Лиз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х марок у Даш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х марок у Саш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Миши х марок, а у Алены на 3 марки меньш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олько марок у Миши, если у Алены12 марок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Лизы и у Миши 19 мар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олько марок у Миши и сколько у Лизы, если у Лизы на 5 марок больше, чем у Миш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олько марок у каждого из мальчиков, если вместе у них 45 марок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7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2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08:32:14Z</dcterms:created>
  <dc:creator>ADMIN</dc:creator>
  <dc:description/>
  <dc:language>en-US</dc:language>
  <cp:lastModifiedBy>ADMIN</cp:lastModifiedBy>
  <dcterms:modified xsi:type="dcterms:W3CDTF">2009-10-14T03:55:18Z</dcterms:modified>
  <cp:revision>38</cp:revision>
  <dc:subject/>
  <dc:title>Слайд 1</dc:title>
</cp:coreProperties>
</file>