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291-01A8-4C53-8222-393ED5BA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D8-9E7B-492B-8561-538A0F5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E4B-2225-456A-80FB-92502674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A32-CAA2-4DD5-BDE2-42710985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D71-75A4-45C8-A91D-9E5CE3FB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1FE-5F92-4722-9864-1A0F394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E34-90F4-45E7-A83F-58C96A9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ADD-D3AF-41D1-ACA4-1B7F13B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402-2C9D-4EFF-B491-1C282F7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A59-E3F7-4480-A924-A28A001C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F13-AF33-41B4-AD60-6AACC0D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B6E-9C42-4CB4-8510-4B772582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E6C-640B-4FA9-A1DB-3F2668AEF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miles.33b.ru/smile.67766.html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Структура уро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Организационный эта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Актуализация опорных знаний и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Ознакомление учащихся с темой урока; постановка целей и задач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Решение задач. Закре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стоятельная рабо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Определение домашнего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Подведение итогов уро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Ан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924600">
            <a:off x="6006600" y="3854520"/>
            <a:ext cx="2853000" cy="273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8960" y="260280"/>
            <a:ext cx="74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ец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836640"/>
            <a:ext cx="784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Лизы, у Миши и Саши 47 марок. Причем, у Лизы на 5 марок больше, чем у Миши, а у Саши в 4 раза больше, чем у Миши. Сколько марок у каждог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х марок у Миши, тогда у Лизы х+5 марок, у Саши 4х марок. А т.к. по условию задачи у Лизы, у Миши и Саши вместе 47 марок, 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х + х + 5+ 4х = 4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х + 5 = 4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х = 47 –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х = 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= 42 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= 7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+ 5 = 12 (марок) у Ли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* 4 = 28 (марок) у Са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7 марок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марок и 28 маро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924600">
            <a:off x="6006600" y="3854520"/>
            <a:ext cx="2853000" cy="273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66708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Домашнее задание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 кла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. 10, № 383 (а, в, д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7 (б), № 361 (а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кла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.11, № 328(г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0 (в, е, и, м, п) № 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6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 *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= 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6 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: 3= 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+ 8 = 27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4х + 3х = 4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,2 = 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0,6 = 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,8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4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,5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1,4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х + 20) – 8 =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45 – у) + 18 = 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ем уравнения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5 класс                                  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3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6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 + 8 = 27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 - 3 = 36 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484280"/>
            <a:ext cx="396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3,2 = 3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0,6 =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8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5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 14 = 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х + 20) – 8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5 – у) + 18 =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476280"/>
          <a:ext cx="6121440" cy="4657680"/>
        </p:xfrm>
        <a:graphic>
          <a:graphicData uri="http://schemas.openxmlformats.org/drawingml/2006/table">
            <a:tbl>
              <a:tblPr/>
              <a:tblGrid>
                <a:gridCol w="5545080"/>
                <a:gridCol w="576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) 20 – х = 1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) 48 : 6 + 5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) 46 + (3 – х) = 48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) 2 (17 – 14,5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) 6х – 15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) 13 – х + 2  при х = 9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) 1,5х + 2 , при х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) 16 – х =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) 3у – 3х - 1 , при у =3, х =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0" y="4183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Тема урока: Решение уравнений и задач при помощи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Учить формулировать определение уравнения, корня. Объяснить, что значит решить уравнение, учиться решать уравнения и задачи при помощи урав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: продолжить формирование у учащихся умения решать уравнения и задачи с помощью уравне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и 6 класс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обеспечить понимание содержания учебного материала всеми учащими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оспитывать познавательную активность уча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рививать самостоятельность и любознательность, интерес и любовь к предмет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формирование навыков совмест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оспитание уважения друг к друг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воспитание  познавательной активности уча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развитие умений и навыков устной и письменной речи, вычислительных навы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развитие интереса к предм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формирование умения чётко и ясно излагать свои мысли, задавать вопрос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ff"/>
                </a:solidFill>
                <a:latin typeface="Arial"/>
              </a:rPr>
              <a:t>Тип занятия</a:t>
            </a:r>
            <a:r>
              <a:rPr b="0" i="1" lang="en-US" sz="1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изученного материала в 5 классе, повторение в 6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оминирующий метод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фронтальная, групповая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Что же такое урав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Равенство, содержащее букву, значение которой надо най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Что значит решить уравн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Значит найти все его корни (или убедиться, что это уравнение  не имеет ни одного корня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Что такое корень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(Значение буквы, при котором из уравнения получается верное числовое равен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Какие правила нам помогут решить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765000"/>
            <a:ext cx="835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ся компоненты при с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слага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ся компоненты при вычит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вычитаемо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уменьшае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ся компоненты при умн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ый множи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ют компоненты при де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ый дели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йти неизвестное делим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оверить прав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я урав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59640" y="3573360"/>
            <a:ext cx="20797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Решение уравнений и задач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ец устного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467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= 26 – 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х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– у = 2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30 – 2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– 34  =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= 16 + 3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m  =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ет :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8240" y="1484280"/>
            <a:ext cx="6197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тобы найти неизвестное слагаем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надо из суммы вычесть второе слаг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 11 + 15 = 26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1 – корень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тобы найти неизвестное вычитаемое, надо из уменьшаемого вычесть раз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 22 + 8 = 30,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 – корень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Чтобы найти неизвестное уменьшаемое, надо к разности прибавить вычит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: 34 + 16 = 50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– корень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редмет математики настолько серьёз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лезно не упускать случ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ать его немного занимательн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Паскаль, французский учё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-9828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77080" y="5135400"/>
            <a:ext cx="15112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33992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20000" y="4797360"/>
            <a:ext cx="1095480" cy="1457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1339560" cy="1584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1452240" cy="155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3440" y="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5800" y="43657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240" y="640080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ё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170172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160" y="6235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50920" y="404640"/>
            <a:ext cx="2232000" cy="171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35280" y="22766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 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949800">
            <a:off x="1654920" y="40251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3  мен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573800">
            <a:off x="4641480" y="126756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2 раза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668800">
            <a:off x="5098680" y="38001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5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266800">
            <a:off x="1922400" y="92340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4 раза боль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932360" y="1341000"/>
            <a:ext cx="1944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3645000"/>
            <a:ext cx="2160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35280" y="3429000"/>
            <a:ext cx="223200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595008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1700280"/>
            <a:ext cx="43344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87640" y="69228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03280" y="1915920"/>
            <a:ext cx="432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123640" y="1125000"/>
            <a:ext cx="1584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о рисунку выражение, услови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– 3 марки у Але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+ 5 марок у Ли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х марок у Даш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х марок у Саш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Миши х марок, а у Алены на 3 марки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марок у Миши, если у Алены12 марок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Лизы и у Миши 19 ма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марок у Миши и сколько у Лизы, если у Лизы на 5 марок больше, чем у Миш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марок у каждого из мальчиков, если вместе у них 45 марок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32:14Z</dcterms:created>
  <dc:creator>ADMIN</dc:creator>
  <dc:description/>
  <dc:language>en-US</dc:language>
  <cp:lastModifiedBy>ADMIN</cp:lastModifiedBy>
  <dcterms:modified xsi:type="dcterms:W3CDTF">2009-10-14T03:55:18Z</dcterms:modified>
  <cp:revision>38</cp:revision>
  <dc:subject/>
  <dc:title>Слайд 1</dc:title>
</cp:coreProperties>
</file>