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3.png" ContentType="image/png"/>
  <Override PartName="/ppt/media/image11.jpeg" ContentType="image/jpeg"/>
  <Override PartName="/ppt/media/image9.jpeg" ContentType="image/jpeg"/>
  <Override PartName="/ppt/media/image19.gif" ContentType="image/gif"/>
  <Override PartName="/ppt/media/image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6.gif" ContentType="image/gif"/>
  <Override PartName="/ppt/media/image2.png" ContentType="image/png"/>
  <Override PartName="/ppt/media/image14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18.png" ContentType="image/png"/>
  <Override PartName="/ppt/media/image15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CEE7F-976C-4393-8E22-7B4765E37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9CCBA-D891-4F9C-B4A5-522BD42EA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0C1FA-388F-4FB0-AAFE-CE0F0D6FE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97F52-B471-49F2-9390-83652E96C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A4767-5589-4BCA-A6F7-FDF7EAF6D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60B63-EBE3-4B3E-9AEC-8B2171121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AAAEE-3C81-4C3F-88D0-7ED0AD882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15F35-C68C-4990-BC53-95DA93E3F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EFF6C-F2EB-4BC7-ABC2-B2F5CCF6A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BD80E-8B12-46EE-9AF2-82764E9E2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CB304-274A-42B8-B8F8-1465F4C1D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1C917-ADE3-4F41-B4CB-D68B2F475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A59A1-9FEE-4A42-8379-FE4598D11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3C024-7440-4D71-A27A-E1C4165CD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1B732-53E9-4D72-A280-1CFC6FB7F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297C5-4C3D-4959-A92D-C8E0DF94B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8D4EA-671A-4CD5-9FEB-B5B33F99B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572DE-6109-4D2A-ADD7-1676BFB7B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7DD37-F349-4992-9CB1-61050F49D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AAD89-B788-413E-A2FC-B7BAC2741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BB344-1657-4DDF-B334-07E80E18E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01D7B-BF97-4C74-9882-8DEA9EB55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35BAA-0649-4A35-97CD-F09458076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52468-AF0E-4D7D-B8FE-6B69391DE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6858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A18D2-5FBA-4668-81DC-F5362EA6028E}" type="slidenum">
              <a:rPr b="0" lang="en-US" sz="1400" spc="-1" strike="noStrike">
                <a:solidFill>
                  <a:srgbClr val="4824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4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16B94-892E-43AF-8BE6-8450CE842B73}" type="slidenum">
              <a:rPr b="0" lang="en-US" sz="1400" spc="-1" strike="noStrike">
                <a:solidFill>
                  <a:srgbClr val="4824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0" y="0"/>
            <a:ext cx="6362640" cy="6858000"/>
            <a:chOff x="0" y="0"/>
            <a:chExt cx="6362640" cy="6858000"/>
          </a:xfrm>
        </p:grpSpPr>
        <p:pic>
          <p:nvPicPr>
            <p:cNvPr id="48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6858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" descr=""/>
            <p:cNvPicPr/>
            <p:nvPr/>
          </p:nvPicPr>
          <p:blipFill>
            <a:blip r:embed="rId4"/>
            <a:stretch/>
          </p:blipFill>
          <p:spPr>
            <a:xfrm>
              <a:off x="3505320" y="5715000"/>
              <a:ext cx="2857320" cy="95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0" name="" descr=""/>
          <p:cNvPicPr/>
          <p:nvPr/>
        </p:nvPicPr>
        <p:blipFill>
          <a:blip r:embed="rId5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1.xml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1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image" Target="../media/image11.jpeg"/><Relationship Id="rId5" Type="http://schemas.openxmlformats.org/officeDocument/2006/relationships/image" Target="../media/image11.jpe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1979640" y="476280"/>
            <a:ext cx="561672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резентация учителя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3635280" y="4797360"/>
            <a:ext cx="216072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10 класс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1835280" y="2708280"/>
            <a:ext cx="626580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химия - биология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476360" y="1989000"/>
            <a:ext cx="395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строительн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476360" y="2565360"/>
            <a:ext cx="38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транспортн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76360" y="4005360"/>
            <a:ext cx="388764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993300"/>
                </a:solidFill>
                <a:uFillTx/>
                <a:latin typeface="Verdana"/>
                <a:hlinkClick r:id="rId2" action="ppaction://hlinksldjump"/>
              </a:rPr>
              <a:t>двигательн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476360" y="3284640"/>
            <a:ext cx="395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каталитическ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547640" y="4581360"/>
            <a:ext cx="41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защитн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1116000" y="333360"/>
            <a:ext cx="7343640" cy="13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Times New Roman"/>
              </a:rPr>
              <a:t>Функции белков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1042920" y="220500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4"/>
          <a:stretch/>
        </p:blipFill>
        <p:spPr>
          <a:xfrm>
            <a:off x="1042920" y="270828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5"/>
          <a:stretch/>
        </p:blipFill>
        <p:spPr>
          <a:xfrm>
            <a:off x="1042920" y="335772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6"/>
          <a:stretch/>
        </p:blipFill>
        <p:spPr>
          <a:xfrm>
            <a:off x="1042920" y="414972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7"/>
          <a:stretch/>
        </p:blipFill>
        <p:spPr>
          <a:xfrm>
            <a:off x="1042920" y="4724280"/>
            <a:ext cx="360360" cy="3603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0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5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8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6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1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4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2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1116000" y="1844640"/>
            <a:ext cx="7056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Белки актин и миозин входят в состав мышечных волокон, жгутиков, ресничек и обеспечивают движ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>
            <a:hlinkClick r:id="" action="ppaction://hlinkshowjump?jump=previousslide"/>
          </p:cNvPr>
          <p:cNvSpPr/>
          <p:nvPr/>
        </p:nvSpPr>
        <p:spPr>
          <a:xfrm>
            <a:off x="7885080" y="5734080"/>
            <a:ext cx="287280" cy="35892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358920"/>
              <a:gd name="textAreaBottom" fmla="*/ 340560 h 358920"/>
            </a:gdLst>
            <a:ahLst/>
            <a:rect l="textAreaLeft" t="textAreaTop" r="textAreaRight" b="textAreaBottom"/>
            <a:pathLst>
              <a:path w="21600" h="26980">
                <a:moveTo>
                  <a:pt x="0" y="0"/>
                </a:moveTo>
                <a:lnTo>
                  <a:pt x="21600" y="0"/>
                </a:lnTo>
                <a:lnTo>
                  <a:pt x="21600" y="26980"/>
                </a:lnTo>
                <a:lnTo>
                  <a:pt x="0" y="26980"/>
                </a:lnTo>
                <a:close/>
              </a:path>
              <a:path fill="lightenLess" w="21600" h="2698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80">
                <a:moveTo>
                  <a:pt x="21600" y="0"/>
                </a:moveTo>
                <a:lnTo>
                  <a:pt x="21600" y="26980"/>
                </a:lnTo>
                <a:lnTo>
                  <a:pt x="20200" y="25580"/>
                </a:lnTo>
                <a:lnTo>
                  <a:pt x="20200" y="1400"/>
                </a:lnTo>
                <a:close/>
              </a:path>
              <a:path fill="darkenLess" w="21600" h="26980">
                <a:moveTo>
                  <a:pt x="21600" y="26980"/>
                </a:moveTo>
                <a:lnTo>
                  <a:pt x="0" y="26980"/>
                </a:lnTo>
                <a:lnTo>
                  <a:pt x="1400" y="25580"/>
                </a:lnTo>
                <a:lnTo>
                  <a:pt x="20200" y="25580"/>
                </a:lnTo>
                <a:close/>
              </a:path>
              <a:path fill="lighten" w="21600" h="26980">
                <a:moveTo>
                  <a:pt x="0" y="2698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80"/>
                </a:lnTo>
                <a:close/>
              </a:path>
              <a:path fill="darken" w="21600" h="26980">
                <a:moveTo>
                  <a:pt x="3794" y="6483"/>
                </a:moveTo>
                <a:lnTo>
                  <a:pt x="17806" y="13490"/>
                </a:lnTo>
                <a:lnTo>
                  <a:pt x="3794" y="20496"/>
                </a:lnTo>
                <a:close/>
              </a:path>
            </a:pathLst>
          </a:custGeom>
          <a:solidFill>
            <a:srgbClr val="dfd6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3203640" y="4005360"/>
            <a:ext cx="2371680" cy="244800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 txBox="1"/>
          <p:nvPr/>
        </p:nvSpPr>
        <p:spPr>
          <a:xfrm>
            <a:off x="1476360" y="549360"/>
            <a:ext cx="655164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Двигательная функция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wedge/>
  </p:transition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6" dur="8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01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7" dur="8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01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8" dur="8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5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1042920" y="1628640"/>
            <a:ext cx="712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Белок гемоглобин переносит кислород в крови и мышцах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8244000" y="6093000"/>
            <a:ext cx="360360" cy="288720"/>
          </a:xfrm>
          <a:custGeom>
            <a:avLst/>
            <a:gdLst>
              <a:gd name="textAreaLeft" fmla="*/ 18720 w 360360"/>
              <a:gd name="textAreaRight" fmla="*/ 341640 w 36036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26953" h="21600">
                <a:moveTo>
                  <a:pt x="0" y="0"/>
                </a:moveTo>
                <a:lnTo>
                  <a:pt x="26953" y="0"/>
                </a:lnTo>
                <a:lnTo>
                  <a:pt x="26953" y="21600"/>
                </a:lnTo>
                <a:lnTo>
                  <a:pt x="0" y="21600"/>
                </a:lnTo>
                <a:close/>
              </a:path>
              <a:path fill="lightenLess" w="26953" h="21600">
                <a:moveTo>
                  <a:pt x="0" y="0"/>
                </a:moveTo>
                <a:lnTo>
                  <a:pt x="26953" y="0"/>
                </a:lnTo>
                <a:lnTo>
                  <a:pt x="25553" y="1400"/>
                </a:lnTo>
                <a:lnTo>
                  <a:pt x="1400" y="1400"/>
                </a:lnTo>
                <a:close/>
              </a:path>
              <a:path fill="darken" w="26953" h="21600">
                <a:moveTo>
                  <a:pt x="26953" y="0"/>
                </a:moveTo>
                <a:lnTo>
                  <a:pt x="26953" y="21600"/>
                </a:lnTo>
                <a:lnTo>
                  <a:pt x="25553" y="20200"/>
                </a:lnTo>
                <a:lnTo>
                  <a:pt x="25553" y="1400"/>
                </a:lnTo>
                <a:close/>
              </a:path>
              <a:path fill="darkenLess" w="26953" h="21600">
                <a:moveTo>
                  <a:pt x="269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53" y="20200"/>
                </a:lnTo>
                <a:close/>
              </a:path>
              <a:path fill="lighten" w="269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53" h="21600">
                <a:moveTo>
                  <a:pt x="6470" y="3794"/>
                </a:moveTo>
                <a:lnTo>
                  <a:pt x="20483" y="10800"/>
                </a:lnTo>
                <a:lnTo>
                  <a:pt x="6470" y="17806"/>
                </a:lnTo>
                <a:close/>
              </a:path>
            </a:pathLst>
          </a:custGeom>
          <a:solidFill>
            <a:srgbClr val="dfd6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3276720" y="2924280"/>
            <a:ext cx="2755800" cy="352728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1547640" y="476280"/>
            <a:ext cx="662472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Times New Roman"/>
              </a:rPr>
              <a:t>Транспортная функция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wedge/>
  </p:transition>
  <p:timing>
    <p:tnLst>
      <p:par>
        <p:cTn id="606" dur="indefinite" restart="never" nodeType="tmRoot">
          <p:childTnLst>
            <p:seq>
              <p:cTn id="607" dur="indefinite" nodeType="mainSeq">
                <p:childTnLst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4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9" dur="8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01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0" dur="8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01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1" dur="8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8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3348000" y="1628640"/>
            <a:ext cx="2016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258920" y="1773360"/>
            <a:ext cx="7129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Кератин – компонент оболочек клеток сухожилий, костей, хрящей, волос, перье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8172360" y="5950080"/>
            <a:ext cx="360360" cy="3585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21708" h="21600">
                <a:moveTo>
                  <a:pt x="0" y="0"/>
                </a:moveTo>
                <a:lnTo>
                  <a:pt x="21708" y="0"/>
                </a:lnTo>
                <a:lnTo>
                  <a:pt x="21708" y="21600"/>
                </a:lnTo>
                <a:lnTo>
                  <a:pt x="0" y="21600"/>
                </a:lnTo>
                <a:close/>
              </a:path>
              <a:path fill="lightenLess" w="21708" h="21600">
                <a:moveTo>
                  <a:pt x="0" y="0"/>
                </a:moveTo>
                <a:lnTo>
                  <a:pt x="21708" y="0"/>
                </a:lnTo>
                <a:lnTo>
                  <a:pt x="20308" y="1400"/>
                </a:lnTo>
                <a:lnTo>
                  <a:pt x="1400" y="1400"/>
                </a:lnTo>
                <a:close/>
              </a:path>
              <a:path fill="darken" w="21708" h="21600">
                <a:moveTo>
                  <a:pt x="21708" y="0"/>
                </a:moveTo>
                <a:lnTo>
                  <a:pt x="21708" y="21600"/>
                </a:lnTo>
                <a:lnTo>
                  <a:pt x="20308" y="20200"/>
                </a:lnTo>
                <a:lnTo>
                  <a:pt x="20308" y="1400"/>
                </a:lnTo>
                <a:close/>
              </a:path>
              <a:path fill="darkenLess" w="21708" h="21600">
                <a:moveTo>
                  <a:pt x="217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08" y="20200"/>
                </a:lnTo>
                <a:close/>
              </a:path>
              <a:path fill="lighten" w="217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708" h="21600">
                <a:moveTo>
                  <a:pt x="3848" y="3794"/>
                </a:moveTo>
                <a:lnTo>
                  <a:pt x="17861" y="10800"/>
                </a:lnTo>
                <a:lnTo>
                  <a:pt x="3848" y="17806"/>
                </a:lnTo>
                <a:close/>
              </a:path>
            </a:pathLst>
          </a:custGeom>
          <a:solidFill>
            <a:srgbClr val="dfd6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3635280" y="3645000"/>
            <a:ext cx="2130480" cy="266364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 txBox="1"/>
          <p:nvPr/>
        </p:nvSpPr>
        <p:spPr>
          <a:xfrm>
            <a:off x="1547640" y="765000"/>
            <a:ext cx="61930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Строительная функция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wedge/>
  </p:transition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2" dur="8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01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3" dur="8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01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4" dur="8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32000" y="1700280"/>
            <a:ext cx="7056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Белки – ферменты ускоряют биохимические реакции, протекающие в клетк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8388360" y="6165720"/>
            <a:ext cx="287280" cy="28764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287640"/>
              <a:gd name="textAreaBottom" fmla="*/ 269280 h 287640"/>
            </a:gdLst>
            <a:ahLst/>
            <a:rect l="textAreaLeft" t="textAreaTop" r="textAreaRight" b="textAreaBottom"/>
            <a:pathLst>
              <a:path w="21600" h="21627">
                <a:moveTo>
                  <a:pt x="0" y="0"/>
                </a:moveTo>
                <a:lnTo>
                  <a:pt x="21600" y="0"/>
                </a:lnTo>
                <a:lnTo>
                  <a:pt x="21600" y="21627"/>
                </a:lnTo>
                <a:lnTo>
                  <a:pt x="0" y="21627"/>
                </a:lnTo>
                <a:close/>
              </a:path>
              <a:path fill="lightenLess" w="21600" h="2162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7">
                <a:moveTo>
                  <a:pt x="21600" y="0"/>
                </a:moveTo>
                <a:lnTo>
                  <a:pt x="21600" y="21627"/>
                </a:lnTo>
                <a:lnTo>
                  <a:pt x="20200" y="20227"/>
                </a:lnTo>
                <a:lnTo>
                  <a:pt x="20200" y="1400"/>
                </a:lnTo>
                <a:close/>
              </a:path>
              <a:path fill="darkenLess" w="21600" h="21627">
                <a:moveTo>
                  <a:pt x="21600" y="21627"/>
                </a:moveTo>
                <a:lnTo>
                  <a:pt x="0" y="21627"/>
                </a:lnTo>
                <a:lnTo>
                  <a:pt x="1400" y="20227"/>
                </a:lnTo>
                <a:lnTo>
                  <a:pt x="20200" y="20227"/>
                </a:lnTo>
                <a:close/>
              </a:path>
              <a:path fill="lighten" w="21600" h="21627">
                <a:moveTo>
                  <a:pt x="0" y="2162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7"/>
                </a:lnTo>
                <a:close/>
              </a:path>
              <a:path fill="darken" w="21600" h="21627">
                <a:moveTo>
                  <a:pt x="3794" y="3807"/>
                </a:moveTo>
                <a:lnTo>
                  <a:pt x="17806" y="10814"/>
                </a:lnTo>
                <a:lnTo>
                  <a:pt x="3794" y="17820"/>
                </a:lnTo>
                <a:close/>
              </a:path>
            </a:pathLst>
          </a:custGeom>
          <a:solidFill>
            <a:srgbClr val="dfd6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3276720" y="3645000"/>
            <a:ext cx="2743200" cy="280836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 txBox="1"/>
          <p:nvPr/>
        </p:nvSpPr>
        <p:spPr>
          <a:xfrm>
            <a:off x="1042920" y="404640"/>
            <a:ext cx="748980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Каталитическая функция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wedge/>
  </p:transition>
  <p:timing>
    <p:tnLst>
      <p:par>
        <p:cTn id="652" dur="indefinite" restart="never" nodeType="tmRoot">
          <p:childTnLst>
            <p:seq>
              <p:cTn id="653" dur="indefinite" nodeType="mainSeq">
                <p:childTnLst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0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5" dur="8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01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6" dur="8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01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7" dur="8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4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2556000" y="2924280"/>
            <a:ext cx="3133440" cy="338436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8244000" y="5950080"/>
            <a:ext cx="360360" cy="43164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431640"/>
              <a:gd name="textAreaBottom" fmla="*/ 408600 h 431640"/>
            </a:gdLst>
            <a:ahLst/>
            <a:rect l="textAreaLeft" t="textAreaTop" r="textAreaRight" b="textAreaBottom"/>
            <a:pathLst>
              <a:path w="21600" h="25868">
                <a:moveTo>
                  <a:pt x="0" y="0"/>
                </a:moveTo>
                <a:lnTo>
                  <a:pt x="21600" y="0"/>
                </a:lnTo>
                <a:lnTo>
                  <a:pt x="21600" y="25868"/>
                </a:lnTo>
                <a:lnTo>
                  <a:pt x="0" y="25868"/>
                </a:lnTo>
                <a:close/>
              </a:path>
              <a:path fill="lightenLess" w="21600" h="2586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868">
                <a:moveTo>
                  <a:pt x="21600" y="0"/>
                </a:moveTo>
                <a:lnTo>
                  <a:pt x="21600" y="25868"/>
                </a:lnTo>
                <a:lnTo>
                  <a:pt x="20200" y="24468"/>
                </a:lnTo>
                <a:lnTo>
                  <a:pt x="20200" y="1400"/>
                </a:lnTo>
                <a:close/>
              </a:path>
              <a:path fill="darkenLess" w="21600" h="25868">
                <a:moveTo>
                  <a:pt x="21600" y="25868"/>
                </a:moveTo>
                <a:lnTo>
                  <a:pt x="0" y="25868"/>
                </a:lnTo>
                <a:lnTo>
                  <a:pt x="1400" y="24468"/>
                </a:lnTo>
                <a:lnTo>
                  <a:pt x="20200" y="24468"/>
                </a:lnTo>
                <a:close/>
              </a:path>
              <a:path fill="lighten" w="21600" h="25868">
                <a:moveTo>
                  <a:pt x="0" y="25868"/>
                </a:moveTo>
                <a:lnTo>
                  <a:pt x="0" y="0"/>
                </a:lnTo>
                <a:lnTo>
                  <a:pt x="1400" y="1400"/>
                </a:lnTo>
                <a:lnTo>
                  <a:pt x="1400" y="24468"/>
                </a:lnTo>
                <a:close/>
              </a:path>
              <a:path fill="darken" w="21600" h="25868">
                <a:moveTo>
                  <a:pt x="3794" y="5928"/>
                </a:moveTo>
                <a:lnTo>
                  <a:pt x="17806" y="12934"/>
                </a:lnTo>
                <a:lnTo>
                  <a:pt x="3794" y="19941"/>
                </a:lnTo>
                <a:close/>
              </a:path>
            </a:pathLst>
          </a:custGeom>
          <a:solidFill>
            <a:srgbClr val="dfd6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195640" y="981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403280" y="1197000"/>
            <a:ext cx="115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042920" y="1773360"/>
            <a:ext cx="763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Антитела связывают инородные белки, образуя с ними комплекс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1187280" y="0"/>
            <a:ext cx="7488360" cy="162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Защитная функц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p:transition>
    <p:wedge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3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8" dur="8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01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9" dur="8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01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0" dur="8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1116000" y="1989000"/>
            <a:ext cx="7748640" cy="42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Строение бел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Виды бел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Структуры бел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Свойства бел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Гидролиз бел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Функции бел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059280" y="549360"/>
            <a:ext cx="367344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2627280" y="404640"/>
            <a:ext cx="367344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План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ransition advTm="11000">
    <p:wedge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500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1116000" y="2421000"/>
            <a:ext cx="7704000" cy="17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Белки – биологические полимеры, состоящие из остатко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аминокислот и связанные между собой пептидными связями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-CH-C-N-CH-C-N-CH-C-N-CH-C-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1"/>
            <a:endCxn id="94" idx="1"/>
          </p:cNvCxnSpPr>
          <p:nvPr/>
        </p:nvCxnSpPr>
        <p:spPr>
          <a:xfrm>
            <a:off x="1115640" y="328572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96" name=""/>
          <p:cNvSpPr/>
          <p:nvPr/>
        </p:nvSpPr>
        <p:spPr>
          <a:xfrm flipV="1">
            <a:off x="2700360" y="4365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419640" y="4365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708360" y="4365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492360" y="4365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4067280" y="4365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572000" y="4365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643280" y="43657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003640" y="60213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932360" y="61657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932360" y="4365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292720" y="4365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796000" y="43657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724360" y="4365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084720" y="4365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372360" y="4437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877080" y="43657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804000" y="4365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2200320" y="5013360"/>
            <a:ext cx="52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     O  H   R      O  H    R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  H   R    O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987640" y="4365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2268360" y="404640"/>
            <a:ext cx="4751640" cy="172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троение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ransition advTm="11000">
    <p:wedge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6" dur="8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01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7" dur="8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01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" dur="8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1" dur="8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01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2" dur="8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01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" dur="8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00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1061640" y="1766880"/>
            <a:ext cx="3814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2556000" y="1773360"/>
            <a:ext cx="72072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80000" y="1773360"/>
            <a:ext cx="79236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195640" y="4005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516720" y="4076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340000" y="333360"/>
            <a:ext cx="4537080" cy="1224000"/>
          </a:xfrm>
          <a:prstGeom prst="rect">
            <a:avLst/>
          </a:prstGeom>
          <a:solidFill>
            <a:srgbClr val="dfd6c3"/>
          </a:solidFill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627280" y="549360"/>
            <a:ext cx="39607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Белки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403280" y="2852640"/>
            <a:ext cx="2808360" cy="1081080"/>
          </a:xfrm>
          <a:prstGeom prst="rect">
            <a:avLst/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1835280" y="3068640"/>
            <a:ext cx="194472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ротеины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5" name=""/>
          <p:cNvSpPr/>
          <p:nvPr/>
        </p:nvSpPr>
        <p:spPr>
          <a:xfrm>
            <a:off x="5580000" y="2852640"/>
            <a:ext cx="2664000" cy="1081080"/>
          </a:xfrm>
          <a:prstGeom prst="rect">
            <a:avLst/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084720" y="3068640"/>
            <a:ext cx="1800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74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ротеиды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7" name=""/>
          <p:cNvSpPr/>
          <p:nvPr/>
        </p:nvSpPr>
        <p:spPr>
          <a:xfrm>
            <a:off x="1476360" y="4797360"/>
            <a:ext cx="2590920" cy="863640"/>
          </a:xfrm>
          <a:prstGeom prst="rect">
            <a:avLst/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619280" y="4797360"/>
            <a:ext cx="280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Содержат только остатки аминокисло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508720" y="4869000"/>
            <a:ext cx="2592360" cy="792000"/>
          </a:xfrm>
          <a:prstGeom prst="rect">
            <a:avLst/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580000" y="4869000"/>
            <a:ext cx="280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Содержат еще и небелковую ча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1000">
    <p:wedge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1000"/>
                            </p:stCondLst>
                            <p:childTnLst>
                              <p:par>
                                <p:cTn id="19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2843280" y="2133720"/>
            <a:ext cx="2004840" cy="324000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971640" y="2060640"/>
            <a:ext cx="1584360" cy="331308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4"/>
          <a:stretch/>
        </p:blipFill>
        <p:spPr>
          <a:xfrm>
            <a:off x="5219640" y="2133720"/>
            <a:ext cx="1554120" cy="324000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5"/>
          <a:stretch/>
        </p:blipFill>
        <p:spPr>
          <a:xfrm>
            <a:off x="7236000" y="2133720"/>
            <a:ext cx="1655640" cy="32400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3327480" y="2940120"/>
            <a:ext cx="3692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076720" y="580536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Третич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948360" y="5805360"/>
            <a:ext cx="251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Четвертич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71640" y="404640"/>
            <a:ext cx="770400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ространственная структура белка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826920" y="580536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ервич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771640" y="5805360"/>
            <a:ext cx="18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торич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2000">
    <p:wedge/>
  </p:transition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3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Горят со специфическим запахом жженого   пер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одвергаются термическому разложению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одвергаются гниению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Гидратация (способность набухать, образовывая студни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476360" y="476280"/>
            <a:ext cx="69120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"/>
              </a:rPr>
              <a:t>Свойств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p:transition advTm="11000">
    <p:wedge/>
  </p:transition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6" dur="8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01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01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8" dur="8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01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01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0" dur="8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01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1" dur="8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01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2" dur="8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7" dur="8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01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8" dur="8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01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9" dur="8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395280" y="2060640"/>
            <a:ext cx="2232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796000" y="1700280"/>
            <a:ext cx="93672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451640" y="3573360"/>
            <a:ext cx="433440" cy="93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4859280" y="3573360"/>
            <a:ext cx="93672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2268000" y="1700280"/>
            <a:ext cx="79092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995640" y="4724280"/>
            <a:ext cx="19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обратим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804000" y="4724280"/>
            <a:ext cx="23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необратим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 rot="226800">
            <a:off x="614520" y="404280"/>
            <a:ext cx="7624440" cy="1078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Денатурация белко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1116000" y="3281400"/>
            <a:ext cx="2087640" cy="295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Термическая</a:t>
            </a:r>
            <a:endParaRPr b="0" lang="en-US" sz="20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5940360" y="3213000"/>
            <a:ext cx="1871640" cy="219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Химическая</a:t>
            </a:r>
            <a:endParaRPr b="0" lang="en-US" sz="20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6"/>
          <a:stretch/>
        </p:blipFill>
        <p:spPr>
          <a:xfrm>
            <a:off x="1187280" y="3908520"/>
            <a:ext cx="2592720" cy="1944720"/>
          </a:xfrm>
          <a:prstGeom prst="rect">
            <a:avLst/>
          </a:prstGeom>
          <a:ln w="0">
            <a:noFill/>
          </a:ln>
        </p:spPr>
      </p:pic>
    </p:spTree>
  </p:cSld>
  <p:transition advTm="11000">
    <p:wedge/>
  </p:transition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5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500"/>
                            </p:stCondLst>
                            <p:childTnLst>
                              <p:par>
                                <p:cTn id="40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8" dur="16000" fill="hold"/>
                                        <p:tgtEl>
                                          <p:spTgt spid="1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4" restart="whenNotActive" nodeType="interactiveSeq" fill="hold">
                <p:stCondLst>
                  <p:cond evt="onClick">
                    <p:tgtEl>
                      <p:spTgt spid="153"/>
                    </p:tgtEl>
                  </p:cond>
                </p:stCondLst>
                <p:childTnLst>
                  <p:par>
                    <p:cTn id="435" fill="hold">
                      <p:stCondLst>
                        <p:cond evt="onClick">
                          <p:tgtEl>
                            <p:spTgt spid="153"/>
                          </p:tgtEl>
                        </p:cond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38" dur="1" fill="hold"/>
                                        <p:tgtEl>
                                          <p:spTgt spid="1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1061640" y="1766520"/>
            <a:ext cx="776916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Белок     полипептиды      олигопептиды                   дипептиды          аминокислоты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195640" y="206064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076720" y="206064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95280" y="242100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492360" y="2565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093080" y="2637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2268360" y="3409920"/>
            <a:ext cx="5472360" cy="327816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 txBox="1"/>
          <p:nvPr/>
        </p:nvSpPr>
        <p:spPr>
          <a:xfrm>
            <a:off x="1332000" y="404640"/>
            <a:ext cx="720072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"/>
              </a:rPr>
              <a:t>Гидролиз белко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p:transition advTm="12000">
    <p:wedge/>
  </p:transition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6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3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0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7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4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1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1213920" y="1990800"/>
            <a:ext cx="7527960" cy="37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Биуретовая: белок + С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(ОН)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фиолетовая окраска (реакция на пептидные связи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сантопротеиновая: белок + Н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Times New Roman"/>
              </a:rPr>
              <a:t>3(к)</a:t>
            </a:r>
            <a:r>
              <a:rPr b="0" lang="ru-RU" sz="3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ru-RU" sz="4000" spc="-1" strike="noStrike" baseline="30000">
                <a:solidFill>
                  <a:srgbClr val="000000"/>
                </a:solidFill>
                <a:latin typeface="Times New Roman"/>
              </a:rPr>
              <a:t>желтая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окраска (реакция на ароматические циклы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Белок + Р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N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Н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черный осадок (реакция на серу)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43280" y="3645000"/>
            <a:ext cx="1008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763640" y="333360"/>
            <a:ext cx="6264360" cy="1224000"/>
          </a:xfrm>
          <a:prstGeom prst="rect">
            <a:avLst/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2050920" y="476280"/>
            <a:ext cx="561672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Цветные реакции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advTm="11000">
    <p:wedge/>
  </p:transition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7" dur="8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01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8" dur="8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01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9" dur="8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4" dur="8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01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5" dur="8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01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6" dur="8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1" dur="8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01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2" dur="8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01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3" dur="8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3T10:36:40Z</dcterms:created>
  <dc:creator>администратор</dc:creator>
  <dc:description/>
  <dc:language>en-US</dc:language>
  <cp:lastModifiedBy>1</cp:lastModifiedBy>
  <dcterms:modified xsi:type="dcterms:W3CDTF">2007-04-14T16:54:53Z</dcterms:modified>
  <cp:revision>46</cp:revision>
  <dc:subject/>
  <dc:title>СТРОЕНИЕ</dc:title>
</cp:coreProperties>
</file>