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19.gif" ContentType="image/gif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6.gif" ContentType="image/gif"/>
  <Override PartName="/ppt/media/image2.png" ContentType="image/png"/>
  <Override PartName="/ppt/media/image14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8.png" ContentType="image/png"/>
  <Override PartName="/ppt/media/image1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C0B4-FBE7-4ADD-8063-8F164EFB6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BDEE-EC51-4368-B980-C34D74C4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CBE4-5315-41F9-B2EF-58F4FDD54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AA70-AF5A-4252-95F8-BD8C20164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8FA7-FDA0-451E-8359-8BBB7C9C3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697D-15C4-4198-AAF2-1B90D031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331A-DD29-4E83-93D6-981CA533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58EE-8460-41F1-87DA-7DD54F64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1752-1363-4A64-96E0-4BFF699B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73DB2-7784-4B7D-8FF8-2F507A49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9AAA-32FE-457B-9C69-D87CCD48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C55C-A129-4C8B-B422-E82D2F66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5C7C-38E7-4E18-9523-FC0CE43F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DD59-E191-4FB5-85F5-8DA3437A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9A37-C8CA-42D2-91FE-A53BFCD8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B73D-A4F0-4B9D-B03F-31F50E1EC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CD685-D770-456C-8D2E-6E765C159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6791-FCB2-4064-A4A8-8CE2CAD4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BDB0-0998-4BF8-8633-69149793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87BF-3AA5-4637-9432-8D9A7327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D3A1-B042-4AE0-B518-11879FDF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8732-A92E-420B-8071-FD2DF4CF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8859-476E-4322-8F53-8A14D888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9F2A-3E6C-4115-AD6D-59807673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F3F5-C081-4588-A651-ED08E913313A}" type="slidenum">
              <a:rPr b="0" lang="en-US" sz="1400" spc="-1" strike="noStrike">
                <a:solidFill>
                  <a:srgbClr val="4824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7F5C-69A2-4F41-8074-5F25C838A845}" type="slidenum">
              <a:rPr b="0" lang="en-US" sz="1400" spc="-1" strike="noStrike">
                <a:solidFill>
                  <a:srgbClr val="4824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979640" y="476280"/>
            <a:ext cx="5616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езентация учител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635280" y="4797360"/>
            <a:ext cx="2160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0 клас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835280" y="2708280"/>
            <a:ext cx="6265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химия - биолог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76360" y="1989000"/>
            <a:ext cx="39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троитель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76360" y="2565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транспорт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76360" y="4005360"/>
            <a:ext cx="38876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3300"/>
                </a:solidFill>
                <a:uFillTx/>
                <a:latin typeface="Verdana"/>
                <a:hlinkClick r:id="rId2" action="ppaction://hlinksldjump"/>
              </a:rPr>
              <a:t>двигатель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6360" y="3284640"/>
            <a:ext cx="39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каталитическ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47640" y="4581360"/>
            <a:ext cx="41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защит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116000" y="333360"/>
            <a:ext cx="73436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Функции белков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1042920" y="2205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1042920" y="2708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1042920" y="3357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1042920" y="4149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1042920" y="472428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116000" y="1844640"/>
            <a:ext cx="705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Белки актин и миозин входят в состав мышечных волокон, жгутиков, ресничек и обеспечивают дви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" action="ppaction://hlinkshowjump?jump=previousslide"/>
          </p:cNvPr>
          <p:cNvSpPr/>
          <p:nvPr/>
        </p:nvSpPr>
        <p:spPr>
          <a:xfrm>
            <a:off x="7885080" y="573408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6483"/>
                </a:moveTo>
                <a:lnTo>
                  <a:pt x="17806" y="13490"/>
                </a:lnTo>
                <a:lnTo>
                  <a:pt x="3794" y="20496"/>
                </a:lnTo>
                <a:close/>
              </a:path>
            </a:pathLst>
          </a:custGeom>
          <a:solidFill>
            <a:srgbClr val="dfd6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203640" y="4005360"/>
            <a:ext cx="2371680" cy="244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1476360" y="549360"/>
            <a:ext cx="6551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вигательная функци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edge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6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7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8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042920" y="162864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Белок гемоглобин переносит кислород в крови и мышц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44000" y="609300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3794"/>
                </a:moveTo>
                <a:lnTo>
                  <a:pt x="20483" y="10800"/>
                </a:lnTo>
                <a:lnTo>
                  <a:pt x="6470" y="17806"/>
                </a:lnTo>
                <a:close/>
              </a:path>
            </a:pathLst>
          </a:custGeom>
          <a:solidFill>
            <a:srgbClr val="dfd6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276720" y="2924280"/>
            <a:ext cx="2755800" cy="35272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1547640" y="476280"/>
            <a:ext cx="6624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Транспортная функц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edge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9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0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348000" y="1628640"/>
            <a:ext cx="201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58920" y="1773360"/>
            <a:ext cx="712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Кератин – компонент оболочек клеток сухожилий, костей, хрящей, волос, перь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17236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3794"/>
                </a:moveTo>
                <a:lnTo>
                  <a:pt x="17861" y="10800"/>
                </a:lnTo>
                <a:lnTo>
                  <a:pt x="3848" y="17806"/>
                </a:lnTo>
                <a:close/>
              </a:path>
            </a:pathLst>
          </a:custGeom>
          <a:solidFill>
            <a:srgbClr val="dfd6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635280" y="3645000"/>
            <a:ext cx="2130480" cy="26636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1547640" y="765000"/>
            <a:ext cx="6193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троительная функци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edge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3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4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32000" y="1700280"/>
            <a:ext cx="70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Белки – ферменты ускоряют биохимические реакции, протекающие в клет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388360" y="6165720"/>
            <a:ext cx="287280" cy="28764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00" y="20227"/>
                </a:lnTo>
                <a:lnTo>
                  <a:pt x="20200" y="140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400" y="20227"/>
                </a:lnTo>
                <a:lnTo>
                  <a:pt x="20200" y="2022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7"/>
                </a:lnTo>
                <a:close/>
              </a:path>
              <a:path fill="darken" w="21600" h="21627">
                <a:moveTo>
                  <a:pt x="3794" y="3807"/>
                </a:moveTo>
                <a:lnTo>
                  <a:pt x="17806" y="10814"/>
                </a:lnTo>
                <a:lnTo>
                  <a:pt x="3794" y="17820"/>
                </a:lnTo>
                <a:close/>
              </a:path>
            </a:pathLst>
          </a:custGeom>
          <a:solidFill>
            <a:srgbClr val="dfd6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276720" y="3645000"/>
            <a:ext cx="2743200" cy="28083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1042920" y="404640"/>
            <a:ext cx="74898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Каталитическая функц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edge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6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56000" y="2924280"/>
            <a:ext cx="3133440" cy="33843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8244000" y="595008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3794" y="5928"/>
                </a:moveTo>
                <a:lnTo>
                  <a:pt x="17806" y="12934"/>
                </a:lnTo>
                <a:lnTo>
                  <a:pt x="3794" y="19941"/>
                </a:lnTo>
                <a:close/>
              </a:path>
            </a:pathLst>
          </a:custGeom>
          <a:solidFill>
            <a:srgbClr val="dfd6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95640" y="98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403280" y="1197000"/>
            <a:ext cx="115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42920" y="177336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Антитела связывают инородные белки, образуя с ними комплек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187280" y="0"/>
            <a:ext cx="748836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Защитная функ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wedge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8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9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0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116000" y="1989000"/>
            <a:ext cx="7748640" cy="42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троение бел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иды бел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труктуры бел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войства бел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идролиз бел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Функции бел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59280" y="549360"/>
            <a:ext cx="36734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627280" y="404640"/>
            <a:ext cx="3673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лан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advTm="11000">
    <p:wedg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116000" y="2421000"/>
            <a:ext cx="77040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елки – биологические полимеры, состоящие из остатк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минокислот и связанные между собой пептидными связям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-CH-C-N-CH-C-N-CH-C-N-CH-C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1"/>
            <a:endCxn id="94" idx="1"/>
          </p:cNvCxnSpPr>
          <p:nvPr/>
        </p:nvCxnSpPr>
        <p:spPr>
          <a:xfrm>
            <a:off x="1115640" y="32857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6" name=""/>
          <p:cNvSpPr/>
          <p:nvPr/>
        </p:nvSpPr>
        <p:spPr>
          <a:xfrm flipV="1">
            <a:off x="2700360" y="4365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19640" y="4365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08360" y="4365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4365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067280" y="4365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4365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643280" y="4365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03640" y="602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32360" y="6165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32360" y="4365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92720" y="4365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96000" y="4365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24360" y="4365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84720" y="4365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372360" y="4437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77080" y="4365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04000" y="4365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200320" y="501336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     O  H   R      O  H    R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  H   R    O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87640" y="4365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268360" y="404640"/>
            <a:ext cx="475164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роени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advTm="11000">
    <p:wedg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61640" y="1766880"/>
            <a:ext cx="3814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556000" y="1773360"/>
            <a:ext cx="72072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80000" y="1773360"/>
            <a:ext cx="792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95640" y="4005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16720" y="4076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333360"/>
            <a:ext cx="4537080" cy="1224000"/>
          </a:xfrm>
          <a:prstGeom prst="rect">
            <a:avLst/>
          </a:prstGeom>
          <a:solidFill>
            <a:srgbClr val="dfd6c3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627280" y="549360"/>
            <a:ext cx="396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ел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03280" y="2852640"/>
            <a:ext cx="2808360" cy="10810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835280" y="3068640"/>
            <a:ext cx="1944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теин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"/>
          <p:cNvSpPr/>
          <p:nvPr/>
        </p:nvSpPr>
        <p:spPr>
          <a:xfrm>
            <a:off x="5580000" y="2852640"/>
            <a:ext cx="2664000" cy="10810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084720" y="3068640"/>
            <a:ext cx="180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теид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"/>
          <p:cNvSpPr/>
          <p:nvPr/>
        </p:nvSpPr>
        <p:spPr>
          <a:xfrm>
            <a:off x="1476360" y="4797360"/>
            <a:ext cx="2590920" cy="86364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19280" y="479736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ат только остатки аминокисл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08720" y="4869000"/>
            <a:ext cx="2592360" cy="792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80000" y="486900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ат еще и небелковую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wedg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843280" y="2133720"/>
            <a:ext cx="2004840" cy="3240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971640" y="2060640"/>
            <a:ext cx="1584360" cy="3313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5219640" y="2133720"/>
            <a:ext cx="1554120" cy="3240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7236000" y="2133720"/>
            <a:ext cx="1655640" cy="3240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327480" y="2940120"/>
            <a:ext cx="369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76720" y="5805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ти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48360" y="580536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етверти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71640" y="404640"/>
            <a:ext cx="7704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странственная структура бел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6920" y="5805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ерви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71640" y="580536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тори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wedge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орят со специфическим запахом жженого   пер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двергаются термическому разложени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двергаются гниени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идратация (способность набухать, образовывая студни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476360" y="476280"/>
            <a:ext cx="691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Свойст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 advTm="11000">
    <p:wedge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8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95280" y="206064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96000" y="1700280"/>
            <a:ext cx="9367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51640" y="3573360"/>
            <a:ext cx="43344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859280" y="3573360"/>
            <a:ext cx="936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268000" y="1700280"/>
            <a:ext cx="7909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95640" y="472428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братим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04000" y="4724280"/>
            <a:ext cx="23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еобратим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 rot="226800">
            <a:off x="614520" y="404280"/>
            <a:ext cx="7624440" cy="107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енатурация белк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116000" y="3281400"/>
            <a:ext cx="208764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ермическая</a:t>
            </a:r>
            <a:endParaRPr b="0" lang="en-US" sz="2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940360" y="3213000"/>
            <a:ext cx="187164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Химическая</a:t>
            </a:r>
            <a:endParaRPr b="0" lang="en-US" sz="2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1187280" y="3908520"/>
            <a:ext cx="2592720" cy="1944720"/>
          </a:xfrm>
          <a:prstGeom prst="rect">
            <a:avLst/>
          </a:prstGeom>
          <a:ln w="0">
            <a:noFill/>
          </a:ln>
        </p:spPr>
      </p:pic>
    </p:spTree>
  </p:cSld>
  <p:transition advTm="11000">
    <p:wedge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8" dur="16000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38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лок     полипептиды      олигопептиды                   дипептиды          аминокислот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95640" y="2060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76720" y="2060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2421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92360" y="2565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93080" y="2637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2268360" y="3409920"/>
            <a:ext cx="5472360" cy="32781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1332000" y="404640"/>
            <a:ext cx="720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Гидролиз белк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 advTm="12000">
    <p:wedge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213920" y="1990800"/>
            <a:ext cx="7527960" cy="37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иуретовая: белок + 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ОН)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фиолетовая окраска (реакция на пептидные связи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сантопротеиновая: белок + 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3(к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4000" spc="-1" strike="noStrike" baseline="30000">
                <a:solidFill>
                  <a:srgbClr val="000000"/>
                </a:solidFill>
                <a:latin typeface="Times New Roman"/>
              </a:rPr>
              <a:t>желта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окраска (реакция на ароматические циклы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лок + 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черный осадок (реакция на серу)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3645000"/>
            <a:ext cx="10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63640" y="333360"/>
            <a:ext cx="6264360" cy="1224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050920" y="476280"/>
            <a:ext cx="5616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ветные реакци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11000">
    <p:wedge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2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0:36:40Z</dcterms:created>
  <dc:creator>администратор</dc:creator>
  <dc:description/>
  <dc:language>en-US</dc:language>
  <cp:lastModifiedBy>1</cp:lastModifiedBy>
  <dcterms:modified xsi:type="dcterms:W3CDTF">2007-04-14T16:54:53Z</dcterms:modified>
  <cp:revision>46</cp:revision>
  <dc:subject/>
  <dc:title>СТРОЕНИЕ</dc:title>
</cp:coreProperties>
</file>