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8864-AB90-428E-B405-4457076B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F5FB-A463-4846-8B64-498154D3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35B-4D99-45EA-BB87-BB5D075B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087-B11B-41AC-A339-8AD999E0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4201-8268-4905-A430-F183EDDD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6CD8-4A94-41EA-A94A-BF4C5151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3383-EE33-48D0-A18F-102F6289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7FEF-A17E-4E6A-8728-A381D9C6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40B2-2B5B-4FB5-B6EA-C6F0CFB9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260A-CFF2-4D1E-8AFD-10E2602A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26A6-65B8-4A16-9AB1-69600A9C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0CB-30B1-46A0-93C9-972C849B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9AF3-FF80-477F-91F2-C6077866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0441-4846-4138-8DC2-0FDB9A6B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79DC-F23C-48BD-885A-69ACC2E3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1D90-F53F-4735-9782-F6FD19B9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186D-F240-4DA6-8858-3EF8C436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48323-08CF-4BF1-A782-C648293E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02BF6-EA8A-4B35-BA09-620FD98E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B8F58-C379-4035-B0A0-AB6BEDD0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E299E-4EB2-4E25-B267-55AFFF85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453C9-72EB-47AD-8826-23DF005E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6B6-2A79-4CA8-BC57-F14E93F4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C2410-621B-49B6-B31A-D9FA0889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214BA-D809-4B09-93E0-23D92F20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CB25D-0360-4A32-960C-C42A5B0D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EBA5F-EB82-43B8-B83F-6C639E62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1055A-444E-4712-96DE-CCB69524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B1315-38A3-4525-9522-592D34EE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3FF50-E2C6-4421-9CBD-DE98EA33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3A05D-EE36-4088-B0BD-C5D5C41E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18DF2-9866-485F-BC2C-A1FA265E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2FCEB-BDD8-4DCB-B4D7-823E2518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14D8-E54D-44C8-BCE1-0F0ECB87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1FEFD-B794-43B9-A08B-5236756B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114F5-DD89-4D28-888F-38A80E6E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9F134-22C6-4337-9344-5CD1D0F3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0E878-65BD-416F-A32F-C23E4FFC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CB4EA-4298-41C6-AB4E-99E741E8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1DE16-3819-4C42-ACCD-A7AC7A40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73406-B82B-4D0D-A8FD-3D1B7292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FCB6F-DF7C-4246-B5DA-84F225B2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EBC5B-027F-4B82-BBA0-2AB776B5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94A03-0942-4438-96A2-5A112447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76E-9CF0-4E6E-B324-30F87874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7A510-3CB0-4F1A-B677-DE9A15A4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267AE-E5A9-4C07-A6E3-60F3B7A4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65FE7-1C72-4CB7-815B-A3AD809D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6940C-0429-4BDC-BE4C-2029768F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F34E6-E1CD-4FA8-95C5-9127965C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E8E04-60DB-4016-8F6F-D07B4078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8122B-BAC7-4BB5-8BDF-A670B96E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6600F-B491-4D8E-A2E1-3BEE3596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50208-0C7E-4A7F-B00C-8161B035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812F5-C6F7-4E12-A438-1A6D8098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4D89-D1EA-4F69-8B4E-B5734F1A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C414D-BF1B-4206-8F74-DCF547E6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D02F-F4CE-4E55-94E2-F41C325D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C50-B3B9-43BA-9824-4227A9CC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E9C-1DF1-42B1-9E59-0E56D079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4E16-6C49-47E0-93FA-FF607AE8465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BE74-56F1-40AD-90E7-A4F97D67C66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84D2-0B98-4C11-9AD9-ADA000548D6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3D9A-3B51-4997-80D3-78129C12809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7DB4-53E5-44F7-8AD7-71F1E069B4B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858080" cy="257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Психологические особенности воспитания и обучения детей с ЗПР в Детских домах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786040" y="3499920"/>
            <a:ext cx="5929200" cy="33577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7f09"/>
                </a:solidFill>
                <a:latin typeface="Verdana"/>
              </a:rPr>
              <a:t>Презентация учителя математики МОУ «Детский дом школа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7f09"/>
                </a:solidFill>
                <a:latin typeface="Verdana"/>
              </a:rPr>
              <a:t>Бойковой А.С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Рисунок 3" descr="8.jpeg"/>
          <p:cNvPicPr/>
          <p:nvPr/>
        </p:nvPicPr>
        <p:blipFill>
          <a:blip r:embed="rId1"/>
          <a:stretch/>
        </p:blipFill>
        <p:spPr>
          <a:xfrm>
            <a:off x="357120" y="2428920"/>
            <a:ext cx="321480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25804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1) Следует избегать низко, оценивать ребенка, его способности.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2) Оценивать можно только конкретную работу, выполнение отдельного задания, а не самого ребенка.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3) Реакция на ошибки ребенка должна быть формой помощи ему. Главное – не порицание, а разъяснение ошибки.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4) Главным в оценке работы должен быть качественный анализ, подчеркивание всех положительных моментов, малейшего продвижения.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5) Для повышения учебной мотивации следует тщательно отбирать содержание учебного материала, чтобы сделать его интересным, эмоциональным.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6) Для повышения учебной мотивации можно использовать различные формы коллективной деятельности.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е надо пытаться в процессе занятии с трудными детьми полностью оградить ребенка от отрицательных переживании. Это невозможно в повседневной жизни, и искусственное создание “тепличных условии” лишь на время снимает проблему, а через некоторое время она встает более остро.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Рисунок 5" descr="IMG_0871.JPG"/>
          <p:cNvPicPr/>
          <p:nvPr/>
        </p:nvPicPr>
        <p:blipFill>
          <a:blip r:embed="rId1"/>
          <a:stretch/>
        </p:blipFill>
        <p:spPr>
          <a:xfrm>
            <a:off x="3429000" y="3483000"/>
            <a:ext cx="3643200" cy="2732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32968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Выводы по практической части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В ходе проведения  анализа работы с подростками ЗПР было установлено следующее: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1. Подростки с ЗПР отличаются от подростков с нормальным течением онтогенеза в среднем более высоким уровнем агрессивности. В частности, для них характерны такие черты, как обидчивость, негативизм, раздражительность, а также они отличаются развитым чувством вины.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2. Для большинства подростков с ЗПР характерен низкий уровень социального интеллекта, что приводит к трудностям в установлении контактов, неумению вести себя в сложных, конфликтных ситуациях и общей плохой социальной адаптацией.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3. С подростками с задержкой психического развития необходимо вести комплексную работу по коррекции агрессивности и развитию социальных умений и формированию социальных способностей. </a:t>
            </a:r>
            <a:br>
              <a:rPr sz="18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32968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Период школьного детства – важнейший момент в развитии человека. Поэтому следует использовать его в полной мере для всестороннего развития личности. Если маленький человек останется один на один со своими сложностями в освоении окружающего мира, если его развитие будет проходить стихийно и зависеть от случайных влияний, он вряд ли сможет найти своё место в жизни. Только с помощью чуткого, доброжелательного взрослого возможна его нормальная социальная адаптация. Работа с детьми ЗПР требует не только знаний и опыта, но ещё терпения, любви к ним.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63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Для повышения эффективности учебно-воспитательного процесса, направленного на коррекцию и компенсацию основного дефекта, необходимо совершенствование работы по социальной адаптации ребенка-сироты с ЗПР на всех этапах пребывания в социальных учреждениях, преемственности воспитательно-образовательного процесса и психолого-медико-педагогического сопровождения, в основе которого должна лежать как можно ранняя диагностика отклонений в развитии ребенка.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Необходимо помнить, что по окончании детского дома-школы выпускники, как правило, могут  поступать  в  различные учебные заведения общего типа — на курсы, в ПТУ, в техникумы и др.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Рисунок 3" descr="NDVD_002.BMP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648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опросы интегрированного воспитания и обучения детей с ЗПР в детском доме требуют своей научной и методической разработк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Такие дети, вследствие постоянных фрустраций, вызванных неуспешностью учебной деятельности и проблем в общении со сверстниками, теряют интерес к школе, нарушают дисциплину, самовольно оставляют интернатное учреждение, бродяжничают, совершают правонарушения. Кроме того, сказывается отсутствие должного психолого-медико-педагогического обеспече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15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рактически все дети-сироты с задержкой психического развития испытывают серьезные проблемы в адаптации к условиям интернатного учреждения. Трудности в адаптации, безусловно, связаны с психологическими и церебро-органическими особенностями таких детей, но не меньшее значение играет особенность индивидуальной истории жизни ребенка.</a:t>
            </a:r>
            <a:br>
              <a:rPr sz="2800"/>
            </a:br>
            <a:r>
              <a:rPr b="1" lang="ru-RU" sz="28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Рисунок 3" descr="IMG_08679.JPG"/>
          <p:cNvPicPr/>
          <p:nvPr/>
        </p:nvPicPr>
        <p:blipFill>
          <a:blip r:embed="rId1"/>
          <a:stretch/>
        </p:blipFill>
        <p:spPr>
          <a:xfrm>
            <a:off x="3000240" y="3929040"/>
            <a:ext cx="3086280" cy="245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42976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Определенную роль в возникновении различных негативных реакций детей-сирот среднего школьного возраста с ЗПР на новые </a:t>
            </a: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жизненные</a:t>
            </a: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 условия играют, по </a:t>
            </a: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крайней</a:t>
            </a: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 мере, три социальных фактора: "этапность учреждения","родительское присутствие","отрицательный семейный опыт".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Этапность учреждения: для 45% детей </a:t>
            </a: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детский</a:t>
            </a: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 дом оказался третьим, четвертым, а то и пятым учреждением, где они проживали. Это и дома ребенка, больницы, дошкольные детские дома, психоневрологические санатории и тому подобное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«Фактор родительского присутствия»: подавляющее большинство в рассматриваемой группе составляют дети, помещенные в  детский дом, находящийся в городе, где проживают родители (родственники), которые изредка навещают их.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35812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Отрицательный семейный опыт. Часть детей в течение определенного времени проживали в неблагоприятных семейных условиях, испытывая на себе негативное влияние </a:t>
            </a:r>
            <a:r>
              <a:rPr b="1" lang="ru-RU" sz="4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антисоциального</a:t>
            </a:r>
            <a:r>
              <a:rPr b="1" lang="ru-RU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 образа жизни взрослых: аморальные эксцессы, драки, скандалы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3581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У детей с ЗПР школа часто вызывает негативное отношение. Это происходит потому, что крайне неприятно делать то, в чем беспрерывно терпишь неудачу. Следовательно, нужно стремиться к тому, чтобы исключить у ребенка, насколько это возможно, ситуацию неудачи. А чтобы этого добиться, нужно использовать следующие методы, направленные на то, чтобы учение вызвало положительные эмоции:</a:t>
            </a:r>
            <a:br>
              <a:rPr sz="2500"/>
            </a:br>
            <a:br>
              <a:rPr sz="29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Рисунок 5" descr="IMG_0874.JPG"/>
          <p:cNvPicPr/>
          <p:nvPr/>
        </p:nvPicPr>
        <p:blipFill>
          <a:blip r:embed="rId1"/>
          <a:stretch/>
        </p:blipFill>
        <p:spPr>
          <a:xfrm>
            <a:off x="3071880" y="3857760"/>
            <a:ext cx="3286080" cy="246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6:03:53Z</dcterms:created>
  <dc:creator>Admin</dc:creator>
  <dc:description/>
  <dc:language>en-US</dc:language>
  <cp:lastModifiedBy>Admin</cp:lastModifiedBy>
  <dcterms:modified xsi:type="dcterms:W3CDTF">2010-12-05T10:06:41Z</dcterms:modified>
  <cp:revision>25</cp:revision>
  <dc:subject/>
  <dc:title>Слайд 1</dc:title>
</cp:coreProperties>
</file>