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345-4D75-4DC3-8E4F-FA966E4F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EA4-AC25-4EBA-B183-BCE4ECB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3B3-9341-4E10-935A-A369F75F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71-6906-4BBA-BF3D-4F3B9324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35CB-66B6-412B-8D31-0AC0BF39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966-17E9-4877-9CDD-D9271E4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F7F6-525C-4F8D-8343-55BA5DB9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8A18-BFE8-4A7B-AE8B-908B0B85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8EE9-8337-47FB-9358-B7EB4F2E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E488-D5E4-493C-B954-0F41A6E6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3618-B135-4106-B856-0266B23F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3E0-F225-478E-BA87-5F839B0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6C31-0779-400D-90E2-FC3F11A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E100-26BD-4EBA-96B0-5C7B290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11E4-AAF9-45C0-BE7C-381A59C5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D63-7C17-4F3C-B6AE-5CBC47E0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03D-88B1-4B34-B126-CB448B2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94B3-43D0-4A17-AA6C-2A1AF123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4B89-DBE9-41BE-A1AC-D11E372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F8B2-7EE2-4E75-B5CE-33C5B69B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29B5-4C76-41D3-BE70-72E3D50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754C-37F3-4982-B646-D0C8212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0E0-C6BF-4547-A425-8BA31771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93FA-529A-4CE2-ADA7-CA9A73E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DDFF-DEE7-44F8-AC9A-5383282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8101-AA87-4449-BA82-3B073C5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C559-FF4B-4840-B91B-A28D188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26D6-438B-4FC7-A41A-CBED437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A95C-1698-4DEA-A6A4-254A0FCF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8B19-F1B0-4D5D-9072-FC3E53F7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D8B0-C966-43CA-8281-DFAA0C3D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C643-5DA5-41EA-BEC5-55CC09D6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4007-AD32-47E2-879F-780E660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8BD-C78B-4CD8-A422-C0831E7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2D9F-732D-4956-9AD4-33CD553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9008-5B09-4AE9-B415-2AE4FA0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F71B-1BB5-4D7D-A5ED-C2F48F75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32CA-1BA5-43AE-A5F4-F12FCF9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5730-5D5C-479F-A661-05E9213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81AA-7248-4353-9B39-6A030B0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0995-1ABF-4108-AAD9-14840F2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E26E-0F1A-4426-BFE2-932D83E6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549D-F2DE-42D9-9B8A-5E3D0528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E79B-6266-4242-8BD5-7F656776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A78-7A1A-4454-BCA6-1863128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5C5A-DE74-4127-847E-E13E214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D27F-2679-479E-8C99-F66AD69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D080-DE73-4DB8-A7B3-685BB62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0541-4885-4D6E-B82F-E92C4F0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3EBCE-87B9-45F0-910F-A58BC58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1FC0-9283-4EBB-8CD6-8F94DB9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3AF32-FAA0-4F7C-91FC-017CDE1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B5B2-8472-4CDA-BE29-37CBC9CC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D6E8-CAD1-4540-9542-304870D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5C5C5-4277-44A9-838A-927CFB9F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A8D-9A76-4E79-9A94-B68E20B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3901-2ECD-4CFB-818E-784CC685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7AA-FDD2-43D5-9234-164535A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F2B-FA48-4E80-8192-2DCE9C8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49A-62E7-4A54-8303-E6994C2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3EF4-6B2A-4549-99B3-B00818E2AA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2BC-AB29-42B9-8481-B5C622D1E0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E9F-9084-4E38-8D4E-E0CCA86274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3DAE-E2C9-474D-B5EC-FCFAFE3B5E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7DE-C088-4C33-A514-DBFD0E1272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85808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сихологические особенности воспитания и обучения детей с ЗПР в Детских домах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786040" y="3499920"/>
            <a:ext cx="5929200" cy="3357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7f09"/>
                </a:solidFill>
                <a:latin typeface="Verdana"/>
              </a:rPr>
              <a:t>Презентация учителя математики МОУ «Детский дом школа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7f09"/>
                </a:solidFill>
                <a:latin typeface="Verdana"/>
              </a:rPr>
              <a:t>Бойковой А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8.jpeg"/>
          <p:cNvPicPr/>
          <p:nvPr/>
        </p:nvPicPr>
        <p:blipFill>
          <a:blip r:embed="rId1"/>
          <a:stretch/>
        </p:blipFill>
        <p:spPr>
          <a:xfrm>
            <a:off x="357120" y="2428920"/>
            <a:ext cx="321480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258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) Следует избегать низко, оценивать ребенка, его способности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) Оценивать можно только конкретную работу, выполнение отдельного задания, а не самого ребенк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) Реакция на ошибки ребенка должна быть формой помощи ему. Главное – не порицание, а разъяснение ошибки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) Главным в оценке работы должен быть качественный анализ, подчеркивание всех положительных моментов, малейшего продвижени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) Для повышения учебной мотивации следует тщательно отбирать содержание учебного материала, чтобы сделать его интересным, эмоциональным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) Для повышения учебной мотивации можно использовать различные формы коллективной деятельности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 надо пытаться в процессе занятии с трудными детьми полностью оградить ребенка от отрицательных переживании. Это невозможно в повседневной жизни, и искусственное создание “тепличных условии” лишь на время снимает проблему, а через некоторое время она встает более остро.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Рисунок 5" descr="IMG_0871.JPG"/>
          <p:cNvPicPr/>
          <p:nvPr/>
        </p:nvPicPr>
        <p:blipFill>
          <a:blip r:embed="rId1"/>
          <a:stretch/>
        </p:blipFill>
        <p:spPr>
          <a:xfrm>
            <a:off x="3429000" y="3483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Выводы по практической части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В ходе проведения  анализа работы с подростками ЗПР было установлено следующее: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1. Подростки с ЗПР отличаются от подростков с нормальным течением онтогенеза в среднем более высоким уровнем агрессивности. В частности, для них характерны такие черты, как обидчивость, негативизм, раздражительность, а также они отличаются развитым чувством вины.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2. Для большинства подростков с ЗПР характерен низкий уровень социального интеллекта, что приводит к трудностям в установлении контактов, неумению вести себя в сложных, конфликтных ситуациях и общей плохой социальной адаптацией.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3. С подростками с задержкой психического развития необходимо вести комплексную работу по коррекции агрессивности и развитию социальных умений и формированию социальных способностей. </a:t>
            </a:r>
            <a:br>
              <a:rPr sz="18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32968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Период школьного детства – важнейший момент в развитии человека. Поэтому следует использовать его в полной мере для всестороннего развития личности. Если маленький человек останется один на один со своими сложностями в освоении окружающего мира, если его развитие будет проходить стихийно и зависеть от случайных влияний, он вряд ли сможет найти своё место в жизни. Только с помощью чуткого, доброжелательного взрослого возможна его нормальная социальная адаптация. Работа с детьми ЗПР требует не только знаний и опыта, но ещё терпения, любви к ни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ля повышения эффективности учебно-воспитательного процесса, направленного на коррекцию и компенсацию основного дефекта, необходимо совершенствование работы по социальной адаптации ребенка-сироты с ЗПР на всех этапах пребывания в социальных учреждениях, преемственности воспитательно-образовательного процесса и психолого-медико-педагогического сопровождения, в основе которого должна лежать как можно ранняя диагностика отклонений в развитии ребенк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обходимо помнить, что по окончании детского дома-школы выпускники, как правило, могут  поступать  в  различные учебные заведения общего типа — на курсы, в ПТУ, в техникумы и др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Рисунок 3" descr="NDVD_002.BMP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48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опросы интегрированного воспитания и обучения детей с ЗПР в детском доме требуют своей научной и методической разработ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Такие дети, вследствие постоянных фрустраций, вызванных неуспешностью учебной деятельности и проблем в общении со сверстниками, теряют интерес к школе, нарушают дисциплину, самовольно оставляют интернатное учреждение, бродяжничают, совершают правонарушения. Кроме того, сказывается отсутствие должного психолого-медико-педагогического обеспеч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15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актически все дети-сироты с задержкой психического развития испытывают серьезные проблемы в адаптации к условиям интернатного учреждения. Трудности в адаптации, безусловно, связаны с психологическими и церебро-органическими особенностями таких детей, но не меньшее значение играет особенность индивидуальной истории жизни ребенка.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Рисунок 3" descr="IMG_08679.JPG"/>
          <p:cNvPicPr/>
          <p:nvPr/>
        </p:nvPicPr>
        <p:blipFill>
          <a:blip r:embed="rId1"/>
          <a:stretch/>
        </p:blipFill>
        <p:spPr>
          <a:xfrm>
            <a:off x="3000240" y="3929040"/>
            <a:ext cx="308628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пределенную роль в возникновении различных негативных реакций детей-сирот среднего школьного возраста с ЗПР на новые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изненные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условия играют, по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райней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мере, три социальных фактора: "этапность учреждения","родительское присутствие","отрицательный семейный опыт"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тапность учреждения: для 45% детей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етский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дом оказался третьим, четвертым, а то и пятым учреждением, где они проживали. Это и дома ребенка, больницы, дошкольные детские дома, психоневрологические санатории и тому подобно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Фактор родительского присутствия»: подавляющее большинство в рассматриваемой группе составляют дети, помещенные в  детский дом, находящийся в городе, где проживают родители (родственники), которые изредка навещают их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3581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рицательный семейный опыт. Часть детей в течение определенного времени проживали в неблагоприятных семейных условиях, испытывая на себе негативное влияние </a:t>
            </a: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нтисоциального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образа жизни взрослых: аморальные эксцессы, драки, скандалы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358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У детей с ЗПР школа часто вызывает негативное отношение. Это происходит потому, что крайне неприятно делать то, в чем беспрерывно терпишь неудачу. Следовательно, нужно стремиться к тому, чтобы исключить у ребенка, насколько это возможно, ситуацию неудачи. А чтобы этого добиться, нужно использовать следующие методы, направленные на то, чтобы учение вызвало положительные эмоции:</a:t>
            </a:r>
            <a:br>
              <a:rPr sz="2500"/>
            </a:br>
            <a:br>
              <a:rPr sz="2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Рисунок 5" descr="IMG_0874.JPG"/>
          <p:cNvPicPr/>
          <p:nvPr/>
        </p:nvPicPr>
        <p:blipFill>
          <a:blip r:embed="rId1"/>
          <a:stretch/>
        </p:blipFill>
        <p:spPr>
          <a:xfrm>
            <a:off x="3071880" y="38577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03:53Z</dcterms:created>
  <dc:creator>Admin</dc:creator>
  <dc:description/>
  <dc:language>en-US</dc:language>
  <cp:lastModifiedBy>Admin</cp:lastModifiedBy>
  <dcterms:modified xsi:type="dcterms:W3CDTF">2010-12-05T10:06:41Z</dcterms:modified>
  <cp:revision>25</cp:revision>
  <dc:subject/>
  <dc:title>Слайд 1</dc:title>
</cp:coreProperties>
</file>