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E6E-C5FB-4DE6-A6FD-BD735BD7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CF1-3DEC-4D46-9D8F-3B368BDF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143-942E-4C67-8585-58044F2C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76C-A042-478D-AD3B-30734631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7AC48-3A42-437F-8089-7EDC2186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1C3FC-C4A5-4F8F-BF24-A3C142B2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B0F2A-0B06-4640-852F-A4F03431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300BA-3BA5-4B25-9875-21BF08D6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F1503-9487-4CD8-B4D5-7214493B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14C35-A47A-4712-80CD-53073676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A9A61-DE54-4AB2-8B10-1E15E5CC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B1D-E835-4A3A-A675-E27D67F7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D0260-2E99-499F-814F-2810950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036E7-C26A-4C8D-BA19-626478E1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D5DA0-C5FF-4A7E-BB78-37A719C0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FD15B-F7BF-4E52-BEFB-5AC16981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565A2-91A5-4C59-9029-C03F3A12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4B6-6F6B-4D99-8812-AAF7F00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615-2D9D-4AE0-9A43-5DD5E0EC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5A8-6426-48A0-B45D-026A2A7F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5FC-BFB0-4021-8A49-D993926B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451-65DB-4C66-8623-32B2E510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518-3AFC-4443-B374-8ED4320C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B25-7036-4AE5-BC97-63190E34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8A0D-650E-43E4-AB4C-4583446E3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579E-EC86-4247-9A51-9170D75C90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68640"/>
            <a:ext cx="7772400" cy="286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выполнила воспитатель подготовительной группы ГБДОУ №17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ршнева Светлана Викто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2060280"/>
            <a:ext cx="820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ированная совместная деятельность воспитателя с детьми подготовительной груп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785880" y="620640"/>
            <a:ext cx="74293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р о гу л к а     п о     С а н к т    -    П е т е р б у р г 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3" descr=""/>
          <p:cNvPicPr/>
          <p:nvPr/>
        </p:nvPicPr>
        <p:blipFill>
          <a:blip r:embed="rId2"/>
          <a:stretch/>
        </p:blipFill>
        <p:spPr>
          <a:xfrm>
            <a:off x="798480" y="1182600"/>
            <a:ext cx="729144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Картинка 3 из 45476"/>
          <p:cNvPicPr/>
          <p:nvPr/>
        </p:nvPicPr>
        <p:blipFill>
          <a:blip r:embed="rId2"/>
          <a:stretch/>
        </p:blipFill>
        <p:spPr>
          <a:xfrm>
            <a:off x="1639800" y="633240"/>
            <a:ext cx="2103480" cy="22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82732626795768"/>
          <p:cNvPicPr/>
          <p:nvPr/>
        </p:nvPicPr>
        <p:blipFill>
          <a:blip r:embed="rId3"/>
          <a:stretch/>
        </p:blipFill>
        <p:spPr>
          <a:xfrm>
            <a:off x="5429160" y="714240"/>
            <a:ext cx="1654200" cy="1785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Картинка 27 из 2436"/>
          <p:cNvPicPr/>
          <p:nvPr/>
        </p:nvPicPr>
        <p:blipFill>
          <a:blip r:embed="rId4"/>
          <a:stretch/>
        </p:blipFill>
        <p:spPr>
          <a:xfrm>
            <a:off x="536400" y="2554200"/>
            <a:ext cx="2298960" cy="218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pravila etiketa dlya samyx malenkix 2 Правила этикета для самых маленьких"/>
          <p:cNvPicPr/>
          <p:nvPr/>
        </p:nvPicPr>
        <p:blipFill>
          <a:blip r:embed="rId5"/>
          <a:stretch/>
        </p:blipFill>
        <p:spPr>
          <a:xfrm>
            <a:off x="2481120" y="4286160"/>
            <a:ext cx="2310120" cy="204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pravila etiketa dlya samyx malenkix 5 Правила этикета для самых маленьких"/>
          <p:cNvPicPr/>
          <p:nvPr/>
        </p:nvPicPr>
        <p:blipFill>
          <a:blip r:embed="rId6"/>
          <a:stretch/>
        </p:blipFill>
        <p:spPr>
          <a:xfrm>
            <a:off x="5072040" y="2341440"/>
            <a:ext cx="2279520" cy="202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pravila etiketa dlya samyx malenkix 9 Правила этикета для самых маленьких"/>
          <p:cNvPicPr/>
          <p:nvPr/>
        </p:nvPicPr>
        <p:blipFill>
          <a:blip r:embed="rId7"/>
          <a:stretch/>
        </p:blipFill>
        <p:spPr>
          <a:xfrm>
            <a:off x="6510240" y="4211640"/>
            <a:ext cx="2189160" cy="2079720"/>
          </a:xfrm>
          <a:prstGeom prst="rect">
            <a:avLst/>
          </a:prstGeom>
          <a:ln w="0">
            <a:noFill/>
          </a:ln>
        </p:spPr>
      </p:pic>
      <p:sp>
        <p:nvSpPr>
          <p:cNvPr id="93" name="Лента лицом вверх 8"/>
          <p:cNvSpPr/>
          <p:nvPr/>
        </p:nvSpPr>
        <p:spPr>
          <a:xfrm>
            <a:off x="857160" y="142920"/>
            <a:ext cx="7643880" cy="642960"/>
          </a:xfrm>
          <a:custGeom>
            <a:avLst/>
            <a:gdLst>
              <a:gd name="textAreaLeft" fmla="*/ 1910880 w 7643880"/>
              <a:gd name="textAreaRight" fmla="*/ 5733000 w 7643880"/>
              <a:gd name="textAreaTop" fmla="*/ 0 h 642960"/>
              <a:gd name="textAreaBottom" fmla="*/ 536040 h 64296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85e0e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 «Вежливость петербуржц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48:59Z</dcterms:created>
  <dc:creator>Admin</dc:creator>
  <dc:description/>
  <dc:language>en-US</dc:language>
  <cp:lastModifiedBy>ЭЖ</cp:lastModifiedBy>
  <dcterms:modified xsi:type="dcterms:W3CDTF">2011-12-08T17:26:01Z</dcterms:modified>
  <cp:revision>13</cp:revision>
  <dc:subject/>
  <dc:title>Слайд 1</dc:title>
</cp:coreProperties>
</file>