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1E9-3379-4549-A320-DB3C6800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71F-7B57-489E-B521-94D6BA64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103-D46B-405F-843A-150DA416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228-4F2D-4178-82CC-E030C21D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48B39-E2DA-4F82-ABA4-B1B5F571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4B9D4-C5D8-486B-BB63-76B0383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9F5E-04CB-4325-BA1E-9153A767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D773E-9829-44A4-80F2-E446FB4C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6558C-636B-41FB-99B3-BA6AB20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14D2-5175-43A9-8A74-C7627C22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79A4-7739-4E96-BC2A-87758D7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71A-8B5E-49B5-AF6D-B48E58B7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75C7B-D3D1-4F87-91A4-45F2082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DFD08-C9AC-4609-978B-9B9E3CB5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4D3E8-7471-4041-9166-314CAE8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6DC6C-81C7-44BD-B30E-23982DCF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CF269-0AA7-4438-96BE-2A81510D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F59-75D2-44E3-B5DA-98D28C7F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164-F064-4AFB-A201-83E1751A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960-3945-4E1D-965F-72524CF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59C-E7DE-484C-96B8-37B4EE2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F50-A817-49C9-AFEF-08171F91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E29-B1B8-4BC6-B930-73C3279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53A-D570-439D-BCE1-783887C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F71-4B87-4C8C-8044-B96854572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925B-6099-49A0-8CBA-4B029F0C70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6864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выполнила воспитатель подготовительной группы ГБДОУ №17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ршнева Светлана Викт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ированная совместная деятельность воспитателя с детьми подготовительной груп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785880" y="620640"/>
            <a:ext cx="74293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о гу л к а     п о     С а н к т    -    П е т е р б у р г 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3" descr=""/>
          <p:cNvPicPr/>
          <p:nvPr/>
        </p:nvPicPr>
        <p:blipFill>
          <a:blip r:embed="rId2"/>
          <a:stretch/>
        </p:blipFill>
        <p:spPr>
          <a:xfrm>
            <a:off x="798480" y="1182600"/>
            <a:ext cx="729144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артинка 3 из 45476"/>
          <p:cNvPicPr/>
          <p:nvPr/>
        </p:nvPicPr>
        <p:blipFill>
          <a:blip r:embed="rId2"/>
          <a:stretch/>
        </p:blipFill>
        <p:spPr>
          <a:xfrm>
            <a:off x="1639800" y="633240"/>
            <a:ext cx="2103480" cy="22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82732626795768"/>
          <p:cNvPicPr/>
          <p:nvPr/>
        </p:nvPicPr>
        <p:blipFill>
          <a:blip r:embed="rId3"/>
          <a:stretch/>
        </p:blipFill>
        <p:spPr>
          <a:xfrm>
            <a:off x="5429160" y="714240"/>
            <a:ext cx="1654200" cy="178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Картинка 27 из 2436"/>
          <p:cNvPicPr/>
          <p:nvPr/>
        </p:nvPicPr>
        <p:blipFill>
          <a:blip r:embed="rId4"/>
          <a:stretch/>
        </p:blipFill>
        <p:spPr>
          <a:xfrm>
            <a:off x="536400" y="2554200"/>
            <a:ext cx="2298960" cy="218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pravila etiketa dlya samyx malenkix 2 Правила этикета для самых маленьких"/>
          <p:cNvPicPr/>
          <p:nvPr/>
        </p:nvPicPr>
        <p:blipFill>
          <a:blip r:embed="rId5"/>
          <a:stretch/>
        </p:blipFill>
        <p:spPr>
          <a:xfrm>
            <a:off x="2481120" y="4286160"/>
            <a:ext cx="2310120" cy="204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pravila etiketa dlya samyx malenkix 5 Правила этикета для самых маленьких"/>
          <p:cNvPicPr/>
          <p:nvPr/>
        </p:nvPicPr>
        <p:blipFill>
          <a:blip r:embed="rId6"/>
          <a:stretch/>
        </p:blipFill>
        <p:spPr>
          <a:xfrm>
            <a:off x="5072040" y="2341440"/>
            <a:ext cx="2279520" cy="20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pravila etiketa dlya samyx malenkix 9 Правила этикета для самых маленьких"/>
          <p:cNvPicPr/>
          <p:nvPr/>
        </p:nvPicPr>
        <p:blipFill>
          <a:blip r:embed="rId7"/>
          <a:stretch/>
        </p:blipFill>
        <p:spPr>
          <a:xfrm>
            <a:off x="6510240" y="4211640"/>
            <a:ext cx="2189160" cy="2079720"/>
          </a:xfrm>
          <a:prstGeom prst="rect">
            <a:avLst/>
          </a:prstGeom>
          <a:ln w="0">
            <a:noFill/>
          </a:ln>
        </p:spPr>
      </p:pic>
      <p:sp>
        <p:nvSpPr>
          <p:cNvPr id="93" name="Лента лицом вверх 8"/>
          <p:cNvSpPr/>
          <p:nvPr/>
        </p:nvSpPr>
        <p:spPr>
          <a:xfrm>
            <a:off x="857160" y="142920"/>
            <a:ext cx="7643880" cy="642960"/>
          </a:xfrm>
          <a:custGeom>
            <a:avLst/>
            <a:gdLst>
              <a:gd name="textAreaLeft" fmla="*/ 1910880 w 7643880"/>
              <a:gd name="textAreaRight" fmla="*/ 5733000 w 7643880"/>
              <a:gd name="textAreaTop" fmla="*/ 0 h 642960"/>
              <a:gd name="textAreaBottom" fmla="*/ 536040 h 6429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85e0e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«Вежливость петербуржц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48:59Z</dcterms:created>
  <dc:creator>Admin</dc:creator>
  <dc:description/>
  <dc:language>en-US</dc:language>
  <cp:lastModifiedBy>ЭЖ</cp:lastModifiedBy>
  <dcterms:modified xsi:type="dcterms:W3CDTF">2011-12-08T17:26:01Z</dcterms:modified>
  <cp:revision>13</cp:revision>
  <dc:subject/>
  <dc:title>Слайд 1</dc:title>
</cp:coreProperties>
</file>