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B4AA-A0B6-4CB4-81F6-0785BB2082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9E3B-BA6E-44B2-90AF-37ADF006FE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A28-93C2-4BAC-AF93-B907F1EE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ED8-90DB-4CB7-9FDE-4F42AF88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B74-DE0F-44EB-92FC-DE065699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E1A-AAD9-48E0-BAC7-B77F207E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21E9-946D-4C26-BFD5-66C68777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86DE-17A4-4B69-B901-4DF621C6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26D4-5CA1-45AB-A340-166DD9AB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A482-BCDC-462C-A4CE-8578BB86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60EF-AD38-4ADC-87FA-B41C58D0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9340-3E21-4712-B4A9-4AEFB042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D287-406B-4581-A7C8-480F152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F15-2370-472A-B831-C12AE0E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5DD0-222F-43E4-9B8F-7212B871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4D7B-36F5-4B6C-B62B-EA5AE6AC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244A-211F-496E-952E-C8B4A910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4EE0-DE6F-4766-B405-8763C47D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C3E8-1FE0-49F0-8068-B9A36796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AA1C-A7CD-4755-8429-D92187CD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5E2C-1C5F-46E4-ACFC-B8B8D14A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2D25-4D29-46C9-81F5-D2381028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D043-15EC-43AA-9046-BECB007F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FABD-DB57-48EE-B934-ED980AC0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372-412A-441E-8BC9-577A18D4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4683-285D-4065-8045-F868EC12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7771-8CF2-4A6C-A0A9-ABCEBBD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7E7A-B47D-44DB-9E57-D1B4D826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9525-687B-4496-BC0E-7ABBEC1B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6756-AB85-4DC7-A12C-8FCB07DE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09B9-17F6-4F67-8C7D-EAC0D036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5EBA-12E2-4B38-B2BD-D0D02E97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51AD-1BE1-4050-968D-1E0127A2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7A61-4D44-456D-A81A-6A371A02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8079-177E-4838-9288-5349D573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78B-4847-490D-B150-F505ACFF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0AA0-E509-4375-B164-9269E92F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F9887-6E45-4C07-A099-4E3AB44C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75EF-C4FB-4DBF-AB20-F416C6CA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6DE9D-F982-4B00-ACF6-2613D878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8C99-3B96-45E6-942C-C2B5A731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D186-06B4-42A0-A523-F212AE1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5A8D-4F54-4E8F-BB06-69438710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67A8-2B8F-409D-BCA4-779373EC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4B00-9869-4AD6-8A38-67192965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2F7-8A3A-41C1-8978-2DD73FD8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978-6F2E-4FF1-BA1C-DB30B699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8C9-CC77-4C75-BAF7-E2507B7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A14-D307-442C-BD5F-44A6330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235-957B-4A52-8E64-CEFD88D9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358F-37BD-4D3A-962E-DDD888DC18E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1CB0-4B52-44DB-8A46-9249C99B724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EE6-E02F-4744-B91C-BC9B9E6CEC1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A1B5-999D-42DB-8DFC-E614D9D9B27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343040" y="38862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35"/>
                </a:solidFill>
                <a:latin typeface="Trebuchet MS"/>
              </a:rPr>
              <a:t>Автор-разработчик: Сапогова И.И.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35"/>
                </a:solidFill>
                <a:latin typeface="Trebuchet MS"/>
              </a:rPr>
              <a:t>педагог-психолог ГОУ детский сад № 2527 СОУО ДО г. Москв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755640" y="463680"/>
            <a:ext cx="8223120" cy="2243160"/>
          </a:xfrm>
          <a:prstGeom prst="rect">
            <a:avLst/>
          </a:prstGeom>
          <a:ln w="0">
            <a:noFill/>
          </a:ln>
        </p:spPr>
      </p:pic>
      <p:sp>
        <p:nvSpPr>
          <p:cNvPr id="223" name="WordArt 6"/>
          <p:cNvSpPr txBox="1"/>
          <p:nvPr/>
        </p:nvSpPr>
        <p:spPr>
          <a:xfrm>
            <a:off x="1447920" y="1143000"/>
            <a:ext cx="6933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7"/>
          <p:cNvSpPr txBox="1"/>
          <p:nvPr/>
        </p:nvSpPr>
        <p:spPr>
          <a:xfrm>
            <a:off x="1600200" y="1752480"/>
            <a:ext cx="6610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Рисунок 1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70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268360" y="174600"/>
            <a:ext cx="460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73c65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rebuchet MS"/>
              </a:rPr>
              <a:t>Цели и задачи методик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73c65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711360" y="981000"/>
            <a:ext cx="8065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c65"/>
                </a:solidFill>
                <a:latin typeface="Times New Roman"/>
              </a:rPr>
              <a:t>Цель авторской методик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повышение эффективности обучения и развития соответственно возрастным нормам гиперактивных и агрессивных дете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ика разработана для детей старшего дошкольного возрас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c65"/>
                </a:solidFill>
                <a:latin typeface="Times New Roman"/>
              </a:rPr>
              <a:t>Задачи: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выявление детей с данными особенност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создание рабочей группы детей старшего дошкольного возрас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обучение детей произвольному внимани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обучение детей правильному взаимодействию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формирование заинтересованности в обучении у детей в процессе работы групп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возможность активного проживания и проигрывания конфликтов в совместной игр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роверка границ допустимог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преодоление эгоцентризма в процессе социализации благодаря развитию коммуникативных навыков и навыков сотрудниче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7">
            <a:hlinkClick r:id="rId1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833400" y="110484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стоящее время мы очень часто сталкиваемся с проблемой гиперактивных и агрессивных детей в практике ДОУ. Множество исследований и разработок, которые посвящены этой теме, используются воспитателями и психологами в процессе работы с такими деть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ого что бы устранить эффекты недоразвития или недостаточного развития произвольного внимания мы предлагаем совмещать игровую деятельность с решением ребенка задач, требующих внимательного отношения к объектам, не связанным с целями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2"/>
          <a:stretch/>
        </p:blipFill>
        <p:spPr>
          <a:xfrm>
            <a:off x="617400" y="404640"/>
            <a:ext cx="79930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3"/>
          <p:cNvGraphicFramePr/>
          <p:nvPr/>
        </p:nvGraphicFramePr>
        <p:xfrm>
          <a:off x="3200400" y="4952880"/>
          <a:ext cx="106668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952880"/>
                    <a:ext cx="1066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5"/>
          <p:cNvGraphicFramePr/>
          <p:nvPr/>
        </p:nvGraphicFramePr>
        <p:xfrm>
          <a:off x="7772400" y="4876920"/>
          <a:ext cx="91584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4876920"/>
                    <a:ext cx="9158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8"/>
          <p:cNvSpPr/>
          <p:nvPr/>
        </p:nvSpPr>
        <p:spPr>
          <a:xfrm rot="16200000">
            <a:off x="-1318680" y="2409120"/>
            <a:ext cx="619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c65"/>
                </a:solidFill>
                <a:latin typeface="Trebuchet MS"/>
              </a:rPr>
              <a:t>Цель:</a:t>
            </a:r>
            <a:r>
              <a:rPr b="0" lang="ru-RU" sz="3200" spc="-1" strike="noStrike">
                <a:solidFill>
                  <a:srgbClr val="073c65"/>
                </a:solidFill>
                <a:latin typeface="Trebuchet MS"/>
              </a:rPr>
              <a:t> развитие концентрации и сосредоточенности вним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21">
            <a:hlinkClick r:id="rId5" action="ppaction://hlinksldjump"/>
          </p:cNvPr>
          <p:cNvSpPr/>
          <p:nvPr/>
        </p:nvSpPr>
        <p:spPr>
          <a:xfrm>
            <a:off x="8610480" y="6095880"/>
            <a:ext cx="533520" cy="433440"/>
          </a:xfrm>
          <a:custGeom>
            <a:avLst/>
            <a:gdLst>
              <a:gd name="textAreaLeft" fmla="*/ 28080 w 533520"/>
              <a:gd name="textAreaRight" fmla="*/ 505440 w 533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83" h="21600">
                <a:moveTo>
                  <a:pt x="0" y="0"/>
                </a:moveTo>
                <a:lnTo>
                  <a:pt x="26583" y="0"/>
                </a:lnTo>
                <a:lnTo>
                  <a:pt x="26583" y="21600"/>
                </a:lnTo>
                <a:lnTo>
                  <a:pt x="0" y="21600"/>
                </a:lnTo>
                <a:close/>
              </a:path>
              <a:path fill="lightenLess" w="26583" h="21600">
                <a:moveTo>
                  <a:pt x="0" y="0"/>
                </a:moveTo>
                <a:lnTo>
                  <a:pt x="26583" y="0"/>
                </a:lnTo>
                <a:lnTo>
                  <a:pt x="25183" y="1400"/>
                </a:lnTo>
                <a:lnTo>
                  <a:pt x="1400" y="1400"/>
                </a:lnTo>
                <a:close/>
              </a:path>
              <a:path fill="darken" w="26583" h="21600">
                <a:moveTo>
                  <a:pt x="26583" y="0"/>
                </a:moveTo>
                <a:lnTo>
                  <a:pt x="26583" y="21600"/>
                </a:lnTo>
                <a:lnTo>
                  <a:pt x="25183" y="20200"/>
                </a:lnTo>
                <a:lnTo>
                  <a:pt x="25183" y="1400"/>
                </a:lnTo>
                <a:close/>
              </a:path>
              <a:path fill="darkenLess" w="26583" h="21600">
                <a:moveTo>
                  <a:pt x="26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3" y="20200"/>
                </a:lnTo>
                <a:close/>
              </a:path>
              <a:path fill="lighten" w="26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3" h="21600">
                <a:moveTo>
                  <a:pt x="6285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2346480" y="927000"/>
            <a:ext cx="6175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равствуйте ребята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мы поиграем в несколько игр, в которых вам надо быть очень внимательными, но сначала предлагаю немного размя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йчас мы будем бегать, у меня в руках три кольца разного цвета. Когда я покажу кольцо красного цвета, высоко подняв его над головой, ваша задача бегать и  тем, кто хочет можно покрич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я показываю круг желтого цвета, мы ходим тихо-тихо, как мышки, которые бояться разбудить к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леный кружок означает, что надо замереть и не двига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т, кто ошибается, садится в сторону и ждет окончания игры. Останется один или два победителя, самых вниматель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2335320" y="30960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Образец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15">
            <a:hlinkClick r:id="rId1" action="ppaction://hlinksldjump"/>
          </p:cNvPr>
          <p:cNvSpPr/>
          <p:nvPr/>
        </p:nvSpPr>
        <p:spPr>
          <a:xfrm>
            <a:off x="12952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1187280" y="836640"/>
            <a:ext cx="74883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73c65"/>
                </a:solidFill>
                <a:latin typeface="Trebuchet MS"/>
              </a:rPr>
              <a:t>Работа с агрессией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гласно данным личностного исследования агрессивность в поведении детей уменьшается по мере обучения их правильному взаимодействию в игровой деятельности, когда они решают упражнения на кооперац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4" descr=""/>
          <p:cNvPicPr/>
          <p:nvPr/>
        </p:nvPicPr>
        <p:blipFill>
          <a:blip r:embed="rId2"/>
          <a:stretch/>
        </p:blipFill>
        <p:spPr>
          <a:xfrm>
            <a:off x="647640" y="507960"/>
            <a:ext cx="79930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7">
            <a:hlinkClick r:id="rId1" action="ppaction://hlinksldjump"/>
          </p:cNvPr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900000" y="260280"/>
            <a:ext cx="7632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c65"/>
                </a:solidFill>
                <a:latin typeface="Trebuchet MS"/>
              </a:rPr>
              <a:t>Ход занятия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 работы это делить детей на команды и выигрывает команда. Психолог помогает кооперировать. В конце каждого занятия объяснять из-за чего проигрывает коман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c65"/>
                </a:solidFill>
                <a:latin typeface="Trebuchet MS"/>
              </a:rPr>
              <a:t>«Удержи шари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и делятся на 2 команды. На расстояние 4-5 метров для каждой команды ставится стул. Каждой команде выдается по воздушному шарику. Шарик первый участник команды зажимает между ног. По команде "старт" игроки обеих команд начинают прыгать с зажатым в ногах шариком до стула, обогнув стул - возвращаются. Передают шар следующему участнику. Чья команда быстр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2133720" y="30492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истема награж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AutoShape 10">
            <a:hlinkClick r:id="rId1" action="ppaction://hlinksldjump"/>
          </p:cNvPr>
          <p:cNvSpPr/>
          <p:nvPr/>
        </p:nvSpPr>
        <p:spPr>
          <a:xfrm>
            <a:off x="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1"/>
          <p:cNvSpPr/>
          <p:nvPr/>
        </p:nvSpPr>
        <p:spPr>
          <a:xfrm>
            <a:off x="533520" y="990720"/>
            <a:ext cx="8286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ные кружки/звездочки делятся цветами по степени значимости и ребенок ежедневно, вечером по окончанию занятий получает соответствующий стикер от воспитателя или психолога, соответствующий его поведению, с подробными на доступном языке ребенку пояснениями, почему именно этот стикер, что сделано верно, что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це недели подводится подсчет итогов недели, и ребенок может выбрать себе награду соответственно своим индивидуальным потребностям и возможностям к концу недели (шоколадка, конфета, игрушка и пр.). Таблица наград составляется заранее. Например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сная звездочка – если весь день ребенок старался и вел себя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няя звездочка – не смог выполнить одно задание или один раз повел себя не правильно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л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красных звездочек – шоколадка/игруш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красных звездочки – маленькая шоколад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 синих звездочек –  3 конф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синих звездочки – 2 конфеты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042920" y="612720"/>
            <a:ext cx="72741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73c65"/>
                </a:solidFill>
                <a:latin typeface="Trebuchet MS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ак, предлагаемая нами методика, учитывающая психологические особенности игровой деятельности детей позволяет уменьшить проявления агрессивных тенденций, а так же снизить чрезмерную активность, основанную на недостатке произвольного внимания. И то и другое является необходимым для старших дошкольников к обучению в общеобразовательной шко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C:\Program Files (x86)\Microsoft Office\MEDIA\OFFICE14\Lines\BD21313_.gif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6:57:07Z</dcterms:created>
  <dc:creator>Љ ЎЁ­Ґв ь4</dc:creator>
  <dc:description/>
  <dc:language>en-US</dc:language>
  <cp:lastModifiedBy>Стич</cp:lastModifiedBy>
  <cp:lastPrinted>2003-04-23T04:20:37Z</cp:lastPrinted>
  <dcterms:modified xsi:type="dcterms:W3CDTF">2011-04-05T11:53:35Z</dcterms:modified>
  <cp:revision>41</cp:revision>
  <dc:subject/>
  <dc:title>Заголовок слайда отсутствует</dc:title>
</cp:coreProperties>
</file>