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74BC-4C86-4C6C-AD0A-FA5B712BD3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5C75-0F18-427A-8D65-4C5A0CBEBD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FC90-08C5-4779-8B4F-4A001693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A04-CB25-49FA-9A65-27E92C09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D08-4C6B-4CC6-B586-98F12F3F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EC7-C5B5-462F-A80A-903AD058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FFEE-9783-42AF-AB06-006F0450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459D-CAC4-4410-9B48-AB4AF4C6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E03B-464C-48F2-9574-EBA0AACB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87DE-79BD-4236-AA10-7883BC6D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FE94-C2F2-463B-91B5-D102A031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1D83-E003-4CB0-ADEC-12BBCC2B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16F3-22FB-436F-9A73-B35DB6C6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4737-A38F-4CB2-A108-DE21B7BD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66B3-FA74-4EF6-AA83-CB467635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E6D6-C809-4152-ABDA-16065B4C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5E09-BF53-4AD5-AAAE-FAF4929E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6CFB-1774-4DEC-AC77-1DFB1F18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1D9A-395C-4471-9897-01623F2D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697E7-B5F5-431B-B1E3-FD98E7D7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4E1CC-A2D3-468A-94DC-18855076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016EC-E3F5-42F3-9F00-B3A41262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4BFA7-D8B7-4049-A622-A3F438EB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055B0-2BDC-403B-9045-2137498C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8AF-38DF-4076-B4B2-953780B4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C6932-CFD3-4E53-8225-9585A52F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E5CEA-64D4-4B54-ABDB-18CAC343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07FF5-46C8-48B8-B310-85614780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9B129-A4CF-4991-AF89-843E5A49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7D3A0-F898-460C-BE04-4A9CF3A0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45C19-1F32-4160-B75E-4265FFBB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0C84C-F54C-409D-82D7-993F4447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F4126-E2D7-40C8-A560-25506B36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0F4C9-E54D-4CD9-8E19-1E1C3170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401E0-4434-4256-9317-F66A4B24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B88-0EA1-494E-B4C9-95FBA040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89D97-FFFC-41E0-A121-5234F4CD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F36B8-D860-41EB-9E35-A9C48EC8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89A96-25B1-45E9-9D47-A95C0067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5D77E-305D-42F9-97C9-84AF0398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B6AA7-2A34-49AB-8B71-2A005621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EE879-570E-4AD2-9F2A-1EFDBC65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E6255-8ACF-4D1C-BD93-B1BAC418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62BC0-CBDF-4373-B58B-1D53DF30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9F832-3985-4FEE-9C1D-61A38972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E5F-C97E-4165-9301-30987D83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D0B5-8B27-4D49-BBEC-E8ACB493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AAA-7824-4717-9945-D67EC3D7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46DE-DA87-43A2-AC46-75B4274F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4BB-2070-4C74-8698-635779FB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FDAA-2C03-4C9E-970D-529276878BB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EB3C-1749-43BA-A61B-63C4C00BAD9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8448-2FF2-49AE-BE28-93A9E42E518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92A9-8AA0-4B73-A132-795527F094B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343040" y="388620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35"/>
                </a:solidFill>
                <a:latin typeface="Trebuchet MS"/>
              </a:rPr>
              <a:t>Автор-разработчик: Сапогова И.И.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35"/>
                </a:solidFill>
                <a:latin typeface="Trebuchet MS"/>
              </a:rPr>
              <a:t>педагог-психолог ГОУ детский сад № 2527 СОУО ДО г. Москв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755640" y="463680"/>
            <a:ext cx="8223120" cy="2243160"/>
          </a:xfrm>
          <a:prstGeom prst="rect">
            <a:avLst/>
          </a:prstGeom>
          <a:ln w="0">
            <a:noFill/>
          </a:ln>
        </p:spPr>
      </p:pic>
      <p:sp>
        <p:nvSpPr>
          <p:cNvPr id="223" name="WordArt 6"/>
          <p:cNvSpPr txBox="1"/>
          <p:nvPr/>
        </p:nvSpPr>
        <p:spPr>
          <a:xfrm>
            <a:off x="1447920" y="1143000"/>
            <a:ext cx="6933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7"/>
          <p:cNvSpPr txBox="1"/>
          <p:nvPr/>
        </p:nvSpPr>
        <p:spPr>
          <a:xfrm>
            <a:off x="1600200" y="1752480"/>
            <a:ext cx="6610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5" name="Рисунок 1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370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268360" y="174600"/>
            <a:ext cx="4607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73c65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rebuchet MS"/>
              </a:rPr>
              <a:t>Цели и задачи методик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73c65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227" name="Прямоугольник 4"/>
          <p:cNvSpPr/>
          <p:nvPr/>
        </p:nvSpPr>
        <p:spPr>
          <a:xfrm>
            <a:off x="711360" y="981000"/>
            <a:ext cx="8065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c65"/>
                </a:solidFill>
                <a:latin typeface="Times New Roman"/>
              </a:rPr>
              <a:t>Цель авторской методик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– повышение эффективности обучения и развития соответственно возрастным нормам гиперактивных и агрессивных дете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тодика разработана для детей старшего дошкольного возраст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c65"/>
                </a:solidFill>
                <a:latin typeface="Times New Roman"/>
              </a:rPr>
              <a:t>Задачи: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выявление детей с данными особенност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создание рабочей группы детей старшего дошкольного возраст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обучение детей произвольному внимани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обучение детей правильному взаимодействию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формирование заинтересованности в обучении у детей в процессе работы групп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возможность активного проживания и проигрывания конфликтов в совместной игр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проверка границ допустимог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преодоление эгоцентризма в процессе социализации благодаря развитию коммуникативных навыков и навыков сотрудниче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7">
            <a:hlinkClick r:id="rId1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оугольник 1"/>
          <p:cNvSpPr/>
          <p:nvPr/>
        </p:nvSpPr>
        <p:spPr>
          <a:xfrm>
            <a:off x="833400" y="1104840"/>
            <a:ext cx="7777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стоящее время мы очень часто сталкиваемся с проблемой гиперактивных и агрессивных детей в практике ДОУ. Множество исследований и разработок, которые посвящены этой теме, используются воспитателями и психологами в процессе работы с такими деть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того что бы устранить эффекты недоразвития или недостаточного развития произвольного внимания мы предлагаем совмещать игровую деятельность с решением ребенка задач, требующих внимательного отношения к объектам, не связанным с целями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8" descr=""/>
          <p:cNvPicPr/>
          <p:nvPr/>
        </p:nvPicPr>
        <p:blipFill>
          <a:blip r:embed="rId2"/>
          <a:stretch/>
        </p:blipFill>
        <p:spPr>
          <a:xfrm>
            <a:off x="617400" y="404640"/>
            <a:ext cx="79930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Object 3"/>
          <p:cNvGraphicFramePr/>
          <p:nvPr/>
        </p:nvGraphicFramePr>
        <p:xfrm>
          <a:off x="3200400" y="4952880"/>
          <a:ext cx="106668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952880"/>
                    <a:ext cx="1066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5"/>
          <p:cNvGraphicFramePr/>
          <p:nvPr/>
        </p:nvGraphicFramePr>
        <p:xfrm>
          <a:off x="7772400" y="4876920"/>
          <a:ext cx="91584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4876920"/>
                    <a:ext cx="91584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8"/>
          <p:cNvSpPr/>
          <p:nvPr/>
        </p:nvSpPr>
        <p:spPr>
          <a:xfrm rot="16200000">
            <a:off x="-1318680" y="2409120"/>
            <a:ext cx="619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c65"/>
                </a:solidFill>
                <a:latin typeface="Trebuchet MS"/>
              </a:rPr>
              <a:t>Цель:</a:t>
            </a:r>
            <a:r>
              <a:rPr b="0" lang="ru-RU" sz="3200" spc="-1" strike="noStrike">
                <a:solidFill>
                  <a:srgbClr val="073c65"/>
                </a:solidFill>
                <a:latin typeface="Trebuchet MS"/>
              </a:rPr>
              <a:t> развитие концентрации и сосредоточенности вним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21">
            <a:hlinkClick r:id="rId5" action="ppaction://hlinksldjump"/>
          </p:cNvPr>
          <p:cNvSpPr/>
          <p:nvPr/>
        </p:nvSpPr>
        <p:spPr>
          <a:xfrm>
            <a:off x="8610480" y="6095880"/>
            <a:ext cx="533520" cy="433440"/>
          </a:xfrm>
          <a:custGeom>
            <a:avLst/>
            <a:gdLst>
              <a:gd name="textAreaLeft" fmla="*/ 28080 w 533520"/>
              <a:gd name="textAreaRight" fmla="*/ 505440 w 5335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83" h="21600">
                <a:moveTo>
                  <a:pt x="0" y="0"/>
                </a:moveTo>
                <a:lnTo>
                  <a:pt x="26583" y="0"/>
                </a:lnTo>
                <a:lnTo>
                  <a:pt x="26583" y="21600"/>
                </a:lnTo>
                <a:lnTo>
                  <a:pt x="0" y="21600"/>
                </a:lnTo>
                <a:close/>
              </a:path>
              <a:path fill="lightenLess" w="26583" h="21600">
                <a:moveTo>
                  <a:pt x="0" y="0"/>
                </a:moveTo>
                <a:lnTo>
                  <a:pt x="26583" y="0"/>
                </a:lnTo>
                <a:lnTo>
                  <a:pt x="25183" y="1400"/>
                </a:lnTo>
                <a:lnTo>
                  <a:pt x="1400" y="1400"/>
                </a:lnTo>
                <a:close/>
              </a:path>
              <a:path fill="darken" w="26583" h="21600">
                <a:moveTo>
                  <a:pt x="26583" y="0"/>
                </a:moveTo>
                <a:lnTo>
                  <a:pt x="26583" y="21600"/>
                </a:lnTo>
                <a:lnTo>
                  <a:pt x="25183" y="20200"/>
                </a:lnTo>
                <a:lnTo>
                  <a:pt x="25183" y="1400"/>
                </a:lnTo>
                <a:close/>
              </a:path>
              <a:path fill="darkenLess" w="26583" h="21600">
                <a:moveTo>
                  <a:pt x="26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3" y="20200"/>
                </a:lnTo>
                <a:close/>
              </a:path>
              <a:path fill="lighten" w="26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3" h="21600">
                <a:moveTo>
                  <a:pt x="6285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2346480" y="927000"/>
            <a:ext cx="6175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дравствуйте ребята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годня мы поиграем в несколько игр, в которых вам надо быть очень внимательными, но сначала предлагаю немного размять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йчас мы будем бегать, у меня в руках три кольца разного цвета. Когда я покажу кольцо красного цвета, высоко подняв его над головой, ваша задача бегать и  тем, кто хочет можно покрича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я показываю круг желтого цвета, мы ходим тихо-тихо, как мышки, которые бояться разбудить ко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еленый кружок означает, что надо замереть и не двигать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т, кто ошибается, садится в сторону и ждет окончания игры. Останется один или два победителя, самых вниматель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2335320" y="30960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Образец иг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15">
            <a:hlinkClick r:id="rId1" action="ppaction://hlinksldjump"/>
          </p:cNvPr>
          <p:cNvSpPr/>
          <p:nvPr/>
        </p:nvSpPr>
        <p:spPr>
          <a:xfrm>
            <a:off x="12952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оугольник 1"/>
          <p:cNvSpPr/>
          <p:nvPr/>
        </p:nvSpPr>
        <p:spPr>
          <a:xfrm>
            <a:off x="1187280" y="836640"/>
            <a:ext cx="748836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73c65"/>
                </a:solidFill>
                <a:latin typeface="Trebuchet MS"/>
              </a:rPr>
              <a:t>Работа с агрессией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гласно данным личностного исследования агрессивность в поведении детей уменьшается по мере обучения их правильному взаимодействию в игровой деятельности, когда они решают упражнения на кооперац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24" descr=""/>
          <p:cNvPicPr/>
          <p:nvPr/>
        </p:nvPicPr>
        <p:blipFill>
          <a:blip r:embed="rId2"/>
          <a:stretch/>
        </p:blipFill>
        <p:spPr>
          <a:xfrm>
            <a:off x="647640" y="507960"/>
            <a:ext cx="79930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7">
            <a:hlinkClick r:id="rId1" action="ppaction://hlinksldjump"/>
          </p:cNvPr>
          <p:cNvSpPr/>
          <p:nvPr/>
        </p:nvSpPr>
        <p:spPr>
          <a:xfrm>
            <a:off x="87631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оугольник 1"/>
          <p:cNvSpPr/>
          <p:nvPr/>
        </p:nvSpPr>
        <p:spPr>
          <a:xfrm>
            <a:off x="900000" y="260280"/>
            <a:ext cx="76327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c65"/>
                </a:solidFill>
                <a:latin typeface="Trebuchet MS"/>
              </a:rPr>
              <a:t>Ход занятия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ой принцип работы это делить детей на команды и выигрывает команда. Психолог помогает кооперировать. В конце каждого занятия объяснять из-за чего проигрывает коман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c65"/>
                </a:solidFill>
                <a:latin typeface="Trebuchet MS"/>
              </a:rPr>
              <a:t>«Удержи шарик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 делятся на 2 команды. На расстояние 4-5 метров для каждой команды ставится стул. Каждой команде выдается по воздушному шарику. Шарик первый участник команды зажимает между ног. По команде "старт" игроки обеих команд начинают прыгать с зажатым в ногах шариком до стула, обогнув стул - возвращаются. Передают шар следующему участнику. Чья команда быстр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2"/>
          <p:cNvSpPr txBox="1"/>
          <p:nvPr/>
        </p:nvSpPr>
        <p:spPr>
          <a:xfrm>
            <a:off x="2133720" y="304920"/>
            <a:ext cx="5638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истема награжде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AutoShape 10">
            <a:hlinkClick r:id="rId1" action="ppaction://hlinksldjump"/>
          </p:cNvPr>
          <p:cNvSpPr/>
          <p:nvPr/>
        </p:nvSpPr>
        <p:spPr>
          <a:xfrm>
            <a:off x="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оугольник 1"/>
          <p:cNvSpPr/>
          <p:nvPr/>
        </p:nvSpPr>
        <p:spPr>
          <a:xfrm>
            <a:off x="533520" y="990720"/>
            <a:ext cx="82864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ветные кружки/звездочки делятся цветами по степени значимости и ребенок ежедневно, вечером по окончанию занятий получает соответствующий стикер от воспитателя или психолога, соответствующий его поведению, с подробными на доступном языке ребенку пояснениями, почему именно этот стикер, что сделано верно, что н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онце недели подводится подсчет итогов недели, и ребенок может выбрать себе награду соответственно своим индивидуальным потребностям и возможностям к концу недели (шоколадка, конфета, игрушка и пр.). Таблица наград составляется заранее. Например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сная звездочка – если весь день ребенок старался и вел себя хорош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няя звездочка – не смог выполнить одно задание или один раз повел себя не правильно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ле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 красных звездочек – шоколадка/игруш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красных звездочки – маленькая шоколад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 синих звездочек –  3 конф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синих звездочки – 2 конфеты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1042920" y="612720"/>
            <a:ext cx="727416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73c65"/>
                </a:solidFill>
                <a:latin typeface="Trebuchet MS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так, предлагаемая нами методика, учитывающая психологические особенности игровой деятельности детей позволяет уменьшить проявления агрессивных тенденций, а так же снизить чрезмерную активность, основанную на недостатке произвольного внимания. И то и другое является необходимым для старших дошкольников к обучению в общеобразовательной школ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2" descr="C:\Program Files (x86)\Microsoft Office\MEDIA\OFFICE14\Lines\BD21313_.gif"/>
          <p:cNvPicPr/>
          <p:nvPr/>
        </p:nvPicPr>
        <p:blipFill>
          <a:blip r:embed="rId1"/>
          <a:stretch/>
        </p:blipFill>
        <p:spPr>
          <a:xfrm>
            <a:off x="539640" y="333360"/>
            <a:ext cx="799308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6:57:07Z</dcterms:created>
  <dc:creator>Љ ЎЁ­Ґв ь4</dc:creator>
  <dc:description/>
  <dc:language>en-US</dc:language>
  <cp:lastModifiedBy>Стич</cp:lastModifiedBy>
  <cp:lastPrinted>2003-04-23T04:20:37Z</cp:lastPrinted>
  <dcterms:modified xsi:type="dcterms:W3CDTF">2011-04-05T11:53:35Z</dcterms:modified>
  <cp:revision>41</cp:revision>
  <dc:subject/>
  <dc:title>Заголовок слайда отсутствует</dc:title>
</cp:coreProperties>
</file>