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3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C501-DB77-4D96-8C41-D9274461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FDD-189A-4687-9BF4-9DF8AA85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2DE-3058-4335-82AF-A8E73A4B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E7BC-E17E-4AFD-A6D2-93552B16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FDDE-6EDC-47F4-B584-2E9C71FD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A003-72FD-41C1-B8D3-B98B9B1A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1FBB-E59C-4D8F-B87B-D67E44B4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06A6-586E-4C8D-8877-FCAC37E2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448A-AFBC-4E5E-A479-2C7D63EB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3DBF-41BD-4A23-956B-D5612490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B0C1-7D60-4F18-BA69-1074BE2A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284-54B4-4BA6-9BA7-297DD16B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E79D-250D-454D-810C-C4B20A3D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DDE5-5F5A-40DC-A526-2E0B2DF5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E183-9072-40FB-B336-B4B39F24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139B-57ED-404D-85D6-CB9E8002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D5E7-CAB9-4BC9-8A76-50B49454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C7C1-A56C-46F0-96F1-1EB81E54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F872-ED03-4343-806B-637B5C4C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B4CB-4530-4609-A720-13524299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2AC-EC83-41E5-AFCF-2A5CD455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1F95-2A2D-4E65-80F1-4DB4BD95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592-D931-4207-8E39-3667BF46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3A2A-3F50-48AC-A520-14232E29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651E-8866-478B-A49C-4728E7CA4BE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6FF5-90CA-43F3-BCCF-BB82D17E4D3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Советско-финская война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ве́тско-фи́нская война́ 1939—1940 года, или Зимняя война́</a:t>
            </a:r>
            <a:r>
              <a:rPr b="1" lang="ru-RU" sz="3600" spc="-1" strike="noStrike">
                <a:solidFill>
                  <a:srgbClr val="000000"/>
                </a:solidFill>
                <a:latin typeface="Arial Unicode MS"/>
              </a:rPr>
              <a:t> (</a:t>
            </a:r>
            <a:r>
              <a:rPr b="1" i="1" lang="fi-FI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alvisota</a:t>
            </a:r>
            <a:r>
              <a:rPr b="1" lang="ru-RU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— вооружённый конфликт между </a:t>
            </a:r>
            <a:r>
              <a:rPr b="1" lang="ru-RU" sz="3600" spc="-1" strike="noStrike">
                <a:solidFill>
                  <a:srgbClr val="000000"/>
                </a:solidFill>
                <a:latin typeface="Arial Unicode MS"/>
              </a:rPr>
              <a:t>СССР</a:t>
            </a:r>
            <a:r>
              <a:rPr b="1" lang="ru-RU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</a:t>
            </a:r>
            <a:r>
              <a:rPr b="1" lang="ru-RU" sz="3600" spc="-1" strike="noStrike">
                <a:solidFill>
                  <a:srgbClr val="000000"/>
                </a:solidFill>
                <a:latin typeface="Arial Unicode MS"/>
              </a:rPr>
              <a:t>Финляндией</a:t>
            </a:r>
            <a:r>
              <a:rPr b="1" lang="ru-RU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 период с </a:t>
            </a:r>
            <a:r>
              <a:rPr b="1" lang="ru-RU" sz="3600" spc="-1" strike="noStrike">
                <a:solidFill>
                  <a:srgbClr val="000000"/>
                </a:solidFill>
                <a:latin typeface="Arial Unicode MS"/>
              </a:rPr>
              <a:t>30 ноября</a:t>
            </a:r>
            <a:r>
              <a:rPr b="1" lang="ru-RU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Unicode MS"/>
              </a:rPr>
              <a:t>1939 года</a:t>
            </a:r>
            <a:r>
              <a:rPr b="1" lang="ru-RU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о </a:t>
            </a:r>
            <a:r>
              <a:rPr b="1" lang="ru-RU" sz="3600" spc="-1" strike="noStrike">
                <a:solidFill>
                  <a:srgbClr val="000000"/>
                </a:solidFill>
                <a:latin typeface="Arial Unicode MS"/>
              </a:rPr>
              <a:t>12 марта 1940 года</a:t>
            </a:r>
            <a:r>
              <a:rPr b="1" lang="ru-RU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x_a41eb283" descr=""/>
          <p:cNvPicPr/>
          <p:nvPr/>
        </p:nvPicPr>
        <p:blipFill>
          <a:blip r:embed="rId2"/>
          <a:stretch/>
        </p:blipFill>
        <p:spPr>
          <a:xfrm>
            <a:off x="1143000" y="4953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Армия и вооружение СССР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34160" y="6019560"/>
            <a:ext cx="7596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x_3051e2ba5c" descr=""/>
          <p:cNvPicPr/>
          <p:nvPr/>
        </p:nvPicPr>
        <p:blipFill>
          <a:blip r:embed="rId2"/>
          <a:stretch/>
        </p:blipFill>
        <p:spPr>
          <a:xfrm>
            <a:off x="1138320" y="1766880"/>
            <a:ext cx="6939000" cy="45957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686800" y="-11626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1880" y="60958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x_003bc300" descr=""/>
          <p:cNvPicPr/>
          <p:nvPr/>
        </p:nvPicPr>
        <p:blipFill>
          <a:blip r:embed="rId2"/>
          <a:stretch/>
        </p:blipFill>
        <p:spPr>
          <a:xfrm>
            <a:off x="685800" y="860400"/>
            <a:ext cx="7848720" cy="5005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754840" y="5803920"/>
            <a:ext cx="75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x_3d7223bc76" descr=""/>
          <p:cNvPicPr/>
          <p:nvPr/>
        </p:nvPicPr>
        <p:blipFill>
          <a:blip r:embed="rId2"/>
          <a:stretch/>
        </p:blipFill>
        <p:spPr>
          <a:xfrm>
            <a:off x="685800" y="398520"/>
            <a:ext cx="7848720" cy="52401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Готовность Финляндии к войне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енная промышленность Финляндии была представлена одним патронным заводом, одним пороховым и одним артиллерийск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x_efedf245" descr=""/>
          <p:cNvPicPr/>
          <p:nvPr/>
        </p:nvPicPr>
        <p:blipFill>
          <a:blip r:embed="rId3"/>
          <a:stretch/>
        </p:blipFill>
        <p:spPr>
          <a:xfrm>
            <a:off x="1158840" y="1600200"/>
            <a:ext cx="3129120" cy="44956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Наши потери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062000" y="580392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йцы Красной Армии - легко одетые, плохо обученные, возглавляемые некомпетентными командирами, тысячами гибли от пуль и умирали от обморожений, зачастую так и не увидев противни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1880" y="-115506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ы не брали в плен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цов Красной Армии, попавших в окружение и блуждавших в лесах, противник сознательно оставлял в глуши, дожидаясь, пока их не убьют холод и голо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458200" y="-114739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куш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—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нговое название финских снайперов, во время Советско-финской войны использовавших замаскированные позиции на деревь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kukushka" descr=""/>
          <p:cNvPicPr/>
          <p:nvPr/>
        </p:nvPicPr>
        <p:blipFill>
          <a:blip r:embed="rId4"/>
          <a:stretch/>
        </p:blipFill>
        <p:spPr>
          <a:xfrm>
            <a:off x="4371840" y="914400"/>
            <a:ext cx="3618000" cy="51814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Маннергейм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904760"/>
            <a:ext cx="4267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Карл Густав Маннергейм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советско-финской войне был главнокомандующим армии Финлянд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65317_or" descr=""/>
          <p:cNvPicPr/>
          <p:nvPr/>
        </p:nvPicPr>
        <p:blipFill>
          <a:blip r:embed="rId2"/>
          <a:stretch/>
        </p:blipFill>
        <p:spPr>
          <a:xfrm>
            <a:off x="712800" y="1828800"/>
            <a:ext cx="3186000" cy="42670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Повод к войне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фициальным поводом к войне стал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Майнильский инцидент»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результате артиллерийского обстрела, совершённого с территории Финляндии, погибли четверо и были ранены девятеро советских военнослужащи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Причины войны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гласно заявлениям советской стороны, целью СССР было обеспечение безопасности Ленинграда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ляндия идти на уступки советскому руководству не хо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LSS_ru" descr=""/>
          <p:cNvPicPr/>
          <p:nvPr/>
        </p:nvPicPr>
        <p:blipFill>
          <a:blip r:embed="rId3"/>
          <a:stretch/>
        </p:blipFill>
        <p:spPr>
          <a:xfrm>
            <a:off x="1062000" y="2111400"/>
            <a:ext cx="3808440" cy="34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Итоги боевых действий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828440"/>
            <a:ext cx="4114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рорыва «линии Маннергейма» Финляндия заведомо была не в состоянии сдержать наступление Красной Армии. Встала реальная угроза полного захвата стран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x_4b09ee6c05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809880" cy="3539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Завершение войны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 мар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 заключён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ирный догово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гласно которому боевые действия прекращались в 12 часо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 март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40 год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Копия%20(2)%20x_a98c2779" descr=""/>
          <p:cNvPicPr/>
          <p:nvPr/>
        </p:nvPicPr>
        <p:blipFill>
          <a:blip r:embed="rId3"/>
          <a:stretch/>
        </p:blipFill>
        <p:spPr>
          <a:xfrm>
            <a:off x="1062000" y="2027160"/>
            <a:ext cx="3808440" cy="3592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53535"/>
                </a:solidFill>
                <a:latin typeface="Verdana"/>
              </a:rPr>
              <a:t>Вы́борг (финский Viipuri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 ночь с 12 на 13 марта 1940 года начался генеральный штурм Выборга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information_items_1208020837" descr=""/>
          <p:cNvPicPr/>
          <p:nvPr/>
        </p:nvPicPr>
        <p:blipFill>
          <a:blip r:embed="rId3"/>
          <a:stretch/>
        </p:blipFill>
        <p:spPr>
          <a:xfrm>
            <a:off x="1062000" y="1766880"/>
            <a:ext cx="4189320" cy="39369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Зеленогорск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1948 назывался Териоки по р. Терийоки (из финского тейри "холмик", йоки "река"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Terijokinega_120" descr=""/>
          <p:cNvPicPr/>
          <p:nvPr/>
        </p:nvPicPr>
        <p:blipFill>
          <a:blip r:embed="rId3"/>
          <a:stretch/>
        </p:blipFill>
        <p:spPr>
          <a:xfrm>
            <a:off x="4413240" y="1766880"/>
            <a:ext cx="4417920" cy="33368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82400"/>
                </a:solidFill>
                <a:latin typeface="Times New Roman"/>
              </a:rPr>
              <a:t>Сестроре́цк</a:t>
            </a: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  (финский </a:t>
            </a:r>
            <a:r>
              <a:rPr b="0" lang="fi-FI" sz="4000" spc="-1" strike="noStrike">
                <a:solidFill>
                  <a:srgbClr val="482400"/>
                </a:solidFill>
                <a:latin typeface="Times New Roman"/>
              </a:rPr>
              <a:t>Siestarjoki</a:t>
            </a: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251320" y="1766880"/>
            <a:ext cx="35798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поним "река Сестра" (Siestarjoki) происходит от ижорского диалектного 'siestar' - черная смороди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о" descr=""/>
          <p:cNvPicPr/>
          <p:nvPr/>
        </p:nvPicPr>
        <p:blipFill>
          <a:blip r:embed="rId3"/>
          <a:stretch/>
        </p:blipFill>
        <p:spPr>
          <a:xfrm>
            <a:off x="685800" y="1684440"/>
            <a:ext cx="4572000" cy="4365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Посё́лок Белоо́стров (финский </a:t>
            </a:r>
            <a:r>
              <a:rPr b="0" lang="fi-FI" sz="4000" spc="-1" strike="noStrike">
                <a:solidFill>
                  <a:srgbClr val="482400"/>
                </a:solidFill>
                <a:latin typeface="Times New Roman"/>
              </a:rPr>
              <a:t>Valkeasaari</a:t>
            </a: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32200" y="1766880"/>
            <a:ext cx="31986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keasaar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переводится как "Белый Остров"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185262" descr=""/>
          <p:cNvPicPr/>
          <p:nvPr/>
        </p:nvPicPr>
        <p:blipFill>
          <a:blip r:embed="rId3"/>
          <a:stretch/>
        </p:blipFill>
        <p:spPr>
          <a:xfrm>
            <a:off x="1062000" y="1766880"/>
            <a:ext cx="4417920" cy="33512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  <a:ea typeface="Times New Roman"/>
              </a:rPr>
              <a:t>Условия мирного договора были следующими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22093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СССР отошёл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рельский перешеек, Выборг, Сортавала, ряд островов в Финском залив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В границах СССР полностью оказалос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адожское озер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ССР получил в аренду час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уострова Ханко (Гангут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роком на 30 лет для оборудования там военно-морской баз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«Зимняя война»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69b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ата начала: 30 ноября 1939 года, 8:00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ата окончания: 13 марта 1940 года, 12:00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щая продолжительность: 104 дня и 4 часа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Памятники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мориал "Крест Скорби"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 кресту приникли две женщины, как две страны: Финляндия и Россия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мни, разбросанные на холме, как павшие вои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x_4b30624c2c" descr=""/>
          <p:cNvPicPr/>
          <p:nvPr/>
        </p:nvPicPr>
        <p:blipFill>
          <a:blip r:embed="rId3"/>
          <a:stretch/>
        </p:blipFill>
        <p:spPr>
          <a:xfrm>
            <a:off x="4648320" y="1676520"/>
            <a:ext cx="3809880" cy="3679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762760" y="-11702520"/>
            <a:ext cx="759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амятная доска установленная в поселке Лумиваа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x_296a2588" descr=""/>
          <p:cNvPicPr/>
          <p:nvPr/>
        </p:nvPicPr>
        <p:blipFill>
          <a:blip r:embed="rId3"/>
          <a:stretch/>
        </p:blipFill>
        <p:spPr>
          <a:xfrm>
            <a:off x="609480" y="990720"/>
            <a:ext cx="4191120" cy="51051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762760" y="-11550600"/>
            <a:ext cx="759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610480" y="6019560"/>
            <a:ext cx="7632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x_af14ff49" descr=""/>
          <p:cNvPicPr/>
          <p:nvPr/>
        </p:nvPicPr>
        <p:blipFill>
          <a:blip r:embed="rId2"/>
          <a:stretch/>
        </p:blipFill>
        <p:spPr>
          <a:xfrm>
            <a:off x="914400" y="38088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05560" y="-1155060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атские могилы в Лемет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x_b685b831" descr=""/>
          <p:cNvPicPr/>
          <p:nvPr/>
        </p:nvPicPr>
        <p:blipFill>
          <a:blip r:embed="rId3"/>
          <a:stretch/>
        </p:blipFill>
        <p:spPr>
          <a:xfrm>
            <a:off x="1054080" y="762120"/>
            <a:ext cx="3670200" cy="53337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924680" y="-117025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3080" y="1447560"/>
            <a:ext cx="1905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атен порт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x_d7d35b6e" descr=""/>
          <p:cNvPicPr/>
          <p:nvPr/>
        </p:nvPicPr>
        <p:blipFill>
          <a:blip r:embed="rId3"/>
          <a:stretch/>
        </p:blipFill>
        <p:spPr>
          <a:xfrm>
            <a:off x="685800" y="762120"/>
            <a:ext cx="5464080" cy="5715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62760" y="-11702520"/>
            <a:ext cx="759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38680" y="1904760"/>
            <a:ext cx="2819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еленогорс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x_ac6a7623" descr=""/>
          <p:cNvPicPr/>
          <p:nvPr/>
        </p:nvPicPr>
        <p:blipFill>
          <a:blip r:embed="rId3"/>
          <a:stretch/>
        </p:blipFill>
        <p:spPr>
          <a:xfrm>
            <a:off x="1047600" y="304920"/>
            <a:ext cx="4343400" cy="57909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«Линия Маннергейма»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98840" y="1766880"/>
            <a:ext cx="53323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ым рубежом обороны Финляндии была «линия Маннергейма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30 долговременных огневых сооружений были расположены по линии длиною около 140 км от берега Финского залива до Ладожского оз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тип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2995920" cy="3809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План наступления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67080" y="1676520"/>
            <a:ext cx="4191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лан войны с Финляндией предусматривал развёртывание боевых действий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Карельском перешейке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где предполагалось вести прямой прорыв «линии Маннергейм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z1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3809880" cy="3519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371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4f4f"/>
                </a:solidFill>
                <a:latin typeface="Times New Roman"/>
              </a:rPr>
              <a:t>ДОТ долговременная огневая точка.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 spd="med" advTm="6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1880" y="-11473920"/>
            <a:ext cx="152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1880" y="6172200"/>
            <a:ext cx="15264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x_9de51704" descr=""/>
          <p:cNvPicPr/>
          <p:nvPr/>
        </p:nvPicPr>
        <p:blipFill>
          <a:blip r:embed="rId2"/>
          <a:stretch/>
        </p:blipFill>
        <p:spPr>
          <a:xfrm>
            <a:off x="914400" y="26676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1880" y="-11473920"/>
            <a:ext cx="152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610480" y="6019560"/>
            <a:ext cx="7632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rg_92126_" descr=""/>
          <p:cNvPicPr/>
          <p:nvPr/>
        </p:nvPicPr>
        <p:blipFill>
          <a:blip r:embed="rId2"/>
          <a:stretch/>
        </p:blipFill>
        <p:spPr>
          <a:xfrm>
            <a:off x="990720" y="237960"/>
            <a:ext cx="7162560" cy="55864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5880" y="990360"/>
            <a:ext cx="2819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инляндия — страна лесов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и боло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тяжении 760 лет финский народ не знал независимост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x_5af0b5c3" descr=""/>
          <p:cNvPicPr/>
          <p:nvPr/>
        </p:nvPicPr>
        <p:blipFill>
          <a:blip r:embed="rId3"/>
          <a:stretch/>
        </p:blipFill>
        <p:spPr>
          <a:xfrm>
            <a:off x="838080" y="609480"/>
            <a:ext cx="5181840" cy="54864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3:48:50Z</dcterms:created>
  <dc:creator>александр</dc:creator>
  <dc:description/>
  <dc:language>en-US</dc:language>
  <cp:lastModifiedBy>аав</cp:lastModifiedBy>
  <dcterms:modified xsi:type="dcterms:W3CDTF">2011-04-10T12:10:32Z</dcterms:modified>
  <cp:revision>10</cp:revision>
  <dc:subject/>
  <dc:title>Советско-финская война</dc:title>
</cp:coreProperties>
</file>