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577-E6D8-4304-A977-959FB246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1CE-1551-4925-A97F-E8484D89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E26-28CE-402E-A5D7-C53583B7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69B-09C0-4EFD-93A4-B850B6AA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7BC5-DDAD-4D8F-9596-E7F196A7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1D80-C98A-4EB8-9C08-BAA0FD52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8B6D-6FF7-46EC-BD49-23891D31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AB35-EF02-46B1-A7B3-7441304C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ADCC-3EFE-4151-8621-53A99162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C268-1BA6-4511-9218-F052A63B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AA54-23BC-46B4-821E-765E8D3B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C33-A8DD-49CE-A061-223C6AE8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8C4D-43C0-4E0C-89D0-98DA7EEE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EE2B-5C10-4600-A083-63070597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EABC-C141-44A6-90FE-1FD801AC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1561-1FD5-4369-AB62-AADE2EFB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43E5-27F9-47DF-81DD-D0C4F403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55C8-54B8-4A38-9144-5988F4B6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4FA1-E0A8-47E9-8230-D903FFFD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3118-C081-4438-A447-E820BB11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2ED8-92BE-4328-97E4-4897C859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E6F4-5515-458B-8896-0545CDC7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335-E1FD-41D1-A1BE-DD20A02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541A-7B7C-4ED9-AED4-36DEE3E4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C6C7-892E-44B9-A6D5-362F5892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F1D3-4EB1-496E-A9E3-C2348F84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B779-0E20-4A74-BE36-D3253B88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F902-FED1-44B7-84D7-412EC4FB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04E9-4F58-44A9-A3F5-A9930DC0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DB80-3218-4447-B4F1-3003AD01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B5F-A4E4-4664-B04B-DCF3AF88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434-7A20-488A-AF31-616E8CFC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1B4-84FB-4759-AFE5-E163ADF1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FC1-2C99-4203-90AE-861AAA2C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70F-44C0-4E61-8BBF-9BFEDF78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047-89DA-4BF5-B335-C2B41C7F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2593-2FFE-4862-B084-A4BA34D71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CF6C-7C02-4C8F-8859-B6BAF2C49D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428B-36BC-485D-99D5-79BD099ABC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76280"/>
            <a:ext cx="7991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Unicode MS"/>
              </a:rPr>
              <a:t>Роль пейзажа в рассказе И.С.Тургенев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Unicode MS"/>
              </a:rPr>
              <a:t>    «Бежин луг»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003280" y="404640"/>
            <a:ext cx="3683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7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Одно, в чём он мастер такой, что руки отнимаются после него касаться этого предмета- это природа. Две-три черты, и пахнет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Л.Н.Тол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49760" cy="590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ver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1890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Роль пейзажа в рассказе «Бежин лу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ocument"/>
          <p:cNvSpPr/>
          <p:nvPr/>
        </p:nvSpPr>
        <p:spPr>
          <a:xfrm>
            <a:off x="0" y="2565360"/>
            <a:ext cx="2519280" cy="3311640"/>
          </a:xfrm>
          <a:prstGeom prst="pie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жит фоном жизни героев рассказа- крестьянски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2771640" y="2421000"/>
            <a:ext cx="3168720" cy="3600360"/>
          </a:xfrm>
          <a:prstGeom prst="pie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ocument"/>
          <p:cNvSpPr/>
          <p:nvPr/>
        </p:nvSpPr>
        <p:spPr>
          <a:xfrm>
            <a:off x="6227640" y="2565360"/>
            <a:ext cx="2737080" cy="3384720"/>
          </a:xfrm>
          <a:prstGeom prst="pie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ределяет построение произведения, образуя его зачин и конц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225400">
            <a:off x="147600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9937400">
            <a:off x="7308720" y="14839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2565360"/>
            <a:ext cx="2950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здействует на воображение и сознание мальчиков своей таинственностью, предрасполагая их к рассказам о страшном, вызывает те или иные настроения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137800" cy="6021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4392360" cy="333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68360" y="3573360"/>
            <a:ext cx="4643280" cy="3068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580000" y="690480"/>
            <a:ext cx="3117960" cy="5405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64216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D:\РТН\Поэты и писатели\Тургенев\Спасское-Лутовиново (фото)\019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179280" y="620640"/>
            <a:ext cx="8748720" cy="5556240"/>
          </a:xfrm>
          <a:prstGeom prst="rect">
            <a:avLst/>
          </a:prstGeom>
          <a:ln w="9360">
            <a:solidFill>
              <a:srgbClr val="e5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12680" y="328680"/>
            <a:ext cx="8855280" cy="6059520"/>
          </a:xfrm>
          <a:prstGeom prst="rect">
            <a:avLst/>
          </a:prstGeom>
          <a:ln w="9360">
            <a:solidFill>
              <a:srgbClr val="e5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50920" y="260280"/>
            <a:ext cx="8713800" cy="5810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39640" y="692280"/>
          <a:ext cx="8208720" cy="5760720"/>
        </p:xfrm>
        <a:graphic>
          <a:graphicData uri="http://schemas.openxmlformats.org/drawingml/2006/table">
            <a:tbl>
              <a:tblPr/>
              <a:tblGrid>
                <a:gridCol w="4104360"/>
                <a:gridCol w="4104360"/>
              </a:tblGrid>
              <a:tr h="82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вство радости жизн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ркие и «живые» краск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вство страх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йзаж настораживает и пугает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рак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ьм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1:35:58Z</dcterms:created>
  <dc:creator>Ольга Николаевна</dc:creator>
  <dc:description/>
  <dc:language>en-US</dc:language>
  <cp:lastModifiedBy>User</cp:lastModifiedBy>
  <dcterms:modified xsi:type="dcterms:W3CDTF">2010-06-10T16:24:06Z</dcterms:modified>
  <cp:revision>25</cp:revision>
  <dc:subject/>
  <dc:title> Иван Сергеевич Тургенев «Бежин луг»</dc:title>
</cp:coreProperties>
</file>