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122-09C1-462C-942C-4246A537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3CF-2B76-498B-9777-84C86CD8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BB8-432D-4A92-A3E7-369997F2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D27-7FE6-4EC0-A95A-70585835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D34-6CD1-4557-AD9C-4237C1D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63F9-35B1-4960-A139-767F098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2108-29A3-4E46-9B17-34E62405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90D9-6343-461A-A2B9-D64C07B9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F450-160D-4F4C-88AE-8EDD3CF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E72A-43E9-43B6-90E0-3F022048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A018-B395-4BCA-A3DF-5761A9F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2C9-2F24-4626-A3C4-3B43B01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0B9-BDA9-4E30-BF11-689B4AD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FC1-EBD4-4865-967D-DD61BBF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A26A-E847-4C35-B4C2-B65A44D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F3C9-41B9-4F41-A181-D1E1BE86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2D74-C94C-4C72-942F-B8F538A2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FA82-C5A6-4DAA-96B3-3011967C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38C2-3B12-4636-AD79-B65ABCBD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D5F4-8C0A-480F-9EC6-677CA3D3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C359-055A-483B-90DA-A9F6336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569DE-67EB-46BF-9461-C45FF7F6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05E-ADFA-423B-9A5D-F880365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20AA-A05E-4424-B08E-EEE6DF06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99CE-9202-428A-AD1F-5740163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7F31-2176-4B10-88C1-2424601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274A-8DC1-4839-B9B3-EFC7751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C1BDC-2467-449D-9F3F-3485840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AE1B-D515-4E3A-B38B-566C2806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CC94-554E-460B-8743-097B5FC8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EFA-20D2-4584-B03A-3D80C8F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39E-3538-4F6D-92C5-FF92E99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AE8-65E9-4197-97A4-778D20B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576-527A-4FD8-8003-C2231FBE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9FB-FF48-48DA-A580-BB66B5F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D25-DCDB-4560-BB82-1DE8107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D2D0-7BF3-4A4C-BC56-0E5D7769D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854-6DEF-4D44-8D0F-1FA3C6C28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8C3-C855-4310-8F07-0EA5CC7A90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76280"/>
            <a:ext cx="7991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Роль пейзажа в рассказе И.С.Тургенев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</a:rPr>
              <a:t>    «Бежин луг»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03280" y="404640"/>
            <a:ext cx="3683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«Одно, в чём он мастер такой, что руки отнимаются после него касаться этого предмета- это природа. Две-три черты, и пахнет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794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Л.Н.Толс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976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cover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89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Роль пейзажа в рассказе «Бежин л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ocument"/>
          <p:cNvSpPr/>
          <p:nvPr/>
        </p:nvSpPr>
        <p:spPr>
          <a:xfrm>
            <a:off x="0" y="2565360"/>
            <a:ext cx="2519280" cy="331164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ит фоном жизни героев рассказа- крестьянск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2771640" y="2421000"/>
            <a:ext cx="3168720" cy="360036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ocument"/>
          <p:cNvSpPr/>
          <p:nvPr/>
        </p:nvSpPr>
        <p:spPr>
          <a:xfrm>
            <a:off x="6227640" y="2565360"/>
            <a:ext cx="2737080" cy="3384720"/>
          </a:xfrm>
          <a:prstGeom prst="pi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яет построение произведения, образуя его зачин и конц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225400">
            <a:off x="147600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937400">
            <a:off x="7308720" y="14839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2565360"/>
            <a:ext cx="295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действует на воображение и сознание мальчиков своей таинственностью, предрасполагая их к рассказам о страшном, вызывает те или иные настроения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7800" cy="6021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4392360" cy="333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68360" y="3573360"/>
            <a:ext cx="4643280" cy="3068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580000" y="690480"/>
            <a:ext cx="3117960" cy="5405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D:\РТН\Поэты и писатели\Тургенев\Спасское-Лутовиново (фото)\01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79280" y="620640"/>
            <a:ext cx="8748720" cy="5556240"/>
          </a:xfrm>
          <a:prstGeom prst="rect">
            <a:avLst/>
          </a:prstGeom>
          <a:ln w="9360">
            <a:solidFill>
              <a:srgbClr val="e5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2680" y="328680"/>
            <a:ext cx="8855280" cy="6059520"/>
          </a:xfrm>
          <a:prstGeom prst="rect">
            <a:avLst/>
          </a:prstGeom>
          <a:ln w="9360">
            <a:solidFill>
              <a:srgbClr val="e5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50920" y="260280"/>
            <a:ext cx="8713800" cy="581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9640" y="692280"/>
          <a:ext cx="8208720" cy="5760720"/>
        </p:xfrm>
        <a:graphic>
          <a:graphicData uri="http://schemas.openxmlformats.org/drawingml/2006/table">
            <a:tbl>
              <a:tblPr/>
              <a:tblGrid>
                <a:gridCol w="4104360"/>
                <a:gridCol w="4104360"/>
              </a:tblGrid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 радости жизни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ркие и «живые» крас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 страх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йзаж настораживает и пугае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рак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ьм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1:35:58Z</dcterms:created>
  <dc:creator>Ольга Николаевна</dc:creator>
  <dc:description/>
  <dc:language>en-US</dc:language>
  <cp:lastModifiedBy>User</cp:lastModifiedBy>
  <dcterms:modified xsi:type="dcterms:W3CDTF">2010-06-10T16:24:06Z</dcterms:modified>
  <cp:revision>25</cp:revision>
  <dc:subject/>
  <dc:title> Иван Сергеевич Тургенев «Бежин луг»</dc:title>
</cp:coreProperties>
</file>