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ED6-10EA-4A50-B0E7-C467EB34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477-23A1-42A3-A235-C98C1BD5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4BE-6F4E-46A3-A455-17D3FF23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161-3C35-4CC5-8C13-6FD9B0DB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0641-D24B-4135-B9AA-7F8FEF55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4448-BBD1-49FB-A193-08506805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C555-33DF-4C55-9676-4E39A99F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A4D5-57F9-418B-9172-059C1C92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EBA5-120E-4D30-B1CD-7F17F0CF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6764-5C0E-411B-9F9F-0A124CF2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7B5C-EE80-40E3-BB22-8A21D703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0D7-481C-4D39-A03D-1EEA3BA9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C26F-6405-404E-BE35-AD77A39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4003-5AC3-4472-8C44-685E6C1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11E1-0684-4969-9259-0B953024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A51B-F500-4F19-A8CA-2D5E6984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8532-B845-468B-8D01-CBABB869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010-2CA7-4D16-93C8-057F3BF5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C27-204F-43AE-A23E-0E717E87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AE5-6F37-49EB-B4FC-4E68971E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C56-8370-4464-B5E7-CFB1E555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093-F730-4BC4-84EC-CF6C77E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B94-4506-428B-9085-D94FA24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3D4-93A7-4FD3-BFF8-9FD6427A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B51B-42BB-4D52-A5F1-C6A1A828AC4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AB8D-47F8-4B5A-96D4-3721EE4AAF6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равнени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нделеева - Клапейро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ставители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тенькина Е.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льник О.В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1619280" cy="226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оля фото"/>
          <p:cNvPicPr/>
          <p:nvPr/>
        </p:nvPicPr>
        <p:blipFill>
          <a:blip r:embed="rId2"/>
          <a:stretch/>
        </p:blipFill>
        <p:spPr>
          <a:xfrm>
            <a:off x="6715080" y="3786120"/>
            <a:ext cx="1643040" cy="2403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1"/>
          <p:cNvSpPr/>
          <p:nvPr/>
        </p:nvSpPr>
        <p:spPr>
          <a:xfrm>
            <a:off x="684360" y="544500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У «Бабежская СОШ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 в целом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равнение Клапейрона-Менделеева показывает, что для данной массы газа возможно одновременно изменение трех параметров, характеризующих состояние идеального газ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равнение Клапейрона-Менделеева представляет собой уравнение состояния идеального газа, которое объединяет закон Бойля — Мариотта, закон Гей-Люссака, закон Шарля и закон Авогадр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равнение Клапейрона-Менделеева — наиболее простое уравнение состояния, применяемое с определенной степенью точности к реальным газам при низких давлениях и высоких температурах, например, к атмосферному воздуху, когда свойства газов близки к идеальному газ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85538"/>
                </a:solidFill>
                <a:latin typeface="Times New Roman"/>
              </a:rPr>
              <a:t>Уравнение состояния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3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300" spc="-1" strike="noStrike">
                <a:solidFill>
                  <a:srgbClr val="ffff00"/>
                </a:solidFill>
                <a:latin typeface="Times New Roman"/>
              </a:rPr>
              <a:t>Первое из замечательных обобщений в физике, с помощью которых свойства разных веществ выражаются через одни и те же основные величины. Именно к этому стремиться физика - к нахождению общих законов, не зависящих от тех или иных веществ. Газы, существенно простые по своей природе, дали первый пример такого обобщения. И в этом большая заслуга одного из выдающихся учёных – Дмитрия Ивановича Менделеева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всё начиналос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27640" y="1599840"/>
            <a:ext cx="446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лапейрон Бенуа Поль Эми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26.I.1799–28.I.186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Французский физик, член Парижской АН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Окончил Политехническую школу в Париже(1818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В 1820–30 работал в </a:t>
            </a:r>
            <a:r>
              <a:rPr b="0" lang="ru-RU" sz="2700" spc="-1" strike="noStrike">
                <a:solidFill>
                  <a:srgbClr val="ffff00"/>
                </a:solidFill>
                <a:latin typeface="Verdana"/>
              </a:rPr>
              <a:t>Петербурге</a:t>
            </a:r>
            <a:r>
              <a:rPr b="0" lang="ru-RU" sz="2300" spc="-1" strike="noStrike">
                <a:solidFill>
                  <a:srgbClr val="ffff00"/>
                </a:solidFill>
                <a:latin typeface="Verdana"/>
              </a:rPr>
              <a:t> в институте инженеров путей сообщения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10" descr="Рисунок1"/>
          <p:cNvPicPr/>
          <p:nvPr/>
        </p:nvPicPr>
        <p:blipFill>
          <a:blip r:embed="rId1"/>
          <a:stretch/>
        </p:blipFill>
        <p:spPr>
          <a:xfrm>
            <a:off x="727200" y="1600200"/>
            <a:ext cx="349884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го уравнение состоя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e85538"/>
                </a:solidFill>
                <a:latin typeface="Times New Roman"/>
              </a:rPr>
              <a:t>Температуру, объем, давление</a:t>
            </a:r>
            <a:r>
              <a:rPr b="0" lang="ru-RU" sz="2500" spc="-1" strike="noStrike">
                <a:solidFill>
                  <a:srgbClr val="ffff1d"/>
                </a:solidFill>
                <a:latin typeface="Times New Roman"/>
              </a:rPr>
              <a:t> и некоторые другие параметры принято называть </a:t>
            </a:r>
            <a:r>
              <a:rPr b="0" lang="ru-RU" sz="2500" spc="-1" strike="noStrike">
                <a:solidFill>
                  <a:srgbClr val="e85538"/>
                </a:solidFill>
                <a:latin typeface="Times New Roman"/>
              </a:rPr>
              <a:t>параметрами состояния газа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1d"/>
                </a:solidFill>
                <a:latin typeface="Times New Roman"/>
              </a:rPr>
              <a:t>  </a:t>
            </a:r>
            <a:r>
              <a:rPr b="0" lang="ru-RU" sz="2500" spc="-1" strike="noStrike">
                <a:solidFill>
                  <a:srgbClr val="ffff1d"/>
                </a:solidFill>
                <a:latin typeface="Times New Roman"/>
              </a:rPr>
              <a:t>Клапейрон выводит уравнение, устанавливающее зависимость между этими параметрами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1d"/>
                </a:solidFill>
                <a:latin typeface="Times New Roman"/>
              </a:rPr>
              <a:t>Его называют уравнением состояния идеального газа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4535640" y="1484280"/>
            <a:ext cx="4209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Его дело продолжен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5538"/>
                </a:solidFill>
                <a:latin typeface="Times New Roman"/>
              </a:rPr>
              <a:t>Менделеев Дмитрий Иванови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(8.II.1834–2.II.1907)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Обобщив уравнение Клапейрона,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в 1874 вывел общее уравнение состояния идеального газа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484200" y="1484280"/>
            <a:ext cx="3855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т что получилос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352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ставив вместо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N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универсальную газовую постоянную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R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Менделеев получил такой вариант уравнения, которое теперь называется уравнением Менделеева - Клапейр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3783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ля чего это нужно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00800" y="1599840"/>
            <a:ext cx="318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ть уравнение необходимо при исследовании тепловых явлений, а конкретно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6" descr="200"/>
          <p:cNvPicPr/>
          <p:nvPr/>
        </p:nvPicPr>
        <p:blipFill>
          <a:blip r:embed="rId1"/>
          <a:stretch/>
        </p:blipFill>
        <p:spPr>
          <a:xfrm>
            <a:off x="974880" y="1928880"/>
            <a:ext cx="3854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термометрах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равнение позволяет определить одну из величин, характеризующих состояние, если известны две другие величи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о используют в термометр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C:\Documents and Settings\Администратор\Рабочий стол\clip_image002.jpg"/>
          <p:cNvPicPr/>
          <p:nvPr/>
        </p:nvPicPr>
        <p:blipFill>
          <a:blip r:embed="rId1"/>
          <a:stretch/>
        </p:blipFill>
        <p:spPr>
          <a:xfrm>
            <a:off x="5500800" y="1714680"/>
            <a:ext cx="3071880" cy="41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газовых законах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я уравнение состояния, можно сказать, как протекают в системе процессы при определённых внешних условия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6" descr="C:\Documents and Settings\Администратор\Рабочий стол\clip_image002.jpg"/>
          <p:cNvPicPr/>
          <p:nvPr/>
        </p:nvPicPr>
        <p:blipFill>
          <a:blip r:embed="rId1"/>
          <a:stretch/>
        </p:blipFill>
        <p:spPr>
          <a:xfrm>
            <a:off x="447840" y="1857240"/>
            <a:ext cx="4236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молекулярной физике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я уравнение состояния, можно определить, как меняется состояние системы, если она совершает работу или получает теплоту от окружающих те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6" descr="C:\Documents and Settings\Администратор\Рабочий стол\clip_image002.jpg"/>
          <p:cNvPicPr/>
          <p:nvPr/>
        </p:nvPicPr>
        <p:blipFill>
          <a:blip r:embed="rId1"/>
          <a:stretch/>
        </p:blipFill>
        <p:spPr>
          <a:xfrm>
            <a:off x="4714920" y="2000160"/>
            <a:ext cx="4000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0:57:12Z</dcterms:created>
  <dc:creator>User</dc:creator>
  <dc:description/>
  <dc:language>en-US</dc:language>
  <cp:lastModifiedBy>Екатерина</cp:lastModifiedBy>
  <dcterms:modified xsi:type="dcterms:W3CDTF">2011-12-07T05:25:03Z</dcterms:modified>
  <cp:revision>9</cp:revision>
  <dc:subject/>
  <dc:title>Слайд 1</dc:title>
</cp:coreProperties>
</file>