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988-AEBF-4BDA-9F29-F10E0865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E34-64AD-482D-87DA-76AD0D88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2F2-169E-40EC-8DE1-55AE5522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923-1010-4B8F-91E5-54921277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ED7D-E83E-4B81-B566-E3392137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7924-32FF-4CE9-A910-D9A28EF6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6631-95C6-42C7-9F95-69E9E3BC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E006-B30A-4B2E-A2BC-663755C2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B194-87F9-4448-A99C-F67DD6B2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923-025B-4ABE-A761-033AFDAE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573B-1886-40AD-83FA-990630BC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497-27D1-4116-89B2-F98F0782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D32A-58B5-434D-BAF8-CCC8ECB0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BE53-4AC9-47AD-A22A-21C2279B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E627-517C-4611-A664-183D9E03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DA96-30D8-4A1A-A281-03C5727D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0A10-E036-4DEF-8887-88D8732F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28B-9D71-4514-841E-2BBBCE10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ED6-357E-4DD9-AE51-27B7B437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7CA-3872-4E61-B920-324A3290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A2B-B836-4FF1-A609-4BCF48B3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9DF-7B7B-48B3-B6F9-5DBA6EE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BF4-87D5-4FA3-BF84-4A4AF95C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67B-5D33-4B8D-B4A7-41B421AD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21E6-0C00-4F7B-B3B9-C8EFE23ED26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FE50-73F9-4504-A7E3-2159258D454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равнени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енделеева - Клапейро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ставители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тенькина Е.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ельник О.В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1619280" cy="226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оля фото"/>
          <p:cNvPicPr/>
          <p:nvPr/>
        </p:nvPicPr>
        <p:blipFill>
          <a:blip r:embed="rId2"/>
          <a:stretch/>
        </p:blipFill>
        <p:spPr>
          <a:xfrm>
            <a:off x="6715080" y="3786120"/>
            <a:ext cx="1643040" cy="2403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1"/>
          <p:cNvSpPr/>
          <p:nvPr/>
        </p:nvSpPr>
        <p:spPr>
          <a:xfrm>
            <a:off x="684360" y="544500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У «Бабежская СОШ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 в целом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равнение Клапейрона-Менделеева показывает, что для данной массы газа возможно одновременно изменение трех параметров, характеризующих состояние идеального газ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равнение Клапейрона-Менделеева представляет собой уравнение состояния идеального газа, которое объединяет закон Бойля — Мариотта, закон Гей-Люссака, закон Шарля и закон Авогадр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равнение Клапейрона-Менделеева — наиболее простое уравнение состояния, применяемое с определенной степенью точности к реальным газам при низких давлениях и высоких температурах, например, к атмосферному воздуху, когда свойства газов близки к идеальному газ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85538"/>
                </a:solidFill>
                <a:latin typeface="Times New Roman"/>
              </a:rPr>
              <a:t>Уравнение состояния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3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300" spc="-1" strike="noStrike">
                <a:solidFill>
                  <a:srgbClr val="ffff00"/>
                </a:solidFill>
                <a:latin typeface="Times New Roman"/>
              </a:rPr>
              <a:t>Первое из замечательных обобщений в физике, с помощью которых свойства разных веществ выражаются через одни и те же основные величины. Именно к этому стремиться физика - к нахождению общих законов, не зависящих от тех или иных веществ. Газы, существенно простые по своей природе, дали первый пример такого обобщения. И в этом большая заслуга одного из выдающихся учёных – Дмитрия Ивановича Менделеева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всё начиналос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27640" y="1599840"/>
            <a:ext cx="446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лапейрон Бенуа Поль Эми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26.I.1799–28.I.186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Французский физик, член Парижской АН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Окончил Политехническую школу в Париже(1818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В 1820–30 работал в </a:t>
            </a:r>
            <a:r>
              <a:rPr b="0" lang="ru-RU" sz="2700" spc="-1" strike="noStrike">
                <a:solidFill>
                  <a:srgbClr val="ffff00"/>
                </a:solidFill>
                <a:latin typeface="Verdana"/>
              </a:rPr>
              <a:t>Петербурге</a:t>
            </a: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 в институте инженеров путей сообщения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10" descr="Рисунок1"/>
          <p:cNvPicPr/>
          <p:nvPr/>
        </p:nvPicPr>
        <p:blipFill>
          <a:blip r:embed="rId1"/>
          <a:stretch/>
        </p:blipFill>
        <p:spPr>
          <a:xfrm>
            <a:off x="727200" y="1600200"/>
            <a:ext cx="34988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го уравнение состоя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e85538"/>
                </a:solidFill>
                <a:latin typeface="Times New Roman"/>
              </a:rPr>
              <a:t>Температуру, объем, давление</a:t>
            </a:r>
            <a:r>
              <a:rPr b="0" lang="ru-RU" sz="2500" spc="-1" strike="noStrike">
                <a:solidFill>
                  <a:srgbClr val="ffff1d"/>
                </a:solidFill>
                <a:latin typeface="Times New Roman"/>
              </a:rPr>
              <a:t> и некоторые другие параметры принято называть </a:t>
            </a:r>
            <a:r>
              <a:rPr b="0" lang="ru-RU" sz="2500" spc="-1" strike="noStrike">
                <a:solidFill>
                  <a:srgbClr val="e85538"/>
                </a:solidFill>
                <a:latin typeface="Times New Roman"/>
              </a:rPr>
              <a:t>параметрами состояния газ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1d"/>
                </a:solidFill>
                <a:latin typeface="Times New Roman"/>
              </a:rPr>
              <a:t>  </a:t>
            </a:r>
            <a:r>
              <a:rPr b="0" lang="ru-RU" sz="2500" spc="-1" strike="noStrike">
                <a:solidFill>
                  <a:srgbClr val="ffff1d"/>
                </a:solidFill>
                <a:latin typeface="Times New Roman"/>
              </a:rPr>
              <a:t>Клапейрон выводит уравнение, устанавливающее зависимость между этими параметрам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1d"/>
                </a:solidFill>
                <a:latin typeface="Times New Roman"/>
              </a:rPr>
              <a:t>Его называют уравнением состояния идеального газа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4535640" y="1484280"/>
            <a:ext cx="4209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го дело продолжен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5538"/>
                </a:solidFill>
                <a:latin typeface="Times New Roman"/>
              </a:rPr>
              <a:t>Менделеев Дмитрий Иванови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(8.II.1834–2.II.1907)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Обобщив уравнение Клапейрона, 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в 1874 вывел общее уравнение состояния идеального газа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484200" y="1484280"/>
            <a:ext cx="3855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т что получилос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352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ставив вместо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N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универсальную газовую постоянную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R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Менделеев получил такой вариант уравнения, которое теперь называется уравнением Менделеева - Клапейр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378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ля чего это нужно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00800" y="1599840"/>
            <a:ext cx="318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ть уравнение необходимо при исследовании тепловых явлений, а конкретно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6" descr="200"/>
          <p:cNvPicPr/>
          <p:nvPr/>
        </p:nvPicPr>
        <p:blipFill>
          <a:blip r:embed="rId1"/>
          <a:stretch/>
        </p:blipFill>
        <p:spPr>
          <a:xfrm>
            <a:off x="974880" y="1928880"/>
            <a:ext cx="3854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термометрах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равнение позволяет определить одну из величин, характеризующих состояние, если известны две другие величи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о используют в термометр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C:\Documents and Settings\Администратор\Рабочий стол\clip_image002.jpg"/>
          <p:cNvPicPr/>
          <p:nvPr/>
        </p:nvPicPr>
        <p:blipFill>
          <a:blip r:embed="rId1"/>
          <a:stretch/>
        </p:blipFill>
        <p:spPr>
          <a:xfrm>
            <a:off x="5500800" y="1714680"/>
            <a:ext cx="3071880" cy="41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газовых законах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я уравнение состояния, можно сказать, как протекают в системе процессы при определённых внешних условия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6" descr="C:\Documents and Settings\Администратор\Рабочий стол\clip_image002.jpg"/>
          <p:cNvPicPr/>
          <p:nvPr/>
        </p:nvPicPr>
        <p:blipFill>
          <a:blip r:embed="rId1"/>
          <a:stretch/>
        </p:blipFill>
        <p:spPr>
          <a:xfrm>
            <a:off x="447840" y="1857240"/>
            <a:ext cx="4236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молекулярной физике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я уравнение состояния, можно определить, как меняется состояние системы, если она совершает работу или получает теплоту от окружающих те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6" descr="C:\Documents and Settings\Администратор\Рабочий стол\clip_image002.jpg"/>
          <p:cNvPicPr/>
          <p:nvPr/>
        </p:nvPicPr>
        <p:blipFill>
          <a:blip r:embed="rId1"/>
          <a:stretch/>
        </p:blipFill>
        <p:spPr>
          <a:xfrm>
            <a:off x="4714920" y="2000160"/>
            <a:ext cx="4000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0:57:12Z</dcterms:created>
  <dc:creator>User</dc:creator>
  <dc:description/>
  <dc:language>en-US</dc:language>
  <cp:lastModifiedBy>Екатерина</cp:lastModifiedBy>
  <dcterms:modified xsi:type="dcterms:W3CDTF">2011-12-07T05:25:03Z</dcterms:modified>
  <cp:revision>9</cp:revision>
  <dc:subject/>
  <dc:title>Слайд 1</dc:title>
</cp:coreProperties>
</file>