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png" ContentType="image/png"/>
  <Override PartName="/ppt/media/image4.gif" ContentType="image/gif"/>
  <Override PartName="/ppt/media/image9.png" ContentType="image/png"/>
  <Override PartName="/ppt/media/image22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.gif" ContentType="image/gif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812-D45F-4B4B-BF38-56BCB291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709-E439-4483-BFC9-FC07A34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8E1-2AE9-49DE-9425-790853D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18F-BCE1-40F5-9B43-66ECE8A2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804-58CC-4345-A8C8-65F7F725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74C-0FFB-44A3-8F3E-D921FB0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220-BDC6-40CE-9EDA-205B2AC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7BD-9195-402C-A123-96B8C0A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D75-CE48-48C8-B623-C0ED7A78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526-194E-41EC-BFD7-D577399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B0D-555A-4891-BD03-991150E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8BE-F440-42C3-8955-285D47F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32C-94C0-4185-8D4F-9AE850992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2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3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187280" y="3500280"/>
            <a:ext cx="3143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Рыба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Ал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95280" y="1484280"/>
            <a:ext cx="426708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Урок математик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в 1 класс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64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айти цело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ложить части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826920" y="2421000"/>
            <a:ext cx="756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82692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8388360" y="227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4036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900000" y="2421000"/>
            <a:ext cx="3240360" cy="21600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87" h="408">
                <a:moveTo>
                  <a:pt x="0" y="0"/>
                </a:moveTo>
                <a:cubicBezTo>
                  <a:pt x="325" y="204"/>
                  <a:pt x="650" y="408"/>
                  <a:pt x="998" y="408"/>
                </a:cubicBezTo>
                <a:cubicBezTo>
                  <a:pt x="1346" y="408"/>
                  <a:pt x="1716" y="204"/>
                  <a:pt x="2087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140360" y="2421000"/>
            <a:ext cx="4248000" cy="28728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676" h="589">
                <a:moveTo>
                  <a:pt x="0" y="0"/>
                </a:moveTo>
                <a:cubicBezTo>
                  <a:pt x="412" y="294"/>
                  <a:pt x="824" y="589"/>
                  <a:pt x="1270" y="589"/>
                </a:cubicBezTo>
                <a:cubicBezTo>
                  <a:pt x="1716" y="589"/>
                  <a:pt x="2196" y="294"/>
                  <a:pt x="267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826920" y="1989000"/>
            <a:ext cx="7561440" cy="432000"/>
          </a:xfrm>
          <a:custGeom>
            <a:avLst/>
            <a:gdLst>
              <a:gd name="textAreaLeft" fmla="*/ 0 w 7561440"/>
              <a:gd name="textAreaRight" fmla="*/ 7561800 w 7561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763" h="590">
                <a:moveTo>
                  <a:pt x="0" y="590"/>
                </a:moveTo>
                <a:cubicBezTo>
                  <a:pt x="737" y="295"/>
                  <a:pt x="1474" y="0"/>
                  <a:pt x="2268" y="0"/>
                </a:cubicBezTo>
                <a:cubicBezTo>
                  <a:pt x="3062" y="0"/>
                  <a:pt x="3912" y="295"/>
                  <a:pt x="4763" y="5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340000" y="115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№ 7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124000" y="2781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5651640" y="2781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3924360" y="981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эти фигуры. Они все разные. Здесь ты узнаешь, как они называются, и выполнишь интерес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013-BA0E-4266-8AC1-F1CEB5FE3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786720" y="1357200"/>
            <a:ext cx="14284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429000" y="1857240"/>
            <a:ext cx="114300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7"/>
          <p:cNvSpPr/>
          <p:nvPr/>
        </p:nvSpPr>
        <p:spPr>
          <a:xfrm>
            <a:off x="3286080" y="4071960"/>
            <a:ext cx="1643040" cy="1714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5214960" y="2643120"/>
            <a:ext cx="1143000" cy="2428920"/>
          </a:xfrm>
          <a:prstGeom prst="rect">
            <a:avLst/>
          </a:prstGeom>
          <a:solidFill>
            <a:srgbClr val="acfaf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 rot="951600">
            <a:off x="7065720" y="3257640"/>
            <a:ext cx="1214280" cy="27385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3000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кру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г, и это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есть кругов вок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круглое и мя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обруч и ка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9551-17EE-4DA8-A732-18D3C8527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7643880" y="214200"/>
            <a:ext cx="64296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7286760" y="1571760"/>
            <a:ext cx="1857240" cy="1571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857920" y="357120"/>
            <a:ext cx="150012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000760" y="1571760"/>
            <a:ext cx="1714320" cy="1643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0" descr="1244749471_sun1.jpg"/>
          <p:cNvPicPr/>
          <p:nvPr/>
        </p:nvPicPr>
        <p:blipFill>
          <a:blip r:embed="rId1"/>
          <a:stretch/>
        </p:blipFill>
        <p:spPr>
          <a:xfrm>
            <a:off x="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55421190036.jpg"/>
          <p:cNvPicPr/>
          <p:nvPr/>
        </p:nvPicPr>
        <p:blipFill>
          <a:blip r:embed="rId2"/>
          <a:stretch/>
        </p:blipFill>
        <p:spPr>
          <a:xfrm>
            <a:off x="2143080" y="3214800"/>
            <a:ext cx="3500640" cy="3071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1857784.jpg"/>
          <p:cNvPicPr/>
          <p:nvPr/>
        </p:nvPicPr>
        <p:blipFill>
          <a:blip r:embed="rId3"/>
          <a:stretch/>
        </p:blipFill>
        <p:spPr>
          <a:xfrm>
            <a:off x="4143240" y="3429000"/>
            <a:ext cx="300060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Kalach_chelyabinsky_b.jpg"/>
          <p:cNvPicPr/>
          <p:nvPr/>
        </p:nvPicPr>
        <p:blipFill>
          <a:blip r:embed="rId4"/>
          <a:stretch/>
        </p:blipFill>
        <p:spPr>
          <a:xfrm>
            <a:off x="6262560" y="3929040"/>
            <a:ext cx="288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2876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предметы круглые. А какие ещё предметы круглой формы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1C1-E548-4C63-AD5E-A8AA461428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E924-0F0D-4967-892F-8600BDDA0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43.jpg"/>
          <p:cNvPicPr/>
          <p:nvPr/>
        </p:nvPicPr>
        <p:blipFill>
          <a:blip r:embed="rId1"/>
          <a:stretch/>
        </p:blipFill>
        <p:spPr>
          <a:xfrm>
            <a:off x="0" y="164304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1243075234_tomato2.jpg"/>
          <p:cNvPicPr/>
          <p:nvPr/>
        </p:nvPicPr>
        <p:blipFill>
          <a:blip r:embed="rId2"/>
          <a:stretch/>
        </p:blipFill>
        <p:spPr>
          <a:xfrm>
            <a:off x="5500800" y="1643040"/>
            <a:ext cx="3643200" cy="2624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post-75514-1261484283.jpg"/>
          <p:cNvPicPr/>
          <p:nvPr/>
        </p:nvPicPr>
        <p:blipFill>
          <a:blip r:embed="rId3"/>
          <a:stretch/>
        </p:blipFill>
        <p:spPr>
          <a:xfrm>
            <a:off x="0" y="40006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watermelon_big.jpg"/>
          <p:cNvPicPr/>
          <p:nvPr/>
        </p:nvPicPr>
        <p:blipFill>
          <a:blip r:embed="rId4"/>
          <a:stretch/>
        </p:blipFill>
        <p:spPr>
          <a:xfrm>
            <a:off x="5429160" y="3929040"/>
            <a:ext cx="37148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189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Белоснежка и ее семь ГНОМ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268360" y="333360"/>
            <a:ext cx="5345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онец урока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317"/>
          <p:cNvPicPr/>
          <p:nvPr/>
        </p:nvPicPr>
        <p:blipFill>
          <a:blip r:embed="rId1"/>
          <a:stretch/>
        </p:blipFill>
        <p:spPr>
          <a:xfrm>
            <a:off x="395280" y="5084640"/>
            <a:ext cx="453708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trax1"/>
          <p:cNvPicPr/>
          <p:nvPr/>
        </p:nvPicPr>
        <p:blipFill>
          <a:blip r:embed="rId2"/>
          <a:stretch/>
        </p:blipFill>
        <p:spPr>
          <a:xfrm>
            <a:off x="5003640" y="260280"/>
            <a:ext cx="393552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8"/>
          <p:cNvPicPr/>
          <p:nvPr/>
        </p:nvPicPr>
        <p:blipFill>
          <a:blip r:embed="rId3"/>
          <a:stretch/>
        </p:blipFill>
        <p:spPr>
          <a:xfrm>
            <a:off x="6659640" y="2349360"/>
            <a:ext cx="11556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Q27l9kAvr9stedAhIWqTJJPRSGWp60dP1j-Cy0WV1NV4WtfJHc"/>
          <p:cNvPicPr/>
          <p:nvPr/>
        </p:nvPicPr>
        <p:blipFill>
          <a:blip r:embed="rId4"/>
          <a:stretch/>
        </p:blipFill>
        <p:spPr>
          <a:xfrm>
            <a:off x="250920" y="981000"/>
            <a:ext cx="424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1912E-007 C 0.02378 -0.00069 0.04774 -0.00023 0.07135 -0.00232 C 0.07448 -0.00255 0.07674 -0.00556 0.07951 -0.00672 C 0.09149 -0.01159 0.10677 -0.0139 0.11806 -0.02039 C 0.12951 -0.02711 0.13715 -0.03708 0.15087 -0.04079 C 0.1566 -0.04542 0.16267 -0.05122 0.16996 -0.05423 C 0.17535 -0.05631 0.18663 -0.05886 0.18663 -0.05863 C 0.20399 -0.05724 0.22153 -0.05678 0.23854 -0.05423 C 0.25156 -0.05237 0.26371 -0.04195 0.27431 -0.03615 C 0.29913 -0.02248 0.32187 -0.0102 0.35104 -0.00463 C 0.39132 -0.00695 0.43177 -0.00857 0.47205 -0.01136 C 0.49045 -0.01275 0.50625 -0.02341 0.52396 -0.02711 C 0.53628 -0.03731 0.55104 -0.04195 0.56806 -0.04519 C 0.58021 -0.05562 0.59792 -0.0591 0.61476 -0.06327 C 0.62743 -0.06257 0.64062 -0.06419 0.65312 -0.06118 C 0.65746 -0.06002 0.65816 -0.05469 0.66146 -0.05214 C 0.67326 -0.0438 0.69045 -0.03777 0.70538 -0.03407 C 0.72535 -0.02271 0.72986 -0.02758 0.76024 -0.02943 C 0.78299 -0.0343 0.78403 -0.04913 0.80399 -0.05423 C 0.81198 -0.06396 0.8099 -0.06837 0.82066 -0.07694 C 0.82153 -0.07995 0.8217 -0.0832 0.82344 -0.08598 C 0.82656 -0.09085 0.83437 -0.09965 0.83437 -0.09942 C 0.84028 -0.12028 0.8349 -0.14878 0.83698 -0.17196 C 0.84705 -0.17126 0.85746 -0.17126 0.86736 -0.16964 C 0.88073 -0.16755 0.87778 -0.16361 0.88646 -0.1562 C 0.8974 -0.14716 0.91111 -0.14044 0.92205 -0.13117 C 0.92569 -0.1226 0.93733 -0.11333 0.94965 -0.11309 C 1.00451 -0.1124 1.05937 -0.11309 1.11424 -0.11309 E">
                                      <p:cBhvr>
                                        <p:cTn id="4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el18"/>
          <p:cNvPicPr/>
          <p:nvPr/>
        </p:nvPicPr>
        <p:blipFill>
          <a:blip r:embed="rId2"/>
          <a:stretch/>
        </p:blipFill>
        <p:spPr>
          <a:xfrm>
            <a:off x="468360" y="3357720"/>
            <a:ext cx="27874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 rot="474000">
            <a:off x="2230200" y="2879280"/>
            <a:ext cx="4754520" cy="1595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87640" y="335772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Скольк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512640"/>
            <a:ext cx="815688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2700360" y="549360"/>
            <a:ext cx="1224000" cy="133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59280" y="126828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87640" y="692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176364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63528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256536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924360" y="249228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588000" y="191628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877080" y="1989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5796000" y="3716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084720" y="3789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7667640" y="3789360"/>
            <a:ext cx="1225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956720" y="386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i?id=38441975-21-24"/>
          <p:cNvPicPr/>
          <p:nvPr/>
        </p:nvPicPr>
        <p:blipFill>
          <a:blip r:embed="rId2"/>
          <a:stretch/>
        </p:blipFill>
        <p:spPr>
          <a:xfrm>
            <a:off x="2411280" y="5610240"/>
            <a:ext cx="105732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i?id=81337382-11-24"/>
          <p:cNvPicPr/>
          <p:nvPr/>
        </p:nvPicPr>
        <p:blipFill>
          <a:blip r:embed="rId3"/>
          <a:stretch/>
        </p:blipFill>
        <p:spPr>
          <a:xfrm>
            <a:off x="7715160" y="5129280"/>
            <a:ext cx="1428840" cy="1728720"/>
          </a:xfrm>
          <a:prstGeom prst="rect">
            <a:avLst/>
          </a:prstGeom>
          <a:ln w="0">
            <a:noFill/>
          </a:ln>
        </p:spPr>
      </p:pic>
      <p:sp>
        <p:nvSpPr>
          <p:cNvPr id="70" name="Line 32"/>
          <p:cNvSpPr/>
          <p:nvPr/>
        </p:nvSpPr>
        <p:spPr>
          <a:xfrm flipH="1">
            <a:off x="2484360" y="177336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708360" y="177336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H="1">
            <a:off x="6443640" y="314172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7524720" y="314172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"/>
          <p:cNvPicPr/>
          <p:nvPr/>
        </p:nvPicPr>
        <p:blipFill>
          <a:blip r:embed="rId5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4149720"/>
            <a:ext cx="6588000" cy="27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?id=8747867-08-24"/>
          <p:cNvPicPr/>
          <p:nvPr/>
        </p:nvPicPr>
        <p:blipFill>
          <a:blip r:embed="rId2"/>
          <a:stretch/>
        </p:blipFill>
        <p:spPr>
          <a:xfrm>
            <a:off x="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i?id=8747867-08-24"/>
          <p:cNvPicPr/>
          <p:nvPr/>
        </p:nvPicPr>
        <p:blipFill>
          <a:blip r:embed="rId3"/>
          <a:stretch/>
        </p:blipFill>
        <p:spPr>
          <a:xfrm>
            <a:off x="900000" y="256536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i?id=8747867-08-24"/>
          <p:cNvPicPr/>
          <p:nvPr/>
        </p:nvPicPr>
        <p:blipFill>
          <a:blip r:embed="rId4"/>
          <a:stretch/>
        </p:blipFill>
        <p:spPr>
          <a:xfrm>
            <a:off x="183528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i?id=8747867-08-24"/>
          <p:cNvPicPr/>
          <p:nvPr/>
        </p:nvPicPr>
        <p:blipFill>
          <a:blip r:embed="rId5"/>
          <a:stretch/>
        </p:blipFill>
        <p:spPr>
          <a:xfrm>
            <a:off x="5435640" y="220500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i?id=8747867-08-24"/>
          <p:cNvPicPr/>
          <p:nvPr/>
        </p:nvPicPr>
        <p:blipFill>
          <a:blip r:embed="rId6"/>
          <a:stretch/>
        </p:blipFill>
        <p:spPr>
          <a:xfrm>
            <a:off x="2700360" y="256536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i?id=8747867-08-24"/>
          <p:cNvPicPr/>
          <p:nvPr/>
        </p:nvPicPr>
        <p:blipFill>
          <a:blip r:embed="rId7"/>
          <a:stretch/>
        </p:blipFill>
        <p:spPr>
          <a:xfrm>
            <a:off x="450072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i?id=8747867-08-24"/>
          <p:cNvPicPr/>
          <p:nvPr/>
        </p:nvPicPr>
        <p:blipFill>
          <a:blip r:embed="rId8"/>
          <a:stretch/>
        </p:blipFill>
        <p:spPr>
          <a:xfrm>
            <a:off x="363528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i?id=8747867-08-24"/>
          <p:cNvPicPr/>
          <p:nvPr/>
        </p:nvPicPr>
        <p:blipFill>
          <a:blip r:embed="rId9"/>
          <a:stretch/>
        </p:blipFill>
        <p:spPr>
          <a:xfrm>
            <a:off x="730872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2" descr="i?id=8747867-08-24"/>
          <p:cNvPicPr/>
          <p:nvPr/>
        </p:nvPicPr>
        <p:blipFill>
          <a:blip r:embed="rId10"/>
          <a:stretch/>
        </p:blipFill>
        <p:spPr>
          <a:xfrm>
            <a:off x="824400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i?id=8747867-08-24"/>
          <p:cNvPicPr/>
          <p:nvPr/>
        </p:nvPicPr>
        <p:blipFill>
          <a:blip r:embed="rId11"/>
          <a:stretch/>
        </p:blipFill>
        <p:spPr>
          <a:xfrm>
            <a:off x="6372360" y="2492280"/>
            <a:ext cx="900000" cy="1268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4"/>
          <p:cNvSpPr/>
          <p:nvPr/>
        </p:nvSpPr>
        <p:spPr>
          <a:xfrm>
            <a:off x="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971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197964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1908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8028000" y="1052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2771640" y="1052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3708360" y="105264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4643280" y="105264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50872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5580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6443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730872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7164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908000" y="141300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2997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Число 10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6769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 Нулем и Един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в Десять превратитс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00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2700360" y="1773000"/>
            <a:ext cx="1871640" cy="216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771280" y="1773360"/>
            <a:ext cx="1800360" cy="43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409400">
            <a:off x="5867280" y="1626840"/>
            <a:ext cx="2089440" cy="467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01080" y="3068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270036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55600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42764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>
            <a:hlinkClick r:id="rId2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>
            <a:hlinkClick r:id="rId3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 rot="2051400">
            <a:off x="1258920" y="3284280"/>
            <a:ext cx="17143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20556 -0.31158 E">
                                      <p:cBhvr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56 -0.31157 L 0.00868 0.32894 E">
                                      <p:cBhvr>
                                        <p:cTn id="2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63 -0.30324 C 0.62344 -0.26899 0.62396 -0.10186 0.56719 0.07037 C 0.50955 0.24282 0.41615 0.35532 0.35816 0.32176 C 0.30052 0.28703 0.30018 0.11898 0.3573 -0.05301 C 0.41441 -0.225 0.50782 -0.3375 0.56563 -0.30324 Z">
                                      <p:cBhvr>
                                        <p:cTn id="21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77760" y="4608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Детская_песенка_про_Гномов_-_Без_названи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5308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24:02Z</dcterms:created>
  <dc:creator>BelavusovbI Limited Corporation</dc:creator>
  <dc:description/>
  <dc:language>en-US</dc:language>
  <cp:lastModifiedBy>Angel</cp:lastModifiedBy>
  <dcterms:modified xsi:type="dcterms:W3CDTF">2011-03-15T23:00:01Z</dcterms:modified>
  <cp:revision>42</cp:revision>
  <dc:subject/>
  <dc:title>Слайд 1</dc:title>
</cp:coreProperties>
</file>