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7.png" ContentType="image/png"/>
  <Override PartName="/ppt/media/image4.gif" ContentType="image/gif"/>
  <Override PartName="/ppt/media/image9.png" ContentType="image/png"/>
  <Override PartName="/ppt/media/image22.jpeg" ContentType="image/jpeg"/>
  <Override PartName="/ppt/media/image27.jpeg" ContentType="image/jpeg"/>
  <Override PartName="/ppt/media/image10.png" ContentType="image/png"/>
  <Override PartName="/ppt/media/image6.jpeg" ContentType="image/jpeg"/>
  <Override PartName="/ppt/media/image5.png" ContentType="image/png"/>
  <Override PartName="/ppt/media/image29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12.jpeg" ContentType="image/jpeg"/>
  <Override PartName="/ppt/media/image30.jpeg" ContentType="image/jpeg"/>
  <Override PartName="/ppt/media/image24.jpeg" ContentType="image/jpeg"/>
  <Override PartName="/ppt/media/image3.gif" ContentType="image/gif"/>
  <Override PartName="/ppt/media/image23.jpeg" ContentType="image/jpeg"/>
  <Override PartName="/ppt/media/image1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2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714B-8FEE-49A6-9AD0-2671011C9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6510-2D5B-4D93-A521-D65AF6E0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C3A2-9898-48B1-B78E-BA10BB1E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637E-A5F7-46B6-A491-EC9ACC60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0583-6323-43C1-A791-55C2C8EF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E8A6-8A32-446D-9730-C0837256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A92F-295D-481C-A612-3F5302D0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7D99-2AF0-4AF6-A0DE-4859169C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C530-0639-46E6-AEDC-809546A6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073F-96AF-4595-8610-C72CBE7B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9557-0D09-4B43-80AA-5803EF6E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292C-0F9D-4384-A56B-9CFF33EF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AA06-B94D-497D-88DF-163A8894D9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=http://www.ozon.ru/multimedia/audio_cd_covers/1001564747.jpg&amp;imgrefurl=http://www.bookst.ru/catalog.php%3Fpath%3Dtoy_catalog%252F7882%26page%3D14&amp;h=200&amp;w=200&amp;sz=9&amp;tbnid=gYwE-JDFg3SXxM:&amp;tbnh=104&amp;tbnw=104&amp;prev=/images%3Fq%3D%25D0%25BA%25D0%25B0%25D1%2580%25D1%2582%25D0%25B8%25D0%25BD%25D0%25BA%25D0%25B8%2B%25D0%25B3%25D0%25BD%25D0%25BE%25D0%25BC%2B%25D1%2581%25D0%25BE%25D0%25BD%25D1%258F&amp;zoom=1&amp;q=&#1082;&#1072;&#1088;&#1090;&#1080;&#1085;&#1082;&#1080;+&#1075;&#1085;&#1086;&#1084;+&#1089;&#1086;&#1085;&#1103;&amp;hl=ru&amp;usg=__3fEJ19b7H4_1CKRwmrFbGURutas=&amp;sa=X&amp;ei=y4h_Tf69GpHGtAaC183xBg&amp;sqi=2&amp;ved=0CBwQ9QEwAQ" TargetMode="External"/><Relationship Id="rId2" Type="http://schemas.openxmlformats.org/officeDocument/2006/relationships/hyperlink" Target="http://www.google.ru/imgres?imgurl=http://www.ozon.ru/multimedia/audio_cd_covers/1001564747.jpg&amp;imgrefurl=http://www.bookst.ru/catalog.php%3Fpath%3Dtoy_catalog%252F7882%26page%3D14&amp;h=200&amp;w=200&amp;sz=9&amp;tbnid=gYwE-JDFg3SXxM:&amp;tbnh=104&amp;tbnw=104&amp;prev=/images%3Fq%3D%25D0%25BA%25D0%25B0%25D1%2580%25D1%2582%25D0%25B8%25D0%25BD%25D0%25BA%25D0%25B8%2B%25D0%25B3%25D0%25BD%25D0%25BE%25D0%25BC%2B%25D1%2581%25D0%25BE%25D0%25BD%25D1%258F&amp;zoom=1&amp;q=&#1082;&#1072;&#1088;&#1090;&#1080;&#1085;&#1082;&#1080;+&#1075;&#1085;&#1086;&#1084;+&#1089;&#1086;&#1085;&#1103;&amp;hl=ru&amp;usg=__3fEJ19b7H4_1CKRwmrFbGURutas=&amp;sa=X&amp;ei=y4h_Tf69GpHGtAaC183xBg&amp;sqi=2&amp;ved=0CBwQ9QEwAQ" TargetMode="External"/><Relationship Id="rId3" Type="http://schemas.openxmlformats.org/officeDocument/2006/relationships/hyperlink" Target="http://www.google.ru/imgres?imgurl=http://www.ozon.ru/multimedia/audio_cd_covers/1001564747.jpg&amp;imgrefurl=http://www.bookst.ru/catalog.php%3Fpath%3Dtoy_catalog%252F7882%26page%3D14&amp;h=200&amp;w=200&amp;sz=9&amp;tbnid=gYwE-JDFg3SXxM:&amp;tbnh=104&amp;tbnw=104&amp;prev=/images%3Fq%3D%25D0%25BA%25D0%25B0%25D1%2580%25D1%2582%25D0%25B8%25D0%25BD%25D0%25BA%25D0%25B8%2B%25D0%25B3%25D0%25BD%25D0%25BE%25D0%25BC%2B%25D1%2581%25D0%25BE%25D0%25BD%25D1%258F&amp;zoom=1&amp;q=&#1082;&#1072;&#1088;&#1090;&#1080;&#1085;&#1082;&#1080;+&#1075;&#1085;&#1086;&#1084;+&#1089;&#1086;&#1085;&#1103;&amp;hl=ru&amp;usg=__3fEJ19b7H4_1CKRwmrFbGURutas=&amp;sa=X&amp;ei=y4h_Tf69GpHGtAaC183xBg&amp;sqi=2&amp;ved=0CBwQ9QEwAQ" TargetMode="External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j0233964"/>
          <p:cNvPicPr/>
          <p:nvPr/>
        </p:nvPicPr>
        <p:blipFill>
          <a:blip r:embed="rId1"/>
          <a:stretch/>
        </p:blipFill>
        <p:spPr>
          <a:xfrm>
            <a:off x="3348000" y="3357720"/>
            <a:ext cx="2813040" cy="28526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6" descr="Рисунок1.jpg"/>
          <p:cNvPicPr/>
          <p:nvPr/>
        </p:nvPicPr>
        <p:blipFill>
          <a:blip r:embed="rId2"/>
          <a:stretch/>
        </p:blipFill>
        <p:spPr>
          <a:xfrm>
            <a:off x="0" y="0"/>
            <a:ext cx="9510840" cy="71262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1187280" y="3500280"/>
            <a:ext cx="3143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Учитель: Рыбал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Алла Валер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3"/>
          <p:cNvSpPr txBox="1"/>
          <p:nvPr/>
        </p:nvSpPr>
        <p:spPr>
          <a:xfrm>
            <a:off x="395280" y="1484280"/>
            <a:ext cx="4267080" cy="27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0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Georgia"/>
              </a:rPr>
              <a:t> </a:t>
            </a: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Georgia"/>
              </a:rPr>
              <a:t>Урок математики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Georgia"/>
              </a:rPr>
              <a:t> </a:t>
            </a: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Georgia"/>
              </a:rPr>
              <a:t>в 1 классе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64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179280" y="457056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Чтобы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найти целое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, нуж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сложить части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826920" y="2421000"/>
            <a:ext cx="75614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7"/>
          <p:cNvSpPr/>
          <p:nvPr/>
        </p:nvSpPr>
        <p:spPr>
          <a:xfrm>
            <a:off x="826920" y="234936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8"/>
          <p:cNvSpPr/>
          <p:nvPr/>
        </p:nvSpPr>
        <p:spPr>
          <a:xfrm>
            <a:off x="8388360" y="227664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4140360" y="234936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15"/>
          <p:cNvSpPr/>
          <p:nvPr/>
        </p:nvSpPr>
        <p:spPr>
          <a:xfrm>
            <a:off x="900000" y="2421000"/>
            <a:ext cx="3240360" cy="216000"/>
          </a:xfrm>
          <a:custGeom>
            <a:avLst/>
            <a:gdLst>
              <a:gd name="textAreaLeft" fmla="*/ 0 w 3240360"/>
              <a:gd name="textAreaRight" fmla="*/ 3240720 w 324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087" h="408">
                <a:moveTo>
                  <a:pt x="0" y="0"/>
                </a:moveTo>
                <a:cubicBezTo>
                  <a:pt x="325" y="204"/>
                  <a:pt x="650" y="408"/>
                  <a:pt x="998" y="408"/>
                </a:cubicBezTo>
                <a:cubicBezTo>
                  <a:pt x="1346" y="408"/>
                  <a:pt x="1716" y="204"/>
                  <a:pt x="2087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16"/>
          <p:cNvSpPr/>
          <p:nvPr/>
        </p:nvSpPr>
        <p:spPr>
          <a:xfrm>
            <a:off x="4140360" y="2421000"/>
            <a:ext cx="4248000" cy="287280"/>
          </a:xfrm>
          <a:custGeom>
            <a:avLst/>
            <a:gdLst>
              <a:gd name="textAreaLeft" fmla="*/ 0 w 4248000"/>
              <a:gd name="textAreaRight" fmla="*/ 4248360 w 4248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676" h="589">
                <a:moveTo>
                  <a:pt x="0" y="0"/>
                </a:moveTo>
                <a:cubicBezTo>
                  <a:pt x="412" y="294"/>
                  <a:pt x="824" y="589"/>
                  <a:pt x="1270" y="589"/>
                </a:cubicBezTo>
                <a:cubicBezTo>
                  <a:pt x="1716" y="589"/>
                  <a:pt x="2196" y="294"/>
                  <a:pt x="267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7"/>
          <p:cNvSpPr/>
          <p:nvPr/>
        </p:nvSpPr>
        <p:spPr>
          <a:xfrm>
            <a:off x="826920" y="1989000"/>
            <a:ext cx="7561440" cy="432000"/>
          </a:xfrm>
          <a:custGeom>
            <a:avLst/>
            <a:gdLst>
              <a:gd name="textAreaLeft" fmla="*/ 0 w 7561440"/>
              <a:gd name="textAreaRight" fmla="*/ 7561800 w 75614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4763" h="590">
                <a:moveTo>
                  <a:pt x="0" y="590"/>
                </a:moveTo>
                <a:cubicBezTo>
                  <a:pt x="737" y="295"/>
                  <a:pt x="1474" y="0"/>
                  <a:pt x="2268" y="0"/>
                </a:cubicBezTo>
                <a:cubicBezTo>
                  <a:pt x="3062" y="0"/>
                  <a:pt x="3912" y="295"/>
                  <a:pt x="4763" y="59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2340000" y="11592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а № 7(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3"/>
          <p:cNvSpPr/>
          <p:nvPr/>
        </p:nvSpPr>
        <p:spPr>
          <a:xfrm>
            <a:off x="2124000" y="278136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4"/>
          <p:cNvSpPr/>
          <p:nvPr/>
        </p:nvSpPr>
        <p:spPr>
          <a:xfrm>
            <a:off x="5651640" y="278136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3924360" y="981000"/>
            <a:ext cx="8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0" y="21384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мотри на эти фигуры. Они все разные. Здесь ты узнаешь, как они называются, и выполнишь интересные 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D0D5-5C6F-4592-B5EC-7F1711DB61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5"/>
          <p:cNvSpPr/>
          <p:nvPr/>
        </p:nvSpPr>
        <p:spPr>
          <a:xfrm>
            <a:off x="6786720" y="1357200"/>
            <a:ext cx="1428480" cy="1500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6"/>
          <p:cNvSpPr/>
          <p:nvPr/>
        </p:nvSpPr>
        <p:spPr>
          <a:xfrm>
            <a:off x="3429000" y="1857240"/>
            <a:ext cx="1143000" cy="114300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Равнобедренный треугольник 7"/>
          <p:cNvSpPr/>
          <p:nvPr/>
        </p:nvSpPr>
        <p:spPr>
          <a:xfrm>
            <a:off x="3286080" y="4071960"/>
            <a:ext cx="1643040" cy="17143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8"/>
          <p:cNvSpPr/>
          <p:nvPr/>
        </p:nvSpPr>
        <p:spPr>
          <a:xfrm>
            <a:off x="5214960" y="2643120"/>
            <a:ext cx="1143000" cy="2428920"/>
          </a:xfrm>
          <a:prstGeom prst="rect">
            <a:avLst/>
          </a:prstGeom>
          <a:solidFill>
            <a:srgbClr val="acfaf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9"/>
          <p:cNvSpPr/>
          <p:nvPr/>
        </p:nvSpPr>
        <p:spPr>
          <a:xfrm rot="951600">
            <a:off x="7065720" y="3257640"/>
            <a:ext cx="1214280" cy="273852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214200" y="2286000"/>
            <a:ext cx="300060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Arial"/>
              </a:rPr>
              <a:t>круг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круг, и это к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 есть кругов вокру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нце круглое и мя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углый обруч и кал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27C6-6E1C-4C3E-83D5-1BBECFAAA9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5"/>
          <p:cNvSpPr/>
          <p:nvPr/>
        </p:nvSpPr>
        <p:spPr>
          <a:xfrm>
            <a:off x="7643880" y="214200"/>
            <a:ext cx="642960" cy="6429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 6"/>
          <p:cNvSpPr/>
          <p:nvPr/>
        </p:nvSpPr>
        <p:spPr>
          <a:xfrm>
            <a:off x="7286760" y="1571760"/>
            <a:ext cx="1857240" cy="15714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7"/>
          <p:cNvSpPr/>
          <p:nvPr/>
        </p:nvSpPr>
        <p:spPr>
          <a:xfrm>
            <a:off x="5857920" y="357120"/>
            <a:ext cx="1500120" cy="12146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8"/>
          <p:cNvSpPr/>
          <p:nvPr/>
        </p:nvSpPr>
        <p:spPr>
          <a:xfrm>
            <a:off x="5000760" y="1571760"/>
            <a:ext cx="1714320" cy="164304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10" descr="1244749471_sun1.jpg"/>
          <p:cNvPicPr/>
          <p:nvPr/>
        </p:nvPicPr>
        <p:blipFill>
          <a:blip r:embed="rId1"/>
          <a:stretch/>
        </p:blipFill>
        <p:spPr>
          <a:xfrm>
            <a:off x="0" y="307188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1" descr="55421190036.jpg"/>
          <p:cNvPicPr/>
          <p:nvPr/>
        </p:nvPicPr>
        <p:blipFill>
          <a:blip r:embed="rId2"/>
          <a:stretch/>
        </p:blipFill>
        <p:spPr>
          <a:xfrm>
            <a:off x="2143080" y="3214800"/>
            <a:ext cx="3500640" cy="307188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2" descr="1857784.jpg"/>
          <p:cNvPicPr/>
          <p:nvPr/>
        </p:nvPicPr>
        <p:blipFill>
          <a:blip r:embed="rId3"/>
          <a:stretch/>
        </p:blipFill>
        <p:spPr>
          <a:xfrm>
            <a:off x="4143240" y="3429000"/>
            <a:ext cx="3000600" cy="30718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3" descr="Kalach_chelyabinsky_b.jpg"/>
          <p:cNvPicPr/>
          <p:nvPr/>
        </p:nvPicPr>
        <p:blipFill>
          <a:blip r:embed="rId4"/>
          <a:stretch/>
        </p:blipFill>
        <p:spPr>
          <a:xfrm>
            <a:off x="6262560" y="3929040"/>
            <a:ext cx="2881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0" y="428760"/>
            <a:ext cx="91440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эти предметы круглые. А какие ещё предметы круглой формы ты знае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03E2-CD77-4F41-B5B2-CA31EF6C418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A6DD-D9B7-4E23-8B94-867EA7DE11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5" descr="43.jpg"/>
          <p:cNvPicPr/>
          <p:nvPr/>
        </p:nvPicPr>
        <p:blipFill>
          <a:blip r:embed="rId1"/>
          <a:stretch/>
        </p:blipFill>
        <p:spPr>
          <a:xfrm>
            <a:off x="0" y="1643040"/>
            <a:ext cx="3286080" cy="236052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6" descr="1243075234_tomato2.jpg"/>
          <p:cNvPicPr/>
          <p:nvPr/>
        </p:nvPicPr>
        <p:blipFill>
          <a:blip r:embed="rId2"/>
          <a:stretch/>
        </p:blipFill>
        <p:spPr>
          <a:xfrm>
            <a:off x="5500800" y="1643040"/>
            <a:ext cx="3643200" cy="262404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7" descr="post-75514-1261484283.jpg"/>
          <p:cNvPicPr/>
          <p:nvPr/>
        </p:nvPicPr>
        <p:blipFill>
          <a:blip r:embed="rId3"/>
          <a:stretch/>
        </p:blipFill>
        <p:spPr>
          <a:xfrm>
            <a:off x="0" y="4000680"/>
            <a:ext cx="3286080" cy="264312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8" descr="watermelon_big.jpg"/>
          <p:cNvPicPr/>
          <p:nvPr/>
        </p:nvPicPr>
        <p:blipFill>
          <a:blip r:embed="rId4"/>
          <a:stretch/>
        </p:blipFill>
        <p:spPr>
          <a:xfrm>
            <a:off x="5429160" y="3929040"/>
            <a:ext cx="3714840" cy="2928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5"/>
          <a:stretch/>
        </p:blipFill>
        <p:spPr>
          <a:xfrm>
            <a:off x="3286080" y="1643040"/>
            <a:ext cx="21891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Белоснежка и ее семь ГНОМО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WordArt 7"/>
          <p:cNvSpPr txBox="1"/>
          <p:nvPr/>
        </p:nvSpPr>
        <p:spPr>
          <a:xfrm>
            <a:off x="2268360" y="333360"/>
            <a:ext cx="5345280" cy="136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Конец урока.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a317"/>
          <p:cNvPicPr/>
          <p:nvPr/>
        </p:nvPicPr>
        <p:blipFill>
          <a:blip r:embed="rId1"/>
          <a:stretch/>
        </p:blipFill>
        <p:spPr>
          <a:xfrm>
            <a:off x="395280" y="5084640"/>
            <a:ext cx="4537080" cy="131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strax1"/>
          <p:cNvPicPr/>
          <p:nvPr/>
        </p:nvPicPr>
        <p:blipFill>
          <a:blip r:embed="rId2"/>
          <a:stretch/>
        </p:blipFill>
        <p:spPr>
          <a:xfrm>
            <a:off x="5003640" y="260280"/>
            <a:ext cx="3935520" cy="4464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8"/>
          <p:cNvPicPr/>
          <p:nvPr/>
        </p:nvPicPr>
        <p:blipFill>
          <a:blip r:embed="rId3"/>
          <a:stretch/>
        </p:blipFill>
        <p:spPr>
          <a:xfrm>
            <a:off x="6659640" y="2349360"/>
            <a:ext cx="1155600" cy="1625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ANd9GcQ27l9kAvr9stedAhIWqTJJPRSGWp60dP1j-Cy0WV1NV4WtfJHc"/>
          <p:cNvPicPr/>
          <p:nvPr/>
        </p:nvPicPr>
        <p:blipFill>
          <a:blip r:embed="rId4"/>
          <a:stretch/>
        </p:blipFill>
        <p:spPr>
          <a:xfrm>
            <a:off x="250920" y="981000"/>
            <a:ext cx="42498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51912E-007 C 0.02378 -0.00069 0.04774 -0.00023 0.07135 -0.00232 C 0.07448 -0.00255 0.07674 -0.00556 0.07951 -0.00672 C 0.09149 -0.01159 0.10677 -0.0139 0.11806 -0.02039 C 0.12951 -0.02711 0.13715 -0.03708 0.15087 -0.04079 C 0.1566 -0.04542 0.16267 -0.05122 0.16996 -0.05423 C 0.17535 -0.05631 0.18663 -0.05886 0.18663 -0.05863 C 0.20399 -0.05724 0.22153 -0.05678 0.23854 -0.05423 C 0.25156 -0.05237 0.26371 -0.04195 0.27431 -0.03615 C 0.29913 -0.02248 0.32187 -0.0102 0.35104 -0.00463 C 0.39132 -0.00695 0.43177 -0.00857 0.47205 -0.01136 C 0.49045 -0.01275 0.50625 -0.02341 0.52396 -0.02711 C 0.53628 -0.03731 0.55104 -0.04195 0.56806 -0.04519 C 0.58021 -0.05562 0.59792 -0.0591 0.61476 -0.06327 C 0.62743 -0.06257 0.64062 -0.06419 0.65312 -0.06118 C 0.65746 -0.06002 0.65816 -0.05469 0.66146 -0.05214 C 0.67326 -0.0438 0.69045 -0.03777 0.70538 -0.03407 C 0.72535 -0.02271 0.72986 -0.02758 0.76024 -0.02943 C 0.78299 -0.0343 0.78403 -0.04913 0.80399 -0.05423 C 0.81198 -0.06396 0.8099 -0.06837 0.82066 -0.07694 C 0.82153 -0.07995 0.8217 -0.0832 0.82344 -0.08598 C 0.82656 -0.09085 0.83437 -0.09965 0.83437 -0.09942 C 0.84028 -0.12028 0.8349 -0.14878 0.83698 -0.17196 C 0.84705 -0.17126 0.85746 -0.17126 0.86736 -0.16964 C 0.88073 -0.16755 0.87778 -0.16361 0.88646 -0.1562 C 0.8974 -0.14716 0.91111 -0.14044 0.92205 -0.13117 C 0.92569 -0.1226 0.93733 -0.11333 0.94965 -0.11309 C 1.00451 -0.1124 1.05937 -0.11309 1.11424 -0.11309 E">
                                      <p:cBhvr>
                                        <p:cTn id="46" dur="5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bel18"/>
          <p:cNvPicPr/>
          <p:nvPr/>
        </p:nvPicPr>
        <p:blipFill>
          <a:blip r:embed="rId2"/>
          <a:stretch/>
        </p:blipFill>
        <p:spPr>
          <a:xfrm>
            <a:off x="468360" y="3357720"/>
            <a:ext cx="2787480" cy="303048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7"/>
          <p:cNvSpPr/>
          <p:nvPr/>
        </p:nvSpPr>
        <p:spPr>
          <a:xfrm rot="474000">
            <a:off x="2230200" y="2879280"/>
            <a:ext cx="4754520" cy="15955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8"/>
          <p:cNvSpPr txBox="1"/>
          <p:nvPr/>
        </p:nvSpPr>
        <p:spPr>
          <a:xfrm>
            <a:off x="2987640" y="3357720"/>
            <a:ext cx="280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Georgia"/>
              </a:rPr>
              <a:t>Сколько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Georgia"/>
              <a:ea typeface="Georgia"/>
            </a:endParaRPr>
          </a:p>
        </p:txBody>
      </p:sp>
      <p:pic>
        <p:nvPicPr>
          <p:cNvPr id="53" name="Прямоугольник 8" descr=""/>
          <p:cNvPicPr/>
          <p:nvPr/>
        </p:nvPicPr>
        <p:blipFill>
          <a:blip r:embed="rId3"/>
          <a:stretch/>
        </p:blipFill>
        <p:spPr>
          <a:xfrm>
            <a:off x="450720" y="512640"/>
            <a:ext cx="815688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Oval 5"/>
          <p:cNvSpPr/>
          <p:nvPr/>
        </p:nvSpPr>
        <p:spPr>
          <a:xfrm>
            <a:off x="2700360" y="549360"/>
            <a:ext cx="1224000" cy="1339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059280" y="1268280"/>
            <a:ext cx="57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987640" y="692280"/>
            <a:ext cx="50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1763640" y="2492280"/>
            <a:ext cx="122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0"/>
          <p:cNvSpPr/>
          <p:nvPr/>
        </p:nvSpPr>
        <p:spPr>
          <a:xfrm>
            <a:off x="3635280" y="2492280"/>
            <a:ext cx="122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2050920" y="2565360"/>
            <a:ext cx="57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3924360" y="2492280"/>
            <a:ext cx="64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3"/>
          <p:cNvSpPr/>
          <p:nvPr/>
        </p:nvSpPr>
        <p:spPr>
          <a:xfrm>
            <a:off x="6588000" y="1916280"/>
            <a:ext cx="129564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6877080" y="1989000"/>
            <a:ext cx="57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5"/>
          <p:cNvSpPr/>
          <p:nvPr/>
        </p:nvSpPr>
        <p:spPr>
          <a:xfrm>
            <a:off x="5796000" y="3716280"/>
            <a:ext cx="122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6084720" y="378936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7"/>
          <p:cNvSpPr/>
          <p:nvPr/>
        </p:nvSpPr>
        <p:spPr>
          <a:xfrm>
            <a:off x="7667640" y="3789360"/>
            <a:ext cx="122544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7956720" y="386064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0" descr="i?id=38441975-21-24"/>
          <p:cNvPicPr/>
          <p:nvPr/>
        </p:nvPicPr>
        <p:blipFill>
          <a:blip r:embed="rId2"/>
          <a:stretch/>
        </p:blipFill>
        <p:spPr>
          <a:xfrm>
            <a:off x="2411280" y="5610240"/>
            <a:ext cx="1057320" cy="1247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i?id=81337382-11-24"/>
          <p:cNvPicPr/>
          <p:nvPr/>
        </p:nvPicPr>
        <p:blipFill>
          <a:blip r:embed="rId3"/>
          <a:stretch/>
        </p:blipFill>
        <p:spPr>
          <a:xfrm>
            <a:off x="7715160" y="5129280"/>
            <a:ext cx="1428840" cy="1728720"/>
          </a:xfrm>
          <a:prstGeom prst="rect">
            <a:avLst/>
          </a:prstGeom>
          <a:ln w="0">
            <a:noFill/>
          </a:ln>
        </p:spPr>
      </p:pic>
      <p:sp>
        <p:nvSpPr>
          <p:cNvPr id="70" name="Line 32"/>
          <p:cNvSpPr/>
          <p:nvPr/>
        </p:nvSpPr>
        <p:spPr>
          <a:xfrm flipH="1">
            <a:off x="2484360" y="1773360"/>
            <a:ext cx="503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3708360" y="1773360"/>
            <a:ext cx="35892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4"/>
          <p:cNvSpPr/>
          <p:nvPr/>
        </p:nvSpPr>
        <p:spPr>
          <a:xfrm flipH="1">
            <a:off x="6443640" y="3141720"/>
            <a:ext cx="50472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>
            <a:off x="7524720" y="3141720"/>
            <a:ext cx="43200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8" descr=""/>
          <p:cNvPicPr/>
          <p:nvPr/>
        </p:nvPicPr>
        <p:blipFill>
          <a:blip r:embed="rId4"/>
          <a:stretch/>
        </p:blipFill>
        <p:spPr>
          <a:xfrm>
            <a:off x="4557600" y="3419640"/>
            <a:ext cx="28800" cy="18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9" descr=""/>
          <p:cNvPicPr/>
          <p:nvPr/>
        </p:nvPicPr>
        <p:blipFill>
          <a:blip r:embed="rId5"/>
          <a:stretch/>
        </p:blipFill>
        <p:spPr>
          <a:xfrm>
            <a:off x="4557600" y="3419640"/>
            <a:ext cx="28800" cy="1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0" y="4149720"/>
            <a:ext cx="6588000" cy="2708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6" descr="i?id=8747867-08-24"/>
          <p:cNvPicPr/>
          <p:nvPr/>
        </p:nvPicPr>
        <p:blipFill>
          <a:blip r:embed="rId2"/>
          <a:stretch/>
        </p:blipFill>
        <p:spPr>
          <a:xfrm>
            <a:off x="0" y="2276640"/>
            <a:ext cx="900000" cy="1268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8" descr="i?id=8747867-08-24"/>
          <p:cNvPicPr/>
          <p:nvPr/>
        </p:nvPicPr>
        <p:blipFill>
          <a:blip r:embed="rId3"/>
          <a:stretch/>
        </p:blipFill>
        <p:spPr>
          <a:xfrm>
            <a:off x="900000" y="2565360"/>
            <a:ext cx="900360" cy="1268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0" descr="i?id=8747867-08-24"/>
          <p:cNvPicPr/>
          <p:nvPr/>
        </p:nvPicPr>
        <p:blipFill>
          <a:blip r:embed="rId4"/>
          <a:stretch/>
        </p:blipFill>
        <p:spPr>
          <a:xfrm>
            <a:off x="1835280" y="2276640"/>
            <a:ext cx="900000" cy="1268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4" descr="i?id=8747867-08-24"/>
          <p:cNvPicPr/>
          <p:nvPr/>
        </p:nvPicPr>
        <p:blipFill>
          <a:blip r:embed="rId5"/>
          <a:stretch/>
        </p:blipFill>
        <p:spPr>
          <a:xfrm>
            <a:off x="5435640" y="2205000"/>
            <a:ext cx="900000" cy="1268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5" descr="i?id=8747867-08-24"/>
          <p:cNvPicPr/>
          <p:nvPr/>
        </p:nvPicPr>
        <p:blipFill>
          <a:blip r:embed="rId6"/>
          <a:stretch/>
        </p:blipFill>
        <p:spPr>
          <a:xfrm>
            <a:off x="2700360" y="2565360"/>
            <a:ext cx="900000" cy="1268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6" descr="i?id=8747867-08-24"/>
          <p:cNvPicPr/>
          <p:nvPr/>
        </p:nvPicPr>
        <p:blipFill>
          <a:blip r:embed="rId7"/>
          <a:stretch/>
        </p:blipFill>
        <p:spPr>
          <a:xfrm>
            <a:off x="4500720" y="2492280"/>
            <a:ext cx="900000" cy="1268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8" descr="i?id=8747867-08-24"/>
          <p:cNvPicPr/>
          <p:nvPr/>
        </p:nvPicPr>
        <p:blipFill>
          <a:blip r:embed="rId8"/>
          <a:stretch/>
        </p:blipFill>
        <p:spPr>
          <a:xfrm>
            <a:off x="3635280" y="2205000"/>
            <a:ext cx="900360" cy="1268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1" descr="i?id=8747867-08-24"/>
          <p:cNvPicPr/>
          <p:nvPr/>
        </p:nvPicPr>
        <p:blipFill>
          <a:blip r:embed="rId9"/>
          <a:stretch/>
        </p:blipFill>
        <p:spPr>
          <a:xfrm>
            <a:off x="7308720" y="2205000"/>
            <a:ext cx="900360" cy="1268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2" descr="i?id=8747867-08-24"/>
          <p:cNvPicPr/>
          <p:nvPr/>
        </p:nvPicPr>
        <p:blipFill>
          <a:blip r:embed="rId10"/>
          <a:stretch/>
        </p:blipFill>
        <p:spPr>
          <a:xfrm>
            <a:off x="8244000" y="2492280"/>
            <a:ext cx="900000" cy="1268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3" descr="i?id=8747867-08-24"/>
          <p:cNvPicPr/>
          <p:nvPr/>
        </p:nvPicPr>
        <p:blipFill>
          <a:blip r:embed="rId11"/>
          <a:stretch/>
        </p:blipFill>
        <p:spPr>
          <a:xfrm>
            <a:off x="6372360" y="2492280"/>
            <a:ext cx="900000" cy="12686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4"/>
          <p:cNvSpPr/>
          <p:nvPr/>
        </p:nvSpPr>
        <p:spPr>
          <a:xfrm>
            <a:off x="0" y="1052640"/>
            <a:ext cx="5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5"/>
          <p:cNvSpPr/>
          <p:nvPr/>
        </p:nvSpPr>
        <p:spPr>
          <a:xfrm>
            <a:off x="971640" y="105264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6"/>
          <p:cNvSpPr/>
          <p:nvPr/>
        </p:nvSpPr>
        <p:spPr>
          <a:xfrm>
            <a:off x="0" y="198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7"/>
          <p:cNvSpPr/>
          <p:nvPr/>
        </p:nvSpPr>
        <p:spPr>
          <a:xfrm>
            <a:off x="1979640" y="69228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8"/>
          <p:cNvSpPr/>
          <p:nvPr/>
        </p:nvSpPr>
        <p:spPr>
          <a:xfrm>
            <a:off x="1908000" y="1052640"/>
            <a:ext cx="5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9"/>
          <p:cNvSpPr/>
          <p:nvPr/>
        </p:nvSpPr>
        <p:spPr>
          <a:xfrm>
            <a:off x="8028000" y="105264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0"/>
          <p:cNvSpPr/>
          <p:nvPr/>
        </p:nvSpPr>
        <p:spPr>
          <a:xfrm>
            <a:off x="2771640" y="1052640"/>
            <a:ext cx="6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1"/>
          <p:cNvSpPr/>
          <p:nvPr/>
        </p:nvSpPr>
        <p:spPr>
          <a:xfrm>
            <a:off x="3708360" y="1052640"/>
            <a:ext cx="7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2"/>
          <p:cNvSpPr/>
          <p:nvPr/>
        </p:nvSpPr>
        <p:spPr>
          <a:xfrm>
            <a:off x="4643280" y="1052640"/>
            <a:ext cx="64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3"/>
          <p:cNvSpPr/>
          <p:nvPr/>
        </p:nvSpPr>
        <p:spPr>
          <a:xfrm>
            <a:off x="5508720" y="486900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4"/>
          <p:cNvSpPr/>
          <p:nvPr/>
        </p:nvSpPr>
        <p:spPr>
          <a:xfrm>
            <a:off x="5580000" y="1052640"/>
            <a:ext cx="5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5"/>
          <p:cNvSpPr/>
          <p:nvPr/>
        </p:nvSpPr>
        <p:spPr>
          <a:xfrm>
            <a:off x="6443640" y="105264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6"/>
          <p:cNvSpPr/>
          <p:nvPr/>
        </p:nvSpPr>
        <p:spPr>
          <a:xfrm>
            <a:off x="7308720" y="105264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2771640" y="177336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908000" y="1413000"/>
            <a:ext cx="53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Тема уро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258920" y="2997360"/>
            <a:ext cx="66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rial"/>
              </a:rPr>
              <a:t>Число 10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476000" y="260280"/>
            <a:ext cx="676908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с Нулем и Единиц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азу в Десять превратится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900000" y="1773360"/>
            <a:ext cx="3672000" cy="43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4572000" y="1773360"/>
            <a:ext cx="3672000" cy="43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 flipV="1">
            <a:off x="2700360" y="1773000"/>
            <a:ext cx="1871640" cy="216036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9"/>
          <p:cNvSpPr/>
          <p:nvPr/>
        </p:nvSpPr>
        <p:spPr>
          <a:xfrm flipH="1">
            <a:off x="2771280" y="1773360"/>
            <a:ext cx="1800360" cy="439236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0"/>
          <p:cNvSpPr/>
          <p:nvPr/>
        </p:nvSpPr>
        <p:spPr>
          <a:xfrm rot="1409400">
            <a:off x="5867280" y="1626840"/>
            <a:ext cx="2089440" cy="46753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1"/>
          <p:cNvSpPr/>
          <p:nvPr/>
        </p:nvSpPr>
        <p:spPr>
          <a:xfrm>
            <a:off x="8101080" y="306864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2"/>
          <p:cNvSpPr/>
          <p:nvPr/>
        </p:nvSpPr>
        <p:spPr>
          <a:xfrm>
            <a:off x="2700360" y="60213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3"/>
          <p:cNvSpPr/>
          <p:nvPr/>
        </p:nvSpPr>
        <p:spPr>
          <a:xfrm>
            <a:off x="2556000" y="386064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4"/>
          <p:cNvSpPr/>
          <p:nvPr/>
        </p:nvSpPr>
        <p:spPr>
          <a:xfrm>
            <a:off x="4427640" y="170028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6">
            <a:hlinkClick r:id="rId1"/>
          </p:cNvPr>
          <p:cNvSpPr/>
          <p:nvPr/>
        </p:nvSpPr>
        <p:spPr>
          <a:xfrm>
            <a:off x="4124160" y="2981160"/>
            <a:ext cx="89568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8">
            <a:hlinkClick r:id="rId2"/>
          </p:cNvPr>
          <p:cNvSpPr/>
          <p:nvPr/>
        </p:nvSpPr>
        <p:spPr>
          <a:xfrm>
            <a:off x="4124160" y="2981160"/>
            <a:ext cx="89568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0">
            <a:hlinkClick r:id="rId3"/>
          </p:cNvPr>
          <p:cNvSpPr/>
          <p:nvPr/>
        </p:nvSpPr>
        <p:spPr>
          <a:xfrm>
            <a:off x="4124160" y="2981160"/>
            <a:ext cx="89568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5" descr=""/>
          <p:cNvPicPr/>
          <p:nvPr/>
        </p:nvPicPr>
        <p:blipFill>
          <a:blip r:embed="rId4"/>
          <a:stretch/>
        </p:blipFill>
        <p:spPr>
          <a:xfrm>
            <a:off x="0" y="0"/>
            <a:ext cx="1403280" cy="1773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"/>
          <p:cNvPicPr/>
          <p:nvPr/>
        </p:nvPicPr>
        <p:blipFill>
          <a:blip r:embed="rId5"/>
          <a:stretch/>
        </p:blipFill>
        <p:spPr>
          <a:xfrm rot="2051400">
            <a:off x="1258920" y="3284280"/>
            <a:ext cx="171432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0.20556 -0.31158 E">
                                      <p:cBhvr>
                                        <p:cTn id="212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556 -0.31157 L 0.00868 0.32894 E">
                                      <p:cBhvr>
                                        <p:cTn id="215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6563 -0.30324 C 0.62344 -0.26899 0.62396 -0.10186 0.56719 0.07037 C 0.50955 0.24282 0.41615 0.35532 0.35816 0.32176 C 0.30052 0.28703 0.30018 0.11898 0.3573 -0.05301 C 0.41441 -0.225 0.50782 -0.3375 0.56563 -0.30324 Z">
                                      <p:cBhvr>
                                        <p:cTn id="218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5"/>
          <p:cNvSpPr/>
          <p:nvPr/>
        </p:nvSpPr>
        <p:spPr>
          <a:xfrm>
            <a:off x="77760" y="46080"/>
            <a:ext cx="89532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ANd9GcQH2KP5jw3Hj6PjypHeWveZxHmUBynh34HZxSYwW6wLpXoK_Y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Детская_песенка_про_Гномов_-_Без_названия.mp3" descr=""/>
          <p:cNvPicPr/>
          <p:nvPr/>
        </p:nvPicPr>
        <p:blipFill>
          <a:blip r:embed="rId2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153083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ANd9GcQH2KP5jw3Hj6PjypHeWveZxHmUBynh34HZxSYwW6wLpXoK_Y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7:24:02Z</dcterms:created>
  <dc:creator>BelavusovbI Limited Corporation</dc:creator>
  <dc:description/>
  <dc:language>en-US</dc:language>
  <cp:lastModifiedBy>Angel</cp:lastModifiedBy>
  <dcterms:modified xsi:type="dcterms:W3CDTF">2011-03-15T23:00:01Z</dcterms:modified>
  <cp:revision>42</cp:revision>
  <dc:subject/>
  <dc:title>Слайд 1</dc:title>
</cp:coreProperties>
</file>