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5D9-291A-4427-B493-3898B2DD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178-80FE-4341-8FD0-92E5ECC2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A8E-6CD4-40F5-8527-A11EDBC6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1BB-A4C9-4F43-8E6A-B2F18599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8321-5EDC-4B3D-979F-23AE10B5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333A-6A92-4004-A13A-D05501BA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33F8-C964-4938-A643-558D6FC0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84F4-3A50-4ABA-9E07-68BC401F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5CA8-A621-40D0-8805-243548D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DE3B-416E-4B77-BF3F-B70EF3B1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9BB2-0E79-4790-95DF-9AD2443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DC9-8065-419A-BB91-CAC8456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D72A-76FB-494C-81C6-0C5471DC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EF50-9961-42F9-BC77-AF71B06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3E45-04D4-4307-9BB0-0BC2F5D5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B924-32D7-4655-A6B3-295DCC0A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8745-ADBD-4970-A380-9E1895B7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046-FA77-44F5-98CE-BF4695F4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BFB-4EAC-4AAD-BDDB-59AD0E65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79E-DC0A-425E-A7BF-BCDC86BA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7E5-83ED-4BDD-BC74-A28CE877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53A-ABB0-4BA7-9954-65B00FE5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B43-1C4A-48BE-B48D-3B0BAFA1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F5A-5EE5-4148-94EB-7E79D27E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2640-8AF9-4769-9353-C68C1F1394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0AEE-BAEA-451C-A453-A7A3DC380FBB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D:\ЦДТ\фото центр\ЦДТ ФОТО.jpg"/>
          <p:cNvPicPr/>
          <p:nvPr/>
        </p:nvPicPr>
        <p:blipFill>
          <a:blip r:embed="rId1"/>
          <a:stretch/>
        </p:blipFill>
        <p:spPr>
          <a:xfrm>
            <a:off x="611280" y="549360"/>
            <a:ext cx="818028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47320"/>
            <a:ext cx="838692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Увлекательные занятия с логопедом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539640" y="476280"/>
            <a:ext cx="2952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Логопед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Шарафут-динова Гузель Гаязовна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17" name="Picture 9" descr="DSC00001"/>
          <p:cNvPicPr/>
          <p:nvPr/>
        </p:nvPicPr>
        <p:blipFill>
          <a:blip r:embed="rId1"/>
          <a:stretch/>
        </p:blipFill>
        <p:spPr>
          <a:xfrm rot="569400">
            <a:off x="4800240" y="1612440"/>
            <a:ext cx="35910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DSC_1397"/>
          <p:cNvPicPr/>
          <p:nvPr/>
        </p:nvPicPr>
        <p:blipFill>
          <a:blip r:embed="rId1"/>
          <a:stretch/>
        </p:blipFill>
        <p:spPr>
          <a:xfrm>
            <a:off x="539640" y="404640"/>
            <a:ext cx="5184720" cy="3899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ЦДТ\фото центр\IMG_5589.JPG"/>
          <p:cNvPicPr/>
          <p:nvPr/>
        </p:nvPicPr>
        <p:blipFill>
          <a:blip r:embed="rId2"/>
          <a:stretch/>
        </p:blipFill>
        <p:spPr>
          <a:xfrm>
            <a:off x="4211640" y="335772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971640" y="333360"/>
            <a:ext cx="74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ПРОГРАММА Развития логического мышления, памяти, речи по методике Зайцева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716360" y="3284640"/>
            <a:ext cx="40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одаватель методики Зайцева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ландина Екатерина Александровна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660240" y="1844640"/>
            <a:ext cx="358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DSC_1537"/>
          <p:cNvPicPr/>
          <p:nvPr/>
        </p:nvPicPr>
        <p:blipFill>
          <a:blip r:embed="rId1"/>
          <a:stretch/>
        </p:blipFill>
        <p:spPr>
          <a:xfrm rot="21070200">
            <a:off x="336600" y="3538080"/>
            <a:ext cx="4330800" cy="303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SC_1540"/>
          <p:cNvPicPr/>
          <p:nvPr/>
        </p:nvPicPr>
        <p:blipFill>
          <a:blip r:embed="rId2"/>
          <a:stretch/>
        </p:blipFill>
        <p:spPr>
          <a:xfrm rot="551400">
            <a:off x="3470040" y="771480"/>
            <a:ext cx="5225760" cy="3516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7961400" cy="206244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ГРАММА клуба от 3-х до 6-ти лет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«Малышкина школа»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Аделева Аниса Анасовна Винокурова Екатерина Александровна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6" name="Picture 6" descr="IMG_392n6"/>
          <p:cNvPicPr/>
          <p:nvPr/>
        </p:nvPicPr>
        <p:blipFill>
          <a:blip r:embed="rId1"/>
          <a:stretch/>
        </p:blipFill>
        <p:spPr>
          <a:xfrm rot="864000">
            <a:off x="5508720" y="2637000"/>
            <a:ext cx="3097080" cy="3930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Documents and Settings\Admin\Рабочий стол\Сайт\Коллектив\Отсканировано 07.12.2011 16-13_000.jpg"/>
          <p:cNvPicPr/>
          <p:nvPr/>
        </p:nvPicPr>
        <p:blipFill>
          <a:blip r:embed="rId2"/>
          <a:stretch/>
        </p:blipFill>
        <p:spPr>
          <a:xfrm rot="20548800">
            <a:off x="641520" y="2637000"/>
            <a:ext cx="294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 flipV="1" rot="10800000">
            <a:off x="-1800" y="523800"/>
            <a:ext cx="994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9" name="Picture 3" descr="DSC_1543"/>
          <p:cNvPicPr/>
          <p:nvPr/>
        </p:nvPicPr>
        <p:blipFill>
          <a:blip r:embed="rId1"/>
          <a:stretch/>
        </p:blipFill>
        <p:spPr>
          <a:xfrm>
            <a:off x="395280" y="371628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DSC_1542"/>
          <p:cNvPicPr/>
          <p:nvPr/>
        </p:nvPicPr>
        <p:blipFill>
          <a:blip r:embed="rId2"/>
          <a:stretch/>
        </p:blipFill>
        <p:spPr>
          <a:xfrm>
            <a:off x="250920" y="260280"/>
            <a:ext cx="5035320" cy="324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DSC_1544"/>
          <p:cNvPicPr/>
          <p:nvPr/>
        </p:nvPicPr>
        <p:blipFill>
          <a:blip r:embed="rId3"/>
          <a:stretch/>
        </p:blipFill>
        <p:spPr>
          <a:xfrm>
            <a:off x="4211640" y="1989000"/>
            <a:ext cx="4529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755640" y="333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Репетиторский центр</a:t>
            </a:r>
            <a:br>
              <a:rPr sz="5400"/>
            </a:b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 rot="20695200">
            <a:off x="549720" y="1771920"/>
            <a:ext cx="8033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изика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Английский язык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Химия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Биология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368316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подаватель математики и физи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рчичко Светлана Геннадьевна</a:t>
            </a:r>
            <a:br>
              <a:rPr sz="3200"/>
            </a:b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643280" y="260280"/>
            <a:ext cx="39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одаватель математики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Ефимова Юлия Викторовна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36" name="Picture 5" descr="Изображение 100"/>
          <p:cNvPicPr/>
          <p:nvPr/>
        </p:nvPicPr>
        <p:blipFill>
          <a:blip r:embed="rId1"/>
          <a:stretch/>
        </p:blipFill>
        <p:spPr>
          <a:xfrm>
            <a:off x="395280" y="2565360"/>
            <a:ext cx="4032360" cy="395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дипломники"/>
          <p:cNvPicPr/>
          <p:nvPr/>
        </p:nvPicPr>
        <p:blipFill>
          <a:blip r:embed="rId2"/>
          <a:stretch/>
        </p:blipFill>
        <p:spPr>
          <a:xfrm>
            <a:off x="4859280" y="2565360"/>
            <a:ext cx="3924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473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реподаватели английского языка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1148544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аукова Назия Наилевна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айнуллина Лейсан Ивановн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0" name="Picture 4" descr="DSC00824"/>
          <p:cNvPicPr/>
          <p:nvPr/>
        </p:nvPicPr>
        <p:blipFill>
          <a:blip r:embed="rId1"/>
          <a:stretch/>
        </p:blipFill>
        <p:spPr>
          <a:xfrm rot="20529600">
            <a:off x="679320" y="2038320"/>
            <a:ext cx="3746520" cy="424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SDC13533"/>
          <p:cNvPicPr/>
          <p:nvPr/>
        </p:nvPicPr>
        <p:blipFill>
          <a:blip r:embed="rId2"/>
          <a:stretch/>
        </p:blipFill>
        <p:spPr>
          <a:xfrm rot="996000">
            <a:off x="4512960" y="2015640"/>
            <a:ext cx="40212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72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Преподаватель химии и биологии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Андрианова 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Ольга Леонидовна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3" name="Picture 4" descr="Изображение 102"/>
          <p:cNvPicPr/>
          <p:nvPr/>
        </p:nvPicPr>
        <p:blipFill>
          <a:blip r:embed="rId1"/>
          <a:stretch/>
        </p:blipFill>
        <p:spPr>
          <a:xfrm>
            <a:off x="2484360" y="2276640"/>
            <a:ext cx="4469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C:\Documents and Settings\Admin\Мои документы\Конференция\Фото\DSC_1386.JPG"/>
          <p:cNvPicPr/>
          <p:nvPr/>
        </p:nvPicPr>
        <p:blipFill>
          <a:blip r:embed="rId1"/>
          <a:stretch/>
        </p:blipFill>
        <p:spPr>
          <a:xfrm>
            <a:off x="4429080" y="2565360"/>
            <a:ext cx="4487760" cy="3935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395280" y="2142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уководитель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Частного образовательного учреждени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ополнительного образовани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«Центр детского творчества и образовательных услуг»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900000" y="2571840"/>
            <a:ext cx="324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дагог-психолог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вой квалификационной категории, преподаватель истории и английского языка,  аспирант кафедры «Общая педагогика»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042920" y="1916280"/>
            <a:ext cx="78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dbf"/>
                </a:solidFill>
                <a:latin typeface="Times New Roman"/>
              </a:rPr>
              <a:t>ВЫПРИЦКАЯ СВЕТЛАНА ВЯЧЕСЛАВОВН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18"/>
          <p:cNvSpPr txBox="1"/>
          <p:nvPr/>
        </p:nvSpPr>
        <p:spPr>
          <a:xfrm>
            <a:off x="900000" y="714240"/>
            <a:ext cx="7743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тский клуб выходного д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0" y="0"/>
            <a:ext cx="41623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6" name="Прямоугольник 21" descr=""/>
          <p:cNvPicPr/>
          <p:nvPr/>
        </p:nvPicPr>
        <p:blipFill>
          <a:blip r:embed="rId1"/>
          <a:stretch/>
        </p:blipFill>
        <p:spPr>
          <a:xfrm>
            <a:off x="1163520" y="1494000"/>
            <a:ext cx="7486920" cy="132228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3" descr=""/>
          <p:cNvPicPr/>
          <p:nvPr/>
        </p:nvPicPr>
        <p:blipFill>
          <a:blip r:embed="rId2"/>
          <a:stretch/>
        </p:blipFill>
        <p:spPr>
          <a:xfrm>
            <a:off x="1706400" y="3090960"/>
            <a:ext cx="61214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1403280" y="333360"/>
            <a:ext cx="630864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Довузовская подготовка: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-« Школа бизнеса и экономики»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( элементы ЕГЭ по математике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66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« Школа английского языка»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( элементы ЕГЭ по английскому языку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66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« Школа юного эколога» ( элементы ЕГЭ по химии и биологии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66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« Школа планирования жизни и карьеры» ( элементы ЕГЭ по истории и обществознанию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7961400" cy="155916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Студия по изобразительной деятельности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500280" y="2143080"/>
            <a:ext cx="5175360" cy="4500720"/>
          </a:xfrm>
          <a:prstGeom prst="rect">
            <a:avLst/>
          </a:prstGeom>
          <a:noFill/>
          <a:ln w="57240">
            <a:solidFill>
              <a:srgbClr val="7030a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Руководитель изостуди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«Волшебная кисточка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Яшманова Юлия Стадиславовна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ff99"/>
                </a:solidFill>
                <a:latin typeface="Arial"/>
              </a:rPr>
              <a:t>Педагог второй квалификационной категори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Picture 4" descr="Изображение 154"/>
          <p:cNvPicPr/>
          <p:nvPr/>
        </p:nvPicPr>
        <p:blipFill>
          <a:blip r:embed="rId1"/>
          <a:stretch/>
        </p:blipFill>
        <p:spPr>
          <a:xfrm rot="21324000">
            <a:off x="313920" y="2494080"/>
            <a:ext cx="28306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C:\Documents and Settings\Admin\Мои документы\Конференция\Фото\DSC_1398.JPG"/>
          <p:cNvPicPr/>
          <p:nvPr/>
        </p:nvPicPr>
        <p:blipFill>
          <a:blip r:embed="rId1"/>
          <a:stretch/>
        </p:blipFill>
        <p:spPr>
          <a:xfrm rot="20878200">
            <a:off x="285840" y="691920"/>
            <a:ext cx="4643280" cy="331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Documents and Settings\Admin\Мои документы\Конференция\Фото\DSC_1399.JPG"/>
          <p:cNvPicPr/>
          <p:nvPr/>
        </p:nvPicPr>
        <p:blipFill>
          <a:blip r:embed="rId2"/>
          <a:stretch/>
        </p:blipFill>
        <p:spPr>
          <a:xfrm>
            <a:off x="4572000" y="378612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539640" y="214200"/>
            <a:ext cx="7961400" cy="105408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Театральная студия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71680" y="2071800"/>
            <a:ext cx="4505040" cy="4500360"/>
          </a:xfrm>
          <a:prstGeom prst="rect">
            <a:avLst/>
          </a:prstGeom>
          <a:noFill/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уководитель  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атральной студии «Волшебный мир»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Гринина Светлана Владимировна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4" name="Picture 7" descr="SDC13620"/>
          <p:cNvPicPr/>
          <p:nvPr/>
        </p:nvPicPr>
        <p:blipFill>
          <a:blip r:embed="rId1"/>
          <a:stretch/>
        </p:blipFill>
        <p:spPr>
          <a:xfrm>
            <a:off x="5076720" y="2060640"/>
            <a:ext cx="345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:\ЦДТ\фото центр\IMG_5570.JPG"/>
          <p:cNvPicPr/>
          <p:nvPr/>
        </p:nvPicPr>
        <p:blipFill>
          <a:blip r:embed="rId1"/>
          <a:stretch/>
        </p:blipFill>
        <p:spPr>
          <a:xfrm rot="21058800">
            <a:off x="598320" y="1839600"/>
            <a:ext cx="4600800" cy="3449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:\ЦДТ\фото центр\IMG_5574.JPG"/>
          <p:cNvPicPr/>
          <p:nvPr/>
        </p:nvPicPr>
        <p:blipFill>
          <a:blip r:embed="rId2"/>
          <a:stretch/>
        </p:blipFill>
        <p:spPr>
          <a:xfrm rot="5637600">
            <a:off x="4169520" y="1705680"/>
            <a:ext cx="51879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D:\ЦДТ\фото центр\IMG_5578.JPG"/>
          <p:cNvPicPr/>
          <p:nvPr/>
        </p:nvPicPr>
        <p:blipFill>
          <a:blip r:embed="rId1"/>
          <a:stretch/>
        </p:blipFill>
        <p:spPr>
          <a:xfrm>
            <a:off x="714240" y="642960"/>
            <a:ext cx="4407120" cy="3305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D:\ЦДТ\фото центр\IMG_5577.JPG"/>
          <p:cNvPicPr/>
          <p:nvPr/>
        </p:nvPicPr>
        <p:blipFill>
          <a:blip r:embed="rId2"/>
          <a:stretch/>
        </p:blipFill>
        <p:spPr>
          <a:xfrm rot="372600">
            <a:off x="4330440" y="2644560"/>
            <a:ext cx="4186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247680"/>
            <a:ext cx="853128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анцевальная       студия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3311640" cy="41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ореограф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довина Ирина Юрьевн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1" name="Picture 4" descr="SDC13627"/>
          <p:cNvPicPr/>
          <p:nvPr/>
        </p:nvPicPr>
        <p:blipFill>
          <a:blip r:embed="rId1"/>
          <a:stretch/>
        </p:blipFill>
        <p:spPr>
          <a:xfrm>
            <a:off x="3995640" y="1773360"/>
            <a:ext cx="48974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SDC13630"/>
          <p:cNvPicPr/>
          <p:nvPr/>
        </p:nvPicPr>
        <p:blipFill>
          <a:blip r:embed="rId1"/>
          <a:stretch/>
        </p:blipFill>
        <p:spPr>
          <a:xfrm rot="20276400">
            <a:off x="755640" y="54900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SDC13629"/>
          <p:cNvPicPr/>
          <p:nvPr/>
        </p:nvPicPr>
        <p:blipFill>
          <a:blip r:embed="rId2"/>
          <a:stretch/>
        </p:blipFill>
        <p:spPr>
          <a:xfrm rot="1116600">
            <a:off x="5349960" y="495000"/>
            <a:ext cx="3314520" cy="3267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SDC13628"/>
          <p:cNvPicPr/>
          <p:nvPr/>
        </p:nvPicPr>
        <p:blipFill>
          <a:blip r:embed="rId3"/>
          <a:stretch/>
        </p:blipFill>
        <p:spPr>
          <a:xfrm>
            <a:off x="3059280" y="3519360"/>
            <a:ext cx="34574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2:13:05Z</dcterms:created>
  <dc:creator> </dc:creator>
  <dc:description/>
  <dc:language>en-US</dc:language>
  <cp:lastModifiedBy>Admin</cp:lastModifiedBy>
  <dcterms:modified xsi:type="dcterms:W3CDTF">2011-12-08T08:55:24Z</dcterms:modified>
  <cp:revision>89</cp:revision>
  <dc:subject/>
  <dc:title>РЕШАЕМ ТЕСТ</dc:title>
</cp:coreProperties>
</file>