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41.jpeg" ContentType="image/jpeg"/>
  <Override PartName="/ppt/media/image14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60.jpeg" ContentType="image/jpeg"/>
  <Override PartName="/ppt/media/image37.jpeg" ContentType="image/jpeg"/>
  <Override PartName="/ppt/media/image16.jpeg" ContentType="image/jpeg"/>
  <Override PartName="/ppt/media/image20.jpeg" ContentType="image/jpeg"/>
  <Override PartName="/ppt/media/image62.jpeg" ContentType="image/jpeg"/>
  <Override PartName="/ppt/media/image19.png" ContentType="image/png"/>
  <Override PartName="/ppt/media/image15.jpeg" ContentType="image/jpeg"/>
  <Override PartName="/ppt/media/image1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FC5D-04A7-465D-9FB6-C77A3E4A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7324-A2BC-4DB8-A427-AF469BD3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C0DE-4A5F-4654-AFA1-0D9DD337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5F53-9564-4CA0-A1E4-54F99CD37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7DBF-CE2C-412F-892F-DB8B9ED71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A582-D465-4F01-A330-8D297012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977A-F81D-4127-82B4-7840FE1D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771A-C8EE-45A9-B6B8-4380C2B4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6FA6-F9E4-47A0-9B2B-2DAA7305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0566-EB53-4372-ACE5-8C0AC16B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9CA9-0A9C-4D14-BDC5-391ECEA2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DFDB-0B1D-4662-A370-3B4B348B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420E-5026-4E05-B769-9B8D12A8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ECB8-FC79-4F46-A561-422524CE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D93A-62F9-4456-9B52-2D73C118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AB33-FE26-46CE-8470-2FCCCC00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44A0-4509-4D41-BAB9-F65015DCA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62E8-0227-40A8-8D9D-7F6EF46D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061E-58F9-4DBB-A562-814A5894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8E90-FB71-42FE-BE91-E9764364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D1E1-51AD-4178-865B-D8E19AD7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5D41-5A0F-4EBA-9F14-2E4E408D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12F1-9F21-4F2F-8A69-918A46DE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5CCD-B51C-4338-9F81-9AB54C41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A007-6C6A-43EC-A4AC-CD6A3DB3EF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A2F7-0F94-4F0B-ADAD-2081164EE8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image" Target="../media/image50.jpe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image" Target="../media/image57.jpeg"/><Relationship Id="rId8" Type="http://schemas.openxmlformats.org/officeDocument/2006/relationships/image" Target="../media/image58.jpeg"/><Relationship Id="rId9" Type="http://schemas.openxmlformats.org/officeDocument/2006/relationships/image" Target="../media/image59.jpeg"/><Relationship Id="rId10" Type="http://schemas.openxmlformats.org/officeDocument/2006/relationships/image" Target="../media/image60.jpeg"/><Relationship Id="rId11" Type="http://schemas.openxmlformats.org/officeDocument/2006/relationships/image" Target="../media/image61.jpeg"/><Relationship Id="rId12" Type="http://schemas.openxmlformats.org/officeDocument/2006/relationships/image" Target="../media/image62.jpe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800000" cy="13539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203640" y="1557360"/>
            <a:ext cx="1417680" cy="17064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219640" y="2060640"/>
            <a:ext cx="1413000" cy="15364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7093080" y="1125360"/>
            <a:ext cx="1446120" cy="1944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3924360" y="3860640"/>
            <a:ext cx="1336680" cy="1781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 "/>
          <p:cNvPicPr/>
          <p:nvPr/>
        </p:nvPicPr>
        <p:blipFill>
          <a:blip r:embed="rId6"/>
          <a:stretch/>
        </p:blipFill>
        <p:spPr>
          <a:xfrm>
            <a:off x="6443640" y="4365720"/>
            <a:ext cx="1582920" cy="16714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971640" y="2781360"/>
            <a:ext cx="1390680" cy="1854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971640" y="4941720"/>
            <a:ext cx="1938240" cy="1457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3203640" y="476280"/>
            <a:ext cx="245736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ВЕТЫ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755640" y="0"/>
            <a:ext cx="398160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ЕЛЬФИНИУМ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1355760" cy="17906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148360" y="1844640"/>
            <a:ext cx="3549600" cy="45957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611280" y="4508640"/>
            <a:ext cx="1336680" cy="17697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6804000" y="189000"/>
            <a:ext cx="1657440" cy="1251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2556000" y="2133720"/>
            <a:ext cx="1512720" cy="2016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3276720" y="4581360"/>
            <a:ext cx="1431720" cy="19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Дельфиниум -высокие соцветия дельфиниума видны издали. "Королем синей краски", "премьером многолетников", "голубым сокровищем", "синим чудом сада" - так восторженно называют его. В России за цветки со шпорцем их прозвали рыцарскими шпорами, зовут еще и живокость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 Украине его нарекли рогатыми васильками, в Англии забавными шпорами, во Франции - жавороночьей ножкой. Как видно из названий, большинство народов склонны именовать дельфиниум шпорником за то, что верхний лепесток его чашелистика действительно похож на шпорец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Этот цветок окрестили дельфиниумом еще в Древней Греции за сходство бутонов с головой дельфина. Греческие легенды утверждают, что когда-то в Древней Элладе жил необыкновенно одаренный юноша, который по памяти изваял свою усопшую возлюбленную и вдохнул в изваяние жизнь. А боги за столь необыкновенную дерзость превратили его в дельфи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цветок жасмин"/>
          <p:cNvPicPr/>
          <p:nvPr/>
        </p:nvPicPr>
        <p:blipFill>
          <a:blip r:embed="rId1"/>
          <a:stretch/>
        </p:blipFill>
        <p:spPr>
          <a:xfrm rot="19341000">
            <a:off x="6227280" y="1628640"/>
            <a:ext cx="2291040" cy="21988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826920" y="260280"/>
            <a:ext cx="248616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АСМИН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356000" y="620640"/>
            <a:ext cx="1387440" cy="18669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539640" y="2492280"/>
            <a:ext cx="1889280" cy="14032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2843280" y="2924280"/>
            <a:ext cx="1973160" cy="14889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703440" y="4292640"/>
            <a:ext cx="1309680" cy="17571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4932360" y="3284640"/>
            <a:ext cx="4006800" cy="32828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7"/>
          <a:stretch/>
        </p:blipFill>
        <p:spPr>
          <a:xfrm>
            <a:off x="2484360" y="5013360"/>
            <a:ext cx="2084400" cy="15494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8"/>
          <a:stretch/>
        </p:blipFill>
        <p:spPr>
          <a:xfrm>
            <a:off x="7093080" y="189000"/>
            <a:ext cx="170964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Жасмин - разновидность маслины, выведен из прямостоящего кустарника и лазящей лианы, произрастающих в субтропических лесах. Цветет изящными белыми, желтыми и красными цветами. Во время его цветения воздух наполняется сильным, далеко разносящимся ароматом. Поэтому жасмин сегодня широко разводится любителями цветоводств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К семейству маслинных принадлежит и олива. Оливковая ветвь издавна слыла символом мира и благополучия. Письменные упоминания о ней йстречаются не только в египетских текстах, но и в изображениях на вазах, амфорах, сосудах для хранения оливкового масла, найденных в Кносском дворце на острове Крит и относящихся к III и II тысячелетиям до нашей эры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643280" y="4653000"/>
            <a:ext cx="1641600" cy="19987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5076720" y="620640"/>
            <a:ext cx="1795680" cy="15573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2556000" y="2708280"/>
            <a:ext cx="1571400" cy="19684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7164360" y="907920"/>
            <a:ext cx="1521000" cy="16383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2268360" y="1052640"/>
            <a:ext cx="1998720" cy="1338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6"/>
          <a:stretch/>
        </p:blipFill>
        <p:spPr>
          <a:xfrm>
            <a:off x="4643280" y="2492280"/>
            <a:ext cx="2011680" cy="16970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7"/>
          <a:stretch/>
        </p:blipFill>
        <p:spPr>
          <a:xfrm>
            <a:off x="395280" y="4797360"/>
            <a:ext cx="1258920" cy="1854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8"/>
          <a:stretch/>
        </p:blipFill>
        <p:spPr>
          <a:xfrm>
            <a:off x="6732720" y="5013360"/>
            <a:ext cx="1998360" cy="14461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9"/>
          <a:stretch/>
        </p:blipFill>
        <p:spPr>
          <a:xfrm>
            <a:off x="2556000" y="5013360"/>
            <a:ext cx="1353960" cy="1552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0"/>
          <a:stretch/>
        </p:blipFill>
        <p:spPr>
          <a:xfrm>
            <a:off x="7243920" y="2924280"/>
            <a:ext cx="1900080" cy="14158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1"/>
          <a:stretch/>
        </p:blipFill>
        <p:spPr>
          <a:xfrm>
            <a:off x="395280" y="620640"/>
            <a:ext cx="1548000" cy="19303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2"/>
          <a:stretch/>
        </p:blipFill>
        <p:spPr>
          <a:xfrm>
            <a:off x="179280" y="2852640"/>
            <a:ext cx="1971720" cy="1487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2771640" y="189000"/>
            <a:ext cx="162900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66ff33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УКЕТЫ</a:t>
            </a:r>
            <a:endParaRPr b="0" lang="en-US" sz="4000" spc="1" strike="noStrike">
              <a:ln w="12600">
                <a:solidFill>
                  <a:srgbClr val="66ff33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цветок астра"/>
          <p:cNvPicPr/>
          <p:nvPr/>
        </p:nvPicPr>
        <p:blipFill>
          <a:blip r:embed="rId1"/>
          <a:stretch/>
        </p:blipFill>
        <p:spPr>
          <a:xfrm>
            <a:off x="4932360" y="3141720"/>
            <a:ext cx="3673440" cy="3311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608880" y="260280"/>
            <a:ext cx="1658880" cy="2232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403280" y="1758960"/>
            <a:ext cx="1873440" cy="1397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324000" y="3429000"/>
            <a:ext cx="1944360" cy="1403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826920" y="5229360"/>
            <a:ext cx="1795680" cy="1350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3780000" y="692280"/>
            <a:ext cx="2160360" cy="16207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611280" y="0"/>
            <a:ext cx="196200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СТРЫ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2627280" y="3500280"/>
            <a:ext cx="2160720" cy="1625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65530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А крупные яркие астры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 осенней Астру по праву величают королевой осеннего цветника: она красива, неприхотлива и продолжительно цветет. Роскошные букеты из астр сохраняют свежесть более двух недел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ухой тишине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Так пестры и разномастны,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Что видимы и при луне, -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исал поэт Н. Асе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"Астра" - по-гречески - "звезда". Астры белые, розовые, желтые, красные, синие, фиолетовые, со множеством оттенков, светлых и темных. Но астры отличаются не только по цвету. Есть астры махровые с большим количеством узких лепестков, торчащих во все стороны. У одних лепестки прямые, у других волнистые, загнутые внутрь, как у пиона, у третьих узкие, заостренные - игольчаты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цветок бессмертник"/>
          <p:cNvPicPr/>
          <p:nvPr/>
        </p:nvPicPr>
        <p:blipFill>
          <a:blip r:embed="rId1"/>
          <a:stretch/>
        </p:blipFill>
        <p:spPr>
          <a:xfrm>
            <a:off x="3780000" y="1700280"/>
            <a:ext cx="5040000" cy="47829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611280" y="0"/>
            <a:ext cx="399096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ЕССМЕРТНИК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68360" y="2116080"/>
            <a:ext cx="1727280" cy="12844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95280" y="5229360"/>
            <a:ext cx="1962000" cy="13492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1692360" y="3573360"/>
            <a:ext cx="17287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Бессмертник -пожалуй, самым известным любителям-цветоводам среди растений-переселенцев из австралийской флоры является сухоцвет гелихризум, или цмин прицветниковый. Это однолетник, который растет в сухих пустынных и полупустынных районах Австралии. Его соцветия - крупные желтые или оранжево-красные корзинки, покрытые несколькими рядами блестящих, крупных, сухих, ярко окрашенных чешуи, которые сохраняют свой цвет и форму после высыхания. Гелихризум может очень долго стоять без воды в сухих зимних букетах, не меняя свою окраску, поэтому его иногда называют еще бессмертником. За свой золотисто-солнечный цвет растение получило научное имя, которое так и переводится - "золотое солнце", а за то, что сохраняется этот цвет очень долго, народ назвал растение бессмертник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цветок василек"/>
          <p:cNvPicPr/>
          <p:nvPr/>
        </p:nvPicPr>
        <p:blipFill>
          <a:blip r:embed="rId1"/>
          <a:stretch/>
        </p:blipFill>
        <p:spPr>
          <a:xfrm>
            <a:off x="3924360" y="1844640"/>
            <a:ext cx="4897440" cy="47084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539640" y="0"/>
            <a:ext cx="254340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АСИЛЁК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476360" y="1989000"/>
            <a:ext cx="1795320" cy="1224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395280" y="3357720"/>
            <a:ext cx="1600200" cy="1188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2484360" y="4076640"/>
            <a:ext cx="1203480" cy="16207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611280" y="4941720"/>
            <a:ext cx="1417680" cy="16513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3851280" y="260280"/>
            <a:ext cx="156672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асилек-близился вечер. Выбиваясь из последних сил, устало тащилась заморенная лошадь. А молодой статный парень Василий будто и не трудился с раннего утра. Легко и уверенно ступал он бороздой, как бы играя рукоятками сох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Как не заглядеться на такого молодца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ставив все свои хлопоты, любовалась красавцем пахарем русалка. Издали, несмело, укрывшись за камышами, с самого утра неотрывно следила она за ним, а когда Василий, окончив работу, подошел к реке умыться, не выдержала и предстала перед ним во всей своей крас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Полюбили они друг друга. Во всем у них было полное согласие, только вот никак не могли договориться, где им лучше жить вместе. Русалка звала Василия в родную ей водную стихию, а он твердо стоял на своем: поселимся у пашн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овсе извелись они в спорах. Наконец, поняв, что неуступчивый Василий никогда не подчинится ее настояниям, русалка решилась на последнюю крайность: она превратила его в скромный голубой цветок. Не раз глядя, как капли дождя, собираясь ручейками, сливаются в реки, она надеялась, что и голубой цветочек - Василий - в конце концов придет в ее дом. Однако ожидания ее не оправдались, василек крепко держится корнями за родную пашн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Такова украинская легенда. Чем-то схожа с нею, но совершенно другого содержания легенда, родившаяся на Рус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1241280" cy="16509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411280" y="3357720"/>
            <a:ext cx="1298880" cy="17269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340000" y="1773360"/>
            <a:ext cx="1800360" cy="1338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4859280" y="2349360"/>
            <a:ext cx="3384720" cy="4032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179280" y="4292640"/>
            <a:ext cx="1728720" cy="12952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6"/>
          <a:stretch/>
        </p:blipFill>
        <p:spPr>
          <a:xfrm>
            <a:off x="5003640" y="404640"/>
            <a:ext cx="1651320" cy="12416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7"/>
          <a:stretch/>
        </p:blipFill>
        <p:spPr>
          <a:xfrm>
            <a:off x="2195640" y="5300640"/>
            <a:ext cx="1871640" cy="13906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468360" y="115920"/>
            <a:ext cx="388620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ЛАДИОЛУСЫ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Гладиолусы - одни из самых любимых осенних цветов. Высокое стройное растение с красивыми, как у лилий, цветами, собранными в два ряда в заостренный, прямой колос. Листья, длинные, узкие, торчат как острые шпаги. Это растение поэтому часто называют шпажником, а алые соцветия некоторых сортов подобны капелькам застывшей кров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Гладиолус-шпажник причислен к семейству касатиковых, или ирисовых, а переселился в Европу из Южной Африки. Однако дикий шпажник встречался и в Герман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о времена Теофраста, автора многочисленных трудов о растениях, гладиолусы употребляли в пищу, запекали их луковицы в тесте. Плиний Старший сообщил, что при его жизни корни гладиолусов находили применение и в медицин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 средние века цветок называли "неодолимый панцирь". Гладиолус вырастает из плотной клубнелуковицы, покрытой жесткой кожицей. В то время существовало поверье, что луковица шпажника, если носить ее на груди, делает человека неуязвимым для ударов меча и стрел. И рыцари в стальных латах надевали на грудь, как амулет, "неодолимый панцирь"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5:11:11Z</dcterms:created>
  <dc:creator>Admin</dc:creator>
  <dc:description/>
  <dc:language>en-US</dc:language>
  <cp:lastModifiedBy>Admin</cp:lastModifiedBy>
  <dcterms:modified xsi:type="dcterms:W3CDTF">2010-01-10T11:55:32Z</dcterms:modified>
  <cp:revision>81</cp:revision>
  <dc:subject/>
  <dc:title>Цветы.</dc:title>
</cp:coreProperties>
</file>