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15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AC2-D065-4E0C-AC6E-DB522361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EF4-AC72-4888-8EC2-F0FCAE55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319-81F0-4DD8-84AA-121BD6BE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ACC-0DB2-4C11-B59F-48FB65DD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8644-9B2D-44F5-B9A6-237C5CB9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6B2-ADD1-46F6-9689-CFE30CE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98F-789E-416D-B2F4-0F61F15C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5946-630C-42DF-AE15-C0E5BD0D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EE6-0D84-4EA1-A9E9-D5441FB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F531-6B67-4006-9521-A433DA54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E16-E495-4E71-8A33-34EF870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B1C-C7AA-4D4F-A556-35CE324A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F56-65CF-4793-BA9D-0FA8B73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7288-C260-4FCC-B68F-C17CF140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B434-D550-4E82-BEB0-9D91132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83F9-9324-4E89-83CC-3F571100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EEBF-B4F6-42DB-B317-30B99D29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FC2-60D4-4EE7-AAC7-6EB3414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E57-7C2A-4014-A10B-C061372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5BC-FEF9-4750-8BE3-9FF13259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23F-4680-4B08-9705-8B13C0E6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8C2-DF3C-484A-AE82-D4AD245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B6A-FFAB-44DC-ACB9-C65F11C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BD8-4B04-4F56-8898-9BB4EEA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0EFB-F878-40F6-8960-86EAF4D2A3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8D8-925E-426A-9935-64542D05B5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image" Target="../media/image62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00000" cy="1353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203640" y="1557360"/>
            <a:ext cx="1417680" cy="170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1413000" cy="1536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093080" y="1125360"/>
            <a:ext cx="144612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924360" y="3860640"/>
            <a:ext cx="1336680" cy="178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 "/>
          <p:cNvPicPr/>
          <p:nvPr/>
        </p:nvPicPr>
        <p:blipFill>
          <a:blip r:embed="rId6"/>
          <a:stretch/>
        </p:blipFill>
        <p:spPr>
          <a:xfrm>
            <a:off x="6443640" y="4365720"/>
            <a:ext cx="1582920" cy="1671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971640" y="2781360"/>
            <a:ext cx="1390680" cy="1854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971640" y="4941720"/>
            <a:ext cx="1938240" cy="1457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203640" y="476280"/>
            <a:ext cx="24573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Ы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55640" y="0"/>
            <a:ext cx="39816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ЛЬФИНИУМ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1355760" cy="1790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549600" cy="4595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1336680" cy="1769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804000" y="189000"/>
            <a:ext cx="1657440" cy="1251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4581360"/>
            <a:ext cx="14317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ельфиниум -высокие соцветия дельфиниума видны издали. "Королем синей краски", "премьером многолетников", "голубым сокровищем", "синим чудом сада" - так восторженно называют его. В России за цветки со шпорцем их прозвали рыцарскими шпорами, зовут еще и живок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 Украине его нарекли рогатыми васильками, в Англии забавными шпорами, во Франции - жавороночьей ножкой. Как видно из названий, большинство народов склонны именовать дельфиниум шпорником за то, что верхний лепесток его чашелистика действительно похож на шпорец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Этот цветок окрестили дельфиниумом еще в Древней Греции за сходство бутонов с головой дельфина. Греческие легенды утверждают, что когда-то в Древней Элладе жил необыкновенно одаренный юноша, который по памяти изваял свою усопшую возлюбленную и вдохнул в изваяние жизнь. А боги за столь необыкновенную дерзость превратили его в дельф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цветок жасмин"/>
          <p:cNvPicPr/>
          <p:nvPr/>
        </p:nvPicPr>
        <p:blipFill>
          <a:blip r:embed="rId1"/>
          <a:stretch/>
        </p:blipFill>
        <p:spPr>
          <a:xfrm rot="19341000">
            <a:off x="6227280" y="1628640"/>
            <a:ext cx="2291040" cy="2198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826920" y="260280"/>
            <a:ext cx="24861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АСМИН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1387440" cy="1866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1889280" cy="1403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843280" y="2924280"/>
            <a:ext cx="1973160" cy="148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703440" y="4292640"/>
            <a:ext cx="1309680" cy="1757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4006800" cy="3282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484360" y="5013360"/>
            <a:ext cx="2084400" cy="1549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7093080" y="189000"/>
            <a:ext cx="1709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Жасмин - разновидность маслины, выведен из прямостоящего кустарника и лазящей лианы, произрастающих в субтропических лесах. Цветет изящными белыми, желтыми и красными цветами. Во время его цветения воздух наполняется сильным, далеко разносящимся ароматом. Поэтому жасмин сегодня широко разводится любителями цветово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 семейству маслинных принадлежит и олива. Оливковая ветвь издавна слыла символом мира и благополучия. Письменные упоминания о ней йстречаются не только в египетских текстах, но и в изображениях на вазах, амфорах, сосудах для хранения оливкового масла, найденных в Кносском дворце на острове Крит и относящихся к III и II тысячелетиям до нашей эр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641600" cy="1998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1795680" cy="1557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1571400" cy="1968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164360" y="907920"/>
            <a:ext cx="152100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2268360" y="1052640"/>
            <a:ext cx="1998720" cy="1338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643280" y="2492280"/>
            <a:ext cx="2011680" cy="1697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395280" y="4797360"/>
            <a:ext cx="1258920" cy="185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6732720" y="5013360"/>
            <a:ext cx="1998360" cy="14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2556000" y="5013360"/>
            <a:ext cx="1353960" cy="1552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7243920" y="2924280"/>
            <a:ext cx="1900080" cy="1415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395280" y="620640"/>
            <a:ext cx="1548000" cy="1930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179280" y="2852640"/>
            <a:ext cx="1971720" cy="1487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771640" y="189000"/>
            <a:ext cx="162900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КЕТЫ</a:t>
            </a:r>
            <a:endParaRPr b="0" lang="en-US" sz="4000" spc="1" strike="noStrike">
              <a:ln w="1260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цветок астра"/>
          <p:cNvPicPr/>
          <p:nvPr/>
        </p:nvPicPr>
        <p:blipFill>
          <a:blip r:embed="rId1"/>
          <a:stretch/>
        </p:blipFill>
        <p:spPr>
          <a:xfrm>
            <a:off x="4932360" y="3141720"/>
            <a:ext cx="367344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608880" y="260280"/>
            <a:ext cx="1658880" cy="2232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03280" y="1758960"/>
            <a:ext cx="1873440" cy="1397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1944360" cy="1403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826920" y="5229360"/>
            <a:ext cx="1795680" cy="135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780000" y="692280"/>
            <a:ext cx="2160360" cy="162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611280" y="0"/>
            <a:ext cx="1962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СТРЫ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627280" y="3500280"/>
            <a:ext cx="2160720" cy="1625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 крупные яркие астры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осенней Астру по праву величают королевой осеннего цветника: она красива, неприхотлива и продолжительно цветет. Роскошные букеты из астр сохраняют свежесть более двух неде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ухой тишине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ак пестры и разномастны,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Что видимы и при луне, -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исал поэт Н. Ас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"Астра" - по-гречески - "звезда". Астры белые, розовые, желтые, красные, синие, фиолетовые, со множеством оттенков, светлых и темных. Но астры отличаются не только по цвету. Есть астры махровые с большим количеством узких лепестков, торчащих во все стороны. У одних лепестки прямые, у других волнистые, загнутые внутрь, как у пиона, у третьих узкие, заостренные - игольчаты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цветок бессмертник"/>
          <p:cNvPicPr/>
          <p:nvPr/>
        </p:nvPicPr>
        <p:blipFill>
          <a:blip r:embed="rId1"/>
          <a:stretch/>
        </p:blipFill>
        <p:spPr>
          <a:xfrm>
            <a:off x="3780000" y="1700280"/>
            <a:ext cx="5040000" cy="4782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11280" y="0"/>
            <a:ext cx="399096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СМЕРТНИК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2116080"/>
            <a:ext cx="1727280" cy="1284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95280" y="5229360"/>
            <a:ext cx="1962000" cy="1349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692360" y="3573360"/>
            <a:ext cx="1728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ссмертник -пожалуй, самым известным любителям-цветоводам среди растений-переселенцев из австралийской флоры является сухоцвет гелихризум, или цмин прицветниковый. Это однолетник, который растет в сухих пустынных и полупустынных районах Австралии. Его соцветия - крупные желтые или оранжево-красные корзинки, покрытые несколькими рядами блестящих, крупных, сухих, ярко окрашенных чешуи, которые сохраняют свой цвет и форму после высыхания. Гелихризум может очень долго стоять без воды в сухих зимних букетах, не меняя свою окраску, поэтому его иногда называют еще бессмертником. За свой золотисто-солнечный цвет растение получило научное имя, которое так и переводится - "золотое солнце", а за то, что сохраняется этот цвет очень долго, народ назвал растение бессмертни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цветок василек"/>
          <p:cNvPicPr/>
          <p:nvPr/>
        </p:nvPicPr>
        <p:blipFill>
          <a:blip r:embed="rId1"/>
          <a:stretch/>
        </p:blipFill>
        <p:spPr>
          <a:xfrm>
            <a:off x="3924360" y="1844640"/>
            <a:ext cx="4897440" cy="4708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539640" y="0"/>
            <a:ext cx="25434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АСИЛЁК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1795320" cy="122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1600200" cy="1188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484360" y="4076640"/>
            <a:ext cx="1203480" cy="162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11280" y="4941720"/>
            <a:ext cx="1417680" cy="1651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851280" y="260280"/>
            <a:ext cx="1566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асилек-близился вечер. Выбиваясь из последних сил, устало тащилась заморенная лошадь. А молодой статный парень Василий будто и не трудился с раннего утра. Легко и уверенно ступал он бороздой, как бы играя рукоятками сох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ак не заглядеться на такого молодц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тавив все свои хлопоты, любовалась красавцем пахарем русалка. Издали, несмело, укрывшись за камышами, с самого утра неотрывно следила она за ним, а когда Василий, окончив работу, подошел к реке умыться, не выдержала и предстала перед ним во всей своей кра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олюбили они друг друга. Во всем у них было полное согласие, только вот никак не могли договориться, где им лучше жить вместе. Русалка звала Василия в родную ей водную стихию, а он твердо стоял на своем: поселимся у паш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все извелись они в спорах. Наконец, поняв, что неуступчивый Василий никогда не подчинится ее настояниям, русалка решилась на последнюю крайность: она превратила его в скромный голубой цветок. Не раз глядя, как капли дождя, собираясь ручейками, сливаются в реки, она надеялась, что и голубой цветочек - Василий - в конце концов придет в ее дом. Однако ожидания ее не оправдались, василек крепко держится корнями за родную пашн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акова украинская легенда. Чем-то схожа с нею, но совершенно другого содержания легенда, родившаяся на Рус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241280" cy="1650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1298880" cy="1726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340000" y="1773360"/>
            <a:ext cx="1800360" cy="133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384720" cy="403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179280" y="429264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5003640" y="404640"/>
            <a:ext cx="1651320" cy="1241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2195640" y="5300640"/>
            <a:ext cx="1871640" cy="1390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8360" y="115920"/>
            <a:ext cx="38862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ДИОЛУСЫ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ладиолусы - одни из самых любимых осенних цветов. Высокое стройное растение с красивыми, как у лилий, цветами, собранными в два ряда в заостренный, прямой колос. Листья, длинные, узкие, торчат как острые шпаги. Это растение поэтому часто называют шпажником, а алые соцветия некоторых сортов подобны капелькам застывшей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Гладиолус-шпажник причислен к семейству касатиковых, или ирисовых, а переселился в Европу из Южной Африки. Однако дикий шпажник встречался и в Герма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 времена Теофраста, автора многочисленных трудов о растениях, гладиолусы употребляли в пищу, запекали их луковицы в тесте. Плиний Старший сообщил, что при его жизни корни гладиолусов находили применение и в медици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 средние века цветок называли "неодолимый панцирь". Гладиолус вырастает из плотной клубнелуковицы, покрытой жесткой кожицей. В то время существовало поверье, что луковица шпажника, если носить ее на груди, делает человека неуязвимым для ударов меча и стрел. И рыцари в стальных латах надевали на грудь, как амулет, "неодолимый панцирь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5:11:11Z</dcterms:created>
  <dc:creator>Admin</dc:creator>
  <dc:description/>
  <dc:language>en-US</dc:language>
  <cp:lastModifiedBy>Admin</cp:lastModifiedBy>
  <dcterms:modified xsi:type="dcterms:W3CDTF">2010-01-10T11:55:32Z</dcterms:modified>
  <cp:revision>81</cp:revision>
  <dc:subject/>
  <dc:title>Цветы.</dc:title>
</cp:coreProperties>
</file>