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0.wmf" ContentType="image/x-wmf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4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13.jpeg" ContentType="image/jpeg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4FA0-2D0F-4218-9AAE-8B7AC3E6F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CDCD-9D20-44F8-8084-542C53FE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1D78-539F-484A-A158-02EE6F6BF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4DB0-1686-4EF4-9520-F7E363067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FC47-A555-4566-AFAD-B96FB95EA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8532-F7F3-4904-B784-10E479E8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2F82-8D17-4069-A497-D5FFB201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5418-71E1-45D9-BDEE-A1726C6D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C6B4-2C18-458B-8E54-2AFFF31F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9FD1-F088-4DE2-878F-1006734E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AC15-AF14-4EAD-8FB5-129F648D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303A-8EA8-4FF7-A5A6-CAAA08EB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F6E7-49F5-451E-848E-F5035706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19C7-875A-4159-8188-AA8CC030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7FCC-0DCF-45D7-8B5E-0AC2693E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7540-B535-486D-A038-ABB3ACB6B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6E42-CEB1-4E2B-8335-4E8A14796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8147-F93E-4B45-A04A-7FC92B48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E703-EED1-46C0-AD65-5E6B80FE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34BA-3609-47DD-80D1-DD13C7FE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12DA-BACD-4975-A4DC-989A3C32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718C-E6D1-451A-923F-E0266DA3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ADB5-65F7-4B8F-9BCA-3F7E09FE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2F64-8C15-41D9-B964-4B7E588C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B705-943E-499A-8F86-C84C279DE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256A-A948-4DDC-AC99-085328F436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"/>
              </a:rPr>
              <a:t>Не имей сто рублей, а имей сто друзей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b7"/>
                </a:solidFill>
                <a:latin typeface="Arial"/>
              </a:rPr>
              <a:t>Чтение – лучшее умение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b7"/>
                </a:solidFill>
                <a:latin typeface="Arial"/>
              </a:rPr>
              <a:t>Делу время – потехе час.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учиться правильно произносить имя автора и заглавие произвед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оказать, что данное произведение относится к жанру – сказка. Выявить чер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йти ответ на главный вопрос , который звучит в теме нашего урока: «Чего не могут взрослые?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620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"/>
              </a:rPr>
              <a:t>Ключевые слова:</a:t>
            </a:r>
            <a:br>
              <a:rPr sz="5400"/>
            </a:br>
            <a:br>
              <a:rPr sz="5400"/>
            </a:br>
            <a:r>
              <a:rPr b="1" lang="en-US" sz="4000" spc="-1" strike="noStrike">
                <a:solidFill>
                  <a:srgbClr val="ffffb7"/>
                </a:solidFill>
                <a:latin typeface="Arial"/>
              </a:rPr>
              <a:t>Летчик, пустыня Сахара, сломался мотор самолета, необыкновенный малыш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990720" y="5436360"/>
            <a:ext cx="67816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Физическая карта Афри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Picture 3" descr="map2"/>
          <p:cNvPicPr/>
          <p:nvPr/>
        </p:nvPicPr>
        <p:blipFill>
          <a:blip r:embed="rId1"/>
          <a:srcRect l="1457" t="3033" r="6618" b="1767"/>
          <a:stretch/>
        </p:blipFill>
        <p:spPr>
          <a:xfrm>
            <a:off x="3087720" y="1905120"/>
            <a:ext cx="3506760" cy="41907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211640" y="2997360"/>
            <a:ext cx="19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САХА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3975120" y="2924280"/>
            <a:ext cx="1677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евственные лес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е тронутые человеко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klever_19[1]"/>
          <p:cNvPicPr/>
          <p:nvPr/>
        </p:nvPicPr>
        <p:blipFill>
          <a:blip r:embed="rId1"/>
          <a:stretch/>
        </p:blipFill>
        <p:spPr>
          <a:xfrm>
            <a:off x="4284720" y="1484280"/>
            <a:ext cx="4402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4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9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жунгл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епроходимые заросли в болотистых местах тропических стра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6" descr="0913bc04e7bc9b7f6de50e3800acc58b"/>
          <p:cNvPicPr/>
          <p:nvPr/>
        </p:nvPicPr>
        <p:blipFill>
          <a:blip r:embed="rId1"/>
          <a:stretch/>
        </p:blipFill>
        <p:spPr>
          <a:xfrm>
            <a:off x="3780000" y="2060640"/>
            <a:ext cx="513684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Толковат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567864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бъяснять что либ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6" descr="2419"/>
          <p:cNvPicPr/>
          <p:nvPr/>
        </p:nvPicPr>
        <p:blipFill>
          <a:blip r:embed="rId1"/>
          <a:stretch/>
        </p:blipFill>
        <p:spPr>
          <a:xfrm>
            <a:off x="3635280" y="2679840"/>
            <a:ext cx="550872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9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Бридж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зартная игра в кар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5" descr="z001"/>
          <p:cNvPicPr/>
          <p:nvPr/>
        </p:nvPicPr>
        <p:blipFill>
          <a:blip r:embed="rId1"/>
          <a:stretch/>
        </p:blipFill>
        <p:spPr>
          <a:xfrm>
            <a:off x="4284720" y="314172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7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Гольф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гр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 мя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6" descr="b_5764golf"/>
          <p:cNvPicPr/>
          <p:nvPr/>
        </p:nvPicPr>
        <p:blipFill>
          <a:blip r:embed="rId1"/>
          <a:stretch/>
        </p:blipFill>
        <p:spPr>
          <a:xfrm>
            <a:off x="6227640" y="549360"/>
            <a:ext cx="2718000" cy="3429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g117497"/>
          <p:cNvPicPr/>
          <p:nvPr/>
        </p:nvPicPr>
        <p:blipFill>
          <a:blip r:embed="rId2"/>
          <a:stretch/>
        </p:blipFill>
        <p:spPr>
          <a:xfrm>
            <a:off x="539640" y="3068640"/>
            <a:ext cx="2664000" cy="2130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golf1"/>
          <p:cNvPicPr/>
          <p:nvPr/>
        </p:nvPicPr>
        <p:blipFill>
          <a:blip r:embed="rId3"/>
          <a:stretch/>
        </p:blipFill>
        <p:spPr>
          <a:xfrm>
            <a:off x="3348000" y="4221000"/>
            <a:ext cx="304812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дравомыслящий челов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467028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человек, толково рассуждающ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4" descr="j0299125"/>
          <p:cNvPicPr/>
          <p:nvPr/>
        </p:nvPicPr>
        <p:blipFill>
          <a:blip r:embed="rId1"/>
          <a:stretch/>
        </p:blipFill>
        <p:spPr>
          <a:xfrm>
            <a:off x="5148360" y="2421000"/>
            <a:ext cx="3168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исунок 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7" name="Picture 3" descr="Шляпа?"/>
          <p:cNvPicPr/>
          <p:nvPr/>
        </p:nvPicPr>
        <p:blipFill>
          <a:blip r:embed="rId1"/>
          <a:stretch/>
        </p:blipFill>
        <p:spPr>
          <a:xfrm>
            <a:off x="1763640" y="1844640"/>
            <a:ext cx="5545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8" descr="франция на слайд"/>
          <p:cNvPicPr/>
          <p:nvPr/>
        </p:nvPicPr>
        <p:blipFill>
          <a:blip r:embed="rId1"/>
          <a:stretch/>
        </p:blipFill>
        <p:spPr>
          <a:xfrm>
            <a:off x="539640" y="260280"/>
            <a:ext cx="8066160" cy="627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Object 11"/>
          <p:cNvGraphicFramePr/>
          <p:nvPr/>
        </p:nvGraphicFramePr>
        <p:xfrm>
          <a:off x="6948360" y="620640"/>
          <a:ext cx="1644840" cy="460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48360" y="620640"/>
                    <a:ext cx="16448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9"/>
          <p:cNvSpPr/>
          <p:nvPr/>
        </p:nvSpPr>
        <p:spPr>
          <a:xfrm>
            <a:off x="7093080" y="2708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ОС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Object 12"/>
          <p:cNvGraphicFramePr/>
          <p:nvPr/>
        </p:nvGraphicFramePr>
        <p:xfrm>
          <a:off x="2987640" y="4092480"/>
          <a:ext cx="1655640" cy="1327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4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87640" y="4092480"/>
                    <a:ext cx="1655640" cy="13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10"/>
          <p:cNvSpPr/>
          <p:nvPr/>
        </p:nvSpPr>
        <p:spPr>
          <a:xfrm>
            <a:off x="3274920" y="443700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ФРАН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Ink 4"/>
          <p:cNvSpPr/>
          <p:nvPr/>
        </p:nvSpPr>
        <p:spPr>
          <a:xfrm>
            <a:off x="5224320" y="15350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4511" y="4266"/>
                </a:moveTo>
                <a:lnTo>
                  <a:pt x="14511" y="4266"/>
                </a:ln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исунок 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9" name="Picture 3" descr="Удав!"/>
          <p:cNvPicPr/>
          <p:nvPr/>
        </p:nvPicPr>
        <p:blipFill>
          <a:blip r:embed="rId1"/>
          <a:stretch/>
        </p:blipFill>
        <p:spPr>
          <a:xfrm>
            <a:off x="2529000" y="1932120"/>
            <a:ext cx="43434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Прочитай пословиц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Дружба – как стекло: разобьешь не склеиш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Не имей 100 рублей, а имей 100 друзей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11280" y="907560"/>
            <a:ext cx="80071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Arial Black"/>
              </a:rPr>
              <a:t>Не привыкайте к чудесам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Arial Black"/>
              </a:rPr>
              <a:t>Дивитесь им, дивитес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Arial Black"/>
              </a:rPr>
              <a:t>Не привыкайте к небес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Arial Black"/>
              </a:rPr>
              <a:t>Глазами к нам тянитес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Arial Black"/>
              </a:rPr>
              <a:t>Приглядывайтесь к облакам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Arial Black"/>
              </a:rPr>
              <a:t>Прислушивайтесь к птиц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Arial Black"/>
              </a:rPr>
              <a:t>Прикладывайтесь к родникам,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Arial Black"/>
              </a:rPr>
              <a:t>Ничто не повторить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95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4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85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75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905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8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Безымянный"/>
          <p:cNvPicPr/>
          <p:nvPr/>
        </p:nvPicPr>
        <p:blipFill>
          <a:blip r:embed="rId1"/>
          <a:stretch/>
        </p:blipFill>
        <p:spPr>
          <a:xfrm>
            <a:off x="1547640" y="404640"/>
            <a:ext cx="60962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одился во Франц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9 июня 1900 г в городе Лионе в семье дворянина родился мальчи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i-main-pic" descr="Картинка 5 из 1017"/>
          <p:cNvPicPr/>
          <p:nvPr/>
        </p:nvPicPr>
        <p:blipFill>
          <a:blip r:embed="rId1"/>
          <a:stretch/>
        </p:blipFill>
        <p:spPr>
          <a:xfrm>
            <a:off x="4788000" y="1557360"/>
            <a:ext cx="40464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25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 возрасте четырех лет потерял отц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Picture 6" descr="119722260704720500[1]"/>
          <p:cNvPicPr/>
          <p:nvPr/>
        </p:nvPicPr>
        <p:blipFill>
          <a:blip r:embed="rId1"/>
          <a:stretch/>
        </p:blipFill>
        <p:spPr>
          <a:xfrm>
            <a:off x="1763640" y="1989000"/>
            <a:ext cx="1811520" cy="2519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малой"/>
          <p:cNvPicPr/>
          <p:nvPr/>
        </p:nvPicPr>
        <p:blipFill>
          <a:blip r:embed="rId2"/>
          <a:stretch/>
        </p:blipFill>
        <p:spPr>
          <a:xfrm>
            <a:off x="5148360" y="3068640"/>
            <a:ext cx="19508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 семье его называли « Король Солнце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3929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детств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н был мечтателем, играл на скрипке, писал стих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торой спра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7" descr="вместе"/>
          <p:cNvPicPr/>
          <p:nvPr/>
        </p:nvPicPr>
        <p:blipFill>
          <a:blip r:embed="rId1"/>
          <a:stretch/>
        </p:blipFill>
        <p:spPr>
          <a:xfrm>
            <a:off x="3924360" y="2205000"/>
            <a:ext cx="5219640" cy="2963880"/>
          </a:xfrm>
          <a:prstGeom prst="rect">
            <a:avLst/>
          </a:prstGeom>
          <a:ln w="0">
            <a:noFill/>
          </a:ln>
        </p:spPr>
      </p:pic>
      <p:sp>
        <p:nvSpPr>
          <p:cNvPr id="116" name="Oval 12"/>
          <p:cNvSpPr/>
          <p:nvPr/>
        </p:nvSpPr>
        <p:spPr>
          <a:xfrm>
            <a:off x="6877080" y="2060640"/>
            <a:ext cx="1150920" cy="1944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Ink 9"/>
          <p:cNvSpPr/>
          <p:nvPr/>
        </p:nvSpPr>
        <p:spPr>
          <a:xfrm>
            <a:off x="4537080" y="5054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2601" y="14039"/>
                </a:moveTo>
                <a:lnTo>
                  <a:pt x="12601" y="1403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95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Французский писатель и профессиональный лётчик.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Picture 6" descr="200px-Exupery[1]"/>
          <p:cNvPicPr/>
          <p:nvPr/>
        </p:nvPicPr>
        <p:blipFill>
          <a:blip r:embed="rId1"/>
          <a:srcRect l="0" t="0" r="12047" b="0"/>
          <a:stretch/>
        </p:blipFill>
        <p:spPr>
          <a:xfrm>
            <a:off x="4643280" y="2060640"/>
            <a:ext cx="3198960" cy="424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p_f"/>
          <p:cNvPicPr/>
          <p:nvPr/>
        </p:nvPicPr>
        <p:blipFill>
          <a:blip r:embed="rId2"/>
          <a:stretch/>
        </p:blipFill>
        <p:spPr>
          <a:xfrm>
            <a:off x="1042920" y="2060640"/>
            <a:ext cx="32004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6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6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амая известная книга «Маленький принц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Picture 6" descr="300px-Le_petit_prince[1]"/>
          <p:cNvPicPr/>
          <p:nvPr/>
        </p:nvPicPr>
        <p:blipFill>
          <a:blip r:embed="rId1"/>
          <a:stretch/>
        </p:blipFill>
        <p:spPr>
          <a:xfrm>
            <a:off x="2556000" y="2060640"/>
            <a:ext cx="3456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1900 – 1944 гг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50920" y="1844280"/>
            <a:ext cx="7632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кзюпери погиб в 1944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 время Второй мировой войны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выполнении боевого зад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6" descr="091b5218b0230d7e335fdc0ec347849e"/>
          <p:cNvPicPr/>
          <p:nvPr/>
        </p:nvPicPr>
        <p:blipFill>
          <a:blip r:embed="rId1"/>
          <a:stretch/>
        </p:blipFill>
        <p:spPr>
          <a:xfrm>
            <a:off x="5519880" y="4005360"/>
            <a:ext cx="362412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38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"/>
              </a:rPr>
              <a:t>«Чего не могут взрослые?» </a:t>
            </a: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Антуан де Сент-Экзюпери</a:t>
            </a: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«Маленький принц»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195640" y="4724280"/>
            <a:ext cx="446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отрывки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 ча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5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4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7:40:20Z</dcterms:created>
  <dc:creator>Виктор</dc:creator>
  <dc:description/>
  <dc:language>en-US</dc:language>
  <cp:lastModifiedBy>е</cp:lastModifiedBy>
  <dcterms:modified xsi:type="dcterms:W3CDTF">2011-11-09T17:50:49Z</dcterms:modified>
  <cp:revision>14</cp:revision>
  <dc:subject/>
  <dc:title>Антуан де Сент-Экзюпери</dc:title>
</cp:coreProperties>
</file>