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91B-CC26-47B5-933F-4247A8C8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051-4378-4A69-8D05-DBC35879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EED-30CE-4E0A-B22D-10EBF23A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B5E-2799-4275-9879-4168D934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9632-5C70-4BAB-ABD7-3F3C2B69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BE5C-A809-422A-9458-8514F31B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B5B4-E7FE-4858-AC09-B1777615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3D29-4D06-4F78-87C9-F66DD75E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B10F-BEA5-40DE-908C-A48CABE7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F4D3-E084-42EE-98A5-041D5EC1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3D80-8EC9-44C4-BA19-2EFFE0D8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619-5C2B-4332-BE0E-7E4BA072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B832-B4B9-495C-9EB1-287131A2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93B4-F707-4FEA-B8B0-3FE954AE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826A-FB94-4564-9D21-2FCCBF29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9391-357F-459A-AF1D-FB327198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ACAE-6960-4E80-A036-EB9F5FC1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F89-7EAC-4F3D-8E42-8986C131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219-7BB0-4CDD-8991-43EA448C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F5F-8CF6-43D7-B006-9B462D70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10A-ED44-460E-BE7C-800D449E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E3A-5643-4BC7-8B39-3300D2F8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0AD-4771-4A07-9C45-E0328A4B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222-3A4B-4881-98C4-D92A5D0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800E-78CF-4C19-8E51-173349A3C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FB55-80C2-43CE-A14C-5BDCEA4E79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Не имей сто рублей, а имей сто друзей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Чтение – лучшее умение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Делу время – потехе час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учиться правильно произносить имя автора и заглавие произ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казать, что данное произведение относится к жанру – сказка. Выявить чер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йти ответ на главный вопрос , который звучит в теме нашего урока: «Чего не могут взрослые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20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"/>
              </a:rPr>
              <a:t>Ключевые слова: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Летчик, пустыня Сахара, сломался мотор самолета, необыкновенный малыш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90720" y="5436360"/>
            <a:ext cx="67816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ая карта Афр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map2"/>
          <p:cNvPicPr/>
          <p:nvPr/>
        </p:nvPicPr>
        <p:blipFill>
          <a:blip r:embed="rId1"/>
          <a:srcRect l="1457" t="3033" r="6618" b="1767"/>
          <a:stretch/>
        </p:blipFill>
        <p:spPr>
          <a:xfrm>
            <a:off x="3087720" y="1905120"/>
            <a:ext cx="3506760" cy="4190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211640" y="2997360"/>
            <a:ext cx="19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САХА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975120" y="2924280"/>
            <a:ext cx="167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вственные ле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 тронутые человек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klever_19[1]"/>
          <p:cNvPicPr/>
          <p:nvPr/>
        </p:nvPicPr>
        <p:blipFill>
          <a:blip r:embed="rId1"/>
          <a:stretch/>
        </p:blipFill>
        <p:spPr>
          <a:xfrm>
            <a:off x="4284720" y="1484280"/>
            <a:ext cx="4402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жунг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проходимые заросли в болотистых местах тропических ст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0913bc04e7bc9b7f6de50e3800acc58b"/>
          <p:cNvPicPr/>
          <p:nvPr/>
        </p:nvPicPr>
        <p:blipFill>
          <a:blip r:embed="rId1"/>
          <a:stretch/>
        </p:blipFill>
        <p:spPr>
          <a:xfrm>
            <a:off x="3780000" y="2060640"/>
            <a:ext cx="51368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олкова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56786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ъяснять что либ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2419"/>
          <p:cNvPicPr/>
          <p:nvPr/>
        </p:nvPicPr>
        <p:blipFill>
          <a:blip r:embed="rId1"/>
          <a:stretch/>
        </p:blipFill>
        <p:spPr>
          <a:xfrm>
            <a:off x="3635280" y="2679840"/>
            <a:ext cx="550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рид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зартная игра в кар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z001"/>
          <p:cNvPicPr/>
          <p:nvPr/>
        </p:nvPicPr>
        <p:blipFill>
          <a:blip r:embed="rId1"/>
          <a:stretch/>
        </p:blipFill>
        <p:spPr>
          <a:xfrm>
            <a:off x="4284720" y="314172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ольф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гр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мя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b_5764golf"/>
          <p:cNvPicPr/>
          <p:nvPr/>
        </p:nvPicPr>
        <p:blipFill>
          <a:blip r:embed="rId1"/>
          <a:stretch/>
        </p:blipFill>
        <p:spPr>
          <a:xfrm>
            <a:off x="6227640" y="549360"/>
            <a:ext cx="271800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g117497"/>
          <p:cNvPicPr/>
          <p:nvPr/>
        </p:nvPicPr>
        <p:blipFill>
          <a:blip r:embed="rId2"/>
          <a:stretch/>
        </p:blipFill>
        <p:spPr>
          <a:xfrm>
            <a:off x="539640" y="306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golf1"/>
          <p:cNvPicPr/>
          <p:nvPr/>
        </p:nvPicPr>
        <p:blipFill>
          <a:blip r:embed="rId3"/>
          <a:stretch/>
        </p:blipFill>
        <p:spPr>
          <a:xfrm>
            <a:off x="3348000" y="4221000"/>
            <a:ext cx="3048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дравомыслящий челов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46702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человек, толково рассуждающ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j0299125"/>
          <p:cNvPicPr/>
          <p:nvPr/>
        </p:nvPicPr>
        <p:blipFill>
          <a:blip r:embed="rId1"/>
          <a:stretch/>
        </p:blipFill>
        <p:spPr>
          <a:xfrm>
            <a:off x="5148360" y="2421000"/>
            <a:ext cx="31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исунок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Picture 3" descr="Шляпа?"/>
          <p:cNvPicPr/>
          <p:nvPr/>
        </p:nvPicPr>
        <p:blipFill>
          <a:blip r:embed="rId1"/>
          <a:stretch/>
        </p:blipFill>
        <p:spPr>
          <a:xfrm>
            <a:off x="1763640" y="1844640"/>
            <a:ext cx="5545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франция на слайд"/>
          <p:cNvPicPr/>
          <p:nvPr/>
        </p:nvPicPr>
        <p:blipFill>
          <a:blip r:embed="rId1"/>
          <a:stretch/>
        </p:blipFill>
        <p:spPr>
          <a:xfrm>
            <a:off x="539640" y="260280"/>
            <a:ext cx="8066160" cy="627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Object 11"/>
          <p:cNvGraphicFramePr/>
          <p:nvPr/>
        </p:nvGraphicFramePr>
        <p:xfrm>
          <a:off x="6948360" y="620640"/>
          <a:ext cx="16448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620640"/>
                    <a:ext cx="16448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9"/>
          <p:cNvSpPr/>
          <p:nvPr/>
        </p:nvSpPr>
        <p:spPr>
          <a:xfrm>
            <a:off x="709308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Object 12"/>
          <p:cNvGraphicFramePr/>
          <p:nvPr/>
        </p:nvGraphicFramePr>
        <p:xfrm>
          <a:off x="2987640" y="4092480"/>
          <a:ext cx="1655640" cy="132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092480"/>
                    <a:ext cx="165564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10"/>
          <p:cNvSpPr/>
          <p:nvPr/>
        </p:nvSpPr>
        <p:spPr>
          <a:xfrm>
            <a:off x="3274920" y="443700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4"/>
          <p:cNvSpPr/>
          <p:nvPr/>
        </p:nvSpPr>
        <p:spPr>
          <a:xfrm>
            <a:off x="5224320" y="1535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511" y="4266"/>
                </a:moveTo>
                <a:lnTo>
                  <a:pt x="14511" y="4266"/>
                </a:ln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исунок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Picture 3" descr="Удав!"/>
          <p:cNvPicPr/>
          <p:nvPr/>
        </p:nvPicPr>
        <p:blipFill>
          <a:blip r:embed="rId1"/>
          <a:stretch/>
        </p:blipFill>
        <p:spPr>
          <a:xfrm>
            <a:off x="2529000" y="1932120"/>
            <a:ext cx="4343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Прочитай пословиц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ружба – как стекло: разобьешь не склеиш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 имей 100 рублей, а имей 100 друз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007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Не привыкайте к чудесам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Дивитесь им, дивитес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Не привыкайте к небес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Глазами к нам тяните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Приглядывайтесь к облака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Прислушивайтесь к птиц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Прикладывайтесь к родникам,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Ничто не повтори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95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85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05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1547640" y="40464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одился во Фран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9 июня 1900 г в городе Лионе в семье дворянина родился мальч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i-main-pic" descr="Картинка 5 из 1017"/>
          <p:cNvPicPr/>
          <p:nvPr/>
        </p:nvPicPr>
        <p:blipFill>
          <a:blip r:embed="rId1"/>
          <a:stretch/>
        </p:blipFill>
        <p:spPr>
          <a:xfrm>
            <a:off x="4788000" y="1557360"/>
            <a:ext cx="4046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5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 возрасте четырех лет потерял отц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6" descr="119722260704720500[1]"/>
          <p:cNvPicPr/>
          <p:nvPr/>
        </p:nvPicPr>
        <p:blipFill>
          <a:blip r:embed="rId1"/>
          <a:stretch/>
        </p:blipFill>
        <p:spPr>
          <a:xfrm>
            <a:off x="1763640" y="1989000"/>
            <a:ext cx="1811520" cy="251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малой"/>
          <p:cNvPicPr/>
          <p:nvPr/>
        </p:nvPicPr>
        <p:blipFill>
          <a:blip r:embed="rId2"/>
          <a:stretch/>
        </p:blipFill>
        <p:spPr>
          <a:xfrm>
            <a:off x="5148360" y="3068640"/>
            <a:ext cx="1950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 семье его называли « Король Солнце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детств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 был мечтателем, играл на скрипке, писал стих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ой с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вместе"/>
          <p:cNvPicPr/>
          <p:nvPr/>
        </p:nvPicPr>
        <p:blipFill>
          <a:blip r:embed="rId1"/>
          <a:stretch/>
        </p:blipFill>
        <p:spPr>
          <a:xfrm>
            <a:off x="3924360" y="2205000"/>
            <a:ext cx="5219640" cy="2963880"/>
          </a:xfrm>
          <a:prstGeom prst="rect">
            <a:avLst/>
          </a:prstGeom>
          <a:ln w="0">
            <a:noFill/>
          </a:ln>
        </p:spPr>
      </p:pic>
      <p:sp>
        <p:nvSpPr>
          <p:cNvPr id="116" name="Oval 12"/>
          <p:cNvSpPr/>
          <p:nvPr/>
        </p:nvSpPr>
        <p:spPr>
          <a:xfrm>
            <a:off x="6877080" y="2060640"/>
            <a:ext cx="1150920" cy="194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9"/>
          <p:cNvSpPr/>
          <p:nvPr/>
        </p:nvSpPr>
        <p:spPr>
          <a:xfrm>
            <a:off x="4537080" y="505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01" y="14039"/>
                </a:moveTo>
                <a:lnTo>
                  <a:pt x="12601" y="1403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95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Французский писатель и профессиональный лётчик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6" descr="200px-Exupery[1]"/>
          <p:cNvPicPr/>
          <p:nvPr/>
        </p:nvPicPr>
        <p:blipFill>
          <a:blip r:embed="rId1"/>
          <a:srcRect l="0" t="0" r="12047" b="0"/>
          <a:stretch/>
        </p:blipFill>
        <p:spPr>
          <a:xfrm>
            <a:off x="4643280" y="2060640"/>
            <a:ext cx="3198960" cy="424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p_f"/>
          <p:cNvPicPr/>
          <p:nvPr/>
        </p:nvPicPr>
        <p:blipFill>
          <a:blip r:embed="rId2"/>
          <a:stretch/>
        </p:blipFill>
        <p:spPr>
          <a:xfrm>
            <a:off x="1042920" y="2060640"/>
            <a:ext cx="32004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6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6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амая известная книга «Маленький принц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6" descr="300px-Le_petit_prince[1]"/>
          <p:cNvPicPr/>
          <p:nvPr/>
        </p:nvPicPr>
        <p:blipFill>
          <a:blip r:embed="rId1"/>
          <a:stretch/>
        </p:blipFill>
        <p:spPr>
          <a:xfrm>
            <a:off x="2556000" y="2060640"/>
            <a:ext cx="345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1900 – 1944 гг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0920" y="1844280"/>
            <a:ext cx="7632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зюпери погиб в 1944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ремя Второй мировой войн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ыполнении боевого зад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091b5218b0230d7e335fdc0ec347849e"/>
          <p:cNvPicPr/>
          <p:nvPr/>
        </p:nvPicPr>
        <p:blipFill>
          <a:blip r:embed="rId1"/>
          <a:stretch/>
        </p:blipFill>
        <p:spPr>
          <a:xfrm>
            <a:off x="5519880" y="4005360"/>
            <a:ext cx="36241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«Чего не могут взрослые?»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Антуан де Сент-Экзюпери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«Маленький принц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95640" y="4724280"/>
            <a:ext cx="446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отрывк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 ч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4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7:40:20Z</dcterms:created>
  <dc:creator>Виктор</dc:creator>
  <dc:description/>
  <dc:language>en-US</dc:language>
  <cp:lastModifiedBy>е</cp:lastModifiedBy>
  <dcterms:modified xsi:type="dcterms:W3CDTF">2011-11-09T17:50:49Z</dcterms:modified>
  <cp:revision>14</cp:revision>
  <dc:subject/>
  <dc:title>Антуан де Сент-Экзюпери</dc:title>
</cp:coreProperties>
</file>