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21F0-7941-46E7-8E59-FA31903FD9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E862-8F44-42D6-8163-3FBD080775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5551-AB92-4EAD-A00F-DE66EFA84C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8989-793C-4E26-9D31-0E74177963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177E-CDD8-4FB4-877D-020602804C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DB62-C7C3-4241-9BB1-72E3D6A796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120D-B806-475A-AADF-B6E6455C2E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FB3D-2283-44FF-A95A-92C4C2B622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3996-2E52-44C9-BDBE-B92887D5A1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13AA-CC56-4B10-9224-90EBA944A0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B163-CF79-4246-B0EB-0D5C17379B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9D53-8EB6-4DE4-8CAF-CA0E875647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5325-CCEF-42FA-A571-0CF0A2791E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D403-1EE4-4596-9E8F-6F2785B8DD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06F3-5B9F-469E-8C55-B58919EAF8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099F-47CB-44E8-A46A-A158978351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8B59-F0B8-4E5A-8694-A1E05459D4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D7E-9453-4766-A59A-3DEC81B298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C601-54A7-47C0-9D0A-DE8D1465FC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CC3F-254F-4D29-A4FF-A1FA38A726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4E70-DFD8-4E5A-A7AB-1CDCF47872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9D29-A9EC-45CD-BE07-91B9684C9B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3741-5D1C-4758-A7F7-7EB75D7DAD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6F1E-95DE-4ED5-A4C5-522E1DB5E7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4811-E9E6-47F8-9169-7E2136BA64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2D0E-220C-49FA-89DB-D178205A63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5D7A-E9F1-4772-9BB3-2314F684BE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C629-27D5-4585-9584-032051344D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6516-F8A7-417D-9ADF-578C56D8E5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248-CC9F-45E2-90E8-76984ACC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ED1-2D4E-4227-B89E-89AE65B5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3D3-0111-4AC5-B90C-1F217DB7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064-4874-4397-8673-B88BFDCE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01CC-A138-4596-9FFD-53D6CC48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2D39-CEC5-4444-ABBD-BC2BA68B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6B55-3E1B-4552-A29F-495ADB66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B53C-6B45-4018-920F-B49EB26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8774-652A-451B-8A2B-909AB6C4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0159-1FDF-4EEF-9586-4966A831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0751-1E24-4C77-8033-AF5D96DF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526-BFC2-4191-A0A3-A60CF876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996E-0552-47AA-BD87-3F9CD6E2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8961-528D-40B3-9F8C-B84F7FC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E783-80F9-4ACD-9954-71F542D2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9BFE-D3AD-405A-9131-785B8126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25E9-6A36-4F5C-94DE-4C741FA7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02BE-2BE9-41AF-8BF4-49F5AC64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34B5-80C0-47B1-B3F6-931E56F0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2C1D1-4CE5-4746-99F6-BF80EFB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32D7-683F-4790-9095-4DCA9C86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C66E-28CF-40E3-B93D-2728FA4E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C3E-8FBA-4CA2-AD2C-2D37FEC0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0511D-A376-4CD1-A66C-779BD2EE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7FEE-EBD4-4A16-B776-C794C01A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EF24-0F3F-4858-B049-1B20E5E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5B40-5F0F-4DCA-B515-CF8630EB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176F-7687-4582-B046-FE3A21D6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C0EB-F5A7-45F1-BAAC-52BA6BE5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6BC5-DBB9-45DB-96FF-10E1D8CC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275FA-B113-46F1-AB46-7400C9FC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D0C6-7FE1-430C-9EF8-E389CE51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79A38-A976-4A3C-9C95-5331AAF3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D11-89CD-423C-AE66-4BDA70E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B6D4-10C1-441B-9B67-0DBD587C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A030-063B-493C-A7F4-93C2775B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6FFD-5EFC-427A-B0E1-DC1773C8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7DAFA-CEBE-44CF-8116-B363AB1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1ADE-5B12-4234-93DF-B8E7A1EB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F898-8CD8-4A2E-86F7-CB074D5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A37E-C4C5-40F2-8D3D-BAB75E73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5384-A7A4-4B48-9A4D-AF10D161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B7F4-1799-44DB-B1BA-62326EF9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1AA-5D21-482A-ACE6-C7262440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0B6-B486-4373-9327-C2986A34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86A-F030-434C-9819-253BD18F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B31-4FFE-4509-8A6D-58E71F46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E17-808B-4C54-8973-68B55BF8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D143-C09D-4205-9D44-00AC16C586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B7AB-AB64-4292-AC4B-488FF9CDB5C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F70E-3AC8-4145-B421-7F8B1AD2A2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BF6D-DDE7-4996-8091-F1CC0D6523D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chr.ru/documents/doc/2440800/2440800-001.htm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hyperlink" Target="http://echr.ru/documents/doc/10003000/10003000-003.htm#463" TargetMode="Externa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Права человека в международных документа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565360"/>
            <a:ext cx="5545080" cy="357048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4076640"/>
            <a:ext cx="4686120" cy="25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Анастасии Потапенко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Г1САД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22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43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44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6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47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6443640" y="474084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учающиеся группы Г1СА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logocoe64"/>
          <p:cNvPicPr/>
          <p:nvPr/>
        </p:nvPicPr>
        <p:blipFill>
          <a:blip r:embed="rId2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68360" y="83664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ого Суда по правам человека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Entrance of the ECHR building"/>
          <p:cNvPicPr/>
          <p:nvPr/>
        </p:nvPicPr>
        <p:blipFill>
          <a:blip r:embed="rId2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77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3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ий Суд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татьей 46 (ч. 3)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68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69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2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4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5" name="_s1028"/>
            <p:cNvCxnSpPr>
              <a:stCxn id="266" idx="0"/>
              <a:endCxn id="267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1029"/>
            <p:cNvCxnSpPr>
              <a:stCxn id="269" idx="0"/>
              <a:endCxn id="267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7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5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76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77" name="_s2052"/>
            <p:cNvCxnSpPr>
              <a:stCxn id="278" idx="0"/>
              <a:endCxn id="279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0" name="_s2053"/>
            <p:cNvCxnSpPr>
              <a:stCxn id="281" idx="0"/>
              <a:endCxn id="279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2" name="_s2054"/>
            <p:cNvCxnSpPr>
              <a:stCxn id="283" idx="0"/>
              <a:endCxn id="279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2055"/>
            <p:cNvCxnSpPr>
              <a:stCxn id="285" idx="0"/>
              <a:endCxn id="279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9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89" name="_s3076"/>
            <p:cNvCxnSpPr>
              <a:stCxn id="290" idx="0"/>
              <a:endCxn id="291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2" name="_s3077"/>
            <p:cNvCxnSpPr>
              <a:stCxn id="293" idx="1"/>
              <a:endCxn id="294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5" name="_s3078"/>
            <p:cNvCxnSpPr>
              <a:stCxn id="294" idx="0"/>
              <a:endCxn id="296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7" name="_s3079"/>
            <p:cNvCxnSpPr>
              <a:stCxn id="291" idx="0"/>
              <a:endCxn id="298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9" name="_s3080"/>
            <p:cNvCxnSpPr>
              <a:stCxn id="296" idx="0"/>
              <a:endCxn id="298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8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1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2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3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4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39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DNA7 X86</cp:lastModifiedBy>
  <dcterms:modified xsi:type="dcterms:W3CDTF">2011-12-07T17:50:13Z</dcterms:modified>
  <cp:revision>17</cp:revision>
  <dc:subject/>
  <dc:title>Международные документы по правам человека</dc:title>
</cp:coreProperties>
</file>