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570D-F03A-443C-B3A4-3203CB366F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7D8D-AD81-40FF-8C04-DFF0B992DD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B6E-EA77-4A08-81DC-8607D67951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CF9F-4384-46C6-A1C1-B676F6BBCC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3503-DAE0-40B1-97E6-68F089EA3C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2452-64FC-4A77-B886-709B483102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3A61-B8CD-4EC2-B28C-A5E2AD5249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A13-446A-47E9-A8CE-0A16C247B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8F50-EBAD-4CCA-91B7-8CD679C369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A77-704E-410E-90B8-C7791DD65A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E51C-A780-46C6-8464-A44AD59B69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C2A-8BDE-4EE4-8092-6610B4C680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BA5-2445-4D79-BDCD-E058882191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3A85-E8C4-4587-AB08-1F91D0DF04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2FE-F30A-4CB8-BA8E-29729C5A63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F48C-47F5-4D1A-A416-D517AE6F62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605-513E-4F34-99DE-04A4DD9CF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B27-4ACF-4BBA-A90A-82F3F0BA0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2D8-9FD6-4CF3-9887-9A3BE03005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EC1F-4732-4F83-8F62-A1DBADF531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33E-A446-496E-B445-2033538830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5143-1A02-47C3-ACF6-9D5280E60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5FC9-7709-4528-887E-C021F60749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2EE5-8899-4EFF-A6D4-7B6ECA7550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981-FF2C-4A93-95AE-69FC4DD071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4813-E7F8-4EEC-9352-C1CA66DF1B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2432-F468-46E0-8AFF-771C002B41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6490-0B8E-45C9-B49C-3D4E3AABDB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CCF-5B05-42C8-B596-C122838996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02A-A880-4035-AE32-7112E3D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9B3-FB36-4AF4-B1B2-DC92946A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6BB-53BB-43E5-9538-2930B816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BAC-B0F3-45B5-91FF-BB11004F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F0F0-60C1-458D-9565-7F671F18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2CB8-FD09-4F42-A484-C5ADB1A6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5616-7FA2-4DF3-A105-E6AE149C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4F91-0ACA-4D9E-AA03-C8940EC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A6A-B8AD-4A73-85DE-D66B88B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2B7-4CFE-4095-A67C-3120F3C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893-EB62-4C00-ABE9-B0D6BF9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481-E0AC-4711-813C-8B31AD8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9DE-9F4E-424E-BB8C-F72BFD3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BFB-BD5A-4DEE-A08A-E44BFD6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A46-1C7D-4F74-8BB3-01DCD4B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7D62-AE3E-4565-8051-17A8DF77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634D-B361-4C18-9187-D31E9DEA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EDCF-AEC6-4FDF-AAEA-D3F04147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A458-49BB-47B2-875E-DD97C80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25D7-9A8F-40EB-90DF-3E8B89C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7703-13F8-4CA3-ACF2-82AA7F6A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997C-EA96-4960-B69B-CA3D0CC4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E82-2E69-4123-BA11-93B94565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24AB-BEAE-480F-AE1F-A864227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3283-3615-4B32-B028-59EDDE8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9E83-FB42-46ED-AD1B-E09113F9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F276-8BED-4714-9369-BD492E3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01EE-F97A-4AA2-92ED-D8ADC999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CB8A-EB9A-47B5-BA65-5CDB3E54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FAF0-D20E-434C-8BA6-2C2114FD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1E9D-703A-4DA7-9E14-2B8C58C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76D7-B42E-4425-AB22-5D88828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545F-7332-4253-A16D-3A880D73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2D4-46BF-4290-A2EE-07195BF0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F2E9-92A0-458A-993C-46F4007D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C1F1-662D-4699-8F6C-F0487BA0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4E60-4602-4C71-AB6B-9C1118CA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C429-C154-4455-84FE-B134132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2FF6-2DF9-4DAD-B337-80DF8643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DF15-8274-4171-A363-999698A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404E-D608-4168-92DE-A1AD2AA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C4045-4FCF-40F2-8DB7-8476DF02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02E5-82AF-4CD3-B0BF-77933051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67D-C238-41D4-A2F9-E85763A1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00C-BC6A-4641-9A95-861DD1D7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93A-5983-4F99-A288-C8F118C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EDF-CBB8-41B9-9968-5D852A6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3C9-B1AA-4501-BF6C-E738D13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3867-1B27-42E2-BDA2-10ED50662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F817-56EE-4C46-82C9-A2A2EBC4CB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635-9561-4E41-A622-DFAB629782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26E6-8B3F-490D-ABCC-72F2558C52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hr.ru/documents/doc/2440800/2440800-001.htm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hyperlink" Target="http://echr.ru/documents/doc/10003000/10003000-003.htm#463" TargetMode="Externa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Права человека в международных документа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565360"/>
            <a:ext cx="5545080" cy="357048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4076640"/>
            <a:ext cx="4686120" cy="25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Анастасии Потапенко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Г1САД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22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43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44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47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6443640" y="474084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учающиеся группы Г1СА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logocoe64"/>
          <p:cNvPicPr/>
          <p:nvPr/>
        </p:nvPicPr>
        <p:blipFill>
          <a:blip r:embed="rId2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68360" y="836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ого Суда по правам человека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Entrance of the ECHR building"/>
          <p:cNvPicPr/>
          <p:nvPr/>
        </p:nvPicPr>
        <p:blipFill>
          <a:blip r:embed="rId2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6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77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ий Суд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татьей 46 (ч. 3)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68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69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4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5" name="_s1028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1029"/>
            <p:cNvCxnSpPr>
              <a:stCxn id="269" idx="0"/>
              <a:endCxn id="267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7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5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6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77" name="_s2052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2053"/>
            <p:cNvCxnSpPr>
              <a:stCxn id="281" idx="0"/>
              <a:endCxn id="279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2054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2055"/>
            <p:cNvCxnSpPr>
              <a:stCxn id="285" idx="0"/>
              <a:endCxn id="279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9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89" name="_s3076"/>
            <p:cNvCxnSpPr>
              <a:stCxn id="290" idx="0"/>
              <a:endCxn id="291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3077"/>
            <p:cNvCxnSpPr>
              <a:stCxn id="293" idx="1"/>
              <a:endCxn id="294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5" name="_s3078"/>
            <p:cNvCxnSpPr>
              <a:stCxn id="294" idx="0"/>
              <a:endCxn id="296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79"/>
            <p:cNvCxnSpPr>
              <a:stCxn id="291" idx="0"/>
              <a:endCxn id="298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80"/>
            <p:cNvCxnSpPr>
              <a:stCxn id="296" idx="0"/>
              <a:endCxn id="298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1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2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3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4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3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DNA7 X86</cp:lastModifiedBy>
  <dcterms:modified xsi:type="dcterms:W3CDTF">2011-12-07T17:50:13Z</dcterms:modified>
  <cp:revision>17</cp:revision>
  <dc:subject/>
  <dc:title>Международные документы по правам человека</dc:title>
</cp:coreProperties>
</file>