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5A3-E441-47D2-9F56-2696A470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02ED-2611-4E2A-AF8B-48B44A76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B9F-1A6D-4A59-9A9C-5CD45315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2EFE-764C-4557-B036-E77D9284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81D-EEBC-4144-892F-B9CC4144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D00-0839-4EE8-A2FB-970812D0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F21-13D0-4754-8A0C-DACB2D3C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2DD-444C-4249-9057-329EE1CB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3D9-6C64-4838-97ED-6626123B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019-8117-40F2-A768-78F76998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DCC-7EBC-4394-8CC4-8F3D3DE0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D89-E490-42F5-909F-85744B78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A86B-CD59-4B88-92FD-BAC8BA7029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стория одного романс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6"/>
          <p:cNvGrpSpPr/>
          <p:nvPr/>
        </p:nvGrpSpPr>
        <p:grpSpPr>
          <a:xfrm>
            <a:off x="3348000" y="2133720"/>
            <a:ext cx="2303640" cy="3816360"/>
            <a:chOff x="3348000" y="2133720"/>
            <a:chExt cx="2303640" cy="3816360"/>
          </a:xfrm>
        </p:grpSpPr>
        <p:sp>
          <p:nvSpPr>
            <p:cNvPr id="43" name="AutoShape 5"/>
            <p:cNvSpPr/>
            <p:nvPr/>
          </p:nvSpPr>
          <p:spPr>
            <a:xfrm>
              <a:off x="3348000" y="2133720"/>
              <a:ext cx="230364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7"/>
            <p:cNvSpPr/>
            <p:nvPr/>
          </p:nvSpPr>
          <p:spPr>
            <a:xfrm>
              <a:off x="3440160" y="5626080"/>
              <a:ext cx="2068560" cy="32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3362400" y="2679840"/>
              <a:ext cx="901800" cy="133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4237200" y="2762280"/>
              <a:ext cx="853920" cy="126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3929040" y="3611520"/>
              <a:ext cx="531720" cy="18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4081320" y="3605040"/>
              <a:ext cx="747720" cy="189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4052880" y="5541840"/>
              <a:ext cx="15084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4665600" y="5541840"/>
              <a:ext cx="1890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3511440" y="2873520"/>
              <a:ext cx="179640" cy="6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3678120" y="2832120"/>
              <a:ext cx="6192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4511520" y="3645000"/>
              <a:ext cx="317520" cy="44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4013280" y="4471920"/>
              <a:ext cx="152280" cy="47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4660920" y="4533840"/>
              <a:ext cx="71280" cy="39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4694400" y="4267080"/>
              <a:ext cx="50760" cy="16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3932280" y="3913200"/>
              <a:ext cx="15840" cy="9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4237200" y="4083120"/>
              <a:ext cx="152280" cy="50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4317840" y="3843360"/>
              <a:ext cx="198720" cy="9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3913200" y="2657520"/>
              <a:ext cx="716040" cy="125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935600" y="2847960"/>
              <a:ext cx="190440" cy="34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3506760" y="2940120"/>
              <a:ext cx="238320" cy="20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4162320" y="3408480"/>
              <a:ext cx="2880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4157640" y="3208320"/>
              <a:ext cx="270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4210200" y="3009960"/>
              <a:ext cx="2844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4251240" y="2708280"/>
              <a:ext cx="254160" cy="19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3995640" y="5464080"/>
              <a:ext cx="453960" cy="16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4546440" y="5487840"/>
              <a:ext cx="354240" cy="13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4168800" y="2135160"/>
              <a:ext cx="633240" cy="61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4965840" y="2527200"/>
              <a:ext cx="377640" cy="44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5267160" y="2662200"/>
              <a:ext cx="3348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4570560" y="2664000"/>
              <a:ext cx="363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4309920" y="2522520"/>
              <a:ext cx="6048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7"/>
            <p:cNvSpPr/>
            <p:nvPr/>
          </p:nvSpPr>
          <p:spPr>
            <a:xfrm>
              <a:off x="3589200" y="2994120"/>
              <a:ext cx="42732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8"/>
            <p:cNvSpPr/>
            <p:nvPr/>
          </p:nvSpPr>
          <p:spPr>
            <a:xfrm>
              <a:off x="3862440" y="3057480"/>
              <a:ext cx="42840" cy="13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9"/>
            <p:cNvSpPr/>
            <p:nvPr/>
          </p:nvSpPr>
          <p:spPr>
            <a:xfrm>
              <a:off x="5278320" y="2611440"/>
              <a:ext cx="371520" cy="16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0"/>
            <p:cNvSpPr/>
            <p:nvPr/>
          </p:nvSpPr>
          <p:spPr>
            <a:xfrm>
              <a:off x="4416480" y="2610000"/>
              <a:ext cx="622080" cy="27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1"/>
            <p:cNvSpPr/>
            <p:nvPr/>
          </p:nvSpPr>
          <p:spPr>
            <a:xfrm>
              <a:off x="4454640" y="2854440"/>
              <a:ext cx="2016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5530680" y="2670120"/>
              <a:ext cx="7956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3"/>
            <p:cNvSpPr/>
            <p:nvPr/>
          </p:nvSpPr>
          <p:spPr>
            <a:xfrm>
              <a:off x="4416480" y="2610000"/>
              <a:ext cx="61920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4"/>
            <p:cNvSpPr/>
            <p:nvPr/>
          </p:nvSpPr>
          <p:spPr>
            <a:xfrm>
              <a:off x="4003560" y="2293920"/>
              <a:ext cx="1170000" cy="85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it22-1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http://milestone.roskultura.ru/dataphotos/040601_1m.jpg"/>
          <p:cNvPicPr/>
          <p:nvPr/>
        </p:nvPicPr>
        <p:blipFill>
          <a:blip r:embed="rId2"/>
          <a:stretch/>
        </p:blipFill>
        <p:spPr>
          <a:xfrm>
            <a:off x="214200" y="214200"/>
            <a:ext cx="2786040" cy="35006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http://milestone.roskultura.ru/dataphotos/040601_112m.jpg"/>
          <p:cNvPicPr/>
          <p:nvPr/>
        </p:nvPicPr>
        <p:blipFill>
          <a:blip r:embed="rId3"/>
          <a:stretch/>
        </p:blipFill>
        <p:spPr>
          <a:xfrm>
            <a:off x="5929200" y="4286160"/>
            <a:ext cx="3043440" cy="24256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3214800" y="64332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Глинка Михаил Ив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4071960" y="15001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ак пишет В. В Стасов, в русской музыке Глинка имеет такое же значение,  как Пушкин в русской поэзии: « …оба создали новый русский язык - один в музыке, другой в поэз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Дельвиг Антон Антонович"/>
          <p:cNvPicPr/>
          <p:nvPr/>
        </p:nvPicPr>
        <p:blipFill>
          <a:blip r:embed="rId2"/>
          <a:stretch/>
        </p:blipFill>
        <p:spPr>
          <a:xfrm>
            <a:off x="500040" y="500040"/>
            <a:ext cx="4286160" cy="54291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4929120" y="428760"/>
            <a:ext cx="42148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ЕЛЬВИГ Антон Антонович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Барон, поэт, издате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История. Петр Вяземский"/>
          <p:cNvPicPr/>
          <p:nvPr/>
        </p:nvPicPr>
        <p:blipFill>
          <a:blip r:embed="rId2"/>
          <a:stretch/>
        </p:blipFill>
        <p:spPr>
          <a:xfrm>
            <a:off x="428760" y="357120"/>
            <a:ext cx="2357280" cy="3000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4286160" y="650880"/>
            <a:ext cx="40719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тр Вязем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яземский Петр Андреевич, (12 (23) июля 1792, Москв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10) 22 ноября 1878, Баден-Баден), князь, русский поэт, друг и литературный единомышленник А. С. Пушк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МП\слайды\lit01-10[1].jpg"/>
          <p:cNvPicPr/>
          <p:nvPr/>
        </p:nvPicPr>
        <p:blipFill>
          <a:blip r:embed="rId2"/>
          <a:stretch/>
        </p:blipFill>
        <p:spPr>
          <a:xfrm>
            <a:off x="285840" y="357120"/>
            <a:ext cx="3571920" cy="53704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2"/>
          <p:cNvSpPr/>
          <p:nvPr/>
        </p:nvSpPr>
        <p:spPr>
          <a:xfrm>
            <a:off x="4214880" y="7142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. Кипрен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ртрет В.А. Жуковского. 18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:\МП\слайды\lit01-16[1].jpg"/>
          <p:cNvPicPr/>
          <p:nvPr/>
        </p:nvPicPr>
        <p:blipFill>
          <a:blip r:embed="rId2"/>
          <a:stretch/>
        </p:blipFill>
        <p:spPr>
          <a:xfrm>
            <a:off x="357120" y="428760"/>
            <a:ext cx="3643560" cy="54784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"/>
          <p:cNvSpPr/>
          <p:nvPr/>
        </p:nvSpPr>
        <p:spPr>
          <a:xfrm>
            <a:off x="4429080" y="3571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. Кипре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ртрет А.А. Олениной. 182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http://izoselfportrait.narod.ru/picture592.jpg"/>
          <p:cNvPicPr/>
          <p:nvPr/>
        </p:nvPicPr>
        <p:blipFill>
          <a:blip r:embed="rId2"/>
          <a:stretch/>
        </p:blipFill>
        <p:spPr>
          <a:xfrm>
            <a:off x="214200" y="214200"/>
            <a:ext cx="4857840" cy="650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5214960" y="357120"/>
            <a:ext cx="3500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ЖОРЛЖ ДАУ (автопортр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глийский художник, ключевая фигура англо-русских художественных связей эпохи романтизм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:\МП\слайды\lit21-01[1]грибоедов.jpg"/>
          <p:cNvPicPr/>
          <p:nvPr/>
        </p:nvPicPr>
        <p:blipFill>
          <a:blip r:embed="rId2"/>
          <a:stretch/>
        </p:blipFill>
        <p:spPr>
          <a:xfrm>
            <a:off x="357120" y="357120"/>
            <a:ext cx="3500640" cy="4714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11640" y="47628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В.А. Жуко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F:\МП\слайды\lit01-06[1].jpg"/>
          <p:cNvPicPr/>
          <p:nvPr/>
        </p:nvPicPr>
        <p:blipFill>
          <a:blip r:embed="rId1"/>
          <a:stretch/>
        </p:blipFill>
        <p:spPr>
          <a:xfrm>
            <a:off x="5143680" y="785880"/>
            <a:ext cx="3390840" cy="5099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F:\МП\слайды\lit01-05[1].jpg"/>
          <p:cNvPicPr/>
          <p:nvPr/>
        </p:nvPicPr>
        <p:blipFill>
          <a:blip r:embed="rId2"/>
          <a:stretch/>
        </p:blipFill>
        <p:spPr>
          <a:xfrm>
            <a:off x="428760" y="785880"/>
            <a:ext cx="3286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1_6330_68539a8c_X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614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f899e233-72c9-47b2-a0e7-acd40017663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169494235_f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Other_000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petersbur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lit23-1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23_big[1]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7:56:16Z</dcterms:created>
  <dc:creator>Середина Маргарита Петровна</dc:creator>
  <dc:description/>
  <dc:language>en-US</dc:language>
  <cp:lastModifiedBy>Середина Маргарита Петровна</cp:lastModifiedBy>
  <dcterms:modified xsi:type="dcterms:W3CDTF">2008-09-12T17:33:53Z</dcterms:modified>
  <cp:revision>18</cp:revision>
  <dc:subject/>
  <dc:title>История одного романса. </dc:title>
</cp:coreProperties>
</file>