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1.jpeg" ContentType="image/jpeg"/>
  <Override PartName="/ppt/media/image2.png" ContentType="image/png"/>
  <Override PartName="/ppt/media/image3.jpeg" ContentType="image/jpeg"/>
  <Override PartName="/ppt/media/image4.gif" ContentType="image/gif"/>
  <Override PartName="/ppt/media/image5.gif" ContentType="image/gif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DBD-29C4-4AD9-A6ED-D837D33C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0E0-B220-4968-A465-1E64494A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C6C-5B28-44B5-914E-1A12A1C7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C8FD-75D0-484F-B85B-939AA750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609E-7383-4BB8-BF92-362F6E8E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BF75-E245-4A22-8960-CFF46E16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702A-6A4B-4D33-8C9A-F7664200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39BE-DD3C-4989-B65F-750DA34D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8407-5FD1-45D2-8874-6D97AA6C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1268-E255-456F-B2EB-6D4B3028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4590-5948-4F9C-88E2-EB82B742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518C-D6FE-4B3C-8195-E4813B13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D838-9568-4D86-8AE8-1588CB4C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9141-8107-46C5-9F7B-6A42BC6A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8E92-ADEB-4F94-84EA-9DBDFACB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FF4B-2591-4BFD-B3D8-B533438D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8DB8-7958-4352-A4AF-4D975897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D9A3-3371-450A-BC77-420B4636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17C-4375-4F24-BFDF-F609B4B8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EF42-9B53-4595-9577-3ECD2192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82AD-3B5D-43DA-B60D-47ACB2A4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B326-C565-44F3-8990-BECA18A5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6DCF-93FA-4AD4-A5FC-2CD7415E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0545-AED7-4ED1-AFEB-EE90EE80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ABC5-05EA-4239-931F-F6CF8C500A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4D89-D58F-40E1-A1A7-608DFA63D7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Рыба с прозрачной головой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newsflash/>
    <p:sndAc>
      <p:stSnd>
        <p:snd r:embed="rId1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держ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Загад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Тайна рыб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cc"/>
                </a:solidFill>
                <a:latin typeface="Arial"/>
              </a:rPr>
              <a:t>Картин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3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айна рыб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убчатые глаза и прозрачная голова рыбы смущали умы учёных начиная с 1939 года, когда макропинны были впервые выловлены. Процесс исследования этих рыб усложнялся ещё и тем, что после попадани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Macropinna microstoma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 сети разрывался «пузырь», предохраняющий структуры головы от воздействия внешней сре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нее биологи установили, что глаза рыбы очень хорошо видят даже в почти полной тьме, то есть успешно собирают свет. А обитают эти представительницы семейств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Opisthoproctida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а глубине 600-800 метров у берегов Центральной Калифорн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нако учёных удивлял тот факт, что глаза рыбы смотрят только в одну сторону, а именно наверх, к поверхности океана, где по силуэту можно обнаружить потенциальную жертву. Учитывая, что у макропинн очень ограничено поле зрения, биологи никак не могли понять, как рыбины умудряются захватить добычу своим маленьким р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7812000" y="5877000"/>
            <a:ext cx="1187280" cy="865080"/>
            <a:chOff x="7812000" y="5877000"/>
            <a:chExt cx="1187280" cy="865080"/>
          </a:xfrm>
        </p:grpSpPr>
        <p:sp>
          <p:nvSpPr>
            <p:cNvPr id="106" name=""/>
            <p:cNvSpPr/>
            <p:nvPr/>
          </p:nvSpPr>
          <p:spPr>
            <a:xfrm>
              <a:off x="7812000" y="5877000"/>
              <a:ext cx="1187280" cy="865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42120" y="6237360"/>
              <a:ext cx="658800" cy="431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8142120" y="5950080"/>
              <a:ext cx="330120" cy="287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72240" y="5950080"/>
              <a:ext cx="328680" cy="287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300000">
    <p:newsflash/>
    <p:sndAc>
      <p:stSnd>
        <p:snd r:embed="rId2" name="drumroll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ть голова, да нет волос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ть глаза, да нет бровей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ть крылья, да не лета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48360" y="3573360"/>
            <a:ext cx="2227320" cy="16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ыб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812000" y="5877000"/>
            <a:ext cx="1187280" cy="865080"/>
            <a:chOff x="7812000" y="5877000"/>
            <a:chExt cx="1187280" cy="865080"/>
          </a:xfrm>
        </p:grpSpPr>
        <p:sp>
          <p:nvSpPr>
            <p:cNvPr id="114" name="">
              <a:hlinkClick r:id="rId1" action="ppaction://hlinksldjump"/>
            </p:cNvPr>
            <p:cNvSpPr/>
            <p:nvPr/>
          </p:nvSpPr>
          <p:spPr>
            <a:xfrm>
              <a:off x="7812000" y="5877000"/>
              <a:ext cx="1187280" cy="865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>
              <a:hlinkClick r:id="rId2" action="ppaction://hlinksldjump"/>
            </p:cNvPr>
            <p:cNvSpPr/>
            <p:nvPr/>
          </p:nvSpPr>
          <p:spPr>
            <a:xfrm>
              <a:off x="8142120" y="6237360"/>
              <a:ext cx="658800" cy="431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8142120" y="5950080"/>
              <a:ext cx="330120" cy="287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72240" y="5950080"/>
              <a:ext cx="328680" cy="287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7812000" y="5877000"/>
            <a:ext cx="1187280" cy="865080"/>
            <a:chOff x="7812000" y="5877000"/>
            <a:chExt cx="1187280" cy="865080"/>
          </a:xfrm>
        </p:grpSpPr>
        <p:sp>
          <p:nvSpPr>
            <p:cNvPr id="119" name=""/>
            <p:cNvSpPr/>
            <p:nvPr/>
          </p:nvSpPr>
          <p:spPr>
            <a:xfrm>
              <a:off x="7812000" y="5877000"/>
              <a:ext cx="1187280" cy="865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42120" y="6237360"/>
              <a:ext cx="658800" cy="431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8142120" y="5950080"/>
              <a:ext cx="330120" cy="287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472240" y="5950080"/>
              <a:ext cx="328680" cy="287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10000">
    <p:newsflash/>
    <p:sndAc>
      <p:stSnd>
        <p:snd r:embed="rId3" name="drumroll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 rot="19524600">
            <a:off x="1186920" y="4581000"/>
            <a:ext cx="571680" cy="61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940360" cy="2475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88000" y="3933720"/>
            <a:ext cx="2771640" cy="2772000"/>
          </a:xfrm>
          <a:prstGeom prst="rect">
            <a:avLst/>
          </a:prstGeom>
          <a:ln w="9360">
            <a:solidFill>
              <a:srgbClr val="1fe13f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812520" cy="579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58920" y="3860640"/>
            <a:ext cx="2201760" cy="1436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6659640" y="404640"/>
            <a:ext cx="2109600" cy="1914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5" descr="висят"/>
          <p:cNvPicPr/>
          <p:nvPr/>
        </p:nvPicPr>
        <p:blipFill>
          <a:blip r:embed="rId7"/>
          <a:stretch/>
        </p:blipFill>
        <p:spPr>
          <a:xfrm>
            <a:off x="4572000" y="3429000"/>
            <a:ext cx="2743200" cy="12952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newsflash/>
    <p:sndAc>
      <p:stSnd>
        <p:snd r:embed="rId8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5:30:47Z</dcterms:created>
  <dc:creator>User</dc:creator>
  <dc:description/>
  <dc:language>en-US</dc:language>
  <cp:lastModifiedBy>User</cp:lastModifiedBy>
  <dcterms:modified xsi:type="dcterms:W3CDTF">2011-12-08T16:46:37Z</dcterms:modified>
  <cp:revision>3</cp:revision>
  <dc:subject/>
  <dc:title>Рыба с прозрачной головой</dc:title>
</cp:coreProperties>
</file>