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468-E5A3-49B1-B00C-0128AD45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528-01DE-4D82-B4F0-DABFB7E2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60C-3493-4AAE-BC91-5B7D923B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B02-D0DF-4BC0-AD73-20105DFD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8C20-D516-4960-B52F-CCE7BB1A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93A5-6910-44B2-8C99-533EA0D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22C8-2341-4274-885C-2CB78C24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09E-5421-48E1-B948-CDBEE07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D6AB-7EDA-447C-9C93-8984330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AC9E-B2FB-457B-8BF3-339278E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FD66-D264-47FC-9951-70F85A0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129-2AA4-422F-A735-FE5873D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878-7482-4C1A-8B5A-CADF66B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72DF-A352-466C-B5E6-5AFDE65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C897-B271-4BF7-98B7-F029BB63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914-44A9-46F0-84F7-5228F1C3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CA0-54A7-4124-8F6A-5F9FA848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EC4-F4F7-4D67-A7BE-FA98C7D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E04-1D11-49F6-B712-535B407A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081-8062-424D-A5FA-244B666C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AB1-867C-4CDF-8F90-89650BC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32C-34D2-429F-AA52-23DAEE3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C73-B24B-4F70-AF8D-73F01AF7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060-FAA1-47AC-A35E-61875A9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2E21-F017-43EE-B1A7-CD7AD9DAD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E159-E935-4722-95E0-03C8EC8F2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ыба с прозрачной голово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Тайна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Карт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йна ры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чатые глаза и прозрачная голова рыбы смущали умы учёных начиная с 1939 года, когда макропинны были впервые выловлены. Процесс исследования этих рыб усложнялся ещё и тем, что после попада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Macropinna microstom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 сети разрывался «пузырь», предохраняющий структуры головы от воздействия внешней сре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ее биологи установили, что глаза рыбы очень хорошо видят даже в почти полной тьме, то есть успешно собирают свет. А обитают эти представительницы семейств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Opisthoproctida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глубине 600-800 метров у берегов Центральной Калифор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 учёных удивлял тот факт, что глаза рыбы смотрят только в одну сторону, а именно наверх, к поверхности океана, где по силуэту можно обнаружить потенциальную жертву. Учитывая, что у макропинн очень ограничено поле зрения, биологи никак не могли понять, как рыбины умудряются захватить добычу своим маленьким 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06" name=""/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300000">
    <p:newsflash/>
    <p:sndAc>
      <p:stSnd>
        <p:snd r:embed="rId2" name="drumroll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голова, да нет волос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глаза, да нет брове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крылья, да не ле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8360" y="3573360"/>
            <a:ext cx="222732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14" name="">
              <a:hlinkClick r:id="rId1" action="ppaction://hlinksldjump"/>
            </p:cNvPr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>
              <a:hlinkClick r:id="rId2" action="ppaction://hlinksldjump"/>
            </p:cNvPr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19" name=""/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0000">
    <p:newsflash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19524600">
            <a:off x="1186920" y="4581000"/>
            <a:ext cx="571680" cy="6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0360" cy="247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2771640" cy="2772000"/>
          </a:xfrm>
          <a:prstGeom prst="rect">
            <a:avLst/>
          </a:prstGeom>
          <a:ln w="9360">
            <a:solidFill>
              <a:srgbClr val="1fe13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812520" cy="57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58920" y="3860640"/>
            <a:ext cx="2201760" cy="143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659640" y="404640"/>
            <a:ext cx="2109600" cy="191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висят"/>
          <p:cNvPicPr/>
          <p:nvPr/>
        </p:nvPicPr>
        <p:blipFill>
          <a:blip r:embed="rId7"/>
          <a:stretch/>
        </p:blipFill>
        <p:spPr>
          <a:xfrm>
            <a:off x="4572000" y="3429000"/>
            <a:ext cx="274320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8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30:47Z</dcterms:created>
  <dc:creator>User</dc:creator>
  <dc:description/>
  <dc:language>en-US</dc:language>
  <cp:lastModifiedBy>User</cp:lastModifiedBy>
  <dcterms:modified xsi:type="dcterms:W3CDTF">2011-12-08T16:46:37Z</dcterms:modified>
  <cp:revision>3</cp:revision>
  <dc:subject/>
  <dc:title>Рыба с прозрачной головой</dc:title>
</cp:coreProperties>
</file>