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B1F-EEA6-47B8-AB36-18393C68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30A-F9F8-41C1-81E7-DEBBDF7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B9B-3504-45D9-854E-BCD66455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525-DF72-4645-B9B5-CC7A0EB9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582-1A10-4D62-AF68-860B9899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F64-CC2E-4ADB-983E-4DB6560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CF0-843C-49E1-8017-F1419851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2E4-DD58-4D3F-B091-80351849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814-BE01-46E3-99EF-B85C7EC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131-E680-43B0-A7D1-44BCF012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096-9570-433B-B9F1-D67BA3D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65B-823D-4A0E-96F6-346857D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CCE2-2DDD-46B3-817F-0AE46FC9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7508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алическая прав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3880" y="4429080"/>
            <a:ext cx="6612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СВФ РПА Минюст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Кафедра Теории и истории государства и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к.и.н., доцент О.В. Лаза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00" y="1571400"/>
            <a:ext cx="71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алическая прав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840" y="3571920"/>
            <a:ext cx="738684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Анализ исторического источника Франков периода средневек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Салическая прав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Общая характеристика исторических условий  появления Салической прав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Проблема собственности на земл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Преступления и наказ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Организация суда и судебного процесса в  государстве фран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74772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Общая характеристика исторических условий  появления Салической прав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3520" y="1214280"/>
            <a:ext cx="73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Причины создания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Время и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Критерий подл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Содержание докум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 вы считаете, господство каких порядков в большей степени отражает "Салическая правда" - общинных, рабовладельческих или феодальных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Объе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7477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2560" y="1000080"/>
            <a:ext cx="7507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робуйте по "Салической правде" восстановить основные виды хозяйственной деятельности франков; как выглядели дом, одежда, утварь рядового фр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читайте названия титулов «Салической правды» и начальные фразы отдельных параграфов и выпишите в разные столбики таблицы сведения: о домашних животных и птицах; о культурах земледел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йте вы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Таблица 1. Хозяйство Фра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4200" y="4214880"/>
          <a:ext cx="7429680" cy="2446200"/>
        </p:xfrm>
        <a:graphic>
          <a:graphicData uri="http://schemas.openxmlformats.org/drawingml/2006/table">
            <a:tbl>
              <a:tblPr/>
              <a:tblGrid>
                <a:gridCol w="928800"/>
                <a:gridCol w="2786040"/>
                <a:gridCol w="928800"/>
                <a:gridCol w="27860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Тит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Домашние животные и пт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Титу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25031"/>
                          </a:solidFill>
                          <a:latin typeface="Arial"/>
                        </a:rPr>
                        <a:t>Культуры земле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477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равовое положение основных групп населения по Салической прав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856800"/>
            <a:ext cx="7643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определяется положение человека во франкском обществе - его происхождением, богатством, близостью к королю или половозрастными призна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ы взаимоотношения франков и римского насе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жите роль общины у фр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ближает литов с рабами, а что - со свободными фран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аблица 2. Феодальная иерархия Фр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неравенство - имущественное или правовое - являлось определяющим во франкском общест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3500280"/>
          <a:ext cx="7500960" cy="2500560"/>
        </p:xfrm>
        <a:graphic>
          <a:graphicData uri="http://schemas.openxmlformats.org/drawingml/2006/table">
            <a:tbl>
              <a:tblPr/>
              <a:tblGrid>
                <a:gridCol w="3786480"/>
                <a:gridCol w="371448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еод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Штраф за убий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0f5f3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0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7:32:34Z</dcterms:created>
  <dc:creator>svf</dc:creator>
  <dc:description/>
  <dc:language>en-US</dc:language>
  <cp:lastModifiedBy>svf</cp:lastModifiedBy>
  <dcterms:modified xsi:type="dcterms:W3CDTF">2011-12-09T07:32:41Z</dcterms:modified>
  <cp:revision>1</cp:revision>
  <dc:subject/>
  <dc:title>Салическая правда</dc:title>
</cp:coreProperties>
</file>