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8C8-B5F4-4B61-89F2-E478AD25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5F5-E177-476E-9F79-4D0A352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E29-143D-40CB-8AC8-4E7963A9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820-1703-4E31-8695-CDDC277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106-EB70-4D5A-A1AB-61859BA5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60-9F1F-4329-9C63-6D4D4CB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865-180F-4641-9AD0-D2574BDA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972-A8D2-4410-BE92-210B88BF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CAC-DDC8-4D01-8CD6-8822987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B10-55ED-4D56-8E4C-7045B23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B03-517B-4C93-9C1F-21D0280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34C-A339-43C3-ACB7-739F35F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9FF-3B61-4C39-B523-B339B492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7508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алическая прав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3880" y="4429080"/>
            <a:ext cx="6612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СВФ РПА Минюст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Кафедра Теории и истории государства и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к.и.н., доцент О.В. Лаза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00" y="157140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алическая прав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840" y="3571920"/>
            <a:ext cx="738684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Анализ исторического источника Франков периода средневек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Салическая прав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Общая характеристика исторических условий  появления Салической прав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Проблема собственности на земл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Преступления и наказ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Организация суда и судебного процесса в  государстве фран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74772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Общая характеристика исторических условий  появления Салической прав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3520" y="1214280"/>
            <a:ext cx="73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Причины создания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Время и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Критерий подл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Содержание доку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 вы считаете, господство каких порядков в большей степени отражает "Салическая правда" - общинных, рабовладельческих или феодальных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Объе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7477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560" y="1000080"/>
            <a:ext cx="7507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робуйте по "Салической правде" восстановить основные виды хозяйственной деятельности франков; как выглядели дом, одежда, утварь рядового фр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читайте названия титулов «Салической правды» и начальные фразы отдельных параграфов и выпишите в разные столбики таблицы сведения: о домашних животных и птицах; о культурах земледе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Таблица 1. Хозяйство Фра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4214880"/>
          <a:ext cx="7429680" cy="2446200"/>
        </p:xfrm>
        <a:graphic>
          <a:graphicData uri="http://schemas.openxmlformats.org/drawingml/2006/table">
            <a:tbl>
              <a:tblPr/>
              <a:tblGrid>
                <a:gridCol w="928800"/>
                <a:gridCol w="2786040"/>
                <a:gridCol w="928800"/>
                <a:gridCol w="27860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Тит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Домашние животные и пт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Тит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Культуры земле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477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856800"/>
            <a:ext cx="7643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определяется положение человека во франкском обществе - его происхождением, богатством, близостью к королю или половозрастными призна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ы взаимоотношения франков и римского насе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жите роль общины у фр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ближает литов с рабами, а что - со свободными фран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аблица 2. Феодальная иерархия Фр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неравенство - имущественное или правовое - являлось определяющим во франкском общест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3500280"/>
          <a:ext cx="7500960" cy="2500560"/>
        </p:xfrm>
        <a:graphic>
          <a:graphicData uri="http://schemas.openxmlformats.org/drawingml/2006/table">
            <a:tbl>
              <a:tblPr/>
              <a:tblGrid>
                <a:gridCol w="3786480"/>
                <a:gridCol w="371448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еод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траф за убий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7:32:34Z</dcterms:created>
  <dc:creator>svf</dc:creator>
  <dc:description/>
  <dc:language>en-US</dc:language>
  <cp:lastModifiedBy>svf</cp:lastModifiedBy>
  <dcterms:modified xsi:type="dcterms:W3CDTF">2011-12-09T07:32:41Z</dcterms:modified>
  <cp:revision>1</cp:revision>
  <dc:subject/>
  <dc:title>Салическая правда</dc:title>
</cp:coreProperties>
</file>