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2.wmf" ContentType="image/x-wmf"/>
  <Override PartName="/ppt/media/image20.png" ContentType="image/png"/>
  <Override PartName="/ppt/media/image2.jpeg" ContentType="image/jpeg"/>
  <Override PartName="/ppt/media/image18.gif" ContentType="image/gif"/>
  <Override PartName="/ppt/media/image53.png" ContentType="image/pn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39.gif" ContentType="image/gif"/>
  <Override PartName="/ppt/media/image26.wmf" ContentType="image/x-wmf"/>
  <Override PartName="/ppt/media/image15.jpeg" ContentType="image/jpeg"/>
  <Override PartName="/ppt/media/image14.gif" ContentType="image/gif"/>
  <Override PartName="/ppt/media/image3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56.gif" ContentType="image/gif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9.wmf" ContentType="image/x-wmf"/>
  <Override PartName="/ppt/media/image43.gif" ContentType="image/gif"/>
  <Override PartName="/ppt/media/image46.png" ContentType="image/png"/>
  <Override PartName="/ppt/media/image57.jpeg" ContentType="image/jpeg"/>
  <Override PartName="/ppt/media/image44.gif" ContentType="image/gif"/>
  <Override PartName="/ppt/media/image45.gif" ContentType="image/gif"/>
  <Override PartName="/ppt/media/image50.png" ContentType="image/png"/>
  <Override PartName="/ppt/media/image13.png" ContentType="image/png"/>
  <Override PartName="/ppt/media/image41.gif" ContentType="image/gif"/>
  <Override PartName="/ppt/media/image51.jpeg" ContentType="image/jpeg"/>
  <Override PartName="/ppt/media/image40.gif" ContentType="image/gif"/>
  <Override PartName="/ppt/media/image52.gif" ContentType="image/gif"/>
  <Override PartName="/ppt/media/image54.png" ContentType="image/png"/>
  <Override PartName="/ppt/media/image55.jpeg" ContentType="image/jpeg"/>
  <Override PartName="/ppt/media/image42.gif" ContentType="image/gif"/>
  <Override PartName="/ppt/media/image38.gif" ContentType="image/gif"/>
  <Override PartName="/ppt/media/image34.wmf" ContentType="image/x-wmf"/>
  <Override PartName="/ppt/media/image33.gif" ContentType="image/gif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8.gif" ContentType="image/gif"/>
  <Override PartName="/ppt/media/image10.jpeg" ContentType="image/jpeg"/>
  <Override PartName="/ppt/media/image28.png" ContentType="image/png"/>
  <Override PartName="/ppt/media/image7.gif" ContentType="image/gif"/>
  <Override PartName="/ppt/media/image19.jpeg" ContentType="image/jpeg"/>
  <Override PartName="/ppt/media/image32.gif" ContentType="image/gi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5EA-BD21-4118-AF35-AFDF2A8B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16A-9F67-410B-B24B-8E340A8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641-0FF7-4116-BCB6-F08C2110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B7D-38DC-4930-BA2F-81C46917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49F-D596-43E6-A03A-71FC676D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651-346B-4173-88EB-D2A3323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B18-41EA-451F-9E94-7135E139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89-278D-4804-B01C-A0BE774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9C2-4AA9-4B40-9359-55619E8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D29-1476-4C37-9C95-D4C3B65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ABA-2921-4EEC-81DA-270B678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AD6-17F4-4E2B-A02B-D569582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096C-71AE-4219-972D-0AEDAADFA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8.gif"/><Relationship Id="rId3" Type="http://schemas.openxmlformats.org/officeDocument/2006/relationships/image" Target="../media/image24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image" Target="../media/image46.png"/><Relationship Id="rId12" Type="http://schemas.openxmlformats.org/officeDocument/2006/relationships/image" Target="../media/image21.jpe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55.jpeg"/><Relationship Id="rId3" Type="http://schemas.openxmlformats.org/officeDocument/2006/relationships/image" Target="../media/image18.gif"/><Relationship Id="rId4" Type="http://schemas.openxmlformats.org/officeDocument/2006/relationships/image" Target="../media/image14.gif"/><Relationship Id="rId5" Type="http://schemas.openxmlformats.org/officeDocument/2006/relationships/image" Target="../media/image54.png"/><Relationship Id="rId6" Type="http://schemas.openxmlformats.org/officeDocument/2006/relationships/image" Target="../media/image53.png"/><Relationship Id="rId7" Type="http://schemas.openxmlformats.org/officeDocument/2006/relationships/image" Target="../media/image52.gif"/><Relationship Id="rId8" Type="http://schemas.openxmlformats.org/officeDocument/2006/relationships/image" Target="../media/image34.wmf"/><Relationship Id="rId9" Type="http://schemas.openxmlformats.org/officeDocument/2006/relationships/image" Target="../media/image21.jpeg"/><Relationship Id="rId10" Type="http://schemas.openxmlformats.org/officeDocument/2006/relationships/image" Target="../media/image17.gif"/><Relationship Id="rId11" Type="http://schemas.openxmlformats.org/officeDocument/2006/relationships/image" Target="../media/image24.gif"/><Relationship Id="rId12" Type="http://schemas.openxmlformats.org/officeDocument/2006/relationships/image" Target="../media/image40.gif"/><Relationship Id="rId13" Type="http://schemas.openxmlformats.org/officeDocument/2006/relationships/image" Target="../media/image45.gif"/><Relationship Id="rId14" Type="http://schemas.openxmlformats.org/officeDocument/2006/relationships/image" Target="../media/image56.gi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gif"/><Relationship Id="rId6" Type="http://schemas.openxmlformats.org/officeDocument/2006/relationships/image" Target="../media/image25.jpeg"/><Relationship Id="rId7" Type="http://schemas.openxmlformats.org/officeDocument/2006/relationships/image" Target="../media/image26.wmf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450864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797360"/>
            <a:ext cx="820872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Разработ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Тимофеева Маргарита Константин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ГОУ СОШ №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г. Моск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115920"/>
            <a:ext cx="835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ему нужно есть</a:t>
            </a:r>
            <a:endParaRPr b="0" lang="en-US" sz="24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 овощей и фруктов?</a:t>
            </a:r>
            <a:endParaRPr b="0" lang="en-US" sz="24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1700280"/>
            <a:ext cx="3384360" cy="295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Витамин С2.gif"/>
          <p:cNvPicPr/>
          <p:nvPr/>
        </p:nvPicPr>
        <p:blipFill>
          <a:blip r:embed="rId1"/>
          <a:stretch/>
        </p:blipFill>
        <p:spPr>
          <a:xfrm>
            <a:off x="250920" y="1268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1841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596360" y="450864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6920" y="4797360"/>
            <a:ext cx="1656000" cy="165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1511280" cy="93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572000" y="4941720"/>
            <a:ext cx="1760400" cy="161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415280" y="2637000"/>
            <a:ext cx="1728720" cy="127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64000" y="836640"/>
            <a:ext cx="6156000" cy="1800360"/>
          </a:xfrm>
          <a:prstGeom prst="wedgeRoundRectCallout">
            <a:avLst>
              <a:gd name="adj1" fmla="val -72277"/>
              <a:gd name="adj2" fmla="val 27074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реже простужаться, быть бодрыми, быстрее выздоравливать при  болезни, вам нужен 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обеспечивает нормальный рост и развит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755640" y="1771560"/>
            <a:ext cx="1828800" cy="165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2781360"/>
            <a:ext cx="576000" cy="520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3168720" cy="165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27640" y="4005360"/>
            <a:ext cx="3644640" cy="2428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64000" y="2492280"/>
            <a:ext cx="4824360" cy="1440000"/>
          </a:xfrm>
          <a:prstGeom prst="wedgeRoundRectCallout">
            <a:avLst>
              <a:gd name="adj1" fmla="val -90541"/>
              <a:gd name="adj2" fmla="val -45921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итамин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образуется в коже под воздействием солнечных луч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557360"/>
            <a:ext cx="5329440" cy="720720"/>
          </a:xfrm>
          <a:prstGeom prst="wedgeRoundRectCallout">
            <a:avLst>
              <a:gd name="adj1" fmla="val -76750"/>
              <a:gd name="adj2" fmla="val 95592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Рыбий жир, печень тр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119700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но утром просыпай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ебе, людям улыб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ы зарядкой заним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ливайся, вытир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сегда правильно пит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школу смело собир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3041640"/>
            <a:ext cx="37512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Прежде чем за стол мне сесть,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Я подумаю, что съест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6640" y="1600200"/>
            <a:ext cx="566892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2081160" cy="2144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732720" y="3357720"/>
            <a:ext cx="11998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588000" y="2349360"/>
            <a:ext cx="827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4716360" y="5445000"/>
            <a:ext cx="1303560" cy="126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3132000" y="342900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0" y="2637000"/>
            <a:ext cx="1074600" cy="227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7093080" y="4797360"/>
            <a:ext cx="1873080" cy="172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3203640" y="5805360"/>
            <a:ext cx="1224000" cy="75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кефир2.gif"/>
          <p:cNvPicPr/>
          <p:nvPr/>
        </p:nvPicPr>
        <p:blipFill>
          <a:blip r:embed="rId11"/>
          <a:stretch/>
        </p:blipFill>
        <p:spPr>
          <a:xfrm>
            <a:off x="684360" y="5157720"/>
            <a:ext cx="7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gerkules.jpg"/>
          <p:cNvPicPr/>
          <p:nvPr/>
        </p:nvPicPr>
        <p:blipFill>
          <a:blip r:embed="rId12"/>
          <a:stretch/>
        </p:blipFill>
        <p:spPr>
          <a:xfrm>
            <a:off x="1042920" y="2421000"/>
            <a:ext cx="720720" cy="1452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яблоко.gif"/>
          <p:cNvPicPr/>
          <p:nvPr/>
        </p:nvPicPr>
        <p:blipFill>
          <a:blip r:embed="rId13"/>
          <a:stretch/>
        </p:blipFill>
        <p:spPr>
          <a:xfrm>
            <a:off x="395280" y="1341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96_b_psl.jpg"/>
          <p:cNvPicPr/>
          <p:nvPr/>
        </p:nvPicPr>
        <p:blipFill>
          <a:blip r:embed="rId14"/>
          <a:stretch/>
        </p:blipFill>
        <p:spPr>
          <a:xfrm>
            <a:off x="6948360" y="1125360"/>
            <a:ext cx="1729080" cy="129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чипсы.gif"/>
          <p:cNvPicPr/>
          <p:nvPr/>
        </p:nvPicPr>
        <p:blipFill>
          <a:blip r:embed="rId15"/>
          <a:stretch/>
        </p:blipFill>
        <p:spPr>
          <a:xfrm>
            <a:off x="5076720" y="249228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МОРКОВКА.GIF"/>
          <p:cNvPicPr/>
          <p:nvPr/>
        </p:nvPicPr>
        <p:blipFill>
          <a:blip r:embed="rId16"/>
          <a:stretch/>
        </p:blipFill>
        <p:spPr>
          <a:xfrm>
            <a:off x="8244000" y="2637000"/>
            <a:ext cx="642960" cy="1714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е продукты полезно е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олотые правила пи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Главное – не переедайте. Ешьте в м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тарайтесь употреблять в пищу полезные продукты, много овощей и фру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Тщательно пережевывайте пищу, не спешите гло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еред едой мойте руки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Фрукты и овощи надо хорошо м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о время еды не разговаривайте  и  не чита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СВАРИМ БОР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771560"/>
            <a:ext cx="3959280" cy="410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692520" cy="352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5500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ЁК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0"/>
            <a:ext cx="83026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кругла, вкусна, красив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сочна, ну просто ди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Борщ, свекольник, винегрет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Без тебя уж не обе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во всем нам помог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А зовут тебя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67280" y="441000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ето целое старалась-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Одевалась, одевалась…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А как осень подошла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м одёжки отдала.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отню одежонок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ложили мы в бочо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797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КАПУСТ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303280" cy="182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2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арафан на сарафане,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латьице на платьице.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А как станешь раздевать,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Досыта наплачеш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508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ЛУ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166920" cy="23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6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Формирование навыков правильного питания как составной част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Расширение знаний детей о правилах питания, направленных на сохранение и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знакомить детей со значением витаминов и минеральных веществ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Я красивый, я опрятный,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Любят все мой сок томатный.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Я друзья, бываю разный –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Жёлтый, розовый и крас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2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ПОМИД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72360" y="4581360"/>
            <a:ext cx="201600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20"/>
                            </p:stCondLst>
                            <p:childTnLst>
                              <p:par>
                                <p:cTn id="5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асный нос в землю врос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А зелёный хвост снаружи.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м зелёный хвост не нужен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ужен только красный нос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36572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МОРКОВ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2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6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гла, рассыпчата, бела.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а стол она с полей пришла,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ы посоли её немножко,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едь правда, вкусная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508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КАРТОШ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60"/>
                            </p:stCondLst>
                            <p:childTnLst>
                              <p:par>
                                <p:cTn id="5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ЫБЕРИ ПРОДУКТЫ ДЛЯ БОР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3080" y="1197000"/>
            <a:ext cx="1760400" cy="161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216036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1141560" cy="124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1368360" cy="187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50920" y="2637000"/>
            <a:ext cx="1834920" cy="1073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508720" y="472428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236000" y="5445000"/>
            <a:ext cx="165708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gerkules.jpg"/>
          <p:cNvPicPr/>
          <p:nvPr/>
        </p:nvPicPr>
        <p:blipFill>
          <a:blip r:embed="rId9"/>
          <a:stretch/>
        </p:blipFill>
        <p:spPr>
          <a:xfrm>
            <a:off x="3635280" y="4653000"/>
            <a:ext cx="1133640" cy="1857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700360" y="119700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179280" y="3933720"/>
            <a:ext cx="935280" cy="158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5867280" y="2637000"/>
            <a:ext cx="827280" cy="86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2484360" y="2708280"/>
            <a:ext cx="1224000" cy="75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380360" y="3284640"/>
            <a:ext cx="1177920" cy="1245960"/>
          </a:xfrm>
          <a:prstGeom prst="rect">
            <a:avLst/>
          </a:prstGeom>
          <a:ln w="0">
            <a:noFill/>
          </a:ln>
        </p:spPr>
      </p:pic>
      <p:sp>
        <p:nvSpPr>
          <p:cNvPr id="176" name="Полилиния 10"/>
          <p:cNvSpPr/>
          <p:nvPr/>
        </p:nvSpPr>
        <p:spPr>
          <a:xfrm>
            <a:off x="1116000" y="4437000"/>
            <a:ext cx="1643040" cy="2160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олилиния 10"/>
          <p:cNvSpPr/>
          <p:nvPr/>
        </p:nvSpPr>
        <p:spPr>
          <a:xfrm>
            <a:off x="395280" y="234936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олилиния 10"/>
          <p:cNvSpPr/>
          <p:nvPr/>
        </p:nvSpPr>
        <p:spPr>
          <a:xfrm>
            <a:off x="755640" y="90792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олилиния 10"/>
          <p:cNvSpPr/>
          <p:nvPr/>
        </p:nvSpPr>
        <p:spPr>
          <a:xfrm>
            <a:off x="4572000" y="90792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олилиния 10"/>
          <p:cNvSpPr/>
          <p:nvPr/>
        </p:nvSpPr>
        <p:spPr>
          <a:xfrm>
            <a:off x="6804000" y="836640"/>
            <a:ext cx="2016000" cy="1944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олилиния 10"/>
          <p:cNvSpPr/>
          <p:nvPr/>
        </p:nvSpPr>
        <p:spPr>
          <a:xfrm>
            <a:off x="5364000" y="4581360"/>
            <a:ext cx="1800360" cy="180036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олилиния 10"/>
          <p:cNvSpPr/>
          <p:nvPr/>
        </p:nvSpPr>
        <p:spPr>
          <a:xfrm>
            <a:off x="3492360" y="2565360"/>
            <a:ext cx="2160720" cy="1944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ЯТНОГО АППЕТИ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" descr="iCAPBB8QI.jpg"/>
          <p:cNvPicPr/>
          <p:nvPr/>
        </p:nvPicPr>
        <p:blipFill>
          <a:blip r:embed="rId1"/>
          <a:stretch/>
        </p:blipFill>
        <p:spPr>
          <a:xfrm>
            <a:off x="1116000" y="1844640"/>
            <a:ext cx="6551640" cy="417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11280" y="0"/>
            <a:ext cx="727380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 ЗДОРОВЫ!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240360" cy="23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77336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3529080" cy="101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физические упражн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637000"/>
            <a:ext cx="18734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341360"/>
            <a:ext cx="2303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свежий возд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797360"/>
            <a:ext cx="20160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труд и отд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933720"/>
            <a:ext cx="21589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4292640"/>
            <a:ext cx="2448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1280" y="189000"/>
            <a:ext cx="3780000" cy="1366920"/>
          </a:xfrm>
          <a:prstGeom prst="ellipse">
            <a:avLst/>
          </a:prstGeom>
          <a:solidFill>
            <a:srgbClr val="66ffff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здоровь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27640" y="17715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32000" y="5445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372360" y="5013360"/>
            <a:ext cx="2232000" cy="160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564000" y="3213000"/>
            <a:ext cx="2016000" cy="155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427640" y="5373720"/>
            <a:ext cx="1512720" cy="135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акие слова спрята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765000"/>
          <a:ext cx="8147160" cy="5759280"/>
        </p:xfrm>
        <a:graphic>
          <a:graphicData uri="http://schemas.openxmlformats.org/drawingml/2006/table">
            <a:tbl>
              <a:tblPr/>
              <a:tblGrid>
                <a:gridCol w="700200"/>
                <a:gridCol w="930240"/>
                <a:gridCol w="932040"/>
                <a:gridCol w="931680"/>
                <a:gridCol w="927000"/>
                <a:gridCol w="933480"/>
                <a:gridCol w="930240"/>
                <a:gridCol w="932040"/>
                <a:gridCol w="930240"/>
              </a:tblGrid>
              <a:tr h="94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9640" y="765000"/>
          <a:ext cx="8147160" cy="5538960"/>
        </p:xfrm>
        <a:graphic>
          <a:graphicData uri="http://schemas.openxmlformats.org/drawingml/2006/table">
            <a:tbl>
              <a:tblPr/>
              <a:tblGrid>
                <a:gridCol w="700200"/>
                <a:gridCol w="930240"/>
                <a:gridCol w="932040"/>
                <a:gridCol w="931680"/>
                <a:gridCol w="927000"/>
                <a:gridCol w="933480"/>
                <a:gridCol w="930240"/>
                <a:gridCol w="932040"/>
                <a:gridCol w="9302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Вита» в переводе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 латинского языка «жизнь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итамины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– жизненно необходимые вещества, недостаток которых вызывает сначала недомогание, а в некоторых случаях и различ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653000"/>
            <a:ext cx="55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879640" cy="249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889440" cy="2292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1800" y="283536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вощи и фрукт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268280"/>
            <a:ext cx="8353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Больше всего витаминов содерж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Витамин А2 .gif"/>
          <p:cNvPicPr/>
          <p:nvPr/>
        </p:nvPicPr>
        <p:blipFill>
          <a:blip r:embed="rId1"/>
          <a:stretch/>
        </p:blipFill>
        <p:spPr>
          <a:xfrm>
            <a:off x="324000" y="155736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00360" y="5661000"/>
            <a:ext cx="107964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589040" cy="1954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3640" y="3789360"/>
            <a:ext cx="138888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596360" y="5734080"/>
            <a:ext cx="100800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00360" y="2492280"/>
            <a:ext cx="56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1417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9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148360" y="3500280"/>
            <a:ext cx="1152360" cy="1320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716360" y="5229360"/>
            <a:ext cx="122400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79640" y="981000"/>
            <a:ext cx="590544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981000"/>
            <a:ext cx="5472000" cy="2233800"/>
          </a:xfrm>
          <a:prstGeom prst="wedgeRoundRectCallout">
            <a:avLst>
              <a:gd name="adj1" fmla="val -82319"/>
              <a:gd name="adj2" fmla="val 18800"/>
              <a:gd name="adj3" fmla="val 16667"/>
            </a:avLst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Если вы хотите хорошо расти, хорошо видеть и иметь крепкие зубы, вам нужен 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250920" y="1628640"/>
            <a:ext cx="204624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gerkules.jpg"/>
          <p:cNvPicPr/>
          <p:nvPr/>
        </p:nvPicPr>
        <p:blipFill>
          <a:blip r:embed="rId2"/>
          <a:stretch/>
        </p:blipFill>
        <p:spPr>
          <a:xfrm>
            <a:off x="324000" y="3716280"/>
            <a:ext cx="113328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88000" y="443700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372360" y="2492280"/>
            <a:ext cx="216036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64000" y="2852640"/>
            <a:ext cx="120024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076720" y="386064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979640" y="5516640"/>
            <a:ext cx="2292480" cy="93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2909880"/>
            <a:ext cx="432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835280" y="4005360"/>
            <a:ext cx="1368360" cy="120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1125360"/>
            <a:ext cx="6985080" cy="136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907920"/>
            <a:ext cx="6335640" cy="1800360"/>
          </a:xfrm>
          <a:prstGeom prst="wedgeRoundRectCallout">
            <a:avLst>
              <a:gd name="adj1" fmla="val -65810"/>
              <a:gd name="adj2" fmla="val 39861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быть сильными, иметь хороший аппетит и не хотите огорчаться по пустякам, вам нужен 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2:13:20Z</dcterms:created>
  <dc:creator>stas</dc:creator>
  <dc:description/>
  <cp:keywords/>
  <dc:language>en-US</dc:language>
  <cp:lastModifiedBy>stas</cp:lastModifiedBy>
  <dcterms:modified xsi:type="dcterms:W3CDTF">2011-12-08T20:29:17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49</vt:lpwstr>
  </property>
</Properties>
</file>