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22.wmf" ContentType="image/x-wmf"/>
  <Override PartName="/ppt/media/image20.png" ContentType="image/png"/>
  <Override PartName="/ppt/media/image2.jpeg" ContentType="image/jpeg"/>
  <Override PartName="/ppt/media/image18.gif" ContentType="image/gif"/>
  <Override PartName="/ppt/media/image53.png" ContentType="image/pn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39.gif" ContentType="image/gif"/>
  <Override PartName="/ppt/media/image26.wmf" ContentType="image/x-wmf"/>
  <Override PartName="/ppt/media/image15.jpeg" ContentType="image/jpeg"/>
  <Override PartName="/ppt/media/image14.gif" ContentType="image/gif"/>
  <Override PartName="/ppt/media/image3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56.gif" ContentType="image/gif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9.wmf" ContentType="image/x-wmf"/>
  <Override PartName="/ppt/media/image43.gif" ContentType="image/gif"/>
  <Override PartName="/ppt/media/image46.png" ContentType="image/png"/>
  <Override PartName="/ppt/media/image57.jpeg" ContentType="image/jpeg"/>
  <Override PartName="/ppt/media/image44.gif" ContentType="image/gif"/>
  <Override PartName="/ppt/media/image45.gif" ContentType="image/gif"/>
  <Override PartName="/ppt/media/image50.png" ContentType="image/png"/>
  <Override PartName="/ppt/media/image13.png" ContentType="image/png"/>
  <Override PartName="/ppt/media/image41.gif" ContentType="image/gif"/>
  <Override PartName="/ppt/media/image51.jpeg" ContentType="image/jpeg"/>
  <Override PartName="/ppt/media/image40.gif" ContentType="image/gif"/>
  <Override PartName="/ppt/media/image52.gif" ContentType="image/gif"/>
  <Override PartName="/ppt/media/image54.png" ContentType="image/png"/>
  <Override PartName="/ppt/media/image55.jpeg" ContentType="image/jpeg"/>
  <Override PartName="/ppt/media/image42.gif" ContentType="image/gif"/>
  <Override PartName="/ppt/media/image38.gif" ContentType="image/gif"/>
  <Override PartName="/ppt/media/image34.wmf" ContentType="image/x-wmf"/>
  <Override PartName="/ppt/media/image33.gif" ContentType="image/gif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58.gif" ContentType="image/gif"/>
  <Override PartName="/ppt/media/image10.jpeg" ContentType="image/jpeg"/>
  <Override PartName="/ppt/media/image28.png" ContentType="image/png"/>
  <Override PartName="/ppt/media/image7.gif" ContentType="image/gif"/>
  <Override PartName="/ppt/media/image19.jpeg" ContentType="image/jpeg"/>
  <Override PartName="/ppt/media/image32.gif" ContentType="image/gi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915-7240-4E77-A132-9FD607BD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8C0-AF3C-4BB8-B860-D1CCC658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FFA-8CAD-4FC8-8C73-19B68BE6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DF5-1B37-4035-8DBE-0EC49266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A69-DD4F-486B-9953-E7139F93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419-C223-4438-A0FA-0FB8F0A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424-05A6-466D-8B59-7E249A66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938-E773-450B-96A3-22788685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D8D-2CFF-4F52-A2AD-5698A4CB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7EA-215A-42CE-BC32-FD011B09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539-CD87-4BBC-96AB-6B23BE1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609-EC43-4E7F-A2D1-553956D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713-B481-4AD5-AAFE-0122A35DA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8.gif"/><Relationship Id="rId3" Type="http://schemas.openxmlformats.org/officeDocument/2006/relationships/image" Target="../media/image24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gif"/><Relationship Id="rId8" Type="http://schemas.openxmlformats.org/officeDocument/2006/relationships/image" Target="../media/image43.gif"/><Relationship Id="rId9" Type="http://schemas.openxmlformats.org/officeDocument/2006/relationships/image" Target="../media/image44.gif"/><Relationship Id="rId10" Type="http://schemas.openxmlformats.org/officeDocument/2006/relationships/image" Target="../media/image45.gif"/><Relationship Id="rId11" Type="http://schemas.openxmlformats.org/officeDocument/2006/relationships/image" Target="../media/image46.png"/><Relationship Id="rId12" Type="http://schemas.openxmlformats.org/officeDocument/2006/relationships/image" Target="../media/image21.jpe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55.jpeg"/><Relationship Id="rId3" Type="http://schemas.openxmlformats.org/officeDocument/2006/relationships/image" Target="../media/image18.gif"/><Relationship Id="rId4" Type="http://schemas.openxmlformats.org/officeDocument/2006/relationships/image" Target="../media/image14.gif"/><Relationship Id="rId5" Type="http://schemas.openxmlformats.org/officeDocument/2006/relationships/image" Target="../media/image54.png"/><Relationship Id="rId6" Type="http://schemas.openxmlformats.org/officeDocument/2006/relationships/image" Target="../media/image53.png"/><Relationship Id="rId7" Type="http://schemas.openxmlformats.org/officeDocument/2006/relationships/image" Target="../media/image52.gif"/><Relationship Id="rId8" Type="http://schemas.openxmlformats.org/officeDocument/2006/relationships/image" Target="../media/image34.wmf"/><Relationship Id="rId9" Type="http://schemas.openxmlformats.org/officeDocument/2006/relationships/image" Target="../media/image21.jpeg"/><Relationship Id="rId10" Type="http://schemas.openxmlformats.org/officeDocument/2006/relationships/image" Target="../media/image17.gif"/><Relationship Id="rId11" Type="http://schemas.openxmlformats.org/officeDocument/2006/relationships/image" Target="../media/image24.gif"/><Relationship Id="rId12" Type="http://schemas.openxmlformats.org/officeDocument/2006/relationships/image" Target="../media/image40.gif"/><Relationship Id="rId13" Type="http://schemas.openxmlformats.org/officeDocument/2006/relationships/image" Target="../media/image45.gif"/><Relationship Id="rId14" Type="http://schemas.openxmlformats.org/officeDocument/2006/relationships/image" Target="../media/image56.gi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4.gif"/><Relationship Id="rId6" Type="http://schemas.openxmlformats.org/officeDocument/2006/relationships/image" Target="../media/image25.jpeg"/><Relationship Id="rId7" Type="http://schemas.openxmlformats.org/officeDocument/2006/relationships/image" Target="../media/image26.wmf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450864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797360"/>
            <a:ext cx="820872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Разработа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Тимофеева Маргарита Константин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ГОУ СОШ №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г. Моск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95280" y="115920"/>
            <a:ext cx="8353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ему нужно есть</a:t>
            </a:r>
            <a:endParaRPr b="0" lang="en-US" sz="2400" spc="1" strike="noStrike">
              <a:ln cap="sq" w="936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cap="sq" w="936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 овощей и фруктов?</a:t>
            </a:r>
            <a:endParaRPr b="0" lang="en-US" sz="2400" spc="1" strike="noStrike">
              <a:ln cap="sq" w="936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16360" y="1700280"/>
            <a:ext cx="3384360" cy="295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0800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итамин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Витамин С2.gif"/>
          <p:cNvPicPr/>
          <p:nvPr/>
        </p:nvPicPr>
        <p:blipFill>
          <a:blip r:embed="rId1"/>
          <a:stretch/>
        </p:blipFill>
        <p:spPr>
          <a:xfrm>
            <a:off x="250920" y="12682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71640" y="3284640"/>
            <a:ext cx="1841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596360" y="450864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6920" y="4797360"/>
            <a:ext cx="1656000" cy="1657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580000" y="3429000"/>
            <a:ext cx="1511280" cy="93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572000" y="4941720"/>
            <a:ext cx="1760400" cy="161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7415280" y="2637000"/>
            <a:ext cx="1728720" cy="127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64000" y="836640"/>
            <a:ext cx="6156000" cy="1800360"/>
          </a:xfrm>
          <a:prstGeom prst="wedgeRoundRectCallout">
            <a:avLst>
              <a:gd name="adj1" fmla="val -72277"/>
              <a:gd name="adj2" fmla="val 27074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сли вы хотите реже простужаться, быть бодрыми, быстрее выздоравливать при  болезни, вам нужен 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итамин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обеспечивает нормальный рост и развит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" descr="Витамин В2 .gif"/>
          <p:cNvPicPr/>
          <p:nvPr/>
        </p:nvPicPr>
        <p:blipFill>
          <a:blip r:embed="rId1"/>
          <a:stretch/>
        </p:blipFill>
        <p:spPr>
          <a:xfrm>
            <a:off x="755640" y="1771560"/>
            <a:ext cx="1828800" cy="165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2781360"/>
            <a:ext cx="576000" cy="520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3168720" cy="165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27640" y="4005360"/>
            <a:ext cx="3644640" cy="2428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64000" y="2492280"/>
            <a:ext cx="4824360" cy="1440000"/>
          </a:xfrm>
          <a:prstGeom prst="wedgeRoundRectCallout">
            <a:avLst>
              <a:gd name="adj1" fmla="val -90541"/>
              <a:gd name="adj2" fmla="val -45921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итамин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D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образуется в коже под воздействием солнечных луч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1557360"/>
            <a:ext cx="5329440" cy="720720"/>
          </a:xfrm>
          <a:prstGeom prst="wedgeRoundRectCallout">
            <a:avLst>
              <a:gd name="adj1" fmla="val -76750"/>
              <a:gd name="adj2" fmla="val 95592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Рыбий жир, печень тр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119700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но утром просыпай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ебе, людям улыб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ы зарядкой заним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ливайся, вытир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сегда правильно пит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школу смело собира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08720" y="3041640"/>
            <a:ext cx="3751200" cy="381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«Прежде чем за стол мне сесть,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Я подумаю, что съест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6640" y="1600200"/>
            <a:ext cx="566892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2081160" cy="2144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732720" y="3357720"/>
            <a:ext cx="11998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619280" y="4076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588000" y="2349360"/>
            <a:ext cx="827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4716360" y="5445000"/>
            <a:ext cx="1303560" cy="126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3132000" y="3429000"/>
            <a:ext cx="1057320" cy="1152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0" y="2637000"/>
            <a:ext cx="1074600" cy="227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7093080" y="4797360"/>
            <a:ext cx="1873080" cy="172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3203640" y="5805360"/>
            <a:ext cx="1224000" cy="758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кефир2.gif"/>
          <p:cNvPicPr/>
          <p:nvPr/>
        </p:nvPicPr>
        <p:blipFill>
          <a:blip r:embed="rId11"/>
          <a:stretch/>
        </p:blipFill>
        <p:spPr>
          <a:xfrm>
            <a:off x="684360" y="5157720"/>
            <a:ext cx="72072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gerkules.jpg"/>
          <p:cNvPicPr/>
          <p:nvPr/>
        </p:nvPicPr>
        <p:blipFill>
          <a:blip r:embed="rId12"/>
          <a:stretch/>
        </p:blipFill>
        <p:spPr>
          <a:xfrm>
            <a:off x="1042920" y="2421000"/>
            <a:ext cx="720720" cy="1452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яблоко.gif"/>
          <p:cNvPicPr/>
          <p:nvPr/>
        </p:nvPicPr>
        <p:blipFill>
          <a:blip r:embed="rId13"/>
          <a:stretch/>
        </p:blipFill>
        <p:spPr>
          <a:xfrm>
            <a:off x="395280" y="1341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1" descr="96_b_psl.jpg"/>
          <p:cNvPicPr/>
          <p:nvPr/>
        </p:nvPicPr>
        <p:blipFill>
          <a:blip r:embed="rId14"/>
          <a:stretch/>
        </p:blipFill>
        <p:spPr>
          <a:xfrm>
            <a:off x="6948360" y="1125360"/>
            <a:ext cx="1729080" cy="1295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3" descr="чипсы.gif"/>
          <p:cNvPicPr/>
          <p:nvPr/>
        </p:nvPicPr>
        <p:blipFill>
          <a:blip r:embed="rId15"/>
          <a:stretch/>
        </p:blipFill>
        <p:spPr>
          <a:xfrm>
            <a:off x="5076720" y="249228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МОРКОВКА.GIF"/>
          <p:cNvPicPr/>
          <p:nvPr/>
        </p:nvPicPr>
        <p:blipFill>
          <a:blip r:embed="rId16"/>
          <a:stretch/>
        </p:blipFill>
        <p:spPr>
          <a:xfrm>
            <a:off x="8244000" y="2637000"/>
            <a:ext cx="642960" cy="1714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кие продукты полезно е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олотые правила пи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Главное – не переедайте. Ешьте в м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тарайтесь употреблять в пищу полезные продукты, много овощей и фрук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Тщательно пережевывайте пищу, не спешите гло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еред едой мойте руки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Фрукты и овощи надо хорошо м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о время еды не разговаривайте  и  не чита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СВАРИМ БОР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771560"/>
            <a:ext cx="3959280" cy="4105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692520" cy="3527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5500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ЁКЛ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0"/>
            <a:ext cx="83026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Ты кругла, вкусна, красив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Ты сочна, ну просто див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Борщ, свекольник, винегрет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Без тебя уж не обе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Ты во всем нам помог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Arial"/>
                <a:ea typeface="Times New Roman"/>
              </a:rPr>
              <a:t>А зовут тебя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867280" y="4410000"/>
            <a:ext cx="2592360" cy="244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Лето целое старалась-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Одевалась, одевалась…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А как осень подошла,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ам одёжки отдала.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отню одежонок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Сложили мы в бочо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7973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КАПУСТ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2303280" cy="182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2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Сарафан на сарафане,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Платьице на платьице.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А как станешь раздевать,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Arial"/>
              </a:rPr>
              <a:t>Досыта наплачешь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4508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ЛУ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166920" cy="23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6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Формирование навыков правильного питания как составной части здорового образа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Расширение знаний детей о правилах питания, направленных на сохранение и укрепление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знакомить детей со значением витаминов и минеральных веществ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Я красивый, я опрятный,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Любят все мой сок томатный.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Я друзья, бываю разный –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Arial"/>
              </a:rPr>
              <a:t>Жёлтый, розовый и красн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24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ПОМИДО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72360" y="4581360"/>
            <a:ext cx="2016000" cy="16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20"/>
                            </p:stCondLst>
                            <p:childTnLst>
                              <p:par>
                                <p:cTn id="5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расный нос в землю врос,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А зелёный хвост снаружи.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ам зелёный хвост не нужен,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ужен только красный нос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36572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МОРКОВ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88000" y="4149720"/>
            <a:ext cx="180036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20"/>
                            </p:stCondLst>
                            <p:childTnLst>
                              <p:par>
                                <p:cTn id="5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6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гла, рассыпчата, бела.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а стол она с полей пришла,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Ты посоли её немножко,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едь правда, вкусная 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50864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КАРТОШ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60"/>
                            </p:stCondLst>
                            <p:childTnLst>
                              <p:par>
                                <p:cTn id="5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ЫБЕРИ ПРОДУКТЫ ДЛЯ БОР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3080" y="1197000"/>
            <a:ext cx="1760400" cy="1611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2160360" cy="1512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1141560" cy="1249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1368360" cy="187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971640" y="1052640"/>
            <a:ext cx="1285920" cy="131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50920" y="2637000"/>
            <a:ext cx="1834920" cy="1073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5508720" y="4724280"/>
            <a:ext cx="136836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7236000" y="5445000"/>
            <a:ext cx="1657080" cy="7923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gerkules.jpg"/>
          <p:cNvPicPr/>
          <p:nvPr/>
        </p:nvPicPr>
        <p:blipFill>
          <a:blip r:embed="rId9"/>
          <a:stretch/>
        </p:blipFill>
        <p:spPr>
          <a:xfrm>
            <a:off x="3635280" y="4653000"/>
            <a:ext cx="1133640" cy="1857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700360" y="1197000"/>
            <a:ext cx="100800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179280" y="3933720"/>
            <a:ext cx="935280" cy="158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5867280" y="2637000"/>
            <a:ext cx="827280" cy="86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2484360" y="2708280"/>
            <a:ext cx="1224000" cy="758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7380360" y="3284640"/>
            <a:ext cx="1177920" cy="1245960"/>
          </a:xfrm>
          <a:prstGeom prst="rect">
            <a:avLst/>
          </a:prstGeom>
          <a:ln w="0">
            <a:noFill/>
          </a:ln>
        </p:spPr>
      </p:pic>
      <p:sp>
        <p:nvSpPr>
          <p:cNvPr id="176" name="Полилиния 10"/>
          <p:cNvSpPr/>
          <p:nvPr/>
        </p:nvSpPr>
        <p:spPr>
          <a:xfrm>
            <a:off x="1116000" y="4437000"/>
            <a:ext cx="1643040" cy="216072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олилиния 10"/>
          <p:cNvSpPr/>
          <p:nvPr/>
        </p:nvSpPr>
        <p:spPr>
          <a:xfrm>
            <a:off x="395280" y="2349360"/>
            <a:ext cx="1643040" cy="142884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олилиния 10"/>
          <p:cNvSpPr/>
          <p:nvPr/>
        </p:nvSpPr>
        <p:spPr>
          <a:xfrm>
            <a:off x="755640" y="907920"/>
            <a:ext cx="1643040" cy="142884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олилиния 10"/>
          <p:cNvSpPr/>
          <p:nvPr/>
        </p:nvSpPr>
        <p:spPr>
          <a:xfrm>
            <a:off x="4572000" y="907920"/>
            <a:ext cx="1643040" cy="142884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олилиния 10"/>
          <p:cNvSpPr/>
          <p:nvPr/>
        </p:nvSpPr>
        <p:spPr>
          <a:xfrm>
            <a:off x="6804000" y="836640"/>
            <a:ext cx="2016000" cy="194472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олилиния 10"/>
          <p:cNvSpPr/>
          <p:nvPr/>
        </p:nvSpPr>
        <p:spPr>
          <a:xfrm>
            <a:off x="5364000" y="4581360"/>
            <a:ext cx="1800360" cy="180036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олилиния 10"/>
          <p:cNvSpPr/>
          <p:nvPr/>
        </p:nvSpPr>
        <p:spPr>
          <a:xfrm>
            <a:off x="3492360" y="2565360"/>
            <a:ext cx="2160720" cy="1944720"/>
          </a:xfrm>
          <a:prstGeom prst="pie">
            <a:avLst/>
          </a:pr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6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ИЯТНОГО АППЕТИ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" descr="iCAPBB8QI.jpg"/>
          <p:cNvPicPr/>
          <p:nvPr/>
        </p:nvPicPr>
        <p:blipFill>
          <a:blip r:embed="rId1"/>
          <a:stretch/>
        </p:blipFill>
        <p:spPr>
          <a:xfrm>
            <a:off x="1116000" y="1844640"/>
            <a:ext cx="6551640" cy="417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11280" y="0"/>
            <a:ext cx="7273800" cy="61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 ЗДОРОВЫ!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240360" cy="23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177336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3529080" cy="101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физические упражн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2637000"/>
            <a:ext cx="18734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341360"/>
            <a:ext cx="23036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свежий возд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4797360"/>
            <a:ext cx="20160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труд и отд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933720"/>
            <a:ext cx="21589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гиги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4292640"/>
            <a:ext cx="244800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Times New Roman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1280" y="189000"/>
            <a:ext cx="3780000" cy="1366920"/>
          </a:xfrm>
          <a:prstGeom prst="ellipse">
            <a:avLst/>
          </a:prstGeom>
          <a:solidFill>
            <a:srgbClr val="66ffff"/>
          </a:solidFill>
          <a:ln cap="sq"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здоровь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27640" y="177156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132000" y="544500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372360" y="5013360"/>
            <a:ext cx="2232000" cy="160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564000" y="3213000"/>
            <a:ext cx="2016000" cy="155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427640" y="5373720"/>
            <a:ext cx="1512720" cy="135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акие слова спрятал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765000"/>
          <a:ext cx="8147160" cy="5759280"/>
        </p:xfrm>
        <a:graphic>
          <a:graphicData uri="http://schemas.openxmlformats.org/drawingml/2006/table">
            <a:tbl>
              <a:tblPr/>
              <a:tblGrid>
                <a:gridCol w="700200"/>
                <a:gridCol w="930240"/>
                <a:gridCol w="932040"/>
                <a:gridCol w="931680"/>
                <a:gridCol w="927000"/>
                <a:gridCol w="933480"/>
                <a:gridCol w="930240"/>
                <a:gridCol w="932040"/>
                <a:gridCol w="930240"/>
              </a:tblGrid>
              <a:tr h="94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39640" y="765000"/>
          <a:ext cx="8147160" cy="5538960"/>
        </p:xfrm>
        <a:graphic>
          <a:graphicData uri="http://schemas.openxmlformats.org/drawingml/2006/table">
            <a:tbl>
              <a:tblPr/>
              <a:tblGrid>
                <a:gridCol w="700200"/>
                <a:gridCol w="930240"/>
                <a:gridCol w="932040"/>
                <a:gridCol w="931680"/>
                <a:gridCol w="927000"/>
                <a:gridCol w="933480"/>
                <a:gridCol w="930240"/>
                <a:gridCol w="932040"/>
                <a:gridCol w="9302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«Вита» в переводе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с латинского языка «жизнь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Витамины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– жизненно необходимые вещества, недостаток которых вызывает сначала недомогание, а в некоторых случаях и различны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653000"/>
            <a:ext cx="55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879640" cy="2494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889440" cy="2292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91800" y="2835360"/>
            <a:ext cx="716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Times New Roman"/>
              </a:rPr>
              <a:t>овощи и фрукт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268280"/>
            <a:ext cx="8353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Times New Roman"/>
              </a:rPr>
              <a:t>Больше всего витаминов содерж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080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итамин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Витамин А2 .gif"/>
          <p:cNvPicPr/>
          <p:nvPr/>
        </p:nvPicPr>
        <p:blipFill>
          <a:blip r:embed="rId1"/>
          <a:stretch/>
        </p:blipFill>
        <p:spPr>
          <a:xfrm>
            <a:off x="324000" y="1557360"/>
            <a:ext cx="237492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00360" y="5661000"/>
            <a:ext cx="1079640" cy="6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77080" y="3645000"/>
            <a:ext cx="1589040" cy="1954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03640" y="3789360"/>
            <a:ext cx="1388880" cy="12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596360" y="5734080"/>
            <a:ext cx="100800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00360" y="2492280"/>
            <a:ext cx="56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31417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92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5148360" y="3500280"/>
            <a:ext cx="1152360" cy="1320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716360" y="5229360"/>
            <a:ext cx="1224000" cy="1079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79640" y="981000"/>
            <a:ext cx="590544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981000"/>
            <a:ext cx="5472000" cy="2233800"/>
          </a:xfrm>
          <a:prstGeom prst="wedgeRoundRectCallout">
            <a:avLst>
              <a:gd name="adj1" fmla="val -82319"/>
              <a:gd name="adj2" fmla="val 18800"/>
              <a:gd name="adj3" fmla="val 16667"/>
            </a:avLst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Если вы хотите хорошо расти, хорошо видеть и иметь крепкие зубы, вам нужен 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итамин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Витамин В2 .gif"/>
          <p:cNvPicPr/>
          <p:nvPr/>
        </p:nvPicPr>
        <p:blipFill>
          <a:blip r:embed="rId1"/>
          <a:stretch/>
        </p:blipFill>
        <p:spPr>
          <a:xfrm>
            <a:off x="250920" y="1628640"/>
            <a:ext cx="204624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gerkules.jpg"/>
          <p:cNvPicPr/>
          <p:nvPr/>
        </p:nvPicPr>
        <p:blipFill>
          <a:blip r:embed="rId2"/>
          <a:stretch/>
        </p:blipFill>
        <p:spPr>
          <a:xfrm>
            <a:off x="324000" y="3716280"/>
            <a:ext cx="1133280" cy="185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588000" y="4437000"/>
            <a:ext cx="20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372360" y="2492280"/>
            <a:ext cx="216036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564000" y="2852640"/>
            <a:ext cx="1200240" cy="1714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076720" y="3860640"/>
            <a:ext cx="172728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979640" y="5516640"/>
            <a:ext cx="2292480" cy="93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42920" y="2909880"/>
            <a:ext cx="432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835280" y="4005360"/>
            <a:ext cx="1368360" cy="120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58920" y="1125360"/>
            <a:ext cx="6985080" cy="1366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907920"/>
            <a:ext cx="6335640" cy="1800360"/>
          </a:xfrm>
          <a:prstGeom prst="wedgeRoundRectCallout">
            <a:avLst>
              <a:gd name="adj1" fmla="val -65810"/>
              <a:gd name="adj2" fmla="val 39861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сли вы хотите быть сильными, иметь хороший аппетит и не хотите огорчаться по пустякам, вам нужен 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2:13:20Z</dcterms:created>
  <dc:creator>stas</dc:creator>
  <dc:description/>
  <cp:keywords/>
  <dc:language>en-US</dc:language>
  <cp:lastModifiedBy>stas</cp:lastModifiedBy>
  <dcterms:modified xsi:type="dcterms:W3CDTF">2011-12-08T20:29:17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91049</vt:lpwstr>
  </property>
</Properties>
</file>