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C76-67C1-46E8-988E-D4E4F48E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9A6-F385-4423-9E11-A589A86D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012-B44D-47EC-8123-AB4E1818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C4E-1A77-4313-8DC3-4D48F5FE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13E-24F6-4200-BFF9-61DE2DA0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109-DF38-443F-9C84-4C7A9707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5CC-F7B0-47CF-BBDB-D5A1EB6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FEF-57F3-45FC-BA8F-20FB7292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526-2EB0-44D6-9327-856E321C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F06-3649-4FD9-8596-D35EE9A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849-A095-4BC1-BE6A-B4174A5D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633-C8D9-425A-BC6C-B833C3B1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54F1-A72C-4A2D-B93B-61B6DE90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-tonyse.ru/wp-content/uploads/2011/03/vredniye_privichki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berdsk-city.ru/wp-content/uploads/2009/10/146857m1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muvi.ru/wp-content/uploads/2010/10/&#1048;&#1075;&#1088;&#1086;&#1074;&#1072;&#1103;-&#1079;&#1072;&#1074;&#1080;&#1089;&#1080;&#1084;&#1086;&#1089;&#1090;&#1100;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shkolazhizni.ru/img/content/i6/6269.jpg" TargetMode="External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aturalhealthhoodia.com/blog/wp-content/junk-food.jpg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ityterapi.dk/uploads/pics/Angst-250_0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novostivl.ru/files/files/17/8117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11.nnm.ru/d/a/2/a/1/ae80e47bef13e1dd890e513f6fd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1.i.ua/prikol/pic/6/8/389086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onbass.ua/multimedia/images/news/original/image_041219567408134071744337261994598629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blistar.net/templates/ER-Golden_Time/images/slide/sl-2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static2.aif.ru/public/article/416/261d4a9dd4fd6c89c5a904b7781a6c05_big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delaurukami.ru/images/e0a70f72bdae9885bfc32d7cd19a26a1_XL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g0.liveinternet.ru/images/attach/c/0/38/930/38930816_ZUB.jpg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907680778717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void.by/wp-content/uploads/2010/02/angled-reading-glasses-1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studyzone.org/testprep/ela4/o/PE02009_1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1/359/61359564_rabota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faeyvsl.com.nu/images/a3661d87572c909f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bratske.ru/i/bratsk_news/12898723644946.gif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oktemlicey.narod.ru/portrets/ignat_ski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dagpravda.ru/images/materials/full_1_1_1_1_1_1_1_Sport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.telegraph.co.uk/telegraph/multimedia/archive/01415/kids_football_1415187c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newzubovo.ucoz.com/football.gif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1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00760" cy="333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Картинка 153 из 2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350532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23 из 48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172200" cy="503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14 из 48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76600" y="3048120"/>
            <a:ext cx="4667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Картинка 1 из 112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400800" cy="428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8 из 11295"/>
          <p:cNvPicPr/>
          <p:nvPr/>
        </p:nvPicPr>
        <p:blipFill>
          <a:blip r:embed="rId3"/>
          <a:stretch/>
        </p:blipFill>
        <p:spPr>
          <a:xfrm>
            <a:off x="3657600" y="2895480"/>
            <a:ext cx="50292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19 из 18332"/>
          <p:cNvPicPr/>
          <p:nvPr/>
        </p:nvPicPr>
        <p:blipFill>
          <a:blip r:embed="rId1"/>
          <a:stretch/>
        </p:blipFill>
        <p:spPr>
          <a:xfrm>
            <a:off x="3809880" y="0"/>
            <a:ext cx="5048280" cy="3038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29 из 18332"/>
          <p:cNvPicPr/>
          <p:nvPr/>
        </p:nvPicPr>
        <p:blipFill>
          <a:blip r:embed="rId2"/>
          <a:stretch/>
        </p:blipFill>
        <p:spPr>
          <a:xfrm>
            <a:off x="0" y="2770200"/>
            <a:ext cx="51814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25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371600"/>
            <a:ext cx="231480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63 из 7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1447920"/>
            <a:ext cx="2791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32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76720" cy="364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81 из 99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733920"/>
            <a:ext cx="4286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52 из 7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56 из 7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80880"/>
            <a:ext cx="261936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1 из 1138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3371760"/>
            <a:ext cx="47624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Картинка 65 из 2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12680"/>
            <a:ext cx="6705720" cy="501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61 из 71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666880"/>
            <a:ext cx="3019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71 из 2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7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Картинка 3 из 2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130 из 26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0" y="3962520"/>
            <a:ext cx="4591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31 из 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8 из 84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Картинка 44 из 8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8600"/>
            <a:ext cx="340992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94 из 848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28600"/>
            <a:ext cx="343836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218 из 848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3946680"/>
            <a:ext cx="46195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12 из 47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04920"/>
            <a:ext cx="6248520" cy="3911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58 из 47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3429000"/>
            <a:ext cx="507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9:05:55Z</dcterms:created>
  <dc:creator>Алексей</dc:creator>
  <dc:description/>
  <dc:language>en-US</dc:language>
  <cp:lastModifiedBy>Алексей</cp:lastModifiedBy>
  <dcterms:modified xsi:type="dcterms:W3CDTF">2011-04-12T10:15:5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