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D6F4-0C30-4899-828D-AC6A682107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008E-815B-4B3B-BB40-3D1D202D0D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535-1387-4EAD-82FC-D63DD5A2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1F2-E25F-4563-8B12-D13AFBC5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1A30-2217-4553-8D01-709BA2E4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AA5-0762-4DAF-8121-EBF3D54B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71B2-048F-497E-AAEA-B64C6D32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C5E0-C4FD-473E-B216-63A9C616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40CF-51D8-4D8D-922A-876C66EF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1019-AC1F-417F-B75A-58C98B97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9DBA-5F8E-4E87-8F2B-FBDC6216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A8DD-82DA-46FA-B7D2-C10CF65F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9B9F-D2ED-4A73-99CB-38362B5B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722-BFE5-472E-9079-A782AAC3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CB09-70FB-4BB3-8998-76CC858E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3CE7-E66F-4CB7-8DB0-38F195A4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4B63-8D14-4AB1-A6D8-9614A7BA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17E9-CDEC-4AA9-BA79-A032D250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9C0C-E6A9-4305-B3C5-5D46985B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8C305-E84D-49F8-916B-8A83B2A8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28D75-1370-4AE4-B9A1-F6145524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E1839-821F-426B-938A-F7142CD3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A7E38-02AF-41D7-AE56-516D372B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BFD6A-C624-469E-94B2-6D71BD2F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D5D-A24C-4D8E-A053-3B6DEDAE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61235-4BC4-424E-BCFD-9A0D25A9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50EAB-AB94-453A-9056-0FB7899F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3F8A8-149D-41D0-AF90-D4047686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24177-7D18-44DB-BE24-F5ACCDA7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8A6E4-46F6-49F3-B6CF-D25D685B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757F99-2F39-41D6-8FA5-B600C072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7FCFC6-0253-4A11-B48A-B8B92BDD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A95B-9736-4D51-BB6E-0BF9A571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C29-BCBF-4457-BCD1-A781CCF9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FB67-E6F0-41DD-9751-6E703C41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083A-1B21-418E-83D2-DC908AA6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D597-0C03-4803-B73F-D74B76E2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EF29-00D7-4535-9935-F538546C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6CCC-0D9B-4AC9-B7E7-107F296B22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E582-6A4A-47C6-B1C9-DD7A2EDE9D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FEB5-19B8-4324-850C-0138F52C64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570_&#1075;&#1086;&#1076;_&#1076;&#1086;_&#1085;._&#1101;." TargetMode="External"/><Relationship Id="rId4" Type="http://schemas.openxmlformats.org/officeDocument/2006/relationships/hyperlink" Target="http://ru.wikipedia.org/wiki/490_&#1075;&#1086;&#1076;_&#1076;&#1086;_&#1085;._&#1101;." TargetMode="External"/><Relationship Id="rId5" Type="http://schemas.openxmlformats.org/officeDocument/2006/relationships/hyperlink" Target="http://ru.wikipedia.org/wiki/&#1060;&#1080;&#1083;&#1086;&#1089;&#1086;&#1092;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7"/>
          <p:cNvSpPr txBox="1"/>
          <p:nvPr/>
        </p:nvSpPr>
        <p:spPr>
          <a:xfrm>
            <a:off x="611280" y="549360"/>
            <a:ext cx="734544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9900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сследовательская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9900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9900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бот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9900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9"/>
          <p:cNvSpPr txBox="1"/>
          <p:nvPr/>
        </p:nvSpPr>
        <p:spPr>
          <a:xfrm>
            <a:off x="2340000" y="2205000"/>
            <a:ext cx="3097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990099"/>
                </a:solidFill>
                <a:latin typeface="Impact"/>
              </a:rPr>
              <a:t>на тему: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990099"/>
              </a:solidFill>
              <a:latin typeface="Impact"/>
              <a:ea typeface="Impact"/>
            </a:endParaRPr>
          </a:p>
        </p:txBody>
      </p:sp>
      <p:sp>
        <p:nvSpPr>
          <p:cNvPr id="172" name="WordArt 10"/>
          <p:cNvSpPr txBox="1"/>
          <p:nvPr/>
        </p:nvSpPr>
        <p:spPr>
          <a:xfrm>
            <a:off x="684360" y="3213000"/>
            <a:ext cx="70927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990099"/>
                </a:solidFill>
                <a:latin typeface="Impact"/>
              </a:rPr>
              <a:t>Жизнь и деятельность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99009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990099"/>
                </a:solidFill>
                <a:latin typeface="Impact"/>
              </a:rPr>
              <a:t>Пифагор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990099"/>
              </a:solidFill>
              <a:latin typeface="Impact"/>
              <a:ea typeface="Impact"/>
            </a:endParaRPr>
          </a:p>
        </p:txBody>
      </p:sp>
      <p:sp>
        <p:nvSpPr>
          <p:cNvPr id="173" name="WordArt 11"/>
          <p:cNvSpPr txBox="1"/>
          <p:nvPr/>
        </p:nvSpPr>
        <p:spPr>
          <a:xfrm>
            <a:off x="3276720" y="4941720"/>
            <a:ext cx="560052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ыполнил: Байчоров А.</a:t>
            </a:r>
            <a:endParaRPr b="0" lang="en-US" sz="1800" spc="1" strike="noStrike">
              <a:ln w="324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Руководитель: Семенова З.Г.</a:t>
            </a:r>
            <a:endParaRPr b="0" lang="en-US" sz="1800" spc="1" strike="noStrike">
              <a:ln w="324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29840" y="1341360"/>
            <a:ext cx="85345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ифагор учил, что точка символизирует число 1, линия – число 2, плоскость – число 3, многогранники – число 4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Греки полагали, что мир состоит из четырех элементов: огонь, земля, вода и воздух. Греки пришли к заключению, что формами частиц или элементов были правильные геометрические тела. Земные частицы были кубами; огненные частицы – тетраэдрами; водные частицы – икосаэдрами; воздушные частицы – октаэдрами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Куб 4"/>
          <p:cNvSpPr/>
          <p:nvPr/>
        </p:nvSpPr>
        <p:spPr>
          <a:xfrm>
            <a:off x="7786800" y="5519880"/>
            <a:ext cx="1357200" cy="1357200"/>
          </a:xfrm>
          <a:prstGeom prst="cube">
            <a:avLst>
              <a:gd name="adj" fmla="val 25027"/>
            </a:avLst>
          </a:prstGeom>
          <a:solidFill>
            <a:srgbClr val="3399ff">
              <a:alpha val="50000"/>
            </a:srgbClr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5"/>
          <p:cNvSpPr txBox="1"/>
          <p:nvPr/>
        </p:nvSpPr>
        <p:spPr>
          <a:xfrm>
            <a:off x="900000" y="260280"/>
            <a:ext cx="72010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Числа и фор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80288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пяти симметричным правильным телам древних добавлена сфера. Пять пифагорейских тел таковы: тетраэдр с четырьмя гранями, которые являются равносторонними треугольниками, куб с шестью гранями-квадратами, октаэдр с восемью гранями – равносторонними треугольниками, икосаэдр с двадцатью гранями – правильными пятиугольник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500040" y="1000080"/>
            <a:ext cx="7943760" cy="37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ba7f1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имметричные</a:t>
            </a:r>
            <a:endParaRPr b="0" lang="en-US" sz="1800" spc="1" strike="noStrike">
              <a:ln w="9360">
                <a:solidFill>
                  <a:srgbClr val="fba7f1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ba7f1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ba7f1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еометрические тела</a:t>
            </a:r>
            <a:endParaRPr b="0" lang="en-US" sz="1800" spc="1" strike="noStrike">
              <a:ln w="9360">
                <a:solidFill>
                  <a:srgbClr val="fba7f1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50560" y="2565000"/>
            <a:ext cx="7993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я Пифагора следует разбить на две составляющие части: научный подход к познанию мира и религиозно - оккультный образ жизни, проповедуемый Пифагором. Доподлинно неизвестны заслуги Пифагора в первой части, так как ему позднее приписывали все, созданное последователями в рамках школы пифагореизма. Вторая часть превалирует в учении Пифагора, и именно она осталась в сознании большинства античных авто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755640" y="404640"/>
            <a:ext cx="7272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Философское уч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34136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мвлих собрал тридцать девять символических изречений Пифагора и дал им интерпретацию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Дует ветер, поклоняйся шуму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Помогай человеку в поднятии тяжести, но не помогай в сложении ее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Не позволяй ласточкам селиться в своем доме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Не протягивай охотно свою правую руку никому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Поднявшись с постели, сгладь отпечатки тела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вестны в наше время «Золотые стихи», приписываемые Пифагору, хотя относительно авторства тут имеются определенные сомн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WordArt 4"/>
          <p:cNvSpPr txBox="1"/>
          <p:nvPr/>
        </p:nvSpPr>
        <p:spPr>
          <a:xfrm>
            <a:off x="684360" y="620640"/>
            <a:ext cx="7524720" cy="1047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Символические афоризмы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Пифагора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3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5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8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80"/>
                            </p:stCondLst>
                            <p:childTnLst>
                              <p:par>
                                <p:cTn id="5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7080"/>
                            </p:stCondLst>
                            <p:childTnLst>
                              <p:par>
                                <p:cTn id="5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9080"/>
                            </p:stCondLst>
                            <p:childTnLst>
                              <p:par>
                                <p:cTn id="5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1080"/>
                            </p:stCondLst>
                            <p:childTnLst>
                              <p:par>
                                <p:cTn id="5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3080"/>
                            </p:stCondLst>
                            <p:childTnLst>
                              <p:par>
                                <p:cTn id="6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Попытка применить математические открытия Пифагора к умозрительным физическим построениям приводила к любопытным результатам. Предполагалось, что каждая планета при своем обращении вокруг Земли издает, проходя сквозь чистый воздух, или «эфир», тон определенной высоты. Высота звука меняется в зависимости от скорости движения планеты, скорость же зависит от расстояния до Земли. Сливаясь, небесные звуки образуют то, что получило название «гармония сфер», или «музыки сфер», ссылки на которую нередки в европейской литературе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611280" y="476280"/>
            <a:ext cx="7993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ffffff"/>
                  </a:solidFill>
                  <a:miter/>
                </a:ln>
                <a:solidFill>
                  <a:srgbClr val="9900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чинения Пифагора</a:t>
            </a:r>
            <a:endParaRPr b="0" lang="en-US" sz="1800" spc="1" strike="noStrike">
              <a:ln w="44280">
                <a:solidFill>
                  <a:srgbClr val="ffffff"/>
                </a:solidFill>
                <a:miter/>
              </a:ln>
              <a:solidFill>
                <a:srgbClr val="9900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0" y="2144520"/>
            <a:ext cx="91440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В противоположность всеобщему мнению того века, Пифагор говорил, что огонь является наиважнейшим из всех элементов, что центр является наиболее важной частью каждого тела. Как огонь Весты находится в середине дома, так и середина Вселенной представляет пылающую сферу небесного сия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WordArt 6"/>
          <p:cNvSpPr txBox="1"/>
          <p:nvPr/>
        </p:nvSpPr>
        <p:spPr>
          <a:xfrm>
            <a:off x="539640" y="404640"/>
            <a:ext cx="79930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Пифагорейская </a:t>
            </a:r>
            <a:endParaRPr b="0" lang="en-US" sz="1800" spc="1" strike="noStrike">
              <a:ln w="38160">
                <a:solidFill>
                  <a:srgbClr val="00ff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астрономия</a:t>
            </a:r>
            <a:endParaRPr b="0" lang="en-US" sz="1800" spc="1" strike="noStrike">
              <a:ln w="38160">
                <a:solidFill>
                  <a:srgbClr val="00ff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0004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499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БСЭ, гл. редактор Б.А. Введенский, 2-е издание, т. 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499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Энциклопедический словарь русского библиографического института «грана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499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Э.Шуре. Пер. с французского Е.Писаревой. «Великие Посвященны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499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Энциклопедический словарь юного математика М. «Педагогика»1989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499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И.М. Смирнова, В.А.Смирнов. Геометрия 7-9. изд. «Мнемозина» 2007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499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Л.С. Атанасян. Геометрия 7-9, Геометрия 10-11. Изд. «Просвещение» 2007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499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И.С. Макарова. Новые олимпиады по математике. Ростов н/Д, «Феникс» 2005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499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Ж.Черняк, А.Черняк. Математика. Решение наиболее трудных задач из Сканави. М., «Айрис Пресс Рольф»1999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499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Математика в школе. Журналы 2003-2008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499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499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611280" y="0"/>
            <a:ext cx="8136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ffffff"/>
                  </a:solidFill>
                  <a:miter/>
                </a:ln>
                <a:solidFill>
                  <a:srgbClr val="990099"/>
                </a:solidFill>
                <a:latin typeface="Impact"/>
              </a:rPr>
              <a:t>Использованная </a:t>
            </a:r>
            <a:endParaRPr b="0" lang="en-US" sz="1800" spc="1" strike="noStrike">
              <a:ln w="50760">
                <a:solidFill>
                  <a:srgbClr val="ffffff"/>
                </a:solidFill>
                <a:miter/>
              </a:ln>
              <a:solidFill>
                <a:srgbClr val="99009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ffffff"/>
                  </a:solidFill>
                  <a:miter/>
                </a:ln>
                <a:solidFill>
                  <a:srgbClr val="990099"/>
                </a:solidFill>
                <a:latin typeface="Impact"/>
              </a:rPr>
              <a:t>литература</a:t>
            </a:r>
            <a:endParaRPr b="0" lang="en-US" sz="1800" spc="1" strike="noStrike">
              <a:ln w="50760">
                <a:solidFill>
                  <a:srgbClr val="ffffff"/>
                </a:solidFill>
                <a:miter/>
              </a:ln>
              <a:solidFill>
                <a:srgbClr val="990099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4000"/>
                            </p:stCondLst>
                            <p:childTnLst>
                              <p:par>
                                <p:cTn id="6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6000"/>
                            </p:stCondLst>
                            <p:childTnLst>
                              <p:par>
                                <p:cTn id="6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8000"/>
                            </p:stCondLst>
                            <p:childTnLst>
                              <p:par>
                                <p:cTn id="7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640" y="23320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оздать альбом о жизни и деятельности Пифаго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ассмотреть задачи, при решении которых применяется теорема Пифаго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2050920" y="260280"/>
            <a:ext cx="504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aa99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ь работы</a:t>
            </a:r>
            <a:endParaRPr b="0" lang="en-US" sz="1800" spc="1" strike="noStrike">
              <a:ln w="9360">
                <a:solidFill>
                  <a:srgbClr val="faa99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45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1"/>
          <p:cNvGrpSpPr/>
          <p:nvPr/>
        </p:nvGrpSpPr>
        <p:grpSpPr>
          <a:xfrm>
            <a:off x="450720" y="1852560"/>
            <a:ext cx="8693280" cy="4633920"/>
            <a:chOff x="450720" y="1852560"/>
            <a:chExt cx="8693280" cy="4633920"/>
          </a:xfrm>
        </p:grpSpPr>
        <p:pic>
          <p:nvPicPr>
            <p:cNvPr id="177" name="Rectangle 1" descr=""/>
            <p:cNvPicPr/>
            <p:nvPr/>
          </p:nvPicPr>
          <p:blipFill>
            <a:blip r:embed="rId1"/>
            <a:stretch/>
          </p:blipFill>
          <p:spPr>
            <a:xfrm>
              <a:off x="450720" y="1852560"/>
              <a:ext cx="8693280" cy="46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89040" y="2112480"/>
              <a:ext cx="821520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Пифаго́р Са́мосский (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Times New Roman"/>
                  <a:ea typeface="Arial Unicode MS"/>
                  <a:hlinkClick r:id="rId2"/>
                </a:rPr>
                <a:t>лат.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Pythagoras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; 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Times New Roman"/>
                  <a:ea typeface="Arial Unicode MS"/>
                  <a:hlinkClick r:id="rId3"/>
                </a:rPr>
                <a:t>570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—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Times New Roman"/>
                  <a:ea typeface="Arial Unicode MS"/>
                  <a:hlinkClick r:id="rId4"/>
                </a:rPr>
                <a:t>490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 гг. до н. э.) — древнегреческий 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Times New Roman"/>
                  <a:ea typeface="Arial Unicode MS"/>
                  <a:hlinkClick r:id="rId5"/>
                </a:rPr>
                <a:t>философ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 и математик, создатель религиозно-философской школы пифагорейце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Историю жизни Пифагора трудно отделить от легенд, представляющих Пифагора в качестве полубога и чудотворца, совершенного . Самые  ранние известные источники писали о Пифагоре 200 лет спустя после его смерти, причём сам Пифагор не оставил собственных письменных трудов, и все сведения о нём и его учении основываются на трудах его учеников, не всегда беспристраст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6" descr=""/>
          <p:cNvPicPr/>
          <p:nvPr/>
        </p:nvPicPr>
        <p:blipFill>
          <a:blip r:embed="rId6"/>
          <a:stretch/>
        </p:blipFill>
        <p:spPr>
          <a:xfrm>
            <a:off x="6643800" y="142920"/>
            <a:ext cx="1714320" cy="2112840"/>
          </a:xfrm>
          <a:prstGeom prst="rect">
            <a:avLst/>
          </a:prstGeom>
          <a:ln w="0">
            <a:noFill/>
          </a:ln>
        </p:spPr>
      </p:pic>
      <p:sp>
        <p:nvSpPr>
          <p:cNvPr id="180" name="WordArt 7"/>
          <p:cNvSpPr txBox="1"/>
          <p:nvPr/>
        </p:nvSpPr>
        <p:spPr>
          <a:xfrm>
            <a:off x="1403280" y="260280"/>
            <a:ext cx="5040360" cy="14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Биография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"/>
          <p:cNvSpPr txBox="1"/>
          <p:nvPr/>
        </p:nvSpPr>
        <p:spPr>
          <a:xfrm>
            <a:off x="1116000" y="0"/>
            <a:ext cx="65530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33cccc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Пифагор и пифагорейцы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33cccc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Содержимое 6"/>
          <p:cNvSpPr/>
          <p:nvPr/>
        </p:nvSpPr>
        <p:spPr>
          <a:xfrm>
            <a:off x="0" y="1268280"/>
            <a:ext cx="914400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Когда Пифагор поселился на юге нынешней Италии, он основал общество философов – пифагорейский сою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Пифагорейцы много занимались наукой, особенно математ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Среди последователей Пифагора оказалось немало представителей знати, которые пытались изменить законы в своих городах в соответствии с пифагорейской доктриной. Недовольство большинства населения, не разделяющего идеалов философа, вылилось в кровавые мятежи в Кротоне и Тарен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Много пифагорейцев погибло, выжившие рассеялись по Италии и Гре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0" y="1052640"/>
            <a:ext cx="91440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ПОЛЛОНИЙ ТИАН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Проповедовал учение Пифагора, противопоставляя его христианств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РИСТОКС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отличие от философа Пифагора, считавшего основой музыки числовые пропорции, Аристоксен считал таковой гармонию, которая определяется на слу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ЫМА ЦЯ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Составил трактат «Математика в девяти книгах»,  в котором объяснялись действия с дробями, теорема Пифагора , решение уравнений и многое друго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ЭПАМИНО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паминонд учился у философа-пифагорейца Лисиса, который бежал в Фивы, уцелев после сожжения собрания пифагорейцев в Кротон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1116000" y="549360"/>
            <a:ext cx="68407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Сподвижники Пифагор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000"/>
                            </p:stCondLst>
                            <p:childTnLst>
                              <p:par>
                                <p:cTn id="1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51e"/>
            </a:gs>
            <a:gs pos="100000">
              <a:srgbClr val="4f81b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ый треугольник 4"/>
          <p:cNvSpPr/>
          <p:nvPr/>
        </p:nvSpPr>
        <p:spPr>
          <a:xfrm>
            <a:off x="179280" y="4149720"/>
            <a:ext cx="2571840" cy="2500200"/>
          </a:xfrm>
          <a:prstGeom prst="rtTriangle">
            <a:avLst/>
          </a:prstGeom>
          <a:noFill/>
          <a:ln w="190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В современном мире Пифагор считается великим математиком и космологистом древности, однако ранние свидетельства до н.э. не упоминают о таких его заслугах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Античные авторы нашей эры отдают Пифагору авторство известной теоремы: квадрат гипотенузы равен сумме квадратов катетов. Такое мнение основывается на сведениях Аполлодора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исчислителя и на стихотворных строках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«В день, когда Пифагор открыл свой чертеж знаменитый, Славную он за него жертву быками воздвиг»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WordArt 6"/>
          <p:cNvSpPr txBox="1"/>
          <p:nvPr/>
        </p:nvSpPr>
        <p:spPr>
          <a:xfrm>
            <a:off x="900000" y="404640"/>
            <a:ext cx="69850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Научные достижения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150"/>
                            </p:stCondLst>
                            <p:childTnLst>
                              <p:par>
                                <p:cTn id="2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6850"/>
                            </p:stCondLst>
                            <p:childTnLst>
                              <p:par>
                                <p:cTn id="2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1400"/>
                            </p:stCondLst>
                            <p:childTnLst>
                              <p:par>
                                <p:cTn id="2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ТЕОРЕМА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прямоугольном треугольнике квадрат гипотенузы равен сумме квадратов кате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c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тя эта теорема связывается с имен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ифагора, она была известна задол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 него. В вавилонских текстах э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орема встречается за 1200 лет до Пифаго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1332000" y="260280"/>
            <a:ext cx="676908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орема Пифагора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8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8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8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8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800"/>
                            </p:stCondLst>
                            <p:childTnLst>
                              <p:par>
                                <p:cTn id="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6840" y="1599840"/>
            <a:ext cx="66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Дан треугольник со сторонами 13 см, 14 см и 15 см. Вычислите высоту треугольника к средней по величине сторон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Решение.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усть  отрезок СН = х, тогда АН = 14 – х, Используя теорему Пифагора, составим систему уравнени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(14 – х)² +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² =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X ²+ h² = 13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ычтем из первого уравнения второ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196 – 28х = (15 – 13)(15 + 13), отсюда 28х:= 140, х = 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Из треугольника ВСН следуе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² = 13² – 5², h² = 144, h = 1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                          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Ответ:12 с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Левая фигурная скобка 5"/>
          <p:cNvSpPr/>
          <p:nvPr/>
        </p:nvSpPr>
        <p:spPr>
          <a:xfrm>
            <a:off x="500040" y="3571920"/>
            <a:ext cx="142920" cy="64296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642960"/>
              <a:gd name="textAreaBottom" fmla="*/ 63936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934920" y="95400"/>
            <a:ext cx="727236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2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Теорема Пифагора</a:t>
            </a:r>
            <a:endParaRPr b="0" lang="en-US" sz="1800" spc="1" strike="noStrike">
              <a:ln w="648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(решение задач)</a:t>
            </a:r>
            <a:endParaRPr b="0" lang="en-US" sz="1800" spc="1" strike="noStrike">
              <a:ln w="648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193" name="Picture 7" descr="Прямоугольный треугольник, теорема Пифагора"/>
          <p:cNvPicPr/>
          <p:nvPr/>
        </p:nvPicPr>
        <p:blipFill>
          <a:blip r:embed="rId2"/>
          <a:stretch/>
        </p:blipFill>
        <p:spPr>
          <a:xfrm>
            <a:off x="6732720" y="1916280"/>
            <a:ext cx="2411280" cy="15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500"/>
                            </p:stCondLst>
                            <p:childTnLst>
                              <p:par>
                                <p:cTn id="4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ffff"/>
            </a:gs>
            <a:gs pos="100000">
              <a:srgbClr val="ff33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-252720" y="1341000"/>
            <a:ext cx="72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 преданию гармоническое среднее ввел Пифагор выразив с его помощью отношение основных гармонических интервалов. Пифагор установил, что вместе со струной длиной 121, созвучно сливаясь с ней, звучат струны того же натяжения с длинами 61, 81 и 91, при этом 9 есть среднее арифметическое чисел 6 и 12, а 8 он определил как среднее гармоническое этих чисел. Это созвучие называлось тетрадой. Пифагорейцы считали , что тетрада есть «та гамма, по которой поют сирены».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1332000" y="260280"/>
            <a:ext cx="6337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редние значения</a:t>
            </a:r>
            <a:endParaRPr b="0" lang="en-US" sz="1800" spc="1" strike="noStrike">
              <a:ln w="4428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96" name="Picture 4" descr="019"/>
          <p:cNvPicPr/>
          <p:nvPr/>
        </p:nvPicPr>
        <p:blipFill>
          <a:blip r:embed="rId1"/>
          <a:stretch/>
        </p:blipFill>
        <p:spPr>
          <a:xfrm>
            <a:off x="7020000" y="1413000"/>
            <a:ext cx="1914480" cy="259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3:04:26Z</dcterms:created>
  <dc:creator>Аслан</dc:creator>
  <dc:description/>
  <dc:language>en-US</dc:language>
  <cp:lastModifiedBy>Я</cp:lastModifiedBy>
  <dcterms:modified xsi:type="dcterms:W3CDTF">2011-12-09T13:02:33Z</dcterms:modified>
  <cp:revision>101</cp:revision>
  <dc:subject/>
  <dc:title>Слайд 1</dc:title>
</cp:coreProperties>
</file>