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33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jpeg" ContentType="image/jpeg"/>
  <Override PartName="/ppt/media/image8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114-74CE-4732-B8D9-3391D759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B28-4A03-497C-9E75-3BCA2B0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BD8-272F-4AC0-8F7F-9767F225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36-5A6A-42B1-BCD0-2FF69EE9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7A6-5A05-4327-9123-AB5410DF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4F7-01B0-46A2-9890-819B2B42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3E3-C957-4FFC-9AA7-5933787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F99-BC8F-4D19-A70D-6DD23FB8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04E-A82D-43BC-82A2-D7A0FC0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06A-0470-4AC5-B251-EC15B57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1C9-61D4-4CD1-9C10-177F9C0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433-5256-4CA6-9B5A-80400B1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DD5B-2BB6-4F78-8787-1D87626E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1971720" cy="173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134604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40" y="312264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732720" y="620640"/>
            <a:ext cx="159516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492360" y="3573360"/>
            <a:ext cx="4608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50880" y="1325520"/>
            <a:ext cx="637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ырь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– матери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ля дальнейш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рабо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518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816360" cy="26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03640" cy="308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514600" cy="196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0" r="7358" b="0"/>
          <a:stretch/>
        </p:blipFill>
        <p:spPr>
          <a:xfrm>
            <a:off x="3276720" y="2924280"/>
            <a:ext cx="561636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95640" cy="458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64000" y="1832040"/>
            <a:ext cx="5256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16520" cy="5500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05240" y="2571840"/>
            <a:ext cx="4838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11280" y="476280"/>
            <a:ext cx="4381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305000"/>
            <a:ext cx="8497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Мастер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челове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ладеющий мастерств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умеющий дел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ое-то де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197000"/>
            <a:ext cx="835164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Мастерств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эт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нание + ум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028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стерство - 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ехно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сство, умение, мастер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логия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нание, ум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4133880"/>
            <a:ext cx="3024360" cy="25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86360" y="23684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2924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124000" y="177300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67280" y="1773360"/>
            <a:ext cx="1296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9288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3480" y="90792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328760" cy="99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5084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32000" y="43131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– часть живо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46862" t="11156" r="0" b="5899"/>
          <a:stretch/>
        </p:blipFill>
        <p:spPr>
          <a:xfrm>
            <a:off x="5364000" y="115920"/>
            <a:ext cx="3505320" cy="410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3273480"/>
            <a:ext cx="56880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57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360" y="1197000"/>
            <a:ext cx="34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СКАЛЬ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6224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1790640" cy="263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484360" y="4797360"/>
            <a:ext cx="16495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0:50:58Z</dcterms:created>
  <dc:creator>Loner-XP</dc:creator>
  <dc:description/>
  <dc:language>en-US</dc:language>
  <cp:lastModifiedBy>Loner-XP</cp:lastModifiedBy>
  <dcterms:modified xsi:type="dcterms:W3CDTF">2011-12-09T21:22:45Z</dcterms:modified>
  <cp:revision>6</cp:revision>
  <dc:subject/>
  <dc:title>Слайд 1</dc:title>
</cp:coreProperties>
</file>