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5.png" ContentType="image/png"/>
  <Override PartName="/ppt/media/image19.jpeg" ContentType="image/jpeg"/>
  <Override PartName="/ppt/media/image22.jpeg" ContentType="image/jpeg"/>
  <Override PartName="/ppt/media/image9.png" ContentType="image/png"/>
  <Override PartName="/ppt/media/image27.jpeg" ContentType="image/jpeg"/>
  <Override PartName="/ppt/media/image10.png" ContentType="image/png"/>
  <Override PartName="/ppt/media/image33.jpeg" ContentType="image/jpeg"/>
  <Override PartName="/ppt/media/image5.png" ContentType="image/png"/>
  <Override PartName="/ppt/media/image29.jpeg" ContentType="image/jpeg"/>
  <Override PartName="/ppt/media/image30.png" ContentType="image/png"/>
  <Override PartName="/ppt/media/image28.jpeg" ContentType="image/jpeg"/>
  <Override PartName="/ppt/media/image7.jpeg" ContentType="image/jpeg"/>
  <Override PartName="/ppt/media/image18.png" ContentType="image/png"/>
  <Override PartName="/ppt/media/image6.png" ContentType="image/png"/>
  <Override PartName="/ppt/media/image14.jpeg" ContentType="image/jpeg"/>
  <Override PartName="/ppt/media/image8.png" ContentType="image/png"/>
  <Override PartName="/ppt/media/image31.jpeg" ContentType="image/jpeg"/>
  <Override PartName="/ppt/media/image13.jpeg" ContentType="image/jpeg"/>
  <Override PartName="/ppt/media/image23.png" ContentType="image/png"/>
  <Override PartName="/ppt/media/image34.png" ContentType="image/png"/>
  <Override PartName="/ppt/media/image12.jpeg" ContentType="image/jpeg"/>
  <Override PartName="/ppt/media/image4.png" ContentType="image/png"/>
  <Override PartName="/ppt/media/image3.png" ContentType="image/png"/>
  <Override PartName="/ppt/media/image2.jpeg" ContentType="image/jpeg"/>
  <Override PartName="/ppt/media/image1.png" ContentType="image/png"/>
  <Override PartName="/ppt/media/image24.png" ContentType="image/png"/>
  <Override PartName="/ppt/media/image11.jpeg" ContentType="image/jpeg"/>
  <Override PartName="/ppt/media/image15.jpeg" ContentType="image/jpeg"/>
  <Override PartName="/ppt/media/image16.jpeg" ContentType="image/jpeg"/>
  <Override PartName="/ppt/media/image32.jpeg" ContentType="image/jpeg"/>
  <Override PartName="/ppt/media/image17.png" ContentType="image/png"/>
  <Override PartName="/ppt/media/image20.jpeg" ContentType="image/jpeg"/>
  <Override PartName="/ppt/media/image2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80C2-797E-477A-B7B8-34E5457A3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871D-F285-4564-AC4E-9402FD422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397B-529B-4C1E-90C1-0F735E408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8B89-8426-4314-942D-E2AF31C72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CDE6-AA26-47DD-94DD-3A9DCBFDC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6CF0-948D-4AF8-B333-D4A9CA9C4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5B3F-13A9-4365-BCCC-C2CD51ADE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9D25-3659-45AF-AEAD-C6BC3130D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0004-CFC0-4EF1-B498-364CA741A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DA4E-BA8B-4C45-B52D-BD81EF5AF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2CDF-B9BC-41EE-8078-D61DAE148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537C-5BBD-4E32-9FA6-C4294B079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84F23-99F1-4E02-824E-383577A780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908000" y="692280"/>
            <a:ext cx="1971720" cy="17366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4572000" y="692280"/>
            <a:ext cx="1346040" cy="14396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539640" y="3122640"/>
            <a:ext cx="2376720" cy="17827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6732720" y="620640"/>
            <a:ext cx="1595160" cy="23767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3492360" y="3573360"/>
            <a:ext cx="4608720" cy="27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550880" y="1325520"/>
            <a:ext cx="6375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Сырье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– материа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для дальнейшей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обработк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596360" cy="51832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4788000" y="3860640"/>
            <a:ext cx="3816360" cy="26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4103640" cy="30844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611280" y="4076640"/>
            <a:ext cx="2514600" cy="19623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rcRect l="0" t="0" r="7358" b="0"/>
          <a:stretch/>
        </p:blipFill>
        <p:spPr>
          <a:xfrm>
            <a:off x="3276720" y="2924280"/>
            <a:ext cx="5616360" cy="36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3095640" cy="45817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3564000" y="1832040"/>
            <a:ext cx="5256000" cy="39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916520" cy="55008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3924360" y="3213000"/>
            <a:ext cx="487692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877000" cy="41148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305240" y="2571840"/>
            <a:ext cx="483876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2411280" y="476280"/>
            <a:ext cx="438156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50920" y="1305000"/>
            <a:ext cx="84978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Мастер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– человек,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владеющий мастерством,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умеющий делать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какое-то дело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1197000"/>
            <a:ext cx="8351640" cy="21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Мастерство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– это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знание + умение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260280"/>
            <a:ext cx="914400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Мастерство - </a:t>
            </a:r>
            <a:r>
              <a:rPr b="0" i="1" lang="ru-RU" sz="6000" spc="-1" strike="noStrike">
                <a:solidFill>
                  <a:srgbClr val="000000"/>
                </a:solidFill>
                <a:latin typeface="Arial"/>
              </a:rPr>
              <a:t>технологи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техно</a:t>
            </a:r>
            <a:r>
              <a:rPr b="0" i="1" lang="ru-RU" sz="5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искусство, умение, мастерств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логия</a:t>
            </a:r>
            <a:r>
              <a:rPr b="0" i="1" lang="ru-RU" sz="5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знание, умен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95280" y="4133880"/>
            <a:ext cx="3024360" cy="25462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186360" y="2368440"/>
            <a:ext cx="107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ир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708360" y="2924280"/>
            <a:ext cx="0" cy="12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 flipV="1">
            <a:off x="2124000" y="1773000"/>
            <a:ext cx="122400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067280" y="1773360"/>
            <a:ext cx="129672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68560" y="928800"/>
            <a:ext cx="102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ЖИ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343480" y="907920"/>
            <a:ext cx="134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ЖИ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68360" y="1268280"/>
            <a:ext cx="1328760" cy="9972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6084720" y="1341360"/>
            <a:ext cx="1508400" cy="10065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132000" y="4313160"/>
            <a:ext cx="43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еловек – часть живой прир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3816360" cy="2772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rcRect l="46862" t="11156" r="0" b="5899"/>
          <a:stretch/>
        </p:blipFill>
        <p:spPr>
          <a:xfrm>
            <a:off x="5364000" y="115920"/>
            <a:ext cx="3505320" cy="41036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179280" y="3273480"/>
            <a:ext cx="5688000" cy="32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5788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220360" y="1197000"/>
            <a:ext cx="348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НАСКАЛЬНЫ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РИСУН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932360" y="476280"/>
            <a:ext cx="3527280" cy="26463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2262240" cy="29527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4716360" y="3500280"/>
            <a:ext cx="4032360" cy="30258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395280" y="3500280"/>
            <a:ext cx="1790640" cy="26370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5"/>
          <a:stretch/>
        </p:blipFill>
        <p:spPr>
          <a:xfrm>
            <a:off x="2484360" y="4797360"/>
            <a:ext cx="1649520" cy="12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8T00:50:58Z</dcterms:created>
  <dc:creator>Loner-XP</dc:creator>
  <dc:description/>
  <dc:language>en-US</dc:language>
  <cp:lastModifiedBy>Loner-XP</cp:lastModifiedBy>
  <dcterms:modified xsi:type="dcterms:W3CDTF">2011-12-09T21:22:45Z</dcterms:modified>
  <cp:revision>6</cp:revision>
  <dc:subject/>
  <dc:title>Слайд 1</dc:title>
</cp:coreProperties>
</file>