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5CA-A09D-4878-A3A2-13677C64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8C0-78E8-4E3B-A33D-B602A2EF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812-5B44-428B-80A6-3587E726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53F-CB8E-4301-A15A-B4AAF973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CA7-A8DC-4F39-B931-0D208833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714-CFC1-4853-AA27-E828AAF4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C4A-E6A1-4FFA-9819-4EAF1D8D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110-CF66-44D9-B28D-1C296C1A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BFC-6B96-46E0-8096-A173E58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796-C502-46CF-8F36-330E49D8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373-9723-438F-997B-2C4F4C16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8FE-176F-44D5-9FB0-2FBC08F8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8F4B-1F8C-4702-889B-27027824A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357880" y="500040"/>
            <a:ext cx="3571920" cy="23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ва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ергееви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Тургене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5429160" y="3786120"/>
            <a:ext cx="3429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1818 - 1883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омпозиция оче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красный июльский день (погода установилась надолго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«Кроткая заря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знойный полде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спокойный зак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64000" y="4510080"/>
            <a:ext cx="3311640" cy="2347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076720" y="1989000"/>
            <a:ext cx="3903840" cy="234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84360" y="4005360"/>
            <a:ext cx="3840120" cy="248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чь автора музыкальна, мелодична, насыщена яркими, запоминающимися </a:t>
            </a: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эпитетами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«сверкающие обагренные кусты», «красные, золотые потоки молодого, горячего свет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ургенев часто употребляет и такие художественные средства, как </a:t>
            </a: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сравн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метаф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другие формы переноса значения слов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верхний край облачка «засверкает змейками», «хлынули играющие лучи», «тонкий язык света лизнет голые сучья лозня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омпозиция оче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Скитания охот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дорога потеряна («Я остановился в недоуменье»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теперь путь найден («…нужно вправо взять…»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«заблудился совершенно» («пошел наудалую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4641840"/>
            <a:ext cx="3598920" cy="2216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Рисунок4"/>
          <p:cNvPicPr/>
          <p:nvPr/>
        </p:nvPicPr>
        <p:blipFill>
          <a:blip r:embed="rId3"/>
          <a:stretch/>
        </p:blipFill>
        <p:spPr>
          <a:xfrm>
            <a:off x="5148360" y="4614840"/>
            <a:ext cx="3384360" cy="2243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омпозиция оче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У костра в ночн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костер в ноч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пять деревенских мальч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Д/з:</a:t>
            </a: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990000"/>
                </a:solidFill>
                <a:latin typeface="Calibri"/>
              </a:rPr>
              <a:t>продолжи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Calibri"/>
              </a:rPr>
              <a:t>составление пла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Calibri"/>
              </a:rPr>
              <a:t>посчитать, сколько все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Calibri"/>
              </a:rPr>
              <a:t>«страшило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Calibri"/>
              </a:rPr>
              <a:t>рассказывают ребя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313160" cy="3201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омпозиция оче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У костра в ночн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костер в ноч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ять деревенских мальч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рассказ Ильюши о случае на кустарной бумажной фабри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рассказ Кости о том, как русалка Гаврилу «испортила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 рассказы о псаре Ермиле и оборотн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 неожиданная тревог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омпозиция оче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) рассказ Ильюши 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ойном барине и баб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ьян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) рассказ Павлуши о «предвидении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) рассказы Ильюши и Павлуши о Тришке (антихристе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) разговоры о стонах в бучиле, о лешем, о водян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) рассказ Кости об утонувшем Вас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) возвращение Павлуши («Я Васин голос слышал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тургенев11"/>
          <p:cNvPicPr/>
          <p:nvPr/>
        </p:nvPicPr>
        <p:blipFill>
          <a:blip r:embed="rId2"/>
          <a:stretch/>
        </p:blipFill>
        <p:spPr>
          <a:xfrm>
            <a:off x="5292720" y="115920"/>
            <a:ext cx="3654360" cy="245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омпозиция оче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Наступило утр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рассв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мальчики возвращаю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табу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Эпилог: смерть Павлу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4105080" cy="2543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24360" y="45896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651640" y="189000"/>
            <a:ext cx="3168360" cy="2120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651640" y="2421000"/>
            <a:ext cx="3168360" cy="2098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4"/>
          <p:cNvSpPr/>
          <p:nvPr/>
        </p:nvSpPr>
        <p:spPr>
          <a:xfrm>
            <a:off x="3929040" y="40464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ассказе «Бежин луг» перед нами открывается общая гармония – гармония природы и крестьянских ребятишек, стерегущих табу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ьчики, которых встретил охотник, не испытывают неловкости от присутствия постороннего человека и продолжают свой разговор, полный тайн, преданий и повер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44304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Случай, история, предание, легенда, небылица, поверье, быличк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Так может бы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так должно бы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так было»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вершившийся ф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ждый рассказ – это не тольк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«страшная история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веянная темнотой ноч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аинственными звуками; эта ещ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внутренний мир каждого ребенка, гамма чувст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ерований, пережи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59280" y="3935520"/>
            <a:ext cx="4284720" cy="292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60880" cy="400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32720" y="191628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77080" y="249228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306864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5543640" cy="33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ждый рассказ – это не только «страшная история», навеянная темнотой ночи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аинственными звуками; это еще и внутренний мир каждого ребенка, гамма чувств, верований, переживани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4220640"/>
            <a:ext cx="619272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се страшные истории в рассказ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добраны так, что о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армонируют и с ночны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ейзажем и с волнением дете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жаждущих чего-то необыкновен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тургенев7"/>
          <p:cNvPicPr/>
          <p:nvPr/>
        </p:nvPicPr>
        <p:blipFill>
          <a:blip r:embed="rId2"/>
          <a:stretch/>
        </p:blipFill>
        <p:spPr>
          <a:xfrm>
            <a:off x="5867280" y="836640"/>
            <a:ext cx="3073680" cy="5175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2000160" y="785880"/>
            <a:ext cx="2409840" cy="299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4357800" y="785880"/>
            <a:ext cx="237168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214200" y="3714840"/>
            <a:ext cx="8715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цу Тургенев принадлежал к старинному дворянскому роду, мать, урожденная Лутовинова, - богатая помещица; в ее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В 1827 семья переезжает в Москву; вначале Тургенев обучается в частных пансионах и у хороших домашних учителей, затем, в 1833, поступает на словесное отделение Московского университета, в 1834 переходит на историко-филологический факультет Санкт-Петербургского университ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8640" y="85716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6717960" y="9288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2924280" y="2142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Турген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85840" y="792360"/>
            <a:ext cx="8643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ургенев очень точно, детально передает речь своих героев. Он не только употребляет «народные» слова: диалектизмы, просторечия, но и делает речь героев индивидуальной. Особенности речи каждого мальчика дают читателям возможность лучше понять характеры героев, их образ мыс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1152360" y="-139680"/>
            <a:ext cx="6742440" cy="9316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"/>
          <p:cNvPicPr/>
          <p:nvPr/>
        </p:nvPicPr>
        <p:blipFill>
          <a:blip r:embed="rId3"/>
          <a:stretch/>
        </p:blipFill>
        <p:spPr>
          <a:xfrm>
            <a:off x="1547640" y="2550960"/>
            <a:ext cx="6088320" cy="430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14200" y="285840"/>
          <a:ext cx="8715600" cy="621036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ью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писание внешности, одежды, манеры держ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ртр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писание внешности, одежды, манеры держ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ртр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акие истории он рассказыв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акие истории он рассказыв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куда узнал Павлуша то, о чем он рассказал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куда знал Илюша то, о чем он рассказывал у костр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ак относится он к своим рассказа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ак относится он к своим рассказа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тносится он к чужим рассказам (Ильюши, Кости)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Как относится он к чужим рассказа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ак он относится к непонятным, странным происшествиям, которые пугают других мальчиков, к тому, что происходит у костр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ак он относится ко   всему, что происходит у костр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ожем ли мы судить о том, как относится к Павлуше автор? Согласны ли мы с ни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Что говорит автор об Илюше? Нравится ли он ему? Какое он вызывает отношение к себ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1000080" y="1643040"/>
            <a:ext cx="657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чему рассказ заканчивается эпилогом – гибелью Павлуш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 это связано со всем рассказом и   финалом (прекрасное утр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Напишите рассказ об одном из героев оче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И.С. Тургенев в возрасте 12 лет. Художник И. Пиркс(?)"/>
          <p:cNvPicPr/>
          <p:nvPr/>
        </p:nvPicPr>
        <p:blipFill>
          <a:blip r:embed="rId2"/>
          <a:stretch/>
        </p:blipFill>
        <p:spPr>
          <a:xfrm>
            <a:off x="0" y="0"/>
            <a:ext cx="4214880" cy="5214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И.С. Тургенев в возрасте 7 лет. Акварель неизвестного художника"/>
          <p:cNvPicPr/>
          <p:nvPr/>
        </p:nvPicPr>
        <p:blipFill>
          <a:blip r:embed="rId3"/>
          <a:stretch/>
        </p:blipFill>
        <p:spPr>
          <a:xfrm>
            <a:off x="4929120" y="0"/>
            <a:ext cx="4214880" cy="5214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54240" y="5500800"/>
            <a:ext cx="37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С. Тургенев в возрасте 12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292000" y="550080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С. Тургенев в возрасте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71680" y="4935600"/>
            <a:ext cx="79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Спасское было в то время настоящим барским имением. Широкие, длинные аллеи из исполинских лип и берез вели с разных сторон к господской усадьбе... За домом тянулся обширный, роскошный сад, густые, темные аллеи которого шли уступами к прудам, окаймлявшим сад и всю усадь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32000" y="198360"/>
            <a:ext cx="6551640" cy="457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2"/>
          <a:stretch/>
        </p:blipFill>
        <p:spPr>
          <a:xfrm>
            <a:off x="328680" y="-139680"/>
            <a:ext cx="8918640" cy="9316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4286160" y="85716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иски охотника» - цикл рассказов и очерков о жизни русской деревни и русском крестьянине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темой «Записок» были взаимоотношения помещиков и крестьян. Автор сборника рассказов выносит суровый приговор крепостному прав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 Россию и русского человека, положив начало «крестьянской теме» в отечественной словесности, «Записки охотника» стали смысловым фундаментом всего дальнейшего творчества Тургене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571680" y="1143000"/>
            <a:ext cx="3214440" cy="5132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alibri"/>
              </a:rPr>
              <a:t>Очерк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разновидность малой формы эпической литературы, чаще всего очерк посвящается современной автору жизни, фактам и люд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Художественный очерк сохраняет особенности образного изображения. И в этом очерк близок расск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Calibri"/>
              </a:rPr>
              <a:t>ОЧЕРК: АВТОР = РАССКАЗ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то он – рассказч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4167000" cy="626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3295800" cy="2471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Бежин луг»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мый поэтический и волшебный ОЧЕРК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Записок охотни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тургенев9"/>
          <p:cNvPicPr/>
          <p:nvPr/>
        </p:nvPicPr>
        <p:blipFill>
          <a:blip r:embed="rId2"/>
          <a:stretch/>
        </p:blipFill>
        <p:spPr>
          <a:xfrm>
            <a:off x="1187280" y="1989000"/>
            <a:ext cx="6912000" cy="4465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Вопросы по прочитанно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очерк называется «Бежин луг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о вы можете назвать главными героями произвед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композиция очерка? Определите временные рамки в произвед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5:50:11Z</dcterms:created>
  <dc:creator>Zver</dc:creator>
  <dc:description/>
  <dc:language>en-US</dc:language>
  <cp:lastModifiedBy>Admin</cp:lastModifiedBy>
  <dcterms:modified xsi:type="dcterms:W3CDTF">2011-12-10T11:53:58Z</dcterms:modified>
  <cp:revision>17</cp:revision>
  <dc:subject/>
  <dc:title>Слайд 1</dc:title>
</cp:coreProperties>
</file>