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5671-18ED-44B9-859E-91D2826D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0E6D-8528-4030-A5B3-25F835CB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1469-3FC2-4A9A-9FBB-41A02283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5D85-27AE-4231-B18C-F1999009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6BB5-AF09-41EC-A508-2EABD19D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107E-2894-497C-8DB8-DEC5332C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58D-CE2E-4365-B956-0670E759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5DED-FA9A-43D5-8D2C-90A1D0A5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F70-2853-403E-AE8A-3CC249C3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4338-A91B-4BEB-9C82-1A63CB1B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4EF8-E852-463E-959D-FFF90F8B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9A2A-B86F-4310-B52C-05FCEE66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1519-4BE3-4352-B8F9-D71E4C307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5357880" y="500040"/>
            <a:ext cx="3571920" cy="23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Ива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ергееви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Тургене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5429160" y="3786120"/>
            <a:ext cx="34290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(1818 - 1883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alibri"/>
              </a:rPr>
              <a:t>Композиция очер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красный июльский день (погода установилась надолго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) «Кроткая заря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) знойный полден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) спокойный зак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64000" y="4510080"/>
            <a:ext cx="3311640" cy="2347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076720" y="1989000"/>
            <a:ext cx="3903840" cy="2340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84360" y="4005360"/>
            <a:ext cx="3840120" cy="248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чь автора музыкальна, мелодична, насыщена яркими, запоминающимися </a:t>
            </a:r>
            <a:r>
              <a:rPr b="1" lang="en-US" sz="3200" spc="-1" strike="noStrike">
                <a:solidFill>
                  <a:srgbClr val="990000"/>
                </a:solidFill>
                <a:latin typeface="Calibri"/>
              </a:rPr>
              <a:t>эпитетами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«сверкающие обагренные кусты», «красные, золотые потоки молодого, горячего свет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ургенев часто употребляет и такие художественные средства, как </a:t>
            </a:r>
            <a:r>
              <a:rPr b="1" lang="en-US" sz="3200" spc="-1" strike="noStrike">
                <a:solidFill>
                  <a:srgbClr val="990000"/>
                </a:solidFill>
                <a:latin typeface="Calibri"/>
              </a:rPr>
              <a:t>сравнени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990000"/>
                </a:solidFill>
                <a:latin typeface="Calibri"/>
              </a:rPr>
              <a:t>метафо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и другие формы переноса значения слов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верхний край облачка «засверкает змейками», «хлынули играющие лучи», «тонкий язык света лизнет голые сучья лозняк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alibri"/>
              </a:rPr>
              <a:t>Композиция очер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Скитания охотни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) дорога потеряна («Я остановился в недоуменье»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) теперь путь найден («…нужно вправо взять…»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) «заблудился совершенно» («пошел наудалую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9640" y="4641840"/>
            <a:ext cx="3598920" cy="2216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Рисунок4"/>
          <p:cNvPicPr/>
          <p:nvPr/>
        </p:nvPicPr>
        <p:blipFill>
          <a:blip r:embed="rId3"/>
          <a:stretch/>
        </p:blipFill>
        <p:spPr>
          <a:xfrm>
            <a:off x="5148360" y="4614840"/>
            <a:ext cx="3384360" cy="2243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alibri"/>
              </a:rPr>
              <a:t>Композиция очер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У костра в ночн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) костер в ноч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) пять деревенских мальчик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)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alibri"/>
              </a:rPr>
              <a:t>Д/з:</a:t>
            </a: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990000"/>
                </a:solidFill>
                <a:latin typeface="Calibri"/>
              </a:rPr>
              <a:t>продолжи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Calibri"/>
              </a:rPr>
              <a:t>составление план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Calibri"/>
              </a:rPr>
              <a:t>посчитать, сколько все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Calibri"/>
              </a:rPr>
              <a:t>«страшилок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Calibri"/>
              </a:rPr>
              <a:t>рассказывают ребя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211640" y="3141720"/>
            <a:ext cx="4313160" cy="3201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alibri"/>
              </a:rPr>
              <a:t>Композиция очер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91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У костра в ночн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костер в ноч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пять деревенских мальчик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рассказ Ильюши о случае на кустарной бумажной фабрик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рассказ Кости о том, как русалка Гаврилу «испортила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) рассказы о псаре Ермиле и оборотн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) неожиданная тревог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alibri"/>
              </a:rPr>
              <a:t>Композиция очер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5075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) рассказ Ильюши 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ойном барине и баб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льян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) рассказ Павлуши о «предвидении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) рассказы Ильюши и Павлуши о Тришке (антихристе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) разговоры о стонах в бучиле, о лешем, о водяно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) рассказ Кости об утонувшем Вас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) возвращение Павлуши («Я Васин голос слышал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тургенев11"/>
          <p:cNvPicPr/>
          <p:nvPr/>
        </p:nvPicPr>
        <p:blipFill>
          <a:blip r:embed="rId2"/>
          <a:stretch/>
        </p:blipFill>
        <p:spPr>
          <a:xfrm>
            <a:off x="5292720" y="115920"/>
            <a:ext cx="3654360" cy="2454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0036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alibri"/>
              </a:rPr>
              <a:t>Композиция очер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84358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Наступило утр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) рассве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) мальчики возвращаю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 табун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Эпилог: смерть Павлуш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4360" y="3933720"/>
            <a:ext cx="4105080" cy="2543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724360" y="458964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651640" y="189000"/>
            <a:ext cx="3168360" cy="2120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5651640" y="2421000"/>
            <a:ext cx="3168360" cy="2098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4"/>
          <p:cNvSpPr/>
          <p:nvPr/>
        </p:nvSpPr>
        <p:spPr>
          <a:xfrm>
            <a:off x="3929040" y="404640"/>
            <a:ext cx="457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рассказе «Бежин луг» перед нами открывается общая гармония – гармония природы и крестьянских ребятишек, стерегущих табу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льчики, которых встретил охотник, не испытывают неловкости от присутствия постороннего человека и продолжают свой разговор, полный тайн, преданий и повер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3443040" cy="4824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alibri"/>
              </a:rPr>
              <a:t>Случай, история, предание, легенда, небылица, поверье, быличк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«Так может быть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«так должно быт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«так было»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овершившийся фа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аждый рассказ – это не тольк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«страшная история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веянная темнотой ноч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аинственными звуками; эта ещ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 внутренний мир каждого ребенка, гамма чувств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ерований, пережи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59280" y="3935520"/>
            <a:ext cx="4284720" cy="2922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60880" cy="4005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732720" y="191628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77080" y="249228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08720" y="306864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5543640" cy="33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ждый рассказ – это не только «страшная история», навеянная темнотой ночи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аинственными звуками; это еще и внутренний мир каждого ребенка, гамма чувств, верований, переживани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4220640"/>
            <a:ext cx="619272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се страшные истории в рассказ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добраны так, что он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армонируют и с ночны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ейзажем и с волнением дете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жаждущих чего-то необыкновенн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7" descr="тургенев7"/>
          <p:cNvPicPr/>
          <p:nvPr/>
        </p:nvPicPr>
        <p:blipFill>
          <a:blip r:embed="rId2"/>
          <a:stretch/>
        </p:blipFill>
        <p:spPr>
          <a:xfrm>
            <a:off x="5867280" y="836640"/>
            <a:ext cx="3073680" cy="5175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2000160" y="785880"/>
            <a:ext cx="2409840" cy="2990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4357800" y="785880"/>
            <a:ext cx="2371680" cy="29718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3"/>
          <p:cNvSpPr/>
          <p:nvPr/>
        </p:nvSpPr>
        <p:spPr>
          <a:xfrm>
            <a:off x="214200" y="3714840"/>
            <a:ext cx="8715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тцу Тургенев принадлежал к старинному дворянскому роду, мать, урожденная Лутовинова, - богатая помещица; в ее имении Спасское-Лутовиново (Мценский уезд Орловской губернии) прошли детские годы будущего писателя, рано научившегося тонко чувствовать природу и ненавидеть крепостное право. В 1827 семья переезжает в Москву; вначале Тургенев обучается в частных пансионах и у хороших домашних учителей, затем, в 1833, поступает на словесное отделение Московского университета, в 1834 переходит на историко-филологический факультет Санкт-Петербургского университ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8640" y="85716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вар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6717960" y="9288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2924280" y="2142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Турген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285840" y="792360"/>
            <a:ext cx="86439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Тургенев очень точно, детально передает речь своих героев. Он не только употребляет «народные» слова: диалектизмы, просторечия, но и делает речь героев индивидуальной. Особенности речи каждого мальчика дают читателям возможность лучше понять характеры героев, их образ мыс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1152360" y="-139680"/>
            <a:ext cx="6742440" cy="9316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" descr=""/>
          <p:cNvPicPr/>
          <p:nvPr/>
        </p:nvPicPr>
        <p:blipFill>
          <a:blip r:embed="rId3"/>
          <a:stretch/>
        </p:blipFill>
        <p:spPr>
          <a:xfrm>
            <a:off x="1547640" y="2550960"/>
            <a:ext cx="6088320" cy="4307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214200" y="285840"/>
          <a:ext cx="8715600" cy="6210360"/>
        </p:xfrm>
        <a:graphic>
          <a:graphicData uri="http://schemas.openxmlformats.org/drawingml/2006/table">
            <a:tbl>
              <a:tblPr/>
              <a:tblGrid>
                <a:gridCol w="4357800"/>
                <a:gridCol w="4357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лу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ью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писание внешности, одежды, манеры держа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ртре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писание внешности, одежды, манеры держа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ртре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акие истории он рассказыв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акие истории он рассказыв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ткуда узнал Павлуша то, о чем он рассказал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ткуда знал Илюша то, о чем он рассказывал у костр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Как относится он к своим рассказа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Как относится он к своим рассказа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относится он к чужим рассказам (Ильюши, Кости)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Как относится он к чужим рассказа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Как он относится к непонятным, странным происшествиям, которые пугают других мальчиков, к тому, что происходит у костр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Как он относится ко   всему, что происходит у костр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Можем ли мы судить о том, как относится к Павлуше автор? Согласны ли мы с ни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Что говорит автор об Илюше? Нравится ли он ему? Какое он вызывает отношение к себ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3"/>
          <p:cNvSpPr/>
          <p:nvPr/>
        </p:nvSpPr>
        <p:spPr>
          <a:xfrm>
            <a:off x="1000080" y="1643040"/>
            <a:ext cx="657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очему рассказ заканчивается эпилогом – гибелью Павлуш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ак это связано со всем рассказом и   финалом (прекрасное утро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Напишите рассказ об одном из героев очер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И.С. Тургенев в возрасте 12 лет. Художник И. Пиркс(?)"/>
          <p:cNvPicPr/>
          <p:nvPr/>
        </p:nvPicPr>
        <p:blipFill>
          <a:blip r:embed="rId2"/>
          <a:stretch/>
        </p:blipFill>
        <p:spPr>
          <a:xfrm>
            <a:off x="0" y="0"/>
            <a:ext cx="4214880" cy="52149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" descr="И.С. Тургенев в возрасте 7 лет. Акварель неизвестного художника"/>
          <p:cNvPicPr/>
          <p:nvPr/>
        </p:nvPicPr>
        <p:blipFill>
          <a:blip r:embed="rId3"/>
          <a:stretch/>
        </p:blipFill>
        <p:spPr>
          <a:xfrm>
            <a:off x="4929120" y="0"/>
            <a:ext cx="4214880" cy="52149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354240" y="5500800"/>
            <a:ext cx="37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С. Тургенев в возрасте 12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5292000" y="5500800"/>
            <a:ext cx="35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С. Тургенев в возрасте 7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571680" y="4935600"/>
            <a:ext cx="7929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Спасское было в то время настоящим барским имением. Широкие, длинные аллеи из исполинских лип и берез вели с разных сторон к господской усадьбе... За домом тянулся обширный, роскошный сад, густые, темные аллеи которого шли уступами к прудам, окаймлявшим сад и всю усадьб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332000" y="198360"/>
            <a:ext cx="6551640" cy="457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2"/>
          <a:stretch/>
        </p:blipFill>
        <p:spPr>
          <a:xfrm>
            <a:off x="328680" y="-139680"/>
            <a:ext cx="8918640" cy="9316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4286160" y="857160"/>
            <a:ext cx="457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иски охотника» - цикл рассказов и очерков о жизни русской деревни и русском крестьянине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темой «Записок» были взаимоотношения помещиков и крестьян. Автор сборника рассказов выносит суровый приговор крепостному прав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в Россию и русского человека, положив начало «крестьянской теме» в отечественной словесности, «Записки охотника» стали смысловым фундаментом всего дальнейшего творчества Тургене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571680" y="1143000"/>
            <a:ext cx="3214440" cy="5132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alibri"/>
              </a:rPr>
              <a:t>Очерк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разновидность малой формы эпической литературы, чаще всего очерк посвящается современной автору жизни, фактам и людя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Художественный очерк сохраняет особенности образного изображения. И в этом очерк близок расска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Calibri"/>
              </a:rPr>
              <a:t>ОЧЕРК: АВТОР = РАССКАЗЧ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1600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4000" spc="-1" strike="noStrike">
                <a:solidFill>
                  <a:srgbClr val="990000"/>
                </a:solidFill>
                <a:latin typeface="Calibri"/>
              </a:rPr>
              <a:t>Кто он – рассказчи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4167000" cy="6265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364000" y="3645000"/>
            <a:ext cx="3295800" cy="2471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alibri"/>
              </a:rPr>
              <a:t>«Бежин луг»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амый поэтический и волшебный ОЧЕРК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Записок охотни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тургенев9"/>
          <p:cNvPicPr/>
          <p:nvPr/>
        </p:nvPicPr>
        <p:blipFill>
          <a:blip r:embed="rId2"/>
          <a:stretch/>
        </p:blipFill>
        <p:spPr>
          <a:xfrm>
            <a:off x="1187280" y="1989000"/>
            <a:ext cx="6912000" cy="4465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alibri"/>
              </a:rPr>
              <a:t>Вопросы по прочитанно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очерк называется «Бежин луг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го вы можете назвать главными героями произвед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а композиция очерка? Определите временные рамки в произвед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05:50:11Z</dcterms:created>
  <dc:creator>Zver</dc:creator>
  <dc:description/>
  <dc:language>en-US</dc:language>
  <cp:lastModifiedBy>Admin</cp:lastModifiedBy>
  <dcterms:modified xsi:type="dcterms:W3CDTF">2011-12-10T11:53:58Z</dcterms:modified>
  <cp:revision>17</cp:revision>
  <dc:subject/>
  <dc:title>Слайд 1</dc:title>
</cp:coreProperties>
</file>