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7B1-8A93-44BD-B4EF-83B387C5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8B3-1092-43A3-B88A-F3831825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CDD63-CAF7-4143-A23C-0A3FC2DE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8D86F-ED4E-4ADB-8025-B8915673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FD3F1-32DA-4505-B0C8-28282ABD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EBB35-697C-457B-80C3-41C7FDA6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9F86A-B526-43AB-A4B8-977B0B2D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339DC-C5FE-4EF7-B5AD-D808D2D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D5507-146B-4315-8E44-3FD7D42B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1290F-DCBF-453E-B316-144FC1CD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8D763-98F0-40E1-A8D0-D2A1C879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C5B50-EF19-41F6-9678-A0F6E3BD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6C7-1D62-4A90-94C3-389179B6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6C27B-D910-49AB-8B53-C146F097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945C2-354B-4883-BDC3-5B821E5E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18454-9F15-4ADD-9C79-3CF5F133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EBC0A-B56E-4113-AE1C-A6D153A4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787B6-0BEF-4E0C-8000-75B037E9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78CC0-994B-4AA7-937A-BDF6BE8D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CC4B3-9C0C-4FA5-A899-49E3A4B9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AE41E-BD7D-435F-B8E2-3B12F23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EDFCA-C436-4C4F-A4EE-F8CA14D2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763B7-2547-40A6-A205-42C7B714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72F-5465-474F-A884-C5E9B0F5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D0356-B637-4AD3-9B08-1B22A9C7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AA19B-9C90-4C19-B561-05B65038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C859E-FDE5-409F-8489-D4A545D4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381D6-80F3-48F5-A978-EF289859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7DB23-5E74-4251-B841-62FC8680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8199E-4494-4F51-8004-0B58F961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53911-9CA9-4DFA-982B-A89BD970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BDAC5-2456-4D82-BAF8-C9F4B635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F77C1-193A-4119-BFFF-56BA2C15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1AD99-6EC5-4A83-AE32-D5661023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B76C-F51C-4D22-9126-351EA25C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DCA80-D19F-4BB4-85C4-C0F8F15D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0E482-02EB-48DA-9A8D-1DFC6CDC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C41EB-BE30-45EF-87A9-5901227A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E3704-AF52-4E87-8178-6B5FDE77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7999B-E888-4680-B4C6-AAB90C86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E2B30-4F91-4BEE-A2F2-2B85E956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8B9C3-55CE-42FD-A7E9-679C3B4B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65BE8-AB7C-4286-8175-8D9948F1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4B437-7370-4462-BC11-41245798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81599-4B99-46CD-A221-5B56314C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D921-55E9-4F51-B0FE-E131FB2E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E00C0-1652-4956-AF7A-0BB11795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E60C8-1184-41FF-89E6-938ACA0A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C4D81-FB2F-40D0-A74F-2445CE0B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E00BB-AB4E-45D8-849E-AAFE09FC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0ADD3-38E5-46D7-A773-E5476948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588BE-ACED-4400-938E-7A357DBB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F89BE-B739-4F96-AC69-9D613CDD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A833E-D2C6-4419-BF4F-215F4C07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1CF1E-3434-4256-AD0A-7A011525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8F220-2631-4856-B273-780C43DD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54E4-8605-4EB0-99E2-20F72834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8F076-0497-4C65-B6F5-EC1390CE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47139-12C1-422C-B505-D485065E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68F65-0D35-456F-87EA-830DDC24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29E55-7A45-4D1C-B990-91E1ACD8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E5CFB-9352-491D-9A23-3DEBDA97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07D36-0890-435B-8161-79029C0C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C7AB7-345E-4469-811B-3988F084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8C5C1-3672-4041-A1AA-FE6943E3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DAA72-8850-4B17-94C0-1F405712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E2BBB9-C47B-47DD-9CF7-654203A3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C033-067C-4C71-B167-F30AFA34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9B7E4-B4D0-4E01-8088-FB5DCF92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DBB63-47DA-4818-9F6B-40BEF3A9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CBE37-22E2-4CC8-9840-9301CFB4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876DA-64BE-4DFB-950C-F508B48E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CC9C9-7F00-4EF1-99D0-71BC2992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F23D0-6121-401D-B049-BEFC95C6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3264D-0A8D-4E6D-B203-BD836BDD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F719A-0710-4D3B-8737-5E0521C8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511F8-AF5D-4185-931D-C4F78459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5C16-5EA8-4DD5-841B-5F018DCC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188B-0D29-4ECE-80A3-7A967FD4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DC9C-EA41-42E7-B098-8D00F664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60B-7D12-4450-B89F-D9BC186D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1D45-A158-44A3-9DBD-C0A0BE9F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099D-3BFA-4BA0-BF9B-68438FD9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DCFD-B2E3-4A77-9D32-CA55B3FD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4A12-CDCB-429D-8078-ECF100E1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0961-FA1D-4BF0-86AB-6AF5E82A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9EC2-F8ED-44A4-B7BA-A6BB3BEA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A108B-ACDD-4989-89C1-9BAD369D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55701-3BEE-437A-A911-D6B44528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7481-8115-4EBF-8172-6C300BD2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AB603-76FB-4E72-8024-7EFF684E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2DC-2F98-4A74-AEE8-98D54E4D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DE88-E5DB-4B5F-8AFD-2BD007FA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B1D1-AC4F-47C3-B11B-8CBC0675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7977-9FA2-40EF-8B88-5B350CA6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8207-C326-4D65-A93F-CD0FD33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FF07-1B78-4F8A-92CF-9D8E8E98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6128-CB0C-4639-8710-B8EFC09F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2030F-F48A-49B1-83DF-DAAB01D2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7F4D1-4426-4F29-94BD-19537C5F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448FC-F430-420F-ADF3-0EF26B6E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D6033-680E-4DEA-BE08-FC5E16B4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6F3-C080-47A8-A159-353A1EE4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DBBAB-42CE-4089-A835-6DC12DD2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D0D1A-1579-417C-8391-55C96D79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F9A31-FE53-4B73-8F1E-60D78589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15C0B-CBBF-4740-B70F-2B7BBB08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C6AC0-7051-40B1-84E4-DD12C87E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0562-C8D8-4501-A107-D1AF9BF3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BCA2-A5E0-4E18-BF9A-5A498C08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099FA-F728-4060-9A2B-2FD4C4D2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27336-2057-4A5B-9648-F6D30780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676FA-5CB1-4982-8209-EB36DAF4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26E-E853-44D0-AF2A-B7A4742A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64C2C-9F3D-4D48-B9A2-ED558C36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C49E5-3DC2-48C3-AA6E-6AB45665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544F-6680-4FC8-926F-7884A16E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2105B-C752-4D85-8637-43BAD270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EC6C0-3D77-4BB8-BEA0-77AEA888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80357-FB01-4506-B2E8-25AE54C6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970AD-1123-4992-AD77-194AF447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BF4E0-C8DB-447D-B5AE-D6239914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5EA29-B9D2-4393-B00D-CB924040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B2D4-6C7C-490E-ADCA-371324EC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6E1-CA1F-4D64-A9D6-EF7DDEF5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5AEB5-2900-46DA-AB80-DDCE27E3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C696C-D79F-4007-8559-B55E961B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59386-202E-4892-9726-6D848931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FAFCB-E465-4B95-941D-BF10180D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DC5D0-DD1B-46D0-A711-E636F088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A69D3-22FF-4A68-BF5B-AE6B16BD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F2DC7-26B3-42C5-8F4A-B13F558E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DCFD5-692C-478B-AC34-BB77EAB1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F693D-9C9D-44F7-B949-D80F2DFB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AA427-DEC6-4830-9993-0CEBAA65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5CD-29C8-4613-885F-107E784B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C97ED-C4EF-436D-B87B-2C393D74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8250B-CFEF-429A-9985-EBC0481C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F630B-75BB-4D18-AC41-C2DC61F3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FEE95-2D0C-4AAF-B887-B3B6E719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30998-14DB-4D21-8945-3C445CEB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8F186-76AB-455F-86EE-0E4E4126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C5734-28C0-4756-9CB4-2785CBA4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DDDEB-AF0E-4B1C-8F6A-C5B455BE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9E390-1A96-4B51-AAB9-50E7AE92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E91E1-0BC9-4320-A77E-58010DD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71A-0DA9-4FFE-A83A-ED1A2F89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DF87A-23F5-423B-8A88-18F60B9E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0C244-B372-4C65-BE6E-1934F4FB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94D93-C3A5-4D8C-8523-0A18DC93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7FF8D-B48E-4C0E-9617-A679E935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E1562-BEDD-4A1A-A1D0-A7CB1A08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38198-6C88-48AB-8D40-57E3FA5E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43513-2230-4575-9AAB-2977439C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F871F-296A-405F-BD5B-BE8D90EA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1CE8E-E6B1-4AF2-A917-723F7063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47A5B-18C8-46EC-9E4E-D2BBAEA1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FA7-C2DE-4028-8027-D0608DEE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112AA-6052-4C04-B8DF-8D8EC236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CDDCA-635F-4B9F-BBDE-522EE94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1BBDF-334C-4F31-A598-084D18CD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6B03A-CE57-49C1-8320-B34F1E33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67011-B720-464E-8602-B831D5BB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FEB50-3106-4486-B428-101CCD45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EB084-B8EB-446A-A61F-B2401339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A7F01-47B6-4C43-A3DD-322C1465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7A9E9-6A35-4F80-B59D-49C109BA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0D459-66B9-4471-9C34-B7405AE5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E545-C41C-43B5-BDAD-88A3C3F7EE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42E7-9A23-40DB-9E4E-57879515E1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4EDC-52D0-4856-8CF2-C0A995E890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80C1-2531-4318-BE5A-1D5ADFD3DA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9B0F-A337-45E7-9092-DF4DEF5544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3552-6F08-438A-A166-EFBA131C07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9B50-D55B-4EE7-9B97-3411220531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B6B6-07EC-4F54-9C5A-134B6A963B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421A-1BD2-4C38-9507-4ECDE4C163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C7C2-B733-439D-9972-A8FCBD7559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F69B-6D1D-4D72-866E-A32A8B0DC9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C842-D2C3-49CA-96FD-759C2EBED8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C3F8-5F19-4D76-B59F-557BF37535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F194-38D2-424E-BAE9-FA0545CF39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4360" y="57168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менения климата за 15 лет: прогнозы и реальность</a:t>
            </a: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.</a:t>
            </a:r>
            <a:br>
              <a:rPr sz="4000"/>
            </a:b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Презентация выполнена учеником 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9 </a:t>
            </a: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А кл. МОУ «Гимназия №1 г.Балаково Саратовская обл.Железновым Максимом, рукододитель:Железнова Н.Г.-учитель географии</a:t>
            </a:r>
            <a:br>
              <a:rPr sz="40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Глобальное потепление все активнее влияет на экономику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284720" y="1844640"/>
            <a:ext cx="4859280" cy="540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обальное потепление может привести к сокращению мирового ВВП на 20% , уверяет влиятельный экономист Николас Стерн. Экс-экономист Всемирного банка в своем докладе оценил влияние глобального потепления на ВВП вплоть до 2100 год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 тем, у подхода, которым пользуется Стерн, есть немало критиков. По мнению многих, изменения климата не находятся под контролем человека, и лучший способ бороться с этими изменениями - всячески поддерживать экономический рост с тем, чтобы у государств оказалось достаточно средств для финансирования адаптации к реалиям будущего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то же время экологи сообщают, что жители Африки уже сегодня чувствуют на себе влияние климатических изменений, которые сведут на нет все усилия по борьбе с бедностью на континенте, если не принять экстренных мер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" name="Picture 10" descr="9a26048f0b0823cdb7f435bd60dfd228"/>
          <p:cNvPicPr/>
          <p:nvPr/>
        </p:nvPicPr>
        <p:blipFill>
          <a:blip r:embed="rId1"/>
          <a:stretch/>
        </p:blipFill>
        <p:spPr>
          <a:xfrm>
            <a:off x="179280" y="2205000"/>
            <a:ext cx="44928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Мы тоже думали, что на наш век хватит. А вот не хватило.</a:t>
            </a:r>
            <a:br>
              <a:rPr sz="2400"/>
            </a:b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Фантастический фильм «Через тернии к звёздам»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4321080" cy="494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др из фантастического фильма Роланда Эммериха «Послезавтра» («The Day After Tomorrow»). Фильм рассказывает о глобальных климатических катастрофах, начавшихся после того, как растаял лед полярных шапок и масса пресной воды, поступившей в океан, остановила систему глобальной циркуля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9" name="Picture 9" descr="day_after_tomorrow_600"/>
          <p:cNvPicPr/>
          <p:nvPr/>
        </p:nvPicPr>
        <p:blipFill>
          <a:blip r:embed="rId1"/>
          <a:stretch/>
        </p:blipFill>
        <p:spPr>
          <a:xfrm>
            <a:off x="4572000" y="1916280"/>
            <a:ext cx="4392720" cy="2701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8066160" cy="526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90-е годы XX столетия были предложены довольно совершенные, как казалось их создателям, математические модели, позволяющие прогнозировать состояние климата на Земле в ближайшие десятилетия. Недавно группа ученых из разных стран сравнила эти прогнозы с тем, что реально происходило за последние 15 лет. Выяснилось, что хорошо были предсказаны изменения содержания в атмосфере углекислого газа и приемлемо — ход температуры. Оба эти показателя возрастали в соответствии с ранее выявленными трендами. А вот средний уровень Мирового океана рос быстрее, чем ожидалось. С 1990-го по 2005 год он увеличился примерно на 4 см, а предсказывалось прибавление только на 2 см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Глобальное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потепление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211640" y="1773360"/>
            <a:ext cx="5076720" cy="540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обальное потепление приведет в будущем к увеличению на Земле количества засух, наводнений и лесных пожаров, утверждают специалисты из британского Бристольского университет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и исследовали 52 компьютерные симуляции эволюции климата на Земле в условиях глобального потепления, а потом систематизировали полученные прогнозы на ближайшие 200 лет, сообщает 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4" name="Picture 7" descr="sunplume_soho"/>
          <p:cNvPicPr/>
          <p:nvPr/>
        </p:nvPicPr>
        <p:blipFill>
          <a:blip r:embed="rId1"/>
          <a:stretch/>
        </p:blipFill>
        <p:spPr>
          <a:xfrm>
            <a:off x="108000" y="2276640"/>
            <a:ext cx="4537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озможные последств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4500720" cy="508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ется, что в ближайшие 200 лет больше всего пострадают леса в Евразии, на востоке Китая, Канаде и в районе Амазонк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жная Европа, восточная часть США и западная Африка рискуют остаться без достаточного количества источников пресной во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тересно, что отрицательные последствия потепления дадут о себе знать даже в случае, если уже сейчас полностью прекратить выброс в атмосферу вредных веществ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ые предупреждают, что если температуры на Земле повысятся более чем на 3 °С, это спровоцирует процессы, из-за которых резко ускорятся темпы глобального потепл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7" name="Picture 8" descr="23269978_1208790985_1e77e7a063befbd367db05b7cd93b86c"/>
          <p:cNvPicPr/>
          <p:nvPr/>
        </p:nvPicPr>
        <p:blipFill>
          <a:blip r:embed="rId1"/>
          <a:stretch/>
        </p:blipFill>
        <p:spPr>
          <a:xfrm>
            <a:off x="4356000" y="2225520"/>
            <a:ext cx="46753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Глобальное потепление угрожает здоровью людей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355640" y="1628640"/>
            <a:ext cx="4248360" cy="4824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лобальное потепление климата представляет прямую угрозу для здоровья людей. Климатические изменения оказывают крайне неблагоприятное влияние на фундаментальные детерминанты здоровья - пищевые продукты, атмосферу и воду, говорится в заявлении Роспотребнадзора. Поэтому проблемы климатических изменений, вызванных негативным воздействием хозяйственной деятельности на окружающую среду и здоровье людей, могут рассматриваться наравне с другими факторами риска для здоровья – табакокурением, алкоголем, избыточным питанием, малой физической активностью и т.д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20080407_1"/>
          <p:cNvPicPr/>
          <p:nvPr/>
        </p:nvPicPr>
        <p:blipFill>
          <a:blip r:embed="rId1"/>
          <a:stretch/>
        </p:blipFill>
        <p:spPr>
          <a:xfrm>
            <a:off x="826920" y="1628640"/>
            <a:ext cx="345600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Глобальное потепление убивает 160 тысяч человек в год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427280" y="1484280"/>
            <a:ext cx="471636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ёные из Всемирной организации здравоохранения и Лондонской школы гигиены и тропической медицины объявили, что от побочных эффектов глобального потепления ежегодно погибает около 160 тысяч человек. К 2020 году это количество может удвоить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чины смерти самые разные: от малярии и диареи до недоедания, наводнений и засухи. Наиболее уязвимыми являются дети и подростки в развивающихся странах. Чаще всего изменения климата убивают людей в Африке, Латинской Америке и юго-восточной Аз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залось бы, "умеренные" зимы в Европе или Северной Америке должны бы подразумевать, что люди здесь будут жить дольше, но этим летом в одной только Франции из-за жары погибло около 15 тысяч человек. Все указанные выше факты обсуждались на прошедшей в Москве международной конференции по изменению климат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3" name="Picture 9" descr="43_1"/>
          <p:cNvPicPr/>
          <p:nvPr/>
        </p:nvPicPr>
        <p:blipFill>
          <a:blip r:embed="rId1"/>
          <a:stretch/>
        </p:blipFill>
        <p:spPr>
          <a:xfrm>
            <a:off x="250920" y="2349360"/>
            <a:ext cx="43131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Глобальное потепление откроет северный морской путь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-252720" y="1557360"/>
            <a:ext cx="5761080" cy="54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словам ученых, уже через 20-30 лет Канада, США, Россия и Норвегия будут перестраивать свои серверные морские стратегии с тем, чтобы управлять обширными территориями Северного Полюса. Специалисты говорят, что потепление может привести к упрощению процессов добычи природного газа, а кроме того, откроет северный морской путь, который позволит на тысячи километров сократить транспортные коридоры между континентам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сегодня лед активно тает на серверных территориях Канады, что уже в ближайшее время позволит открыть Северо-Западный морской путь, который позволит связать Тихий и Атлантический океаны через Северный полюс, что позволит сократить морской путь от Европы до Азии примерно на треть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прогнозу специалистов, данный морской путь будет доступен примерно 6 месяцев в году примерно к 2035 году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6" name="Picture 5" descr="22519"/>
          <p:cNvPicPr/>
          <p:nvPr/>
        </p:nvPicPr>
        <p:blipFill>
          <a:blip r:embed="rId1"/>
          <a:stretch/>
        </p:blipFill>
        <p:spPr>
          <a:xfrm>
            <a:off x="5435640" y="2530440"/>
            <a:ext cx="359892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следствия глобального потеплен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4537080" cy="533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ая экспедиция океанологов обнаружила полное отсутствие льда в море Лаптевых. Ученые полагают, что это произошло в результате глобального потепления и грозит разрушением береговых льдов и вечной мерзлоты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но "Виктор Буйницкий" с учеными на борту смогло подняться до 80 градуса северной широты и провести комплексные исследования распределения парниковых газов на больших глубина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мнению ученых, подобные комплексные исследования на арктическом континентальном шельфе позволят получить качественно новые данные о поступлении парниковых газов в атмосферу и прогнозировать сценарии влияния потепления на климат плане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" name="Picture 7" descr="ldy"/>
          <p:cNvPicPr/>
          <p:nvPr/>
        </p:nvPicPr>
        <p:blipFill>
          <a:blip r:embed="rId1"/>
          <a:stretch/>
        </p:blipFill>
        <p:spPr>
          <a:xfrm>
            <a:off x="5076720" y="2492280"/>
            <a:ext cx="38577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7:59:25Z</dcterms:created>
  <dc:creator>User</dc:creator>
  <dc:description/>
  <dc:language>en-US</dc:language>
  <cp:lastModifiedBy>User</cp:lastModifiedBy>
  <dcterms:modified xsi:type="dcterms:W3CDTF">2011-12-09T19:58:59Z</dcterms:modified>
  <cp:revision>5</cp:revision>
  <dc:subject/>
  <dc:title>Изменения климата за 15 лет: прогнозы и реальность </dc:title>
</cp:coreProperties>
</file>