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1A4-9363-4F97-BF84-DEDF8965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304-E5F7-498E-8280-48C5539D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732A6-08D6-40B4-BD6E-35B39295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8E6B1-F198-4992-A2DA-0B46E2A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6472A-8F3A-4053-A357-02E4B035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A3E3-FAFB-4A9A-BFBB-99865FC2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1B3FD-FE34-44D6-AF23-ED366ECD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0B650-5DF8-45BD-BC90-19D2F14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EFE49-9F3B-4D3D-8DB0-7DA8988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072F1-E7D1-48D3-9D30-94CDAE6B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2D824-C574-4DBB-A4B9-E7AC7303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BC471-C0D9-4DF0-B61D-EE308900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7DD-6939-47D4-93B0-F5C78273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9DE0F-A3C8-46F4-A6FE-6C8E8676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BAA45-CD73-4BB3-882D-1B164EC2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5670A-651E-4FB6-A06B-3964505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453C3-C1D9-412E-852D-8AA7C26D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7108F-2D5E-45C7-8E96-5C3BD4F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D9D52-1917-4424-A5CE-C5A48A2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ABA8B-9906-4681-88E4-A08CC9E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39A81-4387-495A-A5A0-670A7A6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D9F8F-252C-4A56-BCAD-8D464477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8C46F-C5BC-4B95-8F34-0C22A2DF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DA8-7C81-42A5-9562-DCD14F65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B9A7F-A6E9-4D9E-BCC0-78D856A3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727B8-9932-4966-96BD-48781632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41AF2-B88A-437A-8E00-80AFB97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AE55D-0A66-413A-9B0D-C13C3A9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D78B2-F7E2-4734-9476-6D436C00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A6388-C48B-491C-B633-777A98D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FCC5-04E8-4C89-B8B2-B4BDD63E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F09ED-087B-476D-85CC-F9C54BD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ECB00-3A8D-4940-AA8E-B5595145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CE6E3-810D-4CA8-A2B0-84C517E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6B46-5462-4D3E-8998-FF3ADC94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1C8B3-98C0-4E6B-83D6-CEE837CD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8243C-628E-4A06-9047-AB7A0950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0860B-9D3C-4D27-BB8E-8164D629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18D12-98A1-4522-BC5C-FC6ED3FE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7B7FA-7875-42AB-893E-691E338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BE479-2FC5-4A9A-9B1F-ACE59950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E160A-BA0E-4907-A56B-6C6075C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38786-388E-4983-8899-7D5FB132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39F8E-738C-4FF1-ADA2-8FFCEDE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35C6-3913-4937-B69E-3BCD9B9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691B-E917-4B40-B46C-578A252B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78C63-6FC7-473B-A623-319495F2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B0F67-553E-486C-B726-4054019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A3DC9-588C-4A9B-83EA-36A326C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756A7-324F-4E77-982B-44D3C24E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BD31A-5EAF-4E8A-8632-123AA1E4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08339-D395-4FF5-AA68-629F6A9F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C5921-F14D-4F5D-8641-3BB39FED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BCF73-5E63-4736-AC52-3BECB45A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72B5C-CB19-4EE6-B829-C6A66B8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C9565-3DC9-4AE8-9A61-1CF5A8D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4F9C-EC7F-403C-B5B5-DEC37100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765E1-AFC4-4BCB-A229-B6D8EE15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5AC44-0E61-471F-8BF9-B5A808A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91DC9-7129-4AE9-A7A2-C4093A0B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958E7-8947-4E12-9B1A-624CE9E0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B0C8A-24AB-4288-83E3-AF0F666E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3F70D-FD28-4ABA-AAFD-4999C725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AE65F-2031-428D-BC55-3A85E7A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364E2-5615-4DC5-84AB-DD7F0140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FB6DF-5E92-4566-BAAF-8D2C121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53F7A-EAB2-4183-83EB-D4B2DAE1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4F4F-9237-481C-B910-D8FE7AA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CD88C-F621-48D3-87BF-5965C7FD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52FF5-9656-49EA-9590-806681F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50C19-77EF-4169-B531-348F40E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FB508-FA41-4143-87A2-E18DE3C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3AF02-CD49-42F4-804F-88685D1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E6D5C-1792-4CC9-975C-47B3F43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C5C99-76C7-4FE8-AE16-F738C75B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97D57-440D-4B61-990E-D3DEC884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204BA-E5B9-43EA-A4F3-D76B22EA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916A-C495-4617-915A-8826CB02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E74-02FF-4FD3-971D-0B625134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833D-218A-4A6F-9064-A2D1F4B7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49B-91F5-44D0-BD6A-07D05FE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BD71-FDB7-4983-8439-4ACE0F0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6733-F252-4E8E-9782-25CC0B2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3066-9BB1-4BF8-8F24-217122B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C31-0E15-450D-831F-63A54CED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3437-C025-4A0E-B486-8958420D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8029-7138-48D0-B2BB-1562BD00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BF67-AC02-4589-8712-8CF572E5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0D55-FFFA-401E-BDA5-C0BE3A21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D0C6-C5CF-400C-AAB9-A536993C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B332-8EB3-4B8B-ADA1-4C70F426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850-0C0B-4F7E-9FDD-CAC6568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DB9B-24DC-463B-ADC0-C6FE2DAE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8701-A22D-4AE2-80CE-93C81F9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7B5EE-51BA-47D8-AB64-48F5FEF2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8920-1D49-4FA5-A0E6-96E72EF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80CF-C693-4860-85C7-39852A0C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37C3-2F87-4B83-9364-0DD089A1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B1428-CC3D-4456-AA2A-52BEB6E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36C3-C1DD-455F-BC51-BCD58A9B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1F5E-6E13-4D5C-9C43-CABA6180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6388-3E60-403A-8E32-842B892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418F-140D-44EB-9D2D-D63F24C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B9D0-2D97-4AC1-A090-CD44CEDA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CC5C-0853-4837-8217-26DBC826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54DB-988E-4E3D-9463-E534B696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EA30-2E12-4B82-B1C9-D9D5AFD5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5A3B-9B48-4E49-8DBC-CC16FC2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9A57-6653-44CC-AEEC-B442F32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F2E80-BFA3-474E-ACC3-433B97E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4095D-3DC1-4D2C-ACDA-A38DDD19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407E-EA56-43F5-A84C-E52102D4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66E1-8DE7-4933-B009-BE080417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7DD-6F3E-4AB7-BEB9-752C4FF2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EAD7-7BA3-4A28-943F-9893C901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DA14-D25B-4F9B-A633-32D900B7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D34D9-9203-4F46-B65F-B0CC30D6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33227-1F86-419D-9F41-405E1D6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90F4-9AEA-432F-8C16-C78B8E2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478D-4543-4AC6-9D68-BD02DE5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5F5D-76AF-473B-8421-FE08D44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A321-C44C-4D3A-A34D-E5C83159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E933-A321-4F17-B7A6-BE945051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8061-B7DD-4ACB-95CA-0CD0570F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0AC-8C6A-4617-AFBB-8C56E997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6141-FB2F-43CF-B019-4BD5FDD0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BBA16-EBDF-4C47-9915-6F17797F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6454-CEA4-4B40-B29D-E90A3505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621E-81FC-4B03-83C3-9C24CC8D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F783-FA6A-4132-90B2-5EA3A86A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9D37-D440-4853-A05C-1E95904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74C34-4549-4E76-BA23-B50C8A5D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04F1-D221-42CF-869C-B06201F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E52E9-F909-44D8-B762-6060F38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BF22C-BF7C-4815-AD2C-897B43BA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D0E-7810-409A-B822-D3282A09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C69D-90B9-4F40-A1B6-5DD8FDCD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FB8B1-627A-415F-AA39-2EA9BB50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5AF4-C6D3-4854-911D-B9C99E41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5920-48FA-47B4-85F3-341EA456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249CA-0B51-47DA-8C99-58E8E05B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C427-7E7B-4AA9-9947-153E21C9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A580A-7A6E-4F97-BBF2-6AD1F87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F94B-7D2F-4C5A-8446-668157EB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B69B-F047-4FA6-BBDD-9F66002B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73EA-88BB-4545-A754-DB9EEBC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B8B-601B-4CE8-BAE1-F03E500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D531-39CD-4D0E-ACFC-7F9DB989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74D21-80E2-4435-93C3-D1BED45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6C66-0362-47B8-99FD-D4F8F327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3B802-8386-402B-9B9E-A8838F60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8E45-00F1-4C37-B033-045E9337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C355-2004-48E7-889C-2443358E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2949-923A-4D70-AC71-033A0F06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CFA5D-19AE-4605-8C5D-4F0FF3F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83E92-C8D5-48FE-8A7B-04C168AD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00C5D-7314-4F90-80B5-EFD00844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67E-715E-4AE0-85AA-39E2029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94F39-CE3C-4211-83AF-71EE9FE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C6F7-B063-470D-801A-4BC95FB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1A279-E680-4249-9614-8066AAB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92AD-AA2B-4957-B306-F8BDCF0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73A8-67AD-4B93-A0A6-CF3855D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72BA3-60B7-4840-BC57-0BF3093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97BA6-1080-46FB-B4B5-54DC7853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9F29F-C180-4678-A177-817A9E9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FB60-F70B-478B-B488-44F73050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25205-543E-4286-AD9E-A6979173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FECE-510C-44A7-9002-50091FB88E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6B5E-FEA9-432E-9713-C3FEAE7590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700B-017B-4E05-AC81-27E6B5DE2B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C029-40E2-409E-AC1A-E4A1142284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DCA-EEF1-439C-8B68-3B6B3433D7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AA6-52C5-4A48-AED9-C46A86C47C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09C9-3D0E-4FE7-B7FE-DC53BD9423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B976-5970-499F-A930-7100AF992D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472-2C30-4FE8-8EEF-0650BE8081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5626-D4B8-447F-907E-BC463F5EDE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AB8-4CB0-46C9-8848-A4AF38573A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A471-1D41-44B0-B78C-7D0AA3BEB6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3FF-C462-4556-81E3-F0740700DB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E4A-491C-4379-9C5A-476A1B1242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4360" y="57168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я климата за 15 лет: прогнозы и реальность</a:t>
            </a:r>
            <a:br>
              <a:rPr sz="4000"/>
            </a:b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 .</a:t>
            </a:r>
            <a:br>
              <a:rPr sz="4000"/>
            </a:b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Презентация выполнена учеником </a:t>
            </a: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 9 </a:t>
            </a: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А кл. МОУ «Гимназия №1 г.Балаково Саратовская обл.Железновым Максимом, рукододитель:Железнова Н.Г.-учитель географии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Глобальное потепление все активнее влияет на экономику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284720" y="184464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ьное потепление может привести к сокращению мирового ВВП на 20% , уверяет влиятельный экономист Николас Стерн. Экс-экономист Всемирного банка в своем докладе оценил влияние глобального потепления на ВВП вплоть до 2100 год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 тем, у подхода, которым пользуется Стерн, есть немало критиков. По мнению многих, изменения климата не находятся под контролем человека, и лучший способ бороться с этими изменениями - всячески поддерживать экономический рост с тем, чтобы у государств оказалось достаточно средств для финансирования адаптации к реалиям будущего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о же время экологи сообщают, что жители Африки уже сегодня чувствуют на себе влияние климатических изменений, которые сведут на нет все усилия по борьбе с бедностью на континенте, если не принять экстренных ме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Picture 10" descr="9a26048f0b0823cdb7f435bd60dfd228"/>
          <p:cNvPicPr/>
          <p:nvPr/>
        </p:nvPicPr>
        <p:blipFill>
          <a:blip r:embed="rId1"/>
          <a:stretch/>
        </p:blipFill>
        <p:spPr>
          <a:xfrm>
            <a:off x="179280" y="2205000"/>
            <a:ext cx="44928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Мы тоже думали, что на наш век хватит. А вот не хватило.</a:t>
            </a:r>
            <a:br>
              <a:rPr sz="2400"/>
            </a:b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Фантастический фильм «Через тернии к звёздам»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321080" cy="494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др из фантастического фильма Роланда Эммериха «Послезавтра» («The Day After Tomorrow»). Фильм рассказывает о глобальных климатических катастрофах, начавшихся после того, как растаял лед полярных шапок и масса пресной воды, поступившей в океан, остановила систему глобальной циркуля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Picture 9" descr="day_after_tomorrow_600"/>
          <p:cNvPicPr/>
          <p:nvPr/>
        </p:nvPicPr>
        <p:blipFill>
          <a:blip r:embed="rId1"/>
          <a:stretch/>
        </p:blipFill>
        <p:spPr>
          <a:xfrm>
            <a:off x="4572000" y="1916280"/>
            <a:ext cx="4392720" cy="2701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8066160" cy="526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90-е годы XX столетия были предложены довольно совершенные, как казалось их создателям, математические модели, позволяющие прогнозировать состояние климата на Земле в ближайшие десятилетия. Недавно группа ученых из разных стран сравнила эти прогнозы с тем, что реально происходило за последние 15 лет. Выяснилось, что хорошо были предсказаны изменения содержания в атмосфере углекислого газа и приемлемо — ход температуры. Оба эти показателя возрастали в соответствии с ранее выявленными трендами. А вот средний уровень Мирового океана рос быстрее, чем ожидалось. С 1990-го по 2005 год он увеличился примерно на 4 см, а предсказывалось прибавление только на 2 см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Глобально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потепление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211640" y="1773360"/>
            <a:ext cx="507672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обальное потепление приведет в будущем к увеличению на Земле количества засух, наводнений и лесных пожаров, утверждают специалисты из британского Бристольского университет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и исследовали 52 компьютерные симуляции эволюции климата на Земле в условиях глобального потепления, а потом систематизировали полученные прогнозы на ближайшие 200 лет, сообщает 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4" name="Picture 7" descr="sunplume_soho"/>
          <p:cNvPicPr/>
          <p:nvPr/>
        </p:nvPicPr>
        <p:blipFill>
          <a:blip r:embed="rId1"/>
          <a:stretch/>
        </p:blipFill>
        <p:spPr>
          <a:xfrm>
            <a:off x="108000" y="2276640"/>
            <a:ext cx="4537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озможные последств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4500720" cy="508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ется, что в ближайшие 200 лет больше всего пострадают леса в Евразии, на востоке Китая, Канаде и в районе Амазонк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ая Европа, восточная часть США и западная Африка рискуют остаться без достаточного количества источников пресной во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тересно, что отрицательные последствия потепления дадут о себе знать даже в случае, если уже сейчас полностью прекратить выброс в атмосферу вредных вещест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ые предупреждают, что если температуры на Земле повысятся более чем на 3 °С, это спровоцирует процессы, из-за которых резко ускорятся темпы глобального потепл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Picture 8" descr="23269978_1208790985_1e77e7a063befbd367db05b7cd93b86c"/>
          <p:cNvPicPr/>
          <p:nvPr/>
        </p:nvPicPr>
        <p:blipFill>
          <a:blip r:embed="rId1"/>
          <a:stretch/>
        </p:blipFill>
        <p:spPr>
          <a:xfrm>
            <a:off x="4356000" y="2225520"/>
            <a:ext cx="4675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Глобальное потепление угрожает здоровью людей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355640" y="1628640"/>
            <a:ext cx="4248360" cy="4824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обальное потепление климата представляет прямую угрозу для здоровья людей. Климатические изменения оказывают крайне неблагоприятное влияние на фундаментальные детерминанты здоровья - пищевые продукты, атмосферу и воду, говорится в заявлении Роспотребнадзора. Поэтому проблемы климатических изменений, вызванных негативным воздействием хозяйственной деятельности на окружающую среду и здоровье людей, могут рассматриваться наравне с другими факторами риска для здоровья – табакокурением, алкоголем, избыточным питанием, малой физической активностью и т.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20080407_1"/>
          <p:cNvPicPr/>
          <p:nvPr/>
        </p:nvPicPr>
        <p:blipFill>
          <a:blip r:embed="rId1"/>
          <a:stretch/>
        </p:blipFill>
        <p:spPr>
          <a:xfrm>
            <a:off x="826920" y="1628640"/>
            <a:ext cx="34560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Глобальное потепление убивает 160 тысяч человек в год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71636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ёные из Всемирной организации здравоохранения и Лондонской школы гигиены и тропической медицины объявили, что от побочных эффектов глобального потепления ежегодно погибает около 160 тысяч человек. К 2020 году это количество может удвоить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чины смерти самые разные: от малярии и диареи до недоедания, наводнений и засухи. Наиболее уязвимыми являются дети и подростки в развивающихся странах. Чаще всего изменения климата убивают людей в Африке, Латинской Америке и юго-восточной Аз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залось бы, "умеренные" зимы в Европе или Северной Америке должны бы подразумевать, что люди здесь будут жить дольше, но этим летом в одной только Франции из-за жары погибло около 15 тысяч человек. Все указанные выше факты обсуждались на прошедшей в Москве международной конференции по изменению климат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3" name="Picture 9" descr="43_1"/>
          <p:cNvPicPr/>
          <p:nvPr/>
        </p:nvPicPr>
        <p:blipFill>
          <a:blip r:embed="rId1"/>
          <a:stretch/>
        </p:blipFill>
        <p:spPr>
          <a:xfrm>
            <a:off x="250920" y="2349360"/>
            <a:ext cx="4313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лобальное потепление откроет северный морской путь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-252720" y="1557360"/>
            <a:ext cx="5761080" cy="54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ловам ученых, уже через 20-30 лет Канада, США, Россия и Норвегия будут перестраивать свои серверные морские стратегии с тем, чтобы управлять обширными территориями Северного Полюса. Специалисты говорят, что потепление может привести к упрощению процессов добычи природного газа, а кроме того, откроет северный морской путь, который позволит на тысячи километров сократить транспортные коридоры между континентам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сегодня лед активно тает на серверных территориях Канады, что уже в ближайшее время позволит открыть Северо-Западный морской путь, который позволит связать Тихий и Атлантический океаны через Северный полюс, что позволит сократить морской путь от Европы до Азии примерно на тре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прогнозу специалистов, данный морской путь будет доступен примерно 6 месяцев в году примерно к 2035 году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Picture 5" descr="22519"/>
          <p:cNvPicPr/>
          <p:nvPr/>
        </p:nvPicPr>
        <p:blipFill>
          <a:blip r:embed="rId1"/>
          <a:stretch/>
        </p:blipFill>
        <p:spPr>
          <a:xfrm>
            <a:off x="5435640" y="2530440"/>
            <a:ext cx="359892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следствия глобального потепле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4537080" cy="533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ая экспедиция океанологов обнаружила полное отсутствие льда в море Лаптевых. Ученые полагают, что это произошло в результате глобального потепления и грозит разрушением береговых льдов и вечной мерзлоты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но "Виктор Буйницкий" с учеными на борту смогло подняться до 80 градуса северной широты и провести комплексные исследования распределения парниковых газов на больших глубин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подобные комплексные исследования на арктическом континентальном шельфе позволят получить качественно новые данные о поступлении парниковых газов в атмосферу и прогнозировать сценарии влияния потепления на климат плане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Picture 7" descr="ldy"/>
          <p:cNvPicPr/>
          <p:nvPr/>
        </p:nvPicPr>
        <p:blipFill>
          <a:blip r:embed="rId1"/>
          <a:stretch/>
        </p:blipFill>
        <p:spPr>
          <a:xfrm>
            <a:off x="5076720" y="2492280"/>
            <a:ext cx="3857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7:59:25Z</dcterms:created>
  <dc:creator>User</dc:creator>
  <dc:description/>
  <dc:language>en-US</dc:language>
  <cp:lastModifiedBy>User</cp:lastModifiedBy>
  <dcterms:modified xsi:type="dcterms:W3CDTF">2011-12-09T19:58:59Z</dcterms:modified>
  <cp:revision>5</cp:revision>
  <dc:subject/>
  <dc:title>Изменения климата за 15 лет: прогнозы и реальность </dc:title>
</cp:coreProperties>
</file>