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png" ContentType="image/png"/>
  <Override PartName="/ppt/media/image9.png" ContentType="image/png"/>
  <Override PartName="/ppt/media/image11.png" ContentType="image/png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4.gif" ContentType="image/gif"/>
  <Override PartName="/ppt/media/image1.png" ContentType="image/png"/>
  <Override PartName="/ppt/media/image7.jpeg" ContentType="image/jpeg"/>
  <Override PartName="/ppt/media/image15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54A-7591-45A7-AFEC-8422AEAC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662-BE72-406B-BC88-BBFCEBEF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268-8392-4C64-9354-320284AA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BAC-900E-4806-BB08-F4E90568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4FE7-5406-469F-BB73-3DC867A1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A887-AA65-45FB-9603-14629069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C5C9-018F-4FB0-B304-9CAEE235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CD25-1091-4CF7-A844-94256BC2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C413-717E-46FB-9B9F-B949030B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85E5-35D0-4935-B464-5899DBE6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8ED7-54F6-4097-8F85-90DEECB2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79E-3329-4844-BA7B-FA5CA986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C480-E83E-4E14-8A19-B43F049A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EA4B-0B14-420E-9933-F7B60112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88A3-B264-46DE-88D0-83931233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A3C4-50D4-4117-84C8-80CB9836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8934-EA8A-4F74-9A26-9AF4D8E0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F13-2459-4C8A-928D-3F0EBAED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34F-6845-4BE6-BB65-1D07F12A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F7B-4B59-4E0A-9B24-86A4C4F2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F05-1A80-4AEE-A66F-DC03AB54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E97-F5CD-4BB0-9178-B897AF0E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DA3-3D96-408D-81EF-9EEA4875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D2C-AE18-481D-8020-74987093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B372-5B7C-4A1C-A71B-B63EE9BE440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20B0-4F17-44E9-A3E8-3BC3E5E5F1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19886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мерение площади фигуры с помощью палет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427640" y="357120"/>
            <a:ext cx="3862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УРОК-ПРАКТИК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761160" y="566100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omic Sans MS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82"/>
          <p:cNvSpPr txBox="1"/>
          <p:nvPr/>
        </p:nvSpPr>
        <p:spPr>
          <a:xfrm>
            <a:off x="2268360" y="189000"/>
            <a:ext cx="446436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алет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183"/>
          <p:cNvSpPr/>
          <p:nvPr/>
        </p:nvSpPr>
        <p:spPr>
          <a:xfrm>
            <a:off x="1023840" y="285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40000" y="2421000"/>
          <a:ext cx="5135400" cy="4145040"/>
        </p:xfrm>
        <a:graphic>
          <a:graphicData uri="http://schemas.openxmlformats.org/drawingml/2006/table">
            <a:tbl>
              <a:tblPr/>
              <a:tblGrid>
                <a:gridCol w="514440"/>
                <a:gridCol w="512640"/>
                <a:gridCol w="514440"/>
                <a:gridCol w="512640"/>
                <a:gridCol w="514440"/>
                <a:gridCol w="512640"/>
                <a:gridCol w="513000"/>
                <a:gridCol w="514080"/>
                <a:gridCol w="513000"/>
                <a:gridCol w="514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294"/>
          <p:cNvSpPr/>
          <p:nvPr/>
        </p:nvSpPr>
        <p:spPr>
          <a:xfrm>
            <a:off x="755640" y="1125360"/>
            <a:ext cx="790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летка-это прозрачная плёнка, разделённая на равные квадр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мерьте, чему равна сторона квад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какие квадратные единицы разделена ваша палет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98" descr="2H3"/>
          <p:cNvPicPr/>
          <p:nvPr/>
        </p:nvPicPr>
        <p:blipFill>
          <a:blip r:embed="rId1"/>
          <a:stretch/>
        </p:blipFill>
        <p:spPr>
          <a:xfrm>
            <a:off x="826920" y="3573360"/>
            <a:ext cx="49536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961200" y="42876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97"/>
          <p:cNvSpPr/>
          <p:nvPr/>
        </p:nvSpPr>
        <p:spPr>
          <a:xfrm>
            <a:off x="2469240" y="0"/>
            <a:ext cx="472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omic Sans MS"/>
              </a:rPr>
              <a:t>Вычисление площа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omic Sans MS"/>
              </a:rPr>
              <a:t>с помощью па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98"/>
          <p:cNvSpPr/>
          <p:nvPr/>
        </p:nvSpPr>
        <p:spPr>
          <a:xfrm>
            <a:off x="826920" y="1052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Накладываем палет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99"/>
          <p:cNvSpPr/>
          <p:nvPr/>
        </p:nvSpPr>
        <p:spPr>
          <a:xfrm>
            <a:off x="315720" y="1413000"/>
            <a:ext cx="66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Считаем количество полных квадратов в фиг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57"/>
          <p:cNvSpPr/>
          <p:nvPr/>
        </p:nvSpPr>
        <p:spPr>
          <a:xfrm>
            <a:off x="1403280" y="2565360"/>
            <a:ext cx="5759640" cy="360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1916280"/>
          <a:ext cx="6264360" cy="4752720"/>
        </p:xfrm>
        <a:graphic>
          <a:graphicData uri="http://schemas.openxmlformats.org/drawingml/2006/table">
            <a:tbl>
              <a:tblPr/>
              <a:tblGrid>
                <a:gridCol w="696960"/>
                <a:gridCol w="695520"/>
                <a:gridCol w="695160"/>
                <a:gridCol w="696960"/>
                <a:gridCol w="695520"/>
                <a:gridCol w="696600"/>
                <a:gridCol w="695520"/>
                <a:gridCol w="695160"/>
                <a:gridCol w="69696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187280" y="1916280"/>
          <a:ext cx="6264360" cy="4752720"/>
        </p:xfrm>
        <a:graphic>
          <a:graphicData uri="http://schemas.openxmlformats.org/drawingml/2006/table">
            <a:tbl>
              <a:tblPr/>
              <a:tblGrid>
                <a:gridCol w="696960"/>
                <a:gridCol w="695520"/>
                <a:gridCol w="695160"/>
                <a:gridCol w="696960"/>
                <a:gridCol w="695520"/>
                <a:gridCol w="696600"/>
                <a:gridCol w="695520"/>
                <a:gridCol w="695160"/>
                <a:gridCol w="69696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Picture 1324" descr="21M2"/>
          <p:cNvPicPr/>
          <p:nvPr/>
        </p:nvPicPr>
        <p:blipFill>
          <a:blip r:embed="rId1"/>
          <a:stretch/>
        </p:blipFill>
        <p:spPr>
          <a:xfrm>
            <a:off x="7667640" y="765000"/>
            <a:ext cx="102564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3"/>
          <p:cNvSpPr/>
          <p:nvPr/>
        </p:nvSpPr>
        <p:spPr>
          <a:xfrm rot="665400">
            <a:off x="2915640" y="717480"/>
            <a:ext cx="55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иша насчитал 25 полных клето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л, что площ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ной фигуры-25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 rot="21177600">
            <a:off x="706320" y="4581000"/>
            <a:ext cx="63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ля решил к полным квадра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бавить количество неполных и у н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лощадь квадрата 53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5+28=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276720" y="2565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Comic Sans MS"/>
              </a:rPr>
              <a:t>Кто из них пра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579480" y="3405240"/>
            <a:ext cx="34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Comic Sans MS"/>
              </a:rPr>
              <a:t>Как же бы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7" descr="Копия 36_2_24"/>
          <p:cNvPicPr/>
          <p:nvPr/>
        </p:nvPicPr>
        <p:blipFill>
          <a:blip r:embed="rId1"/>
          <a:stretch/>
        </p:blipFill>
        <p:spPr>
          <a:xfrm>
            <a:off x="8096400" y="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7"/>
          <p:cNvSpPr/>
          <p:nvPr/>
        </p:nvSpPr>
        <p:spPr>
          <a:xfrm>
            <a:off x="0" y="0"/>
            <a:ext cx="7648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-Считаем количество неполных квадратов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делим это число на  2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-Складываем количество полных квадратов и число неполных квадратов, делённое на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21M2"/>
          <p:cNvPicPr/>
          <p:nvPr/>
        </p:nvPicPr>
        <p:blipFill>
          <a:blip r:embed="rId1"/>
          <a:stretch/>
        </p:blipFill>
        <p:spPr>
          <a:xfrm>
            <a:off x="7500960" y="549360"/>
            <a:ext cx="1643040" cy="2303280"/>
          </a:xfrm>
          <a:prstGeom prst="rect">
            <a:avLst/>
          </a:prstGeom>
          <a:ln w="0">
            <a:noFill/>
          </a:ln>
        </p:spPr>
      </p:pic>
      <p:sp>
        <p:nvSpPr>
          <p:cNvPr id="184" name="Oval 935"/>
          <p:cNvSpPr/>
          <p:nvPr/>
        </p:nvSpPr>
        <p:spPr>
          <a:xfrm>
            <a:off x="395280" y="2206800"/>
            <a:ext cx="5759280" cy="360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1484280"/>
          <a:ext cx="6264360" cy="4753080"/>
        </p:xfrm>
        <a:graphic>
          <a:graphicData uri="http://schemas.openxmlformats.org/drawingml/2006/table">
            <a:tbl>
              <a:tblPr/>
              <a:tblGrid>
                <a:gridCol w="696960"/>
                <a:gridCol w="695160"/>
                <a:gridCol w="695520"/>
                <a:gridCol w="696600"/>
                <a:gridCol w="695520"/>
                <a:gridCol w="696960"/>
                <a:gridCol w="695160"/>
                <a:gridCol w="695520"/>
                <a:gridCol w="69696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1490"/>
          <p:cNvSpPr/>
          <p:nvPr/>
        </p:nvSpPr>
        <p:spPr>
          <a:xfrm>
            <a:off x="6734520" y="3500280"/>
            <a:ext cx="17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8:2=14(к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91"/>
          <p:cNvSpPr/>
          <p:nvPr/>
        </p:nvSpPr>
        <p:spPr>
          <a:xfrm>
            <a:off x="6662160" y="465300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+14=39(к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492"/>
          <p:cNvSpPr/>
          <p:nvPr/>
        </p:nvSpPr>
        <p:spPr>
          <a:xfrm>
            <a:off x="92160" y="632772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площадь данной фигуры 39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961200" y="42876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470240" y="0"/>
            <a:ext cx="672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omic Sans MS"/>
              </a:rPr>
              <a:t>Алгоритм вычисления площа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omic Sans MS"/>
              </a:rPr>
              <a:t>с помощью па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981000"/>
            <a:ext cx="62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c0504d"/>
                </a:solidFill>
                <a:latin typeface="Comic Sans MS"/>
              </a:rPr>
              <a:t>Наложи палет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-397080" y="1628640"/>
            <a:ext cx="794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Comic Sans MS"/>
              </a:rPr>
              <a:t>2.Посчитай количе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Comic Sans MS"/>
              </a:rPr>
              <a:t>полных квадратов в фигу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21M2"/>
          <p:cNvPicPr/>
          <p:nvPr/>
        </p:nvPicPr>
        <p:blipFill>
          <a:blip r:embed="rId1"/>
          <a:stretch/>
        </p:blipFill>
        <p:spPr>
          <a:xfrm>
            <a:off x="7667640" y="765000"/>
            <a:ext cx="1025640" cy="1079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0" y="4937040"/>
            <a:ext cx="81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Comic Sans MS"/>
              </a:rPr>
              <a:t>4. Сложи количество полных квадратов и число неполных квадратов, делённое на 2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0" y="2924280"/>
            <a:ext cx="63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omic Sans MS"/>
              </a:rPr>
              <a:t>3. Посчитай количество неполных квадратов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omic Sans MS"/>
              </a:rPr>
              <a:t>раздели это число на 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6912000" y="2924280"/>
            <a:ext cx="2232000" cy="22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7559640" y="321156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7631280" y="3932280"/>
            <a:ext cx="215640" cy="216000"/>
          </a:xfrm>
          <a:prstGeom prst="flowChartManualInpu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6984360" y="3138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6980400" y="378684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7031880" y="452484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(    :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207280" y="4651200"/>
            <a:ext cx="216000" cy="216000"/>
          </a:xfrm>
          <a:prstGeom prst="flowChartManualInpu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7559640" y="465120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13"/>
          <p:cNvSpPr txBox="1"/>
          <p:nvPr/>
        </p:nvSpPr>
        <p:spPr>
          <a:xfrm>
            <a:off x="179280" y="18900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ктическая работа в группах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735120" y="1870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2551320" y="1844640"/>
            <a:ext cx="623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Задани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делай  план  бассейна (вид сверх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числи, используя палетку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ариант -площадь дна бассе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ариант -площадь пола вокруг бассе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2411280" y="3645000"/>
            <a:ext cx="5400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Задание </a:t>
            </a:r>
            <a:r>
              <a:rPr b="0" lang="ru-RU" sz="1800" spc="-1" strike="noStrike">
                <a:solidFill>
                  <a:srgbClr val="ff66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Comic Sans MS"/>
              </a:rPr>
              <a:t>вычисли площадь следующих фигур используя: 1)  смекалку и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6699"/>
                </a:solidFill>
                <a:latin typeface="Comic Sans MS"/>
              </a:rPr>
              <a:t>2) палет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1"/>
          <p:cNvSpPr/>
          <p:nvPr/>
        </p:nvSpPr>
        <p:spPr>
          <a:xfrm>
            <a:off x="1258920" y="4941720"/>
            <a:ext cx="1511280" cy="1224000"/>
          </a:xfrm>
          <a:prstGeom prst="rtTriangl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3851280" y="5013360"/>
            <a:ext cx="1512720" cy="1152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5364000" y="5589720"/>
            <a:ext cx="648000" cy="576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1476360" y="623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-92160" y="53974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 flipV="1" rot="10766400">
            <a:off x="3274920" y="54417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5372640" y="5229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5940360" y="566100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4509360" y="623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7" descr="4-20"/>
          <p:cNvPicPr/>
          <p:nvPr/>
        </p:nvPicPr>
        <p:blipFill>
          <a:blip r:embed="rId1"/>
          <a:stretch/>
        </p:blipFill>
        <p:spPr>
          <a:xfrm>
            <a:off x="8124840" y="126828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2124000" y="189000"/>
            <a:ext cx="511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611280" y="2133720"/>
            <a:ext cx="2808360" cy="2952720"/>
          </a:xfrm>
          <a:prstGeom prst="rtTriangl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0800000">
            <a:off x="610920" y="2133720"/>
            <a:ext cx="2808360" cy="2952720"/>
          </a:xfrm>
          <a:prstGeom prst="rtTriangle">
            <a:avLst/>
          </a:prstGeom>
          <a:solidFill>
            <a:srgbClr val="ccffff"/>
          </a:solidFill>
          <a:ln w="38160">
            <a:solidFill>
              <a:srgbClr val="00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3924360" y="2276640"/>
            <a:ext cx="3529080" cy="280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7451640" y="4149720"/>
            <a:ext cx="91440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7451640" y="4149720"/>
            <a:ext cx="0" cy="93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Копия (2) 36_2_25"/>
          <p:cNvPicPr/>
          <p:nvPr/>
        </p:nvPicPr>
        <p:blipFill>
          <a:blip r:embed="rId1"/>
          <a:stretch/>
        </p:blipFill>
        <p:spPr>
          <a:xfrm>
            <a:off x="179280" y="18900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Bears_18"/>
          <p:cNvPicPr/>
          <p:nvPr/>
        </p:nvPicPr>
        <p:blipFill>
          <a:blip r:embed="rId2"/>
          <a:stretch/>
        </p:blipFill>
        <p:spPr>
          <a:xfrm>
            <a:off x="7623000" y="333360"/>
            <a:ext cx="134316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0"/>
          <p:cNvSpPr/>
          <p:nvPr/>
        </p:nvSpPr>
        <p:spPr>
          <a:xfrm>
            <a:off x="2627280" y="3645000"/>
            <a:ext cx="6048360" cy="2881080"/>
          </a:xfrm>
          <a:prstGeom prst="cloudCallout">
            <a:avLst>
              <a:gd name="adj1" fmla="val -68949"/>
              <a:gd name="adj2" fmla="val -5077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6"/>
          <p:cNvSpPr/>
          <p:nvPr/>
        </p:nvSpPr>
        <p:spPr>
          <a:xfrm rot="21390000">
            <a:off x="399600" y="979200"/>
            <a:ext cx="7201080" cy="2232000"/>
          </a:xfrm>
          <a:prstGeom prst="wedgeEllipseCallout">
            <a:avLst>
              <a:gd name="adj1" fmla="val 51162"/>
              <a:gd name="adj2" fmla="val -6264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1332000" y="861840"/>
            <a:ext cx="52988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берите правильное утвержд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а) Площадь-это внутренняя часть геометрической фиг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б) Площадь- это сумма длин всех сто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) Площадь-это всё, что находится вокруг фиг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3409560" y="4292640"/>
            <a:ext cx="49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тавь пять верных равенств, использу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едующие значения площад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3419640" y="494172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9 га               15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23 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 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0000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800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7к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2300д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900 а              1500м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7000000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 с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37"/>
          <p:cNvSpPr txBox="1"/>
          <p:nvPr/>
        </p:nvSpPr>
        <p:spPr>
          <a:xfrm>
            <a:off x="250920" y="260280"/>
            <a:ext cx="57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помни пройде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50920" y="2133720"/>
            <a:ext cx="936360" cy="936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084720" y="3933720"/>
            <a:ext cx="1295640" cy="2376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3780000" y="1844640"/>
            <a:ext cx="1295280" cy="1224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971640" y="5157720"/>
            <a:ext cx="2087640" cy="1079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2771640" y="3716280"/>
            <a:ext cx="1295640" cy="115272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5867280" y="1700280"/>
            <a:ext cx="1511280" cy="136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76560" y="42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24000" y="189000"/>
            <a:ext cx="71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В геометрии встречаются различные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-Назовите, какие фигуры вы узна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-Выделите те фигуры, площадь которых умеете нах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971640" y="33577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7596360" y="3645000"/>
            <a:ext cx="1214280" cy="91440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4211640" y="4292640"/>
            <a:ext cx="1214280" cy="216072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4788000" y="2781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2050920" y="1773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2411280" y="206064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2"/>
          <p:cNvSpPr/>
          <p:nvPr/>
        </p:nvSpPr>
        <p:spPr>
          <a:xfrm>
            <a:off x="1187280" y="69228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йдите площадь прямо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7275600" y="314280"/>
            <a:ext cx="1439640" cy="609480"/>
          </a:xfrm>
          <a:prstGeom prst="cloudCallout">
            <a:avLst>
              <a:gd name="adj1" fmla="val 61356"/>
              <a:gd name="adj2" fmla="val 5494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7451640" y="43488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684360" y="2565360"/>
            <a:ext cx="5400360" cy="324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9"/>
          <p:cNvSpPr/>
          <p:nvPr/>
        </p:nvSpPr>
        <p:spPr>
          <a:xfrm>
            <a:off x="8280360" y="3860640"/>
            <a:ext cx="863640" cy="648000"/>
          </a:xfrm>
          <a:prstGeom prst="cloudCallout">
            <a:avLst>
              <a:gd name="adj1" fmla="val -77574"/>
              <a:gd name="adj2" fmla="val 4803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1"/>
          <p:cNvSpPr/>
          <p:nvPr/>
        </p:nvSpPr>
        <p:spPr>
          <a:xfrm>
            <a:off x="3197520" y="5973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2"/>
          <p:cNvSpPr/>
          <p:nvPr/>
        </p:nvSpPr>
        <p:spPr>
          <a:xfrm>
            <a:off x="624060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3"/>
          <p:cNvSpPr txBox="1"/>
          <p:nvPr/>
        </p:nvSpPr>
        <p:spPr>
          <a:xfrm rot="20193000">
            <a:off x="0" y="33336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умай!</a:t>
            </a:r>
            <a:endParaRPr b="0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64"/>
          <p:cNvSpPr txBox="1"/>
          <p:nvPr/>
        </p:nvSpPr>
        <p:spPr>
          <a:xfrm rot="20771400">
            <a:off x="3779640" y="1700280"/>
            <a:ext cx="1685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!</a:t>
            </a:r>
            <a:endParaRPr b="0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684360" y="2565360"/>
            <a:ext cx="107928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1763640" y="2565360"/>
            <a:ext cx="107964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2843280" y="2565360"/>
            <a:ext cx="107928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3924360" y="2565360"/>
            <a:ext cx="107928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5003640" y="2565360"/>
            <a:ext cx="107964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684360" y="3645000"/>
            <a:ext cx="107928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1763640" y="3645000"/>
            <a:ext cx="107964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2844720" y="3645000"/>
            <a:ext cx="107964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3924360" y="3645000"/>
            <a:ext cx="107928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2"/>
          <p:cNvSpPr/>
          <p:nvPr/>
        </p:nvSpPr>
        <p:spPr>
          <a:xfrm>
            <a:off x="5003640" y="3645000"/>
            <a:ext cx="107964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9"/>
          <p:cNvSpPr/>
          <p:nvPr/>
        </p:nvSpPr>
        <p:spPr>
          <a:xfrm>
            <a:off x="684360" y="4724280"/>
            <a:ext cx="107928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1763640" y="4724280"/>
            <a:ext cx="107964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2844720" y="4724280"/>
            <a:ext cx="107964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3925800" y="4726080"/>
            <a:ext cx="107964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5003640" y="4724280"/>
            <a:ext cx="107964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Calibri"/>
              </a:rPr>
              <a:t>Сколько кафельных плиток необходимо для того, чтобы отремонтировать пол. Для этого нужно ли узнать площадь квадрата? Как мы нашли недостающие плитк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835280" y="1773360"/>
          <a:ext cx="5184720" cy="4773600"/>
        </p:xfrm>
        <a:graphic>
          <a:graphicData uri="http://schemas.openxmlformats.org/drawingml/2006/table">
            <a:tbl>
              <a:tblPr/>
              <a:tblGrid>
                <a:gridCol w="576000"/>
                <a:gridCol w="576360"/>
                <a:gridCol w="576360"/>
                <a:gridCol w="576360"/>
                <a:gridCol w="574560"/>
                <a:gridCol w="576360"/>
                <a:gridCol w="576000"/>
                <a:gridCol w="576360"/>
                <a:gridCol w="5763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sp>
        <p:nvSpPr>
          <p:cNvPr id="131" name="Rectangle 450"/>
          <p:cNvSpPr/>
          <p:nvPr/>
        </p:nvSpPr>
        <p:spPr>
          <a:xfrm>
            <a:off x="3564000" y="2276640"/>
            <a:ext cx="1152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59"/>
          <p:cNvSpPr/>
          <p:nvPr/>
        </p:nvSpPr>
        <p:spPr>
          <a:xfrm>
            <a:off x="3564000" y="3357720"/>
            <a:ext cx="5745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60"/>
          <p:cNvSpPr/>
          <p:nvPr/>
        </p:nvSpPr>
        <p:spPr>
          <a:xfrm>
            <a:off x="2987640" y="3860640"/>
            <a:ext cx="57456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61"/>
          <p:cNvSpPr/>
          <p:nvPr/>
        </p:nvSpPr>
        <p:spPr>
          <a:xfrm>
            <a:off x="5292720" y="3860640"/>
            <a:ext cx="57456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4"/>
          <p:cNvSpPr/>
          <p:nvPr/>
        </p:nvSpPr>
        <p:spPr>
          <a:xfrm>
            <a:off x="5867280" y="4437000"/>
            <a:ext cx="5749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5"/>
          <p:cNvSpPr/>
          <p:nvPr/>
        </p:nvSpPr>
        <p:spPr>
          <a:xfrm>
            <a:off x="4716360" y="5445000"/>
            <a:ext cx="57492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66"/>
          <p:cNvSpPr/>
          <p:nvPr/>
        </p:nvSpPr>
        <p:spPr>
          <a:xfrm>
            <a:off x="4140360" y="4941720"/>
            <a:ext cx="57456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68"/>
          <p:cNvSpPr/>
          <p:nvPr/>
        </p:nvSpPr>
        <p:spPr>
          <a:xfrm>
            <a:off x="2411280" y="2852640"/>
            <a:ext cx="122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73"/>
          <p:cNvSpPr/>
          <p:nvPr/>
        </p:nvSpPr>
        <p:spPr>
          <a:xfrm>
            <a:off x="154764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5"/>
          <p:cNvSpPr/>
          <p:nvPr/>
        </p:nvSpPr>
        <p:spPr>
          <a:xfrm>
            <a:off x="4427640" y="333360"/>
            <a:ext cx="3024000" cy="180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2340000" y="1197000"/>
            <a:ext cx="1942920" cy="172872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3203640" y="4437000"/>
            <a:ext cx="2330280" cy="192240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6659640" y="4724280"/>
            <a:ext cx="1728720" cy="1729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900000" y="4508640"/>
            <a:ext cx="1727280" cy="1800000"/>
          </a:xfrm>
          <a:custGeom>
            <a:avLst/>
            <a:gdLst>
              <a:gd name="textAreaLeft" fmla="*/ 359640 w 1727280"/>
              <a:gd name="textAreaRight" fmla="*/ 1367640 w 1727280"/>
              <a:gd name="textAreaTop" fmla="*/ 374760 h 1800000"/>
              <a:gd name="textAreaBottom" fmla="*/ 142524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468360" y="1197000"/>
            <a:ext cx="1439640" cy="1297080"/>
          </a:xfrm>
          <a:prstGeom prst="parallelogram">
            <a:avLst>
              <a:gd name="adj" fmla="val 2774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7524720" y="765000"/>
            <a:ext cx="1214640" cy="215136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2390760" y="60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7"/>
          <p:cNvSpPr txBox="1"/>
          <p:nvPr/>
        </p:nvSpPr>
        <p:spPr>
          <a:xfrm>
            <a:off x="468360" y="3141720"/>
            <a:ext cx="83026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ак же находим площади остальных фигур?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Безымянны"/>
          <p:cNvPicPr/>
          <p:nvPr/>
        </p:nvPicPr>
        <p:blipFill>
          <a:blip r:embed="rId1"/>
          <a:stretch/>
        </p:blipFill>
        <p:spPr>
          <a:xfrm>
            <a:off x="250920" y="1989000"/>
            <a:ext cx="2394000" cy="468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Безымянный"/>
          <p:cNvPicPr/>
          <p:nvPr/>
        </p:nvPicPr>
        <p:blipFill>
          <a:blip r:embed="rId2"/>
          <a:stretch/>
        </p:blipFill>
        <p:spPr>
          <a:xfrm>
            <a:off x="3059280" y="3213000"/>
            <a:ext cx="2916000" cy="345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Безымянн"/>
          <p:cNvPicPr/>
          <p:nvPr/>
        </p:nvPicPr>
        <p:blipFill>
          <a:blip r:embed="rId3"/>
          <a:stretch/>
        </p:blipFill>
        <p:spPr>
          <a:xfrm>
            <a:off x="6335640" y="1989000"/>
            <a:ext cx="2522520" cy="4680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9"/>
          <p:cNvSpPr txBox="1"/>
          <p:nvPr/>
        </p:nvSpPr>
        <p:spPr>
          <a:xfrm>
            <a:off x="2268360" y="162864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ЕРКАЛ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0" y="260280"/>
            <a:ext cx="971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Где в окружающей жизни мы встречаемся с предмет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в основе которых лежат фигуры с кривыми ли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2" descr="Бе"/>
          <p:cNvPicPr/>
          <p:nvPr/>
        </p:nvPicPr>
        <p:blipFill>
          <a:blip r:embed="rId1"/>
          <a:stretch/>
        </p:blipFill>
        <p:spPr>
          <a:xfrm>
            <a:off x="4932360" y="4076640"/>
            <a:ext cx="3665520" cy="259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Безымянны"/>
          <p:cNvPicPr/>
          <p:nvPr/>
        </p:nvPicPr>
        <p:blipFill>
          <a:blip r:embed="rId2"/>
          <a:stretch/>
        </p:blipFill>
        <p:spPr>
          <a:xfrm>
            <a:off x="611280" y="4059360"/>
            <a:ext cx="3816360" cy="258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басе4"/>
          <p:cNvPicPr/>
          <p:nvPr/>
        </p:nvPicPr>
        <p:blipFill>
          <a:blip r:embed="rId3"/>
          <a:stretch/>
        </p:blipFill>
        <p:spPr>
          <a:xfrm>
            <a:off x="611280" y="1365120"/>
            <a:ext cx="3816360" cy="2551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7" descr="Безым"/>
          <p:cNvPicPr/>
          <p:nvPr/>
        </p:nvPicPr>
        <p:blipFill>
          <a:blip r:embed="rId4"/>
          <a:stretch/>
        </p:blipFill>
        <p:spPr>
          <a:xfrm>
            <a:off x="4932360" y="1413000"/>
            <a:ext cx="3708360" cy="2481120"/>
          </a:xfrm>
          <a:prstGeom prst="rect">
            <a:avLst/>
          </a:prstGeom>
          <a:ln w="0">
            <a:noFill/>
          </a:ln>
        </p:spPr>
      </p:pic>
      <p:sp>
        <p:nvSpPr>
          <p:cNvPr id="158" name="WordArt 28"/>
          <p:cNvSpPr txBox="1"/>
          <p:nvPr/>
        </p:nvSpPr>
        <p:spPr>
          <a:xfrm>
            <a:off x="2771640" y="260280"/>
            <a:ext cx="3888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ССЕЙН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3"/>
          <p:cNvPicPr/>
          <p:nvPr/>
        </p:nvPicPr>
        <p:blipFill>
          <a:blip r:embed="rId1"/>
          <a:stretch/>
        </p:blipFill>
        <p:spPr>
          <a:xfrm>
            <a:off x="468360" y="1125360"/>
            <a:ext cx="3635280" cy="2457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5"/>
          <p:cNvPicPr/>
          <p:nvPr/>
        </p:nvPicPr>
        <p:blipFill>
          <a:blip r:embed="rId2"/>
          <a:stretch/>
        </p:blipFill>
        <p:spPr>
          <a:xfrm>
            <a:off x="4643280" y="1125360"/>
            <a:ext cx="3959280" cy="2463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4"/>
          <p:cNvPicPr/>
          <p:nvPr/>
        </p:nvPicPr>
        <p:blipFill>
          <a:blip r:embed="rId3"/>
          <a:stretch/>
        </p:blipFill>
        <p:spPr>
          <a:xfrm>
            <a:off x="468360" y="3860640"/>
            <a:ext cx="3598920" cy="2652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6"/>
          <p:cNvPicPr/>
          <p:nvPr/>
        </p:nvPicPr>
        <p:blipFill>
          <a:blip r:embed="rId4"/>
          <a:stretch/>
        </p:blipFill>
        <p:spPr>
          <a:xfrm>
            <a:off x="4643280" y="3860640"/>
            <a:ext cx="3961080" cy="2657520"/>
          </a:xfrm>
          <a:prstGeom prst="rect">
            <a:avLst/>
          </a:prstGeom>
          <a:ln w="0">
            <a:noFill/>
          </a:ln>
        </p:spPr>
      </p:pic>
      <p:sp>
        <p:nvSpPr>
          <p:cNvPr id="163" name="WordArt 9"/>
          <p:cNvSpPr txBox="1"/>
          <p:nvPr/>
        </p:nvSpPr>
        <p:spPr>
          <a:xfrm>
            <a:off x="1763640" y="260280"/>
            <a:ext cx="57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ТЯЖНЫЕ ПОТО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18:09:44Z</dcterms:created>
  <dc:creator>Bill Gates</dc:creator>
  <dc:description/>
  <dc:language>en-US</dc:language>
  <cp:lastModifiedBy>User</cp:lastModifiedBy>
  <dcterms:modified xsi:type="dcterms:W3CDTF">2011-12-09T20:37:03Z</dcterms:modified>
  <cp:revision>64</cp:revision>
  <dc:subject/>
  <dc:title>название</dc:title>
</cp:coreProperties>
</file>