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870B-29DF-4D10-BC11-A37368786B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5312-A467-49DC-84C3-34EA13C4F9C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C7A9-4181-4BF1-B62D-07C2CDDDDF7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D9BD-980A-4B04-9625-4F2B91F0E5F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9B05-847C-42DB-9177-731E6DDD6C9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FD97-1332-45E5-A3BC-A3DBACB0E23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13E2-1560-455D-AFBF-EB6F2BC293B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342F-3B97-4A81-82E7-42626BD8724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A75D-5BE3-4C7C-9D5A-FA766182398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E87F-E89A-4881-8E4A-11FDB4E27F5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FBCA-7084-4A96-9994-F7D1432A47E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9A09-F788-4A53-ABCD-0F659B8D8C7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F639-08D7-4BF1-8B1B-32619638EFC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6D83-73EE-4385-BE10-1A7AD7AC265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17BF-0CD3-4155-AB14-D20F8287F23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6B4C-0515-4B7B-BB4D-1DAE8B3F31C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EDD7-3CB7-434B-9900-EAAA0A3E0B7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0E8F-B387-41B1-A6E9-B02DE506B59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F17-FA49-4918-A9EE-4FCFAF1A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150-5753-4E56-8AC5-9E5B70BF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B10-BD16-44C4-BFFE-BE0213DB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34A-61C7-4418-84F2-359D2869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C339-6C18-4743-80F5-8CF556C8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8EF5-6E59-4C3C-8400-2CA23B4A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5781-8DF0-4218-BB9C-90CA6E61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1992-39B1-4FF7-9131-CF83ECE5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98AB-9D4E-4F32-A488-B85C4DBA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7977-64FD-41B0-9349-D6C4579A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4496-F6F3-4155-B73C-DFAF69C8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A6C-648E-4A59-98AB-C3F1FD47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999B-2D3E-45E4-92DD-8387F68D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4298-B2EF-45B8-A586-CAB9035B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C829-0E1E-4242-B770-14FC6497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99FE-3A1C-4B9B-B429-F7441002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606D-1EB4-4FC8-8213-8944A4CC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C55-45DC-4A02-A053-C69334EE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E11C-83FB-46B0-9A3E-C57625B2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DAE-3924-4A74-AE47-A6955A4B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28C-7686-4F3E-A5F4-8B5C3E0B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642-794B-4743-8DC5-F632CB32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8BB-BED4-438B-822D-245B51CC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9F0-7661-43AE-B0F6-1A2525D7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C8F9-7235-49C1-A871-66D7A71C2E7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A14F-AC33-440D-9EE7-9D816765FE1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70920" y="764280"/>
            <a:ext cx="7341840" cy="103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утешествие к Инфознай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857480" y="1499760"/>
            <a:ext cx="3429000" cy="371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Подготовила: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Игумнова Ирина Анатольевна,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учитель начальных классов первой категор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МОУ СОШ с.Маккавеев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стаж работы 20 л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1619280" y="4797360"/>
            <a:ext cx="6624720" cy="1532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900000" y="2634480"/>
            <a:ext cx="39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9. Кого из приведенных ниже живых существ или материальных объектов нельзя назвать Исполнителем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1187280" y="393228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0. В множество «Города России» был неправильно записан один объект. Найди ег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95280" y="5300640"/>
            <a:ext cx="87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Новосибирск;  2) Пермь;  3) Чувашия;  4) Петрозаводс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4859280" y="3789360"/>
            <a:ext cx="3851280" cy="13986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-73440" y="2347560"/>
            <a:ext cx="55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1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Слово, зашифрованное в ребусе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означает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3098160"/>
            <a:ext cx="493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3366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место кратковременного хранения информации в компьютер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средство для передачи информ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средство для печати информации с компьютера на бумаг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средство ввода информ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179280" y="2598840"/>
            <a:ext cx="51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2. В загадке «Кто его раздевает, тот слезы проливает» существенным признаком, по которому можно угадать, что речь идет о луке, являет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слезы;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иметь много одежек;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выделять запах, раздражающий глаз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) быть маленьким, круглым и желты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6696000" y="4149720"/>
            <a:ext cx="1455840" cy="1655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6084720" y="3860640"/>
            <a:ext cx="2592720" cy="23432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465120" y="2228760"/>
            <a:ext cx="482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3. Пять принцев дружили между собой, но жили в пяти разных городах. Они решили проложить дороги так, чтобы из любого города можно было добраться в любой другой город (возможно, проезжая через другой). Сколько минимально дорог надо им проложить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6;   2)  5;   3) 4;   4) 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900000" y="4842000"/>
            <a:ext cx="7274160" cy="2016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0" y="2277000"/>
            <a:ext cx="548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4. В сказке А. С. Пушкина «Сказка о попе и о работнике его Балде» поп выбирал работника по следующим признака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Нужен мне работник: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вар, конюх и плотник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где найти мне такого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лужителя не слишком дорогого?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кое из следующих пересечений множеств верно отражает требования попа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826920" y="2450880"/>
            <a:ext cx="36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5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У Пети два друга: Ваня и Сережа, Ваня еще дружит с Колей, Сережа тоже дружит с Колей. Какой граф отображает дружеские отношения между мальчиками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3780000" y="5373720"/>
            <a:ext cx="4932360" cy="12175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1835280" y="4005360"/>
            <a:ext cx="59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Добро пожаловать к Инфознайке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2000160" cy="15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Object 7"/>
          <p:cNvGraphicFramePr/>
          <p:nvPr/>
        </p:nvGraphicFramePr>
        <p:xfrm>
          <a:off x="4643280" y="4653000"/>
          <a:ext cx="328644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4653000"/>
                    <a:ext cx="32864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8"/>
          <p:cNvSpPr/>
          <p:nvPr/>
        </p:nvSpPr>
        <p:spPr>
          <a:xfrm>
            <a:off x="4211640" y="241848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На столе есть места для трех предметов, установи правильное соответствие между местами и самими предмет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193680" y="2347920"/>
            <a:ext cx="274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42920" y="4365720"/>
          <a:ext cx="3216240" cy="1798560"/>
        </p:xfrm>
        <a:graphic>
          <a:graphicData uri="http://schemas.openxmlformats.org/drawingml/2006/table">
            <a:tbl>
              <a:tblPr/>
              <a:tblGrid>
                <a:gridCol w="2951280"/>
                <a:gridCol w="26496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С;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; 3-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С;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; 1-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-С;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; 3-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-С;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; 2-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22"/>
          <p:cNvSpPr/>
          <p:nvPr/>
        </p:nvSpPr>
        <p:spPr>
          <a:xfrm>
            <a:off x="193680" y="2347920"/>
            <a:ext cx="464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44" descr=""/>
          <p:cNvPicPr/>
          <p:nvPr/>
        </p:nvPicPr>
        <p:blipFill>
          <a:blip r:embed="rId4"/>
          <a:stretch/>
        </p:blipFill>
        <p:spPr>
          <a:xfrm>
            <a:off x="0" y="0"/>
            <a:ext cx="4076640" cy="3562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8"/>
          <p:cNvSpPr/>
          <p:nvPr/>
        </p:nvSpPr>
        <p:spPr>
          <a:xfrm>
            <a:off x="6948360" y="105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х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19200" y="4365720"/>
            <a:ext cx="6696000" cy="8506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826920" y="2490120"/>
            <a:ext cx="364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2. Рассмотри нарисованные компьютеры и найди два одинаков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67200" y="4294080"/>
          <a:ext cx="6076800" cy="1494000"/>
        </p:xfrm>
        <a:graphic>
          <a:graphicData uri="http://schemas.openxmlformats.org/drawingml/2006/table">
            <a:tbl>
              <a:tblPr/>
              <a:tblGrid>
                <a:gridCol w="4640040"/>
                <a:gridCol w="1436760"/>
              </a:tblGrid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) 2 и 4;     2) 1 и 5;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) 1 и 6;     4) 5 и 6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13" descr=""/>
          <p:cNvPicPr/>
          <p:nvPr/>
        </p:nvPicPr>
        <p:blipFill>
          <a:blip r:embed="rId2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"/>
          <p:cNvPicPr/>
          <p:nvPr/>
        </p:nvPicPr>
        <p:blipFill>
          <a:blip r:embed="rId3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5"/>
          <p:cNvSpPr/>
          <p:nvPr/>
        </p:nvSpPr>
        <p:spPr>
          <a:xfrm>
            <a:off x="1117440" y="98100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х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0" y="2781360"/>
            <a:ext cx="5041800" cy="32544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4"/>
          <p:cNvSpPr/>
          <p:nvPr/>
        </p:nvSpPr>
        <p:spPr>
          <a:xfrm>
            <a:off x="5076720" y="3754080"/>
            <a:ext cx="406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. Вини-Пух, прогуливаясь через лес, зашел к Пятачку. Затем они вместе пошли к Кролику, и потом втроем отправились к озеру. Какой граф отображает маршрут друзей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24000" y="2517840"/>
            <a:ext cx="44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По алгоритму из стрелок воспроизведи рисуно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Что у тебя получилось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2627280" y="3726000"/>
            <a:ext cx="5761080" cy="2832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5580000" y="3933720"/>
            <a:ext cx="3030480" cy="20653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179280" y="2810880"/>
            <a:ext cx="48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. В сказке В. Ф. Одоевского «Городок в табакерке» работой музыкальной шкатулки управляет Пружин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ое устройство управляет работой компьютера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мять;   2)  процессор;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монитор;   4) клавиату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0" y="2201040"/>
            <a:ext cx="4943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6. У Буратино были друзья: папа Карло, Пьеро, Артемон, Мальвина, и враги: Карабас Барабас, Дуремар, лиса Алиса и кот Базилио. Выбери соотношение множеств, которое верно описывает отношения между друзьями и врагами Буратин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1187280" y="5516640"/>
            <a:ext cx="7417080" cy="1154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5796000" y="3573360"/>
            <a:ext cx="1165320" cy="2009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900000" y="2234880"/>
            <a:ext cx="39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7. Вычислительная машина считает по алгоритму, изображенному в виде блок-схемы. Если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=17, чему будет равен результат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59;    2)  43;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25;   4)  9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5219640" y="3573360"/>
            <a:ext cx="3241800" cy="31435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116000" y="2124000"/>
            <a:ext cx="34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8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О каком из следующих материальных или информационных объектов нельзя сказать, что это модель Солнца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4643280" cy="18432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2:18:15Z</dcterms:created>
  <dc:creator>Миша</dc:creator>
  <dc:description/>
  <dc:language>en-US</dc:language>
  <cp:lastModifiedBy>user</cp:lastModifiedBy>
  <dcterms:modified xsi:type="dcterms:W3CDTF">2011-12-10T05:52:56Z</dcterms:modified>
  <cp:revision>20</cp:revision>
  <dc:subject/>
  <dc:title>Путешествие к Инфознайке</dc:title>
</cp:coreProperties>
</file>