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04C-3527-4ECB-A919-B91CF28C0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B40D-38FF-4127-B719-707AF68F221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C52-C538-43DE-A685-4A2DF220E41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C5AC-AE16-44F2-8680-889CE5633DB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55FC-DEB8-4AF2-B19B-BFA5190625C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092-3061-436C-967C-FEDE5909EC7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D7E-30FB-415F-8882-D8D0855CF3C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1809-47A6-49DE-9F91-32087CC4CFB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85C-B58D-448C-A4D9-8007EF11F19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FC21-7EC1-4941-B299-E8BB7683F37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12DF-E907-40FD-9A59-363FDE496BB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BFA-EA92-4209-B37D-635CE05080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B93-3E45-4289-AE50-4ED016FC404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735-7871-46CF-A9E8-651F314063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4EE8-4CB3-43A9-A747-B9403E9767D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261-389C-428C-BB3E-6DD91EFED0E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461-96CB-46D8-8211-835CD8A516F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8AD-6F54-4E3F-A1C9-4F0A7DBD59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6D6-F8B2-4B1F-9F6A-17D009F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D18-0269-4C53-A968-62BD26C0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00E-CDC1-4389-86A7-C58EC916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8A6-96C4-41B8-84D2-18BB2A67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8D7B-3DC8-4C58-A33E-545AB808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AFE-4E73-4F35-B97D-78836324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02E-6595-479C-AA3C-69348D7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826A-E745-498D-ABB8-30A3D2B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362F-9CA8-4E88-A81B-61FD42A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3E1-563A-4C50-B778-18DB254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6540-713B-44D5-8873-BB252C3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D3D-1E39-4FDC-9B15-FD011B0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20E-D2A6-4E48-B0AD-4DB7843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E42-D0E1-4209-9126-3731E69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A62-162F-45B1-8E67-BBF551D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574-9E43-443A-B062-B5AD017C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C169-F1BE-4AF5-AE05-014F9E74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C03-FE47-4B60-BC7A-A65677A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639-BFCE-415C-BD7D-CC5E0A26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0DC-5BAF-4AFD-881B-038E81E1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8ED-988A-4A75-BE43-35D54B8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879-4A90-40A2-B3FA-60F1270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73E-6AB8-4FC6-A9E2-E224CD8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685-2D75-4ABD-A325-344FD2A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C7E-CAC9-4A5F-AECD-737BF75AD97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44D-6373-491A-A087-9F4034A850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0920" y="76428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утешествие к Инфознай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857480" y="1499760"/>
            <a:ext cx="3429000" cy="371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одготовила: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гумнова Ирина Анатольевна,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читель начальных классов первой категор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ОУ СОШ с.Маккавее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таж работы 20 л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1619280" y="4797360"/>
            <a:ext cx="6624720" cy="1532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900000" y="263448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. Кого из приведенных ниже живых существ или материальных объектов нельзя назвать Исполнителем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1187280" y="3932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. В множество «Города России» был неправильно записан один объект. Найди е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95280" y="530064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Новосибирск;  2) Пермь;  3) Чувашия;  4) Петрозавод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851280" cy="1398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73440" y="234756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1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лово, зашифрованное в ребус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знача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3098160"/>
            <a:ext cx="493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место кратковременного хранения информации в компьютер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редачи информ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чати информации с компьютера на бумаг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ввода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179280" y="2598840"/>
            <a:ext cx="51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2. В загадке «Кто его раздевает, тот слезы проливает» существенным признаком, по которому можно угадать, что речь идет о луке, являе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лезы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иметь много одежек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выделять запах, раздражающий глаз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быть маленьким, круглым и желт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6696000" y="4149720"/>
            <a:ext cx="1455840" cy="1655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592720" cy="2343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65120" y="2228760"/>
            <a:ext cx="482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. Пять принцев дружили между собой, но жили в пяти разных городах. Они решили проложить дороги так, чтобы из любого города можно было добраться в любой другой город (возможно, проезжая через другой). Сколько минимально дорог надо им проложи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6;   2)  5;   3) 4;   4)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900000" y="4842000"/>
            <a:ext cx="7274160" cy="201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0" y="2277000"/>
            <a:ext cx="548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4. В сказке А. С. Пушкина «Сказка о попе и о работнике его Балде» поп выбирал работника по следующим признака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Нужен мне работник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вар, конюх и плотник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где найти мне такого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лужителя не слишком дорогого?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кое из следующих пересечений множеств верно отражает требования поп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26920" y="245088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5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У Пети два друга: Ваня и Сережа, Ваня еще дружит с Колей, Сережа тоже дружит с Колей. Какой граф отображает дружеские отношения между мальчикам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780000" y="5373720"/>
            <a:ext cx="4932360" cy="12175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835280" y="400536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Добро пожаловать к Инфознайк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200016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7"/>
          <p:cNvGraphicFramePr/>
          <p:nvPr/>
        </p:nvGraphicFramePr>
        <p:xfrm>
          <a:off x="4643280" y="4653000"/>
          <a:ext cx="32864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4653000"/>
                    <a:ext cx="32864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8"/>
          <p:cNvSpPr/>
          <p:nvPr/>
        </p:nvSpPr>
        <p:spPr>
          <a:xfrm>
            <a:off x="4211640" y="241848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На столе есть места для трех предметов, установи правильное соответствие между местами и самими предмет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93680" y="234792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42920" y="4365720"/>
          <a:ext cx="3216240" cy="1798560"/>
        </p:xfrm>
        <a:graphic>
          <a:graphicData uri="http://schemas.openxmlformats.org/drawingml/2006/table">
            <a:tbl>
              <a:tblPr/>
              <a:tblGrid>
                <a:gridCol w="2951280"/>
                <a:gridCol w="264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1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2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2"/>
          <p:cNvSpPr/>
          <p:nvPr/>
        </p:nvSpPr>
        <p:spPr>
          <a:xfrm>
            <a:off x="193680" y="2347920"/>
            <a:ext cx="464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4" descr=""/>
          <p:cNvPicPr/>
          <p:nvPr/>
        </p:nvPicPr>
        <p:blipFill>
          <a:blip r:embed="rId4"/>
          <a:stretch/>
        </p:blipFill>
        <p:spPr>
          <a:xfrm>
            <a:off x="0" y="0"/>
            <a:ext cx="4076640" cy="356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8"/>
          <p:cNvSpPr/>
          <p:nvPr/>
        </p:nvSpPr>
        <p:spPr>
          <a:xfrm>
            <a:off x="694836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19200" y="4365720"/>
            <a:ext cx="6696000" cy="850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826920" y="2490120"/>
            <a:ext cx="364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. Рассмотри нарисованные компьютеры и найди два одинаков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67200" y="4294080"/>
          <a:ext cx="6076800" cy="1494000"/>
        </p:xfrm>
        <a:graphic>
          <a:graphicData uri="http://schemas.openxmlformats.org/drawingml/2006/table">
            <a:tbl>
              <a:tblPr/>
              <a:tblGrid>
                <a:gridCol w="4640040"/>
                <a:gridCol w="1436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) 2 и 4;     2) 1 и 5;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) 1 и 6;     4) 5 и 6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13" descr="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3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1117440" y="981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0" y="2781360"/>
            <a:ext cx="5041800" cy="3254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4"/>
          <p:cNvSpPr/>
          <p:nvPr/>
        </p:nvSpPr>
        <p:spPr>
          <a:xfrm>
            <a:off x="5076720" y="3754080"/>
            <a:ext cx="40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Вини-Пух, прогуливаясь через лес, зашел к Пятачку. Затем они вместе пошли к Кролику, и потом втроем отправились к озеру. Какой граф отображает маршрут друзе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24000" y="2517840"/>
            <a:ext cx="44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 алгоритму из стрелок воспроизведи рисун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Что у тебя получи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2627280" y="3726000"/>
            <a:ext cx="5761080" cy="283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5580000" y="3933720"/>
            <a:ext cx="3030480" cy="2065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79280" y="281088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В сказке В. Ф. Одоевского «Городок в табакерке» работой музыкальной шкатулки управляет Пружин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ое устройство управляет работой компьютер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ь;   2)  процессор;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монитор;   4) клавиату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2201040"/>
            <a:ext cx="49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. У Буратино были друзья: папа Карло, Пьеро, Артемон, Мальвина, и враги: Карабас Барабас, Дуремар, лиса Алиса и кот Базилио. Выбери соотношение множеств, которое верно описывает отношения между друзьями и врагами Бурати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1187280" y="5516640"/>
            <a:ext cx="7417080" cy="1154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5796000" y="3573360"/>
            <a:ext cx="1165320" cy="2009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900000" y="2234880"/>
            <a:ext cx="39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. Вычислительная машина считает по алгоритму, изображенному в виде блок-схемы. Есл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17, чему будет равен результа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59;    2)  43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25;   4)  9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241800" cy="3143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116000" y="212400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 каком из следующих материальных или информационных объектов нельзя сказать, что это модель Солнц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4643280" cy="1843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2:18:15Z</dcterms:created>
  <dc:creator>Миша</dc:creator>
  <dc:description/>
  <dc:language>en-US</dc:language>
  <cp:lastModifiedBy>user</cp:lastModifiedBy>
  <dcterms:modified xsi:type="dcterms:W3CDTF">2011-12-10T05:52:56Z</dcterms:modified>
  <cp:revision>20</cp:revision>
  <dc:subject/>
  <dc:title>Путешествие к Инфознайке</dc:title>
</cp:coreProperties>
</file>