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F98-D80B-406C-ABF0-7078F39F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432-7F46-4BCD-BC0E-1BDAD5B4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F24-DB7A-4B14-BEDC-EF0B55C1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4D0-00DB-4E67-900F-32A77B1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586-CFAE-4FAD-94A9-F8C6A17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4AD-2EC3-4095-A705-F4383F6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9A1-B231-47CB-8EA7-955C63B9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F938-0A79-44B3-ABE6-834642C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6E7-D8D7-4969-A9EF-FCB690D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CD96-C052-4432-9239-D37466F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800-96CB-41FF-A52A-AAD6BF8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28A-DDDA-40FE-95DB-9FD821B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93A-FADA-43A7-8FA3-0E12105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42BF-2B04-43BD-9535-CDB08F63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0217-D91C-4472-8224-ED8E6D7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D9C6-E734-429C-804E-1B44F58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FEFE-272E-4A41-B984-BE31FB6E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8745-B009-4A4F-AE49-441171E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560E-2DB8-4333-A0CC-176FA812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747E-37AC-4365-9E83-7A59BE0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F77C-C1CE-49AC-BA87-A2C2532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AFC4-93FF-4BE6-8A71-A24EBA7A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0C6-14C3-43D5-B716-E22CFAD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0E27-FDD9-495A-9909-B1607D67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61A7-26C5-4614-9684-C84E4D4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E7D1-75C1-4359-91A9-DA87508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AC5B-E38A-4EC5-B120-8FFF084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E5B6-A173-43F5-85FD-8578EE0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80F5-1BDB-44A3-878E-A7086367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18AC-7B7B-4E4A-9934-525F71C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C7CE-D9B1-4E68-9B85-E707C4F7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04C6-F161-4BAA-8FBD-F9CCBEB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A051-2957-4658-8F04-36D28F8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77D-1176-40A0-AECB-036CCFE8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D08E-9621-4A7E-9DC6-BEA7E4F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33FE-7973-4E5D-AFEB-AA6041E6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1ED0-7A73-4864-AB18-F49B508B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11C6-F79F-4F9C-907C-96D1821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A56F-7126-4B1A-B452-5F31EB6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A585-AD30-42C1-9B3F-A7F4900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321F-19DB-4EC7-B943-5DAA2A05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5786-B500-4C52-9306-F2B169F6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69A3-D201-470E-B89C-14B28D89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6B-6872-4165-BAD2-98EF1C9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A71-7AEA-4FD3-A40B-D8CC271A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5F6-4333-4351-962A-8C475A7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D8B-5D9A-4A06-8964-F4481E5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535-EE38-4C89-8335-5042063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0AF-1B57-4669-BDF3-2D670533C22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03EB-3DE8-4181-8634-BE124D5E03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C46-08B5-44EF-8FCC-087E76A5CC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6ED-3F70-4DEA-8B96-307CB5623C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360360" y="585720"/>
            <a:ext cx="9175680" cy="4632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J0232155"/>
          <p:cNvPicPr/>
          <p:nvPr/>
        </p:nvPicPr>
        <p:blipFill>
          <a:blip r:embed="rId2"/>
          <a:stretch/>
        </p:blipFill>
        <p:spPr>
          <a:xfrm>
            <a:off x="6572160" y="3143160"/>
            <a:ext cx="25718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56800" y="142884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0" lang="ru-RU" sz="6000" spc="-1" strike="noStrike">
                <a:solidFill>
                  <a:srgbClr val="0000ff"/>
                </a:solidFill>
                <a:latin typeface="Constantia"/>
              </a:rPr>
              <a:t>в будущем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0" i="1" lang="ru-RU" sz="5400" spc="-1" strike="noStrike">
                <a:solidFill>
                  <a:srgbClr val="009dd9"/>
                </a:solidFill>
                <a:latin typeface="Constantia"/>
              </a:rPr>
              <a:t>полечу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на ракет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dd9"/>
                </a:solidFill>
                <a:latin typeface="Constantia"/>
              </a:rPr>
              <a:t>Хочу побыва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На далекой планет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6" descr="MP00646_"/>
          <p:cNvPicPr/>
          <p:nvPr/>
        </p:nvPicPr>
        <p:blipFill>
          <a:blip r:embed="rId1"/>
          <a:stretch/>
        </p:blipFill>
        <p:spPr>
          <a:xfrm>
            <a:off x="6588000" y="549360"/>
            <a:ext cx="15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32140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642960" y="2714760"/>
          <a:ext cx="8072280" cy="1371600"/>
        </p:xfrm>
        <a:graphic>
          <a:graphicData uri="http://schemas.openxmlformats.org/drawingml/2006/table">
            <a:tbl>
              <a:tblPr/>
              <a:tblGrid>
                <a:gridCol w="2357280"/>
                <a:gridCol w="2857680"/>
                <a:gridCol w="28573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. В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Т. ВР.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	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Д. ВР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Прямая соединительная линия 6"/>
          <p:cNvSpPr/>
          <p:nvPr/>
        </p:nvSpPr>
        <p:spPr>
          <a:xfrm flipH="1">
            <a:off x="2928960" y="271476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 flipH="1">
            <a:off x="5928840" y="2714760"/>
            <a:ext cx="180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1571760" y="78588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Машина време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3880" y="9997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Прочитайте текст. В каком времени употреблены глаголы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9680" y="2500200"/>
            <a:ext cx="72723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ы весной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сажали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ад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 Семен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лежал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у гряд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от мы яблоки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едим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о Семену не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дадим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J0232905"/>
          <p:cNvPicPr/>
          <p:nvPr/>
        </p:nvPicPr>
        <p:blipFill>
          <a:blip r:embed="rId1"/>
          <a:stretch/>
        </p:blipFill>
        <p:spPr>
          <a:xfrm>
            <a:off x="6804000" y="4221000"/>
            <a:ext cx="1978200" cy="16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42840" y="633240"/>
            <a:ext cx="8815320" cy="3232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J0232740"/>
          <p:cNvPicPr/>
          <p:nvPr/>
        </p:nvPicPr>
        <p:blipFill>
          <a:blip r:embed="rId2"/>
          <a:stretch/>
        </p:blipFill>
        <p:spPr>
          <a:xfrm>
            <a:off x="714240" y="3800520"/>
            <a:ext cx="2500560" cy="257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J0232149"/>
          <p:cNvPicPr/>
          <p:nvPr/>
        </p:nvPicPr>
        <p:blipFill>
          <a:blip r:embed="rId3"/>
          <a:stretch/>
        </p:blipFill>
        <p:spPr>
          <a:xfrm>
            <a:off x="3786120" y="3819600"/>
            <a:ext cx="2286000" cy="24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J0232876"/>
          <p:cNvPicPr/>
          <p:nvPr/>
        </p:nvPicPr>
        <p:blipFill>
          <a:blip r:embed="rId4"/>
          <a:stretch/>
        </p:blipFill>
        <p:spPr>
          <a:xfrm>
            <a:off x="6500880" y="3557520"/>
            <a:ext cx="18572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7858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астица «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придает глаголу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отрицательный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смысл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 знает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приедет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Частица  «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  с 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глаголами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пишется  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отдельно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5" descr="QUILLPEN"/>
          <p:cNvPicPr/>
          <p:nvPr/>
        </p:nvPicPr>
        <p:blipFill>
          <a:blip r:embed="rId1"/>
          <a:stretch/>
        </p:blipFill>
        <p:spPr>
          <a:xfrm>
            <a:off x="7286760" y="3786120"/>
            <a:ext cx="136044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7"/>
          <p:cNvSpPr/>
          <p:nvPr/>
        </p:nvSpPr>
        <p:spPr>
          <a:xfrm>
            <a:off x="428760" y="3429000"/>
            <a:ext cx="7858080" cy="1440"/>
          </a:xfrm>
          <a:prstGeom prst="line">
            <a:avLst/>
          </a:prstGeom>
          <a:ln w="1908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читайте предложение о себе. Если с чем-то не согласны, придайте действию отрицательный смысл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800" spc="-1" strike="noStrike">
                <a:solidFill>
                  <a:srgbClr val="0b5395"/>
                </a:solidFill>
                <a:latin typeface="Constantia"/>
              </a:rPr>
              <a:t>Я уважаю лодырей, люблю спорт, боюсь темноты, помогаю по дому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J0301252"/>
          <p:cNvPicPr/>
          <p:nvPr/>
        </p:nvPicPr>
        <p:blipFill>
          <a:blip r:embed="rId1"/>
          <a:stretch/>
        </p:blipFill>
        <p:spPr>
          <a:xfrm>
            <a:off x="6929280" y="4714920"/>
            <a:ext cx="201456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56800" y="571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Запишите пословицы, вставляя где нужно частицу 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ru-RU" sz="3600" spc="-1" strike="noStrike">
                <a:solidFill>
                  <a:srgbClr val="0b5395"/>
                </a:solidFill>
                <a:latin typeface="Calibri"/>
              </a:rPr>
              <a:t>»</a:t>
            </a:r>
            <a:r>
              <a:rPr b="0" lang="ru-RU" sz="3200" spc="-1" strike="noStrike">
                <a:solidFill>
                  <a:srgbClr val="0b539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7146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ткладывай безделье, да откладывай дел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очешь есть калачи, так сиди на п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еловек от лени болеет, а от труда здорове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ез труда вынешь рыбку из пруд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6" descr="BOOK1"/>
          <p:cNvPicPr/>
          <p:nvPr/>
        </p:nvPicPr>
        <p:blipFill>
          <a:blip r:embed="rId1"/>
          <a:stretch/>
        </p:blipFill>
        <p:spPr>
          <a:xfrm>
            <a:off x="6840360" y="857160"/>
            <a:ext cx="2052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alibri"/>
              </a:rPr>
              <a:t>Проверк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ткладывай безделье, да 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откладывай дел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очешь есть калачи, так 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сиди на п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еловек от лени болеет, а от труда здорове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ез труда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вынешь рыбку из пруд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7"/>
          <p:cNvSpPr/>
          <p:nvPr/>
        </p:nvSpPr>
        <p:spPr>
          <a:xfrm>
            <a:off x="3714840" y="5643720"/>
            <a:ext cx="7858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7429680" y="450072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4572000" y="4572000"/>
            <a:ext cx="7858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голы </a:t>
            </a: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прошедшего времени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изменяются по числам, а в единственном числе по родам.                  М.р.-       . Ж.р.-  А   . Ср.р.-  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928880" y="4643280"/>
            <a:ext cx="71424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1940400" y="5500800"/>
            <a:ext cx="18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. ч.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860640" y="55720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4978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Вставьте пропущенные окончания глаголов прошедшего времен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56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Дерево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гну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ша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вари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текло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разби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7" descr="wind-wb"/>
          <p:cNvPicPr/>
          <p:nvPr/>
        </p:nvPicPr>
        <p:blipFill>
          <a:blip r:embed="rId1"/>
          <a:stretch/>
        </p:blipFill>
        <p:spPr>
          <a:xfrm>
            <a:off x="6804000" y="263700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8"/>
          <p:cNvSpPr txBox="1"/>
          <p:nvPr/>
        </p:nvSpPr>
        <p:spPr>
          <a:xfrm>
            <a:off x="4357800" y="2286000"/>
            <a:ext cx="428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0" name="WordArt 9"/>
          <p:cNvSpPr txBox="1"/>
          <p:nvPr/>
        </p:nvSpPr>
        <p:spPr>
          <a:xfrm>
            <a:off x="4572000" y="3500280"/>
            <a:ext cx="428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1" name="WordArt 10"/>
          <p:cNvSpPr txBox="1"/>
          <p:nvPr/>
        </p:nvSpPr>
        <p:spPr>
          <a:xfrm>
            <a:off x="5143680" y="4714920"/>
            <a:ext cx="4284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-96840" y="701640"/>
            <a:ext cx="9374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очитайте текст. Выпишите глаголы, определите их время, число, род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«Я мыл пол, чистил самовар, колол и носил дрова, мыл посуду, чистил овощи, ходил с хозяйкой по базару, бегал в 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аптеку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.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Мы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Чист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Коло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Нос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Ход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Бега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Constantia"/>
              </a:rPr>
              <a:t>Лето кончилось, и начал  сь осень.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WordArt 8"/>
          <p:cNvSpPr txBox="1"/>
          <p:nvPr/>
        </p:nvSpPr>
        <p:spPr>
          <a:xfrm>
            <a:off x="3214800" y="3500280"/>
            <a:ext cx="357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58" name="WordArt 9"/>
          <p:cNvSpPr txBox="1"/>
          <p:nvPr/>
        </p:nvSpPr>
        <p:spPr>
          <a:xfrm>
            <a:off x="3214800" y="3500280"/>
            <a:ext cx="42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latin typeface="Arial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pic>
        <p:nvPicPr>
          <p:cNvPr id="259" name="Picture 7" descr="RAIN"/>
          <p:cNvPicPr/>
          <p:nvPr/>
        </p:nvPicPr>
        <p:blipFill>
          <a:blip r:embed="rId1"/>
          <a:stretch/>
        </p:blipFill>
        <p:spPr>
          <a:xfrm>
            <a:off x="6000840" y="4357800"/>
            <a:ext cx="2055600" cy="208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SUNFACE5"/>
          <p:cNvPicPr/>
          <p:nvPr/>
        </p:nvPicPr>
        <p:blipFill>
          <a:blip r:embed="rId2"/>
          <a:stretch/>
        </p:blipFill>
        <p:spPr>
          <a:xfrm>
            <a:off x="1428840" y="2858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6"/>
          <p:cNvSpPr txBox="1"/>
          <p:nvPr/>
        </p:nvSpPr>
        <p:spPr>
          <a:xfrm>
            <a:off x="1042920" y="256536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2" name="Group 7"/>
          <p:cNvGrpSpPr/>
          <p:nvPr/>
        </p:nvGrpSpPr>
        <p:grpSpPr>
          <a:xfrm>
            <a:off x="1928880" y="785880"/>
            <a:ext cx="2268000" cy="2447640"/>
            <a:chOff x="1928880" y="785880"/>
            <a:chExt cx="2268000" cy="2447640"/>
          </a:xfrm>
        </p:grpSpPr>
        <p:sp>
          <p:nvSpPr>
            <p:cNvPr id="263" name="AutoShape 8"/>
            <p:cNvSpPr/>
            <p:nvPr/>
          </p:nvSpPr>
          <p:spPr>
            <a:xfrm>
              <a:off x="1928880" y="785880"/>
              <a:ext cx="2268000" cy="24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2777040" y="1553760"/>
              <a:ext cx="1375920" cy="133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3403080" y="2841480"/>
              <a:ext cx="26964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2976480" y="1659600"/>
              <a:ext cx="884520" cy="7837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2902680" y="2321640"/>
              <a:ext cx="1096200" cy="3294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2848680" y="2505600"/>
              <a:ext cx="1246320" cy="329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3424680" y="2851200"/>
              <a:ext cx="204120" cy="96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3540960" y="2865240"/>
              <a:ext cx="73800" cy="61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"/>
            <p:cNvSpPr/>
            <p:nvPr/>
          </p:nvSpPr>
          <p:spPr>
            <a:xfrm>
              <a:off x="2052720" y="1598040"/>
              <a:ext cx="1278360" cy="14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2098800" y="2473560"/>
              <a:ext cx="1162080" cy="545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164680" y="2353320"/>
              <a:ext cx="1090080" cy="435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2330640" y="2195640"/>
              <a:ext cx="882000" cy="393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2462760" y="1633680"/>
              <a:ext cx="771840" cy="7398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2316600" y="2579760"/>
              <a:ext cx="912240" cy="41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2932560" y="2831400"/>
              <a:ext cx="262080" cy="26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"/>
            <p:cNvSpPr/>
            <p:nvPr/>
          </p:nvSpPr>
          <p:spPr>
            <a:xfrm>
              <a:off x="3051000" y="2741400"/>
              <a:ext cx="77760" cy="997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>
              <a:off x="2958840" y="2857680"/>
              <a:ext cx="211680" cy="215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5"/>
            <p:cNvSpPr/>
            <p:nvPr/>
          </p:nvSpPr>
          <p:spPr>
            <a:xfrm>
              <a:off x="3087000" y="2911680"/>
              <a:ext cx="6588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6"/>
            <p:cNvSpPr/>
            <p:nvPr/>
          </p:nvSpPr>
          <p:spPr>
            <a:xfrm>
              <a:off x="2529000" y="1130040"/>
              <a:ext cx="705600" cy="39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2827080" y="828000"/>
              <a:ext cx="475560" cy="67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"/>
            <p:cNvSpPr/>
            <p:nvPr/>
          </p:nvSpPr>
          <p:spPr>
            <a:xfrm>
              <a:off x="2464920" y="1487520"/>
              <a:ext cx="773640" cy="40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"/>
            <p:cNvSpPr/>
            <p:nvPr/>
          </p:nvSpPr>
          <p:spPr>
            <a:xfrm>
              <a:off x="3173040" y="1383840"/>
              <a:ext cx="239760" cy="265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0"/>
            <p:cNvSpPr/>
            <p:nvPr/>
          </p:nvSpPr>
          <p:spPr>
            <a:xfrm>
              <a:off x="3315240" y="923400"/>
              <a:ext cx="69156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1"/>
            <p:cNvSpPr/>
            <p:nvPr/>
          </p:nvSpPr>
          <p:spPr>
            <a:xfrm>
              <a:off x="3366720" y="1199880"/>
              <a:ext cx="80604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2"/>
            <p:cNvSpPr/>
            <p:nvPr/>
          </p:nvSpPr>
          <p:spPr>
            <a:xfrm>
              <a:off x="3354840" y="1487520"/>
              <a:ext cx="679680" cy="53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3"/>
            <p:cNvSpPr/>
            <p:nvPr/>
          </p:nvSpPr>
          <p:spPr>
            <a:xfrm>
              <a:off x="2558880" y="1149840"/>
              <a:ext cx="414000" cy="225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4"/>
            <p:cNvSpPr/>
            <p:nvPr/>
          </p:nvSpPr>
          <p:spPr>
            <a:xfrm>
              <a:off x="2858760" y="861840"/>
              <a:ext cx="354240" cy="62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5"/>
            <p:cNvSpPr/>
            <p:nvPr/>
          </p:nvSpPr>
          <p:spPr>
            <a:xfrm>
              <a:off x="2506680" y="1499400"/>
              <a:ext cx="669960" cy="353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"/>
            <p:cNvSpPr/>
            <p:nvPr/>
          </p:nvSpPr>
          <p:spPr>
            <a:xfrm>
              <a:off x="3490920" y="973800"/>
              <a:ext cx="389880" cy="337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7"/>
            <p:cNvSpPr/>
            <p:nvPr/>
          </p:nvSpPr>
          <p:spPr>
            <a:xfrm>
              <a:off x="3807360" y="1023840"/>
              <a:ext cx="165960" cy="194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8"/>
            <p:cNvSpPr/>
            <p:nvPr/>
          </p:nvSpPr>
          <p:spPr>
            <a:xfrm>
              <a:off x="3376800" y="1217880"/>
              <a:ext cx="766080" cy="29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9"/>
            <p:cNvSpPr/>
            <p:nvPr/>
          </p:nvSpPr>
          <p:spPr>
            <a:xfrm>
              <a:off x="3298680" y="1409760"/>
              <a:ext cx="87840" cy="203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0"/>
            <p:cNvSpPr/>
            <p:nvPr/>
          </p:nvSpPr>
          <p:spPr>
            <a:xfrm>
              <a:off x="3197160" y="1419840"/>
              <a:ext cx="121680" cy="20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1"/>
            <p:cNvSpPr/>
            <p:nvPr/>
          </p:nvSpPr>
          <p:spPr>
            <a:xfrm>
              <a:off x="3261240" y="1517760"/>
              <a:ext cx="59760" cy="110160"/>
            </a:xfrm>
            <a:prstGeom prst="pie">
              <a:avLst/>
            </a:prstGeom>
            <a:solidFill>
              <a:srgbClr val="c43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2"/>
            <p:cNvSpPr/>
            <p:nvPr/>
          </p:nvSpPr>
          <p:spPr>
            <a:xfrm>
              <a:off x="3371040" y="1563840"/>
              <a:ext cx="618120" cy="43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353880" y="3852720"/>
            <a:ext cx="8582040" cy="315144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3" descr=""/>
          <p:cNvPicPr/>
          <p:nvPr/>
        </p:nvPicPr>
        <p:blipFill>
          <a:blip r:embed="rId2"/>
          <a:stretch/>
        </p:blipFill>
        <p:spPr>
          <a:xfrm>
            <a:off x="244440" y="1542960"/>
            <a:ext cx="83329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357120" y="928800"/>
            <a:ext cx="81439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ambria"/>
              </a:rPr>
              <a:t>«4</a:t>
            </a:r>
            <a:r>
              <a:rPr b="0" lang="ru-RU" sz="6000" spc="-1" strike="noStrike">
                <a:solidFill>
                  <a:srgbClr val="7030a0"/>
                </a:solidFill>
                <a:latin typeface="Constantia"/>
              </a:rPr>
              <a:t>-е 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onstantia"/>
              </a:rPr>
              <a:t>Вышел, постучал, пробежка, пробежа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onstantia"/>
              </a:rPr>
              <a:t>Поиграл, пожурил, полет, полете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4" descr=""/>
          <p:cNvPicPr/>
          <p:nvPr/>
        </p:nvPicPr>
        <p:blipFill>
          <a:blip r:embed="rId1"/>
          <a:stretch/>
        </p:blipFill>
        <p:spPr>
          <a:xfrm>
            <a:off x="353880" y="731880"/>
            <a:ext cx="8352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400" y="785520"/>
            <a:ext cx="803268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Глагол в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предложении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бывает </a:t>
            </a:r>
            <a:r>
              <a:rPr b="0" lang="ru-RU" sz="6100" spc="-1" strike="noStrike">
                <a:solidFill>
                  <a:srgbClr val="002060"/>
                </a:solidFill>
                <a:latin typeface="Constantia"/>
              </a:rPr>
              <a:t>сказуемым</a:t>
            </a: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.</a:t>
            </a:r>
            <a:r>
              <a:rPr b="0" lang="ru-RU" sz="6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alibri"/>
              </a:rPr>
              <a:t>Время глагол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755640" y="3141720"/>
            <a:ext cx="62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 а с т о я щ е е     в р е м 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06" name="WordArt 16"/>
          <p:cNvSpPr txBox="1"/>
          <p:nvPr/>
        </p:nvSpPr>
        <p:spPr>
          <a:xfrm>
            <a:off x="1187280" y="501336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Будущее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207" name="WordArt 17"/>
          <p:cNvSpPr txBox="1"/>
          <p:nvPr/>
        </p:nvSpPr>
        <p:spPr>
          <a:xfrm>
            <a:off x="468360" y="1197000"/>
            <a:ext cx="61912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latin typeface="Arial"/>
              </a:rPr>
              <a:t>Прошедшее время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208" name="Picture 19" descr="J0232735"/>
          <p:cNvPicPr/>
          <p:nvPr/>
        </p:nvPicPr>
        <p:blipFill>
          <a:blip r:embed="rId1"/>
          <a:stretch/>
        </p:blipFill>
        <p:spPr>
          <a:xfrm>
            <a:off x="7236000" y="1484280"/>
            <a:ext cx="1554120" cy="18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99720" y="1285920"/>
            <a:ext cx="72738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5395"/>
                </a:solidFill>
                <a:latin typeface="Constantia"/>
              </a:rPr>
              <a:t>Прошедшее время –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о, что прошло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Вчера мы 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писали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Солнце 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ушло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SUNFACE5"/>
          <p:cNvPicPr/>
          <p:nvPr/>
        </p:nvPicPr>
        <p:blipFill>
          <a:blip r:embed="rId1"/>
          <a:stretch/>
        </p:blipFill>
        <p:spPr>
          <a:xfrm>
            <a:off x="6443640" y="2421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Настоящее время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–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ходит теперь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Дождик </a:t>
            </a: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идет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Закрывается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дверь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7" descr="RAIN"/>
          <p:cNvPicPr/>
          <p:nvPr/>
        </p:nvPicPr>
        <p:blipFill>
          <a:blip r:embed="rId1"/>
          <a:stretch/>
        </p:blipFill>
        <p:spPr>
          <a:xfrm>
            <a:off x="6372360" y="2205000"/>
            <a:ext cx="205560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9:48:06Z</dcterms:created>
  <dc:creator>Ученик</dc:creator>
  <dc:description/>
  <dc:language>en-US</dc:language>
  <cp:lastModifiedBy>XP GAME 2007</cp:lastModifiedBy>
  <dcterms:modified xsi:type="dcterms:W3CDTF">2010-02-15T20:40:55Z</dcterms:modified>
  <cp:revision>13</cp:revision>
  <dc:subject/>
  <dc:title>Расколдуйте слова</dc:title>
</cp:coreProperties>
</file>