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A94C-392D-4F04-94E9-4E425798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8250-75BF-4F4A-9C05-732F7D9B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35C2-BD32-46C1-87AB-787C2D56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0B52-D9F2-4641-B0BB-65266E16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B3DA-C012-4361-858D-D7A1CAA1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CDCE-8227-46FE-BBEE-F2845BBD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EF9A-4EC5-44B9-8DD3-1D9F3162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C598-E133-49BE-8D55-B482BA96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EA52-4780-4355-8121-51E457B3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9FA3-59D4-4581-B07D-6229CB76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7879-81EB-456C-A29D-D38C2362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791C-0D0E-4B4A-99C1-91727EF5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C121-7F92-4785-9736-2B37AE4F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5C31-382D-48FA-B8FF-F5F62859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2207-94EC-43B1-B15D-36B42A08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F02B-ED86-498C-B9E1-5C65E91F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36C0-F7E9-4EEB-999B-D5D75517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37FB-B64B-4FD2-A8D3-FCC54C15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8146-EA93-45A6-9E2D-26B8B9AD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42A6-8C97-4F1F-89BE-AA5D77CE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9A1D-F630-4C83-BEE1-C045B362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332F-5A57-4A2E-8C01-9702CABC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6DC1-C3FF-4E45-989A-D27CB3CE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5898-DD00-4061-A362-B335AB0D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74B6-1E54-4A65-96A8-9E8767C08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22F2-35DD-4DAC-B8B6-6A1402820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hyperlink" Target="file:///&#1042;&#1072;&#1088;&#1080;&#1072;&#1085;&#1090;%201.doc" TargetMode="External"/><Relationship Id="rId6" Type="http://schemas.openxmlformats.org/officeDocument/2006/relationships/hyperlink" Target="file:///&#1042;&#1072;&#1088;&#1080;&#1072;&#1085;&#1090;%202.doc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hyperlink" Target="file:///&#1054;&#1090;&#1074;&#1077;&#1090;&#1099;%20&#1082;%20&#1088;&#1080;&#1089;&#1091;&#1085;&#1082;&#1072;&#1084;.doc" TargetMode="External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slide" Target="slide....xml"/><Relationship Id="rId5" Type="http://schemas.openxmlformats.org/officeDocument/2006/relationships/image" Target="../media/image6.gif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Прямоугольник 7" descr=""/>
          <p:cNvPicPr/>
          <p:nvPr/>
        </p:nvPicPr>
        <p:blipFill>
          <a:blip r:embed="rId1"/>
          <a:stretch/>
        </p:blipFill>
        <p:spPr>
          <a:xfrm>
            <a:off x="1832040" y="0"/>
            <a:ext cx="731196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7945560" y="0"/>
            <a:ext cx="871200" cy="647280"/>
            <a:chOff x="7945560" y="0"/>
            <a:chExt cx="871200" cy="647280"/>
          </a:xfrm>
        </p:grpSpPr>
        <p:sp>
          <p:nvSpPr>
            <p:cNvPr id="516" name="TextBox 8"/>
            <p:cNvSpPr/>
            <p:nvPr/>
          </p:nvSpPr>
          <p:spPr>
            <a:xfrm>
              <a:off x="7945560" y="0"/>
              <a:ext cx="4140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a47900"/>
                  </a:solidFill>
                  <a:uFillTx/>
                  <a:latin typeface="Arial Black"/>
                  <a:hlinkClick r:id="rId2" action="ppaction://hlinksldjump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9"/>
            <p:cNvSpPr/>
            <p:nvPr/>
          </p:nvSpPr>
          <p:spPr>
            <a:xfrm>
              <a:off x="8402760" y="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Arial Black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BACH - GOUNOD (AVE MARIA).mp3" descr=""/>
          <p:cNvPicPr/>
          <p:nvPr/>
        </p:nvPicPr>
        <p:blipFill>
          <a:blip r:embed="rId3"/>
          <a:stretch/>
        </p:blipFill>
        <p:spPr>
          <a:xfrm>
            <a:off x="1219320" y="914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9" descr="w401049982590.3369.jpg"/>
          <p:cNvPicPr/>
          <p:nvPr/>
        </p:nvPicPr>
        <p:blipFill>
          <a:blip r:embed="rId4"/>
          <a:stretch/>
        </p:blipFill>
        <p:spPr>
          <a:xfrm>
            <a:off x="-152280" y="0"/>
            <a:ext cx="2286000" cy="171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0" name=""/>
          <p:cNvSpPr/>
          <p:nvPr/>
        </p:nvSpPr>
        <p:spPr>
          <a:xfrm>
            <a:off x="2363760" y="114300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-3960" y="1676520"/>
            <a:ext cx="28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оверка домашнего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28600" y="266688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483600" y="1219320"/>
            <a:ext cx="190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04800" y="1752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матический дикта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-5400" y="1981080"/>
            <a:ext cx="32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ая работа с учащими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-360" y="22860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креп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03320" y="21337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47900"/>
                </a:solidFill>
                <a:uFillTx/>
                <a:latin typeface="Arial"/>
                <a:hlinkClick r:id="rId5"/>
              </a:rPr>
              <a:t>Вариан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65640" y="21337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47900"/>
                </a:solidFill>
                <a:uFillTx/>
                <a:latin typeface="Arial"/>
                <a:hlinkClick r:id="rId6"/>
              </a:rPr>
              <a:t>Вариан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34360" y="2819520"/>
            <a:ext cx="42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ая работа с учащими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8600" y="3276720"/>
            <a:ext cx="3962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Установите, развёртки каких т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ображены на рисунк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Вычислите площадь поверх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илиндра по его развёртке и площад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ерхности конуса используя рисун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,ж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4878720" y="3886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Группа 42" descr=""/>
          <p:cNvPicPr/>
          <p:nvPr/>
        </p:nvPicPr>
        <p:blipFill>
          <a:blip r:embed="rId7"/>
          <a:stretch/>
        </p:blipFill>
        <p:spPr>
          <a:xfrm>
            <a:off x="4495680" y="28954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533" name="Group 22" descr=""/>
          <p:cNvPicPr/>
          <p:nvPr/>
        </p:nvPicPr>
        <p:blipFill>
          <a:blip r:embed="rId8"/>
          <a:stretch/>
        </p:blipFill>
        <p:spPr>
          <a:xfrm>
            <a:off x="5943600" y="2895480"/>
            <a:ext cx="1523880" cy="685800"/>
          </a:xfrm>
          <a:prstGeom prst="rect">
            <a:avLst/>
          </a:prstGeom>
          <a:ln w="0">
            <a:noFill/>
          </a:ln>
        </p:spPr>
      </p:pic>
      <p:pic>
        <p:nvPicPr>
          <p:cNvPr id="534" name="Group 29" descr=""/>
          <p:cNvPicPr/>
          <p:nvPr/>
        </p:nvPicPr>
        <p:blipFill>
          <a:blip r:embed="rId9"/>
          <a:stretch/>
        </p:blipFill>
        <p:spPr>
          <a:xfrm>
            <a:off x="7772400" y="2819520"/>
            <a:ext cx="990720" cy="8380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0"/>
          <p:cNvSpPr/>
          <p:nvPr/>
        </p:nvSpPr>
        <p:spPr>
          <a:xfrm>
            <a:off x="8079120" y="38098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0"/>
          <p:cNvSpPr/>
          <p:nvPr/>
        </p:nvSpPr>
        <p:spPr>
          <a:xfrm>
            <a:off x="6554160" y="3809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55960" y="4790880"/>
            <a:ext cx="1126800" cy="1140120"/>
            <a:chOff x="255960" y="4790880"/>
            <a:chExt cx="1126800" cy="1140120"/>
          </a:xfrm>
        </p:grpSpPr>
        <p:grpSp>
          <p:nvGrpSpPr>
            <p:cNvPr id="538" name="Группа 57"/>
            <p:cNvGrpSpPr/>
            <p:nvPr/>
          </p:nvGrpSpPr>
          <p:grpSpPr>
            <a:xfrm>
              <a:off x="255960" y="4790880"/>
              <a:ext cx="1126800" cy="984960"/>
              <a:chOff x="255960" y="4790880"/>
              <a:chExt cx="1126800" cy="984960"/>
            </a:xfrm>
          </p:grpSpPr>
          <p:sp>
            <p:nvSpPr>
              <p:cNvPr id="539" name="Правильный пятиугольник 58"/>
              <p:cNvSpPr/>
              <p:nvPr/>
            </p:nvSpPr>
            <p:spPr>
              <a:xfrm rot="6945000">
                <a:off x="723240" y="5030280"/>
                <a:ext cx="268200" cy="334800"/>
              </a:xfrm>
              <a:prstGeom prst="pentagon">
                <a:avLst/>
              </a:prstGeom>
              <a:solidFill>
                <a:srgbClr val="ff66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Прямоугольник 59"/>
              <p:cNvSpPr/>
              <p:nvPr/>
            </p:nvSpPr>
            <p:spPr>
              <a:xfrm rot="7873200">
                <a:off x="509400" y="5257080"/>
                <a:ext cx="257400" cy="210240"/>
              </a:xfrm>
              <a:prstGeom prst="rect">
                <a:avLst/>
              </a:prstGeom>
              <a:solidFill>
                <a:srgbClr val="ff66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Прямоугольник 60"/>
              <p:cNvSpPr/>
              <p:nvPr/>
            </p:nvSpPr>
            <p:spPr>
              <a:xfrm rot="12345000">
                <a:off x="342000" y="4990680"/>
                <a:ext cx="386280" cy="147960"/>
              </a:xfrm>
              <a:prstGeom prst="rect">
                <a:avLst/>
              </a:prstGeom>
              <a:solidFill>
                <a:srgbClr val="ff66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Прямоугольник 61"/>
              <p:cNvSpPr/>
              <p:nvPr/>
            </p:nvSpPr>
            <p:spPr>
              <a:xfrm rot="16538400">
                <a:off x="732600" y="4835880"/>
                <a:ext cx="277560" cy="205920"/>
              </a:xfrm>
              <a:prstGeom prst="rect">
                <a:avLst/>
              </a:prstGeom>
              <a:solidFill>
                <a:srgbClr val="ff66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Прямоугольник 62"/>
              <p:cNvSpPr/>
              <p:nvPr/>
            </p:nvSpPr>
            <p:spPr>
              <a:xfrm rot="10190400">
                <a:off x="977760" y="5072760"/>
                <a:ext cx="393840" cy="160560"/>
              </a:xfrm>
              <a:prstGeom prst="rect">
                <a:avLst/>
              </a:prstGeom>
              <a:solidFill>
                <a:srgbClr val="ff66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Прямоугольник 63"/>
              <p:cNvSpPr/>
              <p:nvPr/>
            </p:nvSpPr>
            <p:spPr>
              <a:xfrm rot="14484000">
                <a:off x="832680" y="5340240"/>
                <a:ext cx="317160" cy="180360"/>
              </a:xfrm>
              <a:prstGeom prst="rect">
                <a:avLst/>
              </a:prstGeom>
              <a:solidFill>
                <a:srgbClr val="ff66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Правильный пятиугольник 64"/>
              <p:cNvSpPr/>
              <p:nvPr/>
            </p:nvSpPr>
            <p:spPr>
              <a:xfrm rot="8961000">
                <a:off x="304920" y="5436360"/>
                <a:ext cx="315360" cy="278280"/>
              </a:xfrm>
              <a:prstGeom prst="pentagon">
                <a:avLst/>
              </a:prstGeom>
              <a:solidFill>
                <a:srgbClr val="ff66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Text Box 16"/>
            <p:cNvSpPr/>
            <p:nvPr/>
          </p:nvSpPr>
          <p:spPr>
            <a:xfrm>
              <a:off x="687240" y="5562720"/>
              <a:ext cx="34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Text Box 26"/>
          <p:cNvSpPr/>
          <p:nvPr/>
        </p:nvSpPr>
        <p:spPr>
          <a:xfrm>
            <a:off x="2058840" y="58672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Группа 77"/>
          <p:cNvGrpSpPr/>
          <p:nvPr/>
        </p:nvGrpSpPr>
        <p:grpSpPr>
          <a:xfrm>
            <a:off x="1600200" y="4648320"/>
            <a:ext cx="2255760" cy="1066680"/>
            <a:chOff x="1600200" y="4648320"/>
            <a:chExt cx="2255760" cy="1066680"/>
          </a:xfrm>
        </p:grpSpPr>
        <p:sp>
          <p:nvSpPr>
            <p:cNvPr id="549" name="Text Box 25"/>
            <p:cNvSpPr/>
            <p:nvPr/>
          </p:nvSpPr>
          <p:spPr>
            <a:xfrm>
              <a:off x="2995560" y="4648320"/>
              <a:ext cx="860400" cy="642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 =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 =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Группа 49"/>
            <p:cNvGrpSpPr/>
            <p:nvPr/>
          </p:nvGrpSpPr>
          <p:grpSpPr>
            <a:xfrm>
              <a:off x="1600200" y="4707360"/>
              <a:ext cx="1462320" cy="1007640"/>
              <a:chOff x="1600200" y="4707360"/>
              <a:chExt cx="1462320" cy="1007640"/>
            </a:xfrm>
          </p:grpSpPr>
          <p:sp>
            <p:nvSpPr>
              <p:cNvPr id="551" name="Text Box 24"/>
              <p:cNvSpPr/>
              <p:nvPr/>
            </p:nvSpPr>
            <p:spPr>
              <a:xfrm>
                <a:off x="2717280" y="53010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2" name="Группа 48"/>
              <p:cNvGrpSpPr/>
              <p:nvPr/>
            </p:nvGrpSpPr>
            <p:grpSpPr>
              <a:xfrm>
                <a:off x="1600200" y="4707360"/>
                <a:ext cx="1059120" cy="1007640"/>
                <a:chOff x="1600200" y="4707360"/>
                <a:chExt cx="1059120" cy="1007640"/>
              </a:xfrm>
            </p:grpSpPr>
            <p:grpSp>
              <p:nvGrpSpPr>
                <p:cNvPr id="553" name="Группа 45"/>
                <p:cNvGrpSpPr/>
                <p:nvPr/>
              </p:nvGrpSpPr>
              <p:grpSpPr>
                <a:xfrm>
                  <a:off x="1600200" y="4707360"/>
                  <a:ext cx="1059120" cy="1007640"/>
                  <a:chOff x="1600200" y="4707360"/>
                  <a:chExt cx="1059120" cy="1007640"/>
                </a:xfrm>
              </p:grpSpPr>
              <p:grpSp>
                <p:nvGrpSpPr>
                  <p:cNvPr id="554" name="Группа 44"/>
                  <p:cNvGrpSpPr/>
                  <p:nvPr/>
                </p:nvGrpSpPr>
                <p:grpSpPr>
                  <a:xfrm>
                    <a:off x="1600200" y="4707360"/>
                    <a:ext cx="1059120" cy="1007640"/>
                    <a:chOff x="1600200" y="4707360"/>
                    <a:chExt cx="1059120" cy="1007640"/>
                  </a:xfrm>
                </p:grpSpPr>
                <p:sp>
                  <p:nvSpPr>
                    <p:cNvPr id="555" name="Rectangle 18"/>
                    <p:cNvSpPr/>
                    <p:nvPr/>
                  </p:nvSpPr>
                  <p:spPr>
                    <a:xfrm>
                      <a:off x="1600200" y="5155200"/>
                      <a:ext cx="1059120" cy="559800"/>
                    </a:xfrm>
                    <a:prstGeom prst="rect">
                      <a:avLst/>
                    </a:prstGeom>
                    <a:solidFill>
                      <a:srgbClr val="ff66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Oval 20"/>
                    <p:cNvSpPr/>
                    <p:nvPr/>
                  </p:nvSpPr>
                  <p:spPr>
                    <a:xfrm>
                      <a:off x="2154960" y="4707360"/>
                      <a:ext cx="453960" cy="447840"/>
                    </a:xfrm>
                    <a:prstGeom prst="ellipse">
                      <a:avLst/>
                    </a:prstGeom>
                    <a:solidFill>
                      <a:srgbClr val="ff66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7" name="Line 22"/>
                  <p:cNvSpPr/>
                  <p:nvPr/>
                </p:nvSpPr>
                <p:spPr>
                  <a:xfrm flipV="1">
                    <a:off x="2457720" y="4818960"/>
                    <a:ext cx="100800" cy="111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558" name="Прямая со стрелкой 47"/>
                <p:cNvCxnSpPr/>
                <p:nvPr/>
              </p:nvCxnSpPr>
              <p:spPr>
                <a:xfrm>
                  <a:off x="1600200" y="5299920"/>
                  <a:ext cx="1004040" cy="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</p:grpSp>
      <p:grpSp>
        <p:nvGrpSpPr>
          <p:cNvPr id="559" name=""/>
          <p:cNvGrpSpPr/>
          <p:nvPr/>
        </p:nvGrpSpPr>
        <p:grpSpPr>
          <a:xfrm>
            <a:off x="3124080" y="5410080"/>
            <a:ext cx="1447920" cy="1282680"/>
            <a:chOff x="3124080" y="5410080"/>
            <a:chExt cx="1447920" cy="1282680"/>
          </a:xfrm>
        </p:grpSpPr>
        <p:pic>
          <p:nvPicPr>
            <p:cNvPr id="560" name="Группа 50" descr=""/>
            <p:cNvPicPr/>
            <p:nvPr/>
          </p:nvPicPr>
          <p:blipFill>
            <a:blip r:embed="rId10"/>
            <a:stretch/>
          </p:blipFill>
          <p:spPr>
            <a:xfrm>
              <a:off x="3124080" y="5410080"/>
              <a:ext cx="14479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Text Box 34"/>
            <p:cNvSpPr/>
            <p:nvPr/>
          </p:nvSpPr>
          <p:spPr>
            <a:xfrm>
              <a:off x="3583080" y="63244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е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724280" y="4377240"/>
            <a:ext cx="1600200" cy="1585440"/>
            <a:chOff x="4724280" y="4377240"/>
            <a:chExt cx="1600200" cy="1585440"/>
          </a:xfrm>
        </p:grpSpPr>
        <p:sp>
          <p:nvSpPr>
            <p:cNvPr id="563" name="Text Box 45"/>
            <p:cNvSpPr/>
            <p:nvPr/>
          </p:nvSpPr>
          <p:spPr>
            <a:xfrm>
              <a:off x="5562360" y="5594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ж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Группа 67"/>
            <p:cNvGrpSpPr/>
            <p:nvPr/>
          </p:nvGrpSpPr>
          <p:grpSpPr>
            <a:xfrm>
              <a:off x="4724280" y="4377240"/>
              <a:ext cx="1600200" cy="1382400"/>
              <a:chOff x="4724280" y="4377240"/>
              <a:chExt cx="1600200" cy="1382400"/>
            </a:xfrm>
          </p:grpSpPr>
          <p:grpSp>
            <p:nvGrpSpPr>
              <p:cNvPr id="565" name="Группа 61"/>
              <p:cNvGrpSpPr/>
              <p:nvPr/>
            </p:nvGrpSpPr>
            <p:grpSpPr>
              <a:xfrm>
                <a:off x="4724280" y="5191920"/>
                <a:ext cx="553680" cy="554760"/>
                <a:chOff x="4724280" y="5191920"/>
                <a:chExt cx="553680" cy="554760"/>
              </a:xfrm>
            </p:grpSpPr>
            <p:sp>
              <p:nvSpPr>
                <p:cNvPr id="566" name="Oval 38"/>
                <p:cNvSpPr/>
                <p:nvPr/>
              </p:nvSpPr>
              <p:spPr>
                <a:xfrm>
                  <a:off x="4724280" y="5191920"/>
                  <a:ext cx="553680" cy="554760"/>
                </a:xfrm>
                <a:prstGeom prst="ellipse">
                  <a:avLst/>
                </a:prstGeom>
                <a:solidFill>
                  <a:srgbClr val="ff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"/>
                <p:cNvSpPr/>
                <p:nvPr/>
              </p:nvSpPr>
              <p:spPr>
                <a:xfrm flipH="1" flipV="1">
                  <a:off x="4785840" y="5315040"/>
                  <a:ext cx="123120" cy="123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Группа 69"/>
              <p:cNvGrpSpPr/>
              <p:nvPr/>
            </p:nvGrpSpPr>
            <p:grpSpPr>
              <a:xfrm>
                <a:off x="4846320" y="4377240"/>
                <a:ext cx="1478160" cy="1382400"/>
                <a:chOff x="4846320" y="4377240"/>
                <a:chExt cx="1478160" cy="1382400"/>
              </a:xfrm>
            </p:grpSpPr>
            <p:sp>
              <p:nvSpPr>
                <p:cNvPr id="569" name="Arc 36"/>
                <p:cNvSpPr/>
                <p:nvPr/>
              </p:nvSpPr>
              <p:spPr>
                <a:xfrm flipV="1" rot="2076600">
                  <a:off x="4977000" y="4647960"/>
                  <a:ext cx="1216080" cy="840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0" name="Группа 68"/>
                <p:cNvGrpSpPr/>
                <p:nvPr/>
              </p:nvGrpSpPr>
              <p:grpSpPr>
                <a:xfrm>
                  <a:off x="4847040" y="4883040"/>
                  <a:ext cx="1477080" cy="185760"/>
                  <a:chOff x="4847040" y="4883040"/>
                  <a:chExt cx="1477080" cy="185760"/>
                </a:xfrm>
              </p:grpSpPr>
              <p:sp>
                <p:nvSpPr>
                  <p:cNvPr id="571" name="Line 37"/>
                  <p:cNvSpPr/>
                  <p:nvPr/>
                </p:nvSpPr>
                <p:spPr>
                  <a:xfrm>
                    <a:off x="4847040" y="5068440"/>
                    <a:ext cx="14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2" name="Группа 67"/>
                  <p:cNvGrpSpPr/>
                  <p:nvPr/>
                </p:nvGrpSpPr>
                <p:grpSpPr>
                  <a:xfrm>
                    <a:off x="5338080" y="4883040"/>
                    <a:ext cx="678960" cy="185760"/>
                    <a:chOff x="5338080" y="4883040"/>
                    <a:chExt cx="678960" cy="185760"/>
                  </a:xfrm>
                </p:grpSpPr>
                <p:sp>
                  <p:nvSpPr>
                    <p:cNvPr id="573" name="Прямая соединительная линия 74"/>
                    <p:cNvSpPr/>
                    <p:nvPr/>
                  </p:nvSpPr>
                  <p:spPr>
                    <a:xfrm flipV="1">
                      <a:off x="5338080" y="4884480"/>
                      <a:ext cx="108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Прямая соединительная линия 75"/>
                    <p:cNvSpPr/>
                    <p:nvPr/>
                  </p:nvSpPr>
                  <p:spPr>
                    <a:xfrm flipV="1">
                      <a:off x="6015960" y="4883400"/>
                      <a:ext cx="1080" cy="184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575" name="Прямая со стрелкой 76"/>
                    <p:cNvCxnSpPr/>
                    <p:nvPr/>
                  </p:nvCxnSpPr>
                  <p:spPr>
                    <a:xfrm>
                      <a:off x="5339520" y="4883040"/>
                      <a:ext cx="67716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</p:grpSp>
            </p:grpSp>
          </p:grpSp>
        </p:grpSp>
      </p:grpSp>
      <p:sp>
        <p:nvSpPr>
          <p:cNvPr id="576" name="Text Box 44"/>
          <p:cNvSpPr/>
          <p:nvPr/>
        </p:nvSpPr>
        <p:spPr>
          <a:xfrm>
            <a:off x="5334120" y="4267080"/>
            <a:ext cx="633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80"/>
          <p:cNvSpPr/>
          <p:nvPr/>
        </p:nvSpPr>
        <p:spPr>
          <a:xfrm>
            <a:off x="4916880" y="632448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47900"/>
                </a:solidFill>
                <a:uFillTx/>
                <a:latin typeface="Arial"/>
                <a:hlinkClick r:id="rId11"/>
              </a:rPr>
              <a:t>Отве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256440" y="4191120"/>
            <a:ext cx="27000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авильный тетраэд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леили из бумаги. Нуж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резать его так,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чилось бумаж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ьцо, высота котор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вна половине реб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траэ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60520" y="61722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8592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1" name="Прямоугольник 7" descr=""/>
          <p:cNvPicPr/>
          <p:nvPr/>
        </p:nvPicPr>
        <p:blipFill>
          <a:blip r:embed="rId2"/>
          <a:stretch/>
        </p:blipFill>
        <p:spPr>
          <a:xfrm>
            <a:off x="1832040" y="152280"/>
            <a:ext cx="731196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8021520" y="0"/>
            <a:ext cx="871200" cy="647280"/>
            <a:chOff x="8021520" y="0"/>
            <a:chExt cx="871200" cy="647280"/>
          </a:xfrm>
        </p:grpSpPr>
        <p:sp>
          <p:nvSpPr>
            <p:cNvPr id="583" name="TextBox 8"/>
            <p:cNvSpPr/>
            <p:nvPr/>
          </p:nvSpPr>
          <p:spPr>
            <a:xfrm>
              <a:off x="8021520" y="0"/>
              <a:ext cx="4140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a47900"/>
                  </a:solidFill>
                  <a:uFillTx/>
                  <a:latin typeface="Arial Black"/>
                  <a:hlinkClick r:id="rId3" action="ppaction://hlinksldjump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Box 9"/>
            <p:cNvSpPr/>
            <p:nvPr/>
          </p:nvSpPr>
          <p:spPr>
            <a:xfrm>
              <a:off x="8478720" y="0"/>
              <a:ext cx="4140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a47900"/>
                  </a:solidFill>
                  <a:uFillTx/>
                  <a:latin typeface="Arial Black"/>
                  <a:ea typeface="Arial"/>
                  <a:hlinkClick r:id="rId4" action="ppaction://hlinksldjump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2363760" y="114300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-3960" y="1676520"/>
            <a:ext cx="28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оверка домашнего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83600" y="1447920"/>
            <a:ext cx="190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-5400" y="1981080"/>
            <a:ext cx="32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ая работа с учащими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-360" y="2286000"/>
            <a:ext cx="132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креп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Рисунок 9" descr="w401049982590.3369.jpg"/>
          <p:cNvPicPr/>
          <p:nvPr/>
        </p:nvPicPr>
        <p:blipFill>
          <a:blip r:embed="rId5"/>
          <a:stretch/>
        </p:blipFill>
        <p:spPr>
          <a:xfrm>
            <a:off x="0" y="0"/>
            <a:ext cx="2286000" cy="171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1" name=""/>
          <p:cNvSpPr/>
          <p:nvPr/>
        </p:nvSpPr>
        <p:spPr>
          <a:xfrm>
            <a:off x="152280" y="28195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37880" y="293220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ите задач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5080" y="3260880"/>
            <a:ext cx="4330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зяйка, приведя козу на пастбищ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била два колыш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расстоя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м друг от друга и натянула меж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ми верёвку с кольцом, которое свобод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мещалось по всей длине верё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кольцу она привязала верёвку с коз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на этой верёвки равна 2 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рисуйте образовавшееся пастбищ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числите его площа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0040" y="563868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4648320" y="1295280"/>
            <a:ext cx="928440" cy="152424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419720" y="1752480"/>
            <a:ext cx="0" cy="464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16800" y="175248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ЕБУ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776920" y="262728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29400" y="2438280"/>
            <a:ext cx="1143000" cy="609840"/>
          </a:xfrm>
          <a:prstGeom prst="flowChartMagneticDisk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007840" y="259092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24280" y="32767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26080" y="41148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562720" y="3352680"/>
            <a:ext cx="1599480" cy="1371240"/>
            <a:chOff x="5562720" y="3352680"/>
            <a:chExt cx="1599480" cy="1371240"/>
          </a:xfrm>
        </p:grpSpPr>
        <p:sp>
          <p:nvSpPr>
            <p:cNvPr id="604" name=""/>
            <p:cNvSpPr/>
            <p:nvPr/>
          </p:nvSpPr>
          <p:spPr>
            <a:xfrm>
              <a:off x="5562720" y="3352680"/>
              <a:ext cx="765360" cy="587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6328080" y="4005360"/>
              <a:ext cx="834120" cy="718200"/>
              <a:chOff x="6328080" y="4005360"/>
              <a:chExt cx="834120" cy="718200"/>
            </a:xfrm>
          </p:grpSpPr>
          <p:sp>
            <p:nvSpPr>
              <p:cNvPr id="606" name=""/>
              <p:cNvSpPr/>
              <p:nvPr/>
            </p:nvSpPr>
            <p:spPr>
              <a:xfrm>
                <a:off x="6328080" y="4005360"/>
                <a:ext cx="764640" cy="26100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328080" y="4201200"/>
                <a:ext cx="208440" cy="522360"/>
              </a:xfrm>
              <a:prstGeom prst="flowChartPredefinedProcess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536520" y="4201200"/>
                <a:ext cx="208440" cy="522360"/>
              </a:xfrm>
              <a:prstGeom prst="flowChartPredefinedProcess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745320" y="4201200"/>
                <a:ext cx="208440" cy="522360"/>
              </a:xfrm>
              <a:prstGeom prst="flowChartPredefinedProcess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953760" y="4201200"/>
                <a:ext cx="208440" cy="522360"/>
              </a:xfrm>
              <a:prstGeom prst="flowChartPredefinedProcess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562720" y="3940200"/>
              <a:ext cx="765360" cy="783720"/>
              <a:chOff x="5562720" y="3940200"/>
              <a:chExt cx="765360" cy="783720"/>
            </a:xfrm>
          </p:grpSpPr>
          <p:sp>
            <p:nvSpPr>
              <p:cNvPr id="612" name=""/>
              <p:cNvSpPr/>
              <p:nvPr/>
            </p:nvSpPr>
            <p:spPr>
              <a:xfrm>
                <a:off x="5562720" y="3940200"/>
                <a:ext cx="765360" cy="7837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632200" y="4005000"/>
                <a:ext cx="278280" cy="26136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979960" y="4005000"/>
                <a:ext cx="278280" cy="2613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841000" y="4331880"/>
                <a:ext cx="208440" cy="391680"/>
              </a:xfrm>
              <a:custGeom>
                <a:avLst/>
                <a:gdLst>
                  <a:gd name="textAreaLeft" fmla="*/ 10080 w 208440"/>
                  <a:gd name="textAreaRight" fmla="*/ 198360 w 208440"/>
                  <a:gd name="textAreaTop" fmla="*/ 10080 h 391680"/>
                  <a:gd name="textAreaBottom" fmla="*/ 381600 h 391680"/>
                </a:gdLst>
                <a:ahLst/>
                <a:rect l="textAreaLeft" t="textAreaTop" r="textAreaRight" b="textAreaBottom"/>
                <a:pathLst>
                  <a:path w="21600" h="40556">
                    <a:moveTo>
                      <a:pt x="3600" y="0"/>
                    </a:moveTo>
                    <a:arcTo wR="3600" hR="3600" stAng="16200000" swAng="-5400000"/>
                    <a:lnTo>
                      <a:pt x="0" y="36956"/>
                    </a:lnTo>
                    <a:arcTo wR="3600" hR="3600" stAng="10800000" swAng="-5400000"/>
                    <a:lnTo>
                      <a:pt x="18000" y="4055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6480" y="548640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общение о многогранн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68592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oM</cp:lastModifiedBy>
  <dcterms:modified xsi:type="dcterms:W3CDTF">2009-11-27T10:58:52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