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gif" ContentType="image/gif"/>
  <Override PartName="/ppt/media/image27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2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5.gif" ContentType="image/gif"/>
  <Override PartName="/ppt/media/image28.png" ContentType="image/png"/>
  <Override PartName="/ppt/media/image15.png" ContentType="image/png"/>
  <Override PartName="/ppt/media/image1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4ACF-36F6-4305-A29F-4906F90B1B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выполняются у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0FC0-7FF2-4F85-A51D-1300C4DA7E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выполняются у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3E89-D1A2-40B2-B9A9-632AB734FD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992-F86A-42D0-9F6E-2E39A52D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279-CE62-4C7B-8F2B-31BB8097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D7D0F-2B85-4090-9C8B-8DCACBEB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7E1B7-5B58-406C-AC7A-5F8AD20A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32743-0915-42E1-B365-F708ACF8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25512-1A7B-44BB-9864-107CF13E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22BEB-CF16-4680-B6BA-D936CDF3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4D1AD-1E5A-415E-AE1C-A33D054E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73B8B-14DE-43EF-85EC-21FD7767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0F713-F747-4634-9916-F32F743B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8B4AA-5BE6-48A0-AF93-6FA6E513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79A3C3-2205-4241-B73E-E24ED8BA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B90-8888-4A86-8675-E924A5BF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94C1DC-AD47-41B0-B737-EDC03294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861010-73F4-4458-A6CD-63D163AB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1113A4-FC27-4348-9573-797D5DE7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3697A7-A18E-411E-B114-6B8F4055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03E0DA-4548-4C10-AFE8-1F69080C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EE237E-11A6-4044-8FC6-AB6C4BF5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8E6BFD-C602-4C10-93C6-56909BE8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3C969A-41E7-4228-8A5E-2278BD1C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A7ADA3-2EC2-4429-9F46-825A8B53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2CDE19-52CC-46A7-BFE6-4333DEC8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E22-2201-4749-98E2-83E66F1E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B626D0-2081-4098-A139-5EB442EA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BF66E-5CC8-43A9-A11A-DF13D9D9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24BB7-55BF-43B1-8ECA-2C7B61C8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ED9FA-7B32-47BB-9999-E5F7900D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B8B80-9453-46EB-A0AA-1E90646F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B6687-9A8E-4274-9A19-FAE13A6A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09D5D-CE00-49DB-81B2-1B2DA046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AE4B2-6468-4F2D-B0E3-7645EE22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98512-FC5B-4242-81A1-F0E694C9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0EA49-85E6-40EB-AA0E-899C35FA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EA0D-F4DE-4E1D-ABF8-C256C3FF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3E1EB-1B7B-47CB-8830-D79C701D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E1279-F21E-4C6A-A55B-9A20BBB1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9A0D0-1CFC-4C8F-8904-103E5A2C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31915-F5ED-47BC-A039-1BF4A26B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0337A-CC29-4D7B-AB16-C4E6B44C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08601-D7D8-4630-AAD7-692E53E8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57C80-6DA2-4AA1-B569-B995DFAB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627A5-D868-47FF-BCE4-E2DA6FB3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73D47-88C8-4656-9302-5CA4AA8B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6D260-16F8-4ADF-B061-3A27CE03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158D-6371-4767-8683-5D4C8794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5A8FC-56A2-4645-BDC5-2DF7C9C2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28C6B-CF37-42BE-8D10-783EAEC9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87E00-67AC-4F44-B6DB-CB69C0FA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105CF-902F-4ACB-99B1-8208A25D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8CA29-68BC-4653-9623-A810C0B7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F776-EC21-4297-9506-91B6E63C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B35C-E76A-48B8-8CAA-F4589361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1D7A-6163-446A-AA05-96BA62C2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DE1D-1871-497B-B128-2E1E105A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7941-7CF9-40A2-8B6C-A8948EC1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3DE-EA9D-4781-887A-BCD1331E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651F-73CE-4401-977D-58E168FB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FC00-A21F-4972-9832-A45E3059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D51B-B08E-4F27-8E89-3B2973F7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41B1-6D75-4542-B31A-1C240705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9082-CD51-4F3A-BCCF-A1A291C2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AF679-1262-4ED9-9E4F-19718CC1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95A56-E80A-4F20-8481-DBE23698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47D35-11B4-4F74-AEE8-A86E83D0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61000-CA3C-43CA-A31E-CB242217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300F7-F800-4CA3-B5F6-B3BD4D81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D744-3088-442C-8DF9-36987E0D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5D958-BB44-4666-8691-D35EE44E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32A16-9CD4-4094-82B9-8506CEFB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DA1B0-40DA-49D7-AC3A-D3AD114C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4AD94-4A3D-47A6-B13B-BDBCCC44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44F80-ED81-4DED-B382-CB3E985C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C3A05-379F-4E07-BF43-9401F88E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9DCAD-D971-4CEC-80E3-77AE0140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55DCC-E35D-468C-9F41-B93F7E1E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7453E-35CF-4D97-B10F-980D2B55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5275C-557A-43DC-A685-340F0CEB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1C40-08FD-4C6F-AFE7-2A431FF0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01FF0-86B4-42FB-8717-84D56144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49CB2-8D6B-4BA4-9A73-89ADA3CF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FD9FE-EEDA-417C-9514-36E2CDE8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BC2F5-D965-4D33-B849-D3D79B1A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B2FE5-7A7D-4942-BC88-5E604C93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7780E-E81F-4E48-AF29-7747A336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503E1-C0EB-4225-8F26-F85D2851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B2023-3A95-4A96-97F3-A40CB0A6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9FAF1-6207-4BA4-89FA-1F996B30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8A9E7-4A16-4DD2-B480-7BB4A331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D94-9A7F-486A-8AF3-2A8946A0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D47AC-0D0D-421D-8B3D-87B3C105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62276-9102-43F0-9A00-7A876274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2FAF1-1576-4DB7-90F9-16518A05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1B411-E805-4066-81EB-0B3B967A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99E7E-A257-40D5-B38A-6BD0B3C3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525D5-E676-4A3A-98AE-DE91ED67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BC89D-FBBF-482F-9E1D-88EDFAB6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5700B-F538-418D-B54F-D5BB2446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99A31-D24E-410A-83D2-5D02BA54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9FBC8-8CCD-4847-AA90-AB0B1098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C88-E372-4071-BD89-C5D5ADDE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8EEDD-C0E6-4962-88D5-F576D5F5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64279-E27D-4CDC-9EB5-5AEC3ADB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72933-302D-4941-8E8D-C68B1C33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0A079-DE8E-4B62-A657-19FA0014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6ECC5-389F-4DE0-9FA1-F4CD113A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D2B5A-2074-4887-8CAC-13556C8E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D0F19-33E7-4AC0-830F-E36DB2A9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2859B-9B86-46EC-BC50-E6122693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DDE27-BDD7-49AE-B90B-401237C0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C75B0-E79C-4CCB-9354-5BA093F5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53C-F917-44CC-B0DE-6726ED8F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1D748-7A41-4957-8E8A-5F31594F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33C97-0A08-44FA-9290-8544CCB7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033E7-A8D6-4F7D-8C4A-4AC7EBC5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5F478-5A59-4645-9718-2FAAE725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77E9E-3C7E-4B0E-8FC3-BA96A598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4B382-A0E8-4AA8-8437-8CEDA810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52853-A52E-48A1-84F2-FFF18AF7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4C0D3-32CE-4BAD-9333-BE8AD3C6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40B2A-7E2C-4676-8D73-2D9F70E8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63318-CCC3-470B-A292-3A6BFB4B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CAF8-45F5-40C2-A489-80905A0B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621CC-6986-4ABC-A871-31814CFF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5E2EB-5E43-4ABC-AFCD-60270849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80AC0-450E-4052-A58B-DBEC5176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3750F-32C1-448B-A65B-B36F756E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658A4-A1C3-46A6-91AB-DF034E3E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E6590-9256-4483-8DD6-B02F2FCB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C132F-04D5-49F5-A891-0670799A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1B152-0C4B-489E-A57A-8C519239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4CD3E-0C53-4986-9E2E-36DCD095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2D617-93D1-45C7-A1B8-52DB2E85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5C7-8F60-4127-A075-DFB52B7D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725F3-B7B4-430E-946A-C16B43B6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9CE09-3215-4B10-BE67-27E62A11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7A216-810F-4B3A-A2CD-42674409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C3B74-4F78-4627-A0E4-4969EE8F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CF445-65F5-4C77-BDC3-2F9805FD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31FBF-D545-4EC1-88C0-9A377C80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92F50-DB09-4A04-A8D8-FA29A960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3144D-91E1-4ADF-A4EF-99DA3F8E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740CF-6859-4E88-A1EA-86091CB8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245F2-E599-455F-A7A9-4100B80C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C871-D552-45B6-937E-90FA79AB85D4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55E6-E844-48F6-BB03-E0C1872B52D0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9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430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2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AF94-1F6D-40CC-B474-6DCC6A5A6001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C89E-A704-4B8C-8879-85D39AB4A7AB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8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479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1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1130-8EF9-4078-87BD-6EEDA8F6976F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AC10-F57B-458D-84CF-6C90F23A6680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512D-CDEA-4075-8FBA-85844031CC76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1380-5968-4659-9116-803CE9C58679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212F-2EE3-4F99-A7ED-9D4E80A5DC6D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28FE-ACC3-4C6A-AEEC-FB630AEE0640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103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B286-4E97-4E98-9489-A08669A6B976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A0A1-213F-44AB-ABC4-A92BC516AD8B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50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9FDA-4F6A-41F6-A042-544488159685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C865-726A-4A43-9349-EAED0C29F913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199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3EBB-A71B-4ADF-95E4-483DB712C26B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0F5F-D43B-4E4E-986B-F1E6BEBF83C4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246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8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43CA-16D8-4F2D-AB3F-744BEF17A290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6673-CB2B-44CE-9C30-7C9A13EEE042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2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293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BEE0-1617-4724-A585-F166486B4C71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1466-8E85-4E64-8B09-BFE17B4EE28E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635F-EA1E-4C89-811C-F70331D64441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4E74-926C-4838-949D-E6D93B3DF10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2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383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5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E6C5-1127-4FC1-87B1-EAFB9A6F2FF0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4912-89FE-4DFE-A6B1-2FE4FF20B4A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WordArt 4" descr=""/>
          <p:cNvPicPr/>
          <p:nvPr/>
        </p:nvPicPr>
        <p:blipFill>
          <a:blip r:embed="rId1"/>
          <a:stretch/>
        </p:blipFill>
        <p:spPr>
          <a:xfrm>
            <a:off x="1054080" y="1809720"/>
            <a:ext cx="7272360" cy="23544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5"/>
          <p:cNvSpPr/>
          <p:nvPr/>
        </p:nvSpPr>
        <p:spPr>
          <a:xfrm>
            <a:off x="3996720" y="4221000"/>
            <a:ext cx="480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Учитель математики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Абрамкина С.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2121840" y="836640"/>
            <a:ext cx="52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геометрии в 7 класс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Скругленный прямоугольник 1"/>
          <p:cNvGrpSpPr/>
          <p:nvPr/>
        </p:nvGrpSpPr>
        <p:grpSpPr>
          <a:xfrm>
            <a:off x="122400" y="6297480"/>
            <a:ext cx="2004840" cy="420840"/>
            <a:chOff x="122400" y="6297480"/>
            <a:chExt cx="2004840" cy="420840"/>
          </a:xfrm>
        </p:grpSpPr>
        <p:pic>
          <p:nvPicPr>
            <p:cNvPr id="577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122400" y="6297480"/>
              <a:ext cx="2004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03040" y="6375240"/>
              <a:ext cx="184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9" name="Дата 2"/>
          <p:cNvSpPr/>
          <p:nvPr/>
        </p:nvSpPr>
        <p:spPr>
          <a:xfrm>
            <a:off x="250920" y="6335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ED2E-E1E1-4BE2-9145-D0180CB60767}" type="datetime">
              <a:rPr b="0" lang="ru-RU" sz="1200" spc="-1" strike="noStrike">
                <a:solidFill>
                  <a:srgbClr val="ffffff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2"/>
          <p:cNvSpPr/>
          <p:nvPr/>
        </p:nvSpPr>
        <p:spPr>
          <a:xfrm>
            <a:off x="1403280" y="84132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Print"/>
              </a:rPr>
              <a:t>Практическая рабо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6" name="Прямоугольник 3" descr=""/>
          <p:cNvPicPr/>
          <p:nvPr/>
        </p:nvPicPr>
        <p:blipFill>
          <a:blip r:embed="rId1"/>
          <a:stretch/>
        </p:blipFill>
        <p:spPr>
          <a:xfrm>
            <a:off x="933480" y="1646280"/>
            <a:ext cx="6778440" cy="3779640"/>
          </a:xfrm>
          <a:prstGeom prst="rect">
            <a:avLst/>
          </a:prstGeom>
          <a:ln w="0">
            <a:noFill/>
          </a:ln>
        </p:spPr>
      </p:pic>
      <p:grpSp>
        <p:nvGrpSpPr>
          <p:cNvPr id="677" name="Скругленный прямоугольник 4"/>
          <p:cNvGrpSpPr/>
          <p:nvPr/>
        </p:nvGrpSpPr>
        <p:grpSpPr>
          <a:xfrm>
            <a:off x="122400" y="6297480"/>
            <a:ext cx="2004840" cy="420840"/>
            <a:chOff x="122400" y="6297480"/>
            <a:chExt cx="2004840" cy="420840"/>
          </a:xfrm>
        </p:grpSpPr>
        <p:pic>
          <p:nvPicPr>
            <p:cNvPr id="678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22400" y="6297480"/>
              <a:ext cx="2004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203040" y="6375240"/>
              <a:ext cx="184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0" name="Дата 1"/>
          <p:cNvSpPr/>
          <p:nvPr/>
        </p:nvSpPr>
        <p:spPr>
          <a:xfrm>
            <a:off x="189000" y="63230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675B-D622-4FB4-96B3-14487EF1FD49}" type="datetime">
              <a:rPr b="0" lang="ru-RU" sz="1200" spc="-1" strike="noStrike">
                <a:solidFill>
                  <a:srgbClr val="ffffff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2"/>
          <p:cNvSpPr/>
          <p:nvPr/>
        </p:nvSpPr>
        <p:spPr>
          <a:xfrm>
            <a:off x="34920" y="357120"/>
            <a:ext cx="9144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ff0000"/>
                </a:solidFill>
                <a:uFillTx/>
                <a:latin typeface="Bookman Old Style"/>
              </a:rPr>
              <a:t>ВОПРОСЫ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Box 5"/>
          <p:cNvSpPr/>
          <p:nvPr/>
        </p:nvSpPr>
        <p:spPr>
          <a:xfrm>
            <a:off x="395280" y="170028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a5957e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a5957e"/>
                </a:solidFill>
                <a:latin typeface="Bookman Old Style"/>
              </a:rPr>
              <a:t>Какие прямые называют перпендикулярными?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743040" indent="-743040">
              <a:lnSpc>
                <a:spcPct val="100000"/>
              </a:lnSpc>
              <a:buClr>
                <a:srgbClr val="a5957e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a5957e"/>
                </a:solidFill>
                <a:latin typeface="Bookman Old Style"/>
              </a:rPr>
              <a:t>Какие отрезки и какие лучи называют перпендикулярными?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743040" indent="-743040">
              <a:lnSpc>
                <a:spcPct val="100000"/>
              </a:lnSpc>
              <a:buClr>
                <a:srgbClr val="a5957e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a5957e"/>
                </a:solidFill>
                <a:latin typeface="Bookman Old Style"/>
              </a:rPr>
              <a:t>С помощью каких чертежных инструментов строят перпендикулярные прямые?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3" name="Скругленный прямоугольник 7"/>
          <p:cNvGrpSpPr/>
          <p:nvPr/>
        </p:nvGrpSpPr>
        <p:grpSpPr>
          <a:xfrm>
            <a:off x="122400" y="6297480"/>
            <a:ext cx="2004840" cy="420840"/>
            <a:chOff x="122400" y="6297480"/>
            <a:chExt cx="2004840" cy="420840"/>
          </a:xfrm>
        </p:grpSpPr>
        <p:pic>
          <p:nvPicPr>
            <p:cNvPr id="684" name="Скругленный 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122400" y="6297480"/>
              <a:ext cx="2004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203040" y="6375240"/>
              <a:ext cx="184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WordArt 4"/>
          <p:cNvSpPr txBox="1"/>
          <p:nvPr/>
        </p:nvSpPr>
        <p:spPr>
          <a:xfrm>
            <a:off x="755640" y="620640"/>
            <a:ext cx="662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дание на до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7" name="Rectangle 9"/>
          <p:cNvSpPr/>
          <p:nvPr/>
        </p:nvSpPr>
        <p:spPr>
          <a:xfrm>
            <a:off x="1258920" y="2708280"/>
            <a:ext cx="45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ровень: № 55, №58 (а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ровень: №56, № 61 (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Rectangle 10"/>
          <p:cNvSpPr/>
          <p:nvPr/>
        </p:nvSpPr>
        <p:spPr>
          <a:xfrm>
            <a:off x="1258920" y="2060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. 16, 17, 1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WordArt 11"/>
          <p:cNvSpPr txBox="1"/>
          <p:nvPr/>
        </p:nvSpPr>
        <p:spPr>
          <a:xfrm>
            <a:off x="1476360" y="4149720"/>
            <a:ext cx="5761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Желаю успехов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grpSp>
        <p:nvGrpSpPr>
          <p:cNvPr id="690" name="Скругленный прямоугольник 8"/>
          <p:cNvGrpSpPr/>
          <p:nvPr/>
        </p:nvGrpSpPr>
        <p:grpSpPr>
          <a:xfrm>
            <a:off x="122400" y="6297480"/>
            <a:ext cx="2004840" cy="420840"/>
            <a:chOff x="122400" y="6297480"/>
            <a:chExt cx="2004840" cy="420840"/>
          </a:xfrm>
        </p:grpSpPr>
        <p:pic>
          <p:nvPicPr>
            <p:cNvPr id="691" name="Скругленный 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122400" y="6297480"/>
              <a:ext cx="2004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203040" y="6375240"/>
              <a:ext cx="184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3" name="Дата 1"/>
          <p:cNvSpPr/>
          <p:nvPr/>
        </p:nvSpPr>
        <p:spPr>
          <a:xfrm>
            <a:off x="192240" y="63230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3974-07B3-4F63-9BC6-125DA78FDF4E}" type="datetime">
              <a:rPr b="0" lang="ru-RU" sz="1200" spc="-1" strike="noStrike">
                <a:solidFill>
                  <a:srgbClr val="ffffff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WordArt 4"/>
          <p:cNvSpPr txBox="1"/>
          <p:nvPr/>
        </p:nvSpPr>
        <p:spPr>
          <a:xfrm>
            <a:off x="1114560" y="609480"/>
            <a:ext cx="691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4e501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еговая дорожка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4e501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1042920" y="213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468360" y="1695600"/>
            <a:ext cx="7773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e501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Биссектрисой угла называется . .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4e501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Смежные углы – это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4e501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Могут ли два смежных угла быть об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1) остры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2) тупы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3) прямым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-Сформулируйте теорему о смежных угла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4e501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Вертикальными углами называются углы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4e501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Какими свойствами обладают вертикальные углы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3" name="Скругленный прямоугольник 7"/>
          <p:cNvGrpSpPr/>
          <p:nvPr/>
        </p:nvGrpSpPr>
        <p:grpSpPr>
          <a:xfrm>
            <a:off x="122400" y="6297480"/>
            <a:ext cx="2004840" cy="420840"/>
            <a:chOff x="122400" y="6297480"/>
            <a:chExt cx="2004840" cy="420840"/>
          </a:xfrm>
        </p:grpSpPr>
        <p:pic>
          <p:nvPicPr>
            <p:cNvPr id="584" name="Скругленный 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122400" y="6297480"/>
              <a:ext cx="2004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203040" y="6375240"/>
              <a:ext cx="184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6" name="Дата 1"/>
          <p:cNvSpPr/>
          <p:nvPr/>
        </p:nvSpPr>
        <p:spPr>
          <a:xfrm>
            <a:off x="160200" y="6302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3EAE-9396-4452-8DF6-0EC47E4CB8B4}" type="datetime">
              <a:rPr b="0" lang="ru-RU" sz="1200" spc="-1" strike="noStrike">
                <a:solidFill>
                  <a:srgbClr val="ffffff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3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85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НАЙДИТЕ: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Содержимое 3"/>
              <p:cNvSpPr txBox="1"/>
              <p:nvPr/>
            </p:nvSpPr>
            <p:spPr>
              <a:xfrm>
                <a:off x="361800" y="1030320"/>
                <a:ext cx="4521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FBD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F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9" name="Прямая соединительная линия 5"/>
          <p:cNvSpPr/>
          <p:nvPr/>
        </p:nvSpPr>
        <p:spPr>
          <a:xfrm flipV="1">
            <a:off x="1285920" y="2500200"/>
            <a:ext cx="6929280" cy="15717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Прямая соединительная линия 6"/>
          <p:cNvSpPr/>
          <p:nvPr/>
        </p:nvSpPr>
        <p:spPr>
          <a:xfrm flipV="1">
            <a:off x="3429000" y="1357200"/>
            <a:ext cx="2286000" cy="45007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Овал 10"/>
          <p:cNvSpPr/>
          <p:nvPr/>
        </p:nvSpPr>
        <p:spPr>
          <a:xfrm>
            <a:off x="4714920" y="3214800"/>
            <a:ext cx="142920" cy="142920"/>
          </a:xfrm>
          <a:prstGeom prst="ellipse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TextBox 11"/>
          <p:cNvSpPr/>
          <p:nvPr/>
        </p:nvSpPr>
        <p:spPr>
          <a:xfrm>
            <a:off x="1214280" y="3500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TextBox 12"/>
          <p:cNvSpPr/>
          <p:nvPr/>
        </p:nvSpPr>
        <p:spPr>
          <a:xfrm>
            <a:off x="4643280" y="35481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TextBox 13"/>
          <p:cNvSpPr/>
          <p:nvPr/>
        </p:nvSpPr>
        <p:spPr>
          <a:xfrm>
            <a:off x="5643720" y="13572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TextBox 14"/>
          <p:cNvSpPr/>
          <p:nvPr/>
        </p:nvSpPr>
        <p:spPr>
          <a:xfrm>
            <a:off x="7929720" y="25002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Дуга 16"/>
          <p:cNvSpPr/>
          <p:nvPr/>
        </p:nvSpPr>
        <p:spPr>
          <a:xfrm flipH="1" flipV="1" rot="5830200">
            <a:off x="4401000" y="2878560"/>
            <a:ext cx="984240" cy="957600"/>
          </a:xfrm>
          <a:custGeom>
            <a:avLst/>
            <a:gdLst/>
            <a:ahLst/>
            <a:rect l="l" t="t" r="r" b="b"/>
            <a:pathLst>
              <a:path stroke="0" w="984250" h="957262">
                <a:moveTo>
                  <a:pt x="492125" y="0"/>
                </a:moveTo>
                <a:cubicBezTo>
                  <a:pt x="753427" y="0"/>
                  <a:pt x="969171" y="198615"/>
                  <a:pt x="983509" y="452369"/>
                </a:cubicBezTo>
                <a:lnTo>
                  <a:pt x="492125" y="478631"/>
                </a:lnTo>
                <a:lnTo>
                  <a:pt x="492125" y="0"/>
                </a:lnTo>
                <a:close/>
              </a:path>
              <a:path fill="none" w="984250" h="957262">
                <a:moveTo>
                  <a:pt x="492125" y="0"/>
                </a:moveTo>
                <a:cubicBezTo>
                  <a:pt x="753427" y="0"/>
                  <a:pt x="969171" y="198615"/>
                  <a:pt x="983509" y="452369"/>
                </a:cubicBezTo>
              </a:path>
            </a:pathLst>
          </a:custGeom>
          <a:noFill/>
          <a:ln w="3816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TextBox 17"/>
          <p:cNvSpPr/>
          <p:nvPr/>
        </p:nvSpPr>
        <p:spPr>
          <a:xfrm rot="19567200">
            <a:off x="3956760" y="225900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42</a:t>
            </a:r>
            <a:r>
              <a:rPr b="1" lang="en-US" sz="1400" spc="-1" strike="noStrike" baseline="100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TextBox 19"/>
          <p:cNvSpPr/>
          <p:nvPr/>
        </p:nvSpPr>
        <p:spPr>
          <a:xfrm>
            <a:off x="3500280" y="5643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9" name="Скругленный прямоугольник 13"/>
          <p:cNvGrpSpPr/>
          <p:nvPr/>
        </p:nvGrpSpPr>
        <p:grpSpPr>
          <a:xfrm>
            <a:off x="122400" y="6297480"/>
            <a:ext cx="2004840" cy="420840"/>
            <a:chOff x="122400" y="6297480"/>
            <a:chExt cx="2004840" cy="420840"/>
          </a:xfrm>
        </p:grpSpPr>
        <p:pic>
          <p:nvPicPr>
            <p:cNvPr id="600" name="Скругленный прямоугольник 13" descr=""/>
            <p:cNvPicPr/>
            <p:nvPr/>
          </p:nvPicPr>
          <p:blipFill>
            <a:blip r:embed="rId1"/>
            <a:stretch/>
          </p:blipFill>
          <p:spPr>
            <a:xfrm>
              <a:off x="122400" y="6297480"/>
              <a:ext cx="2004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203040" y="6375240"/>
              <a:ext cx="184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2" name="Дуга 14"/>
          <p:cNvSpPr/>
          <p:nvPr/>
        </p:nvSpPr>
        <p:spPr>
          <a:xfrm flipH="1" flipV="1" rot="17334600">
            <a:off x="4221000" y="2662920"/>
            <a:ext cx="984600" cy="957240"/>
          </a:xfrm>
          <a:custGeom>
            <a:avLst/>
            <a:gdLst/>
            <a:ahLst/>
            <a:rect l="l" t="t" r="r" b="b"/>
            <a:pathLst>
              <a:path stroke="0" w="984250" h="957263">
                <a:moveTo>
                  <a:pt x="367485" y="15605"/>
                </a:moveTo>
                <a:cubicBezTo>
                  <a:pt x="507789" y="-20120"/>
                  <a:pt x="657151" y="6165"/>
                  <a:pt x="775688" y="87442"/>
                </a:cubicBezTo>
                <a:cubicBezTo>
                  <a:pt x="898689" y="171780"/>
                  <a:pt x="975251" y="306221"/>
                  <a:pt x="983509" y="452370"/>
                </a:cubicBezTo>
                <a:lnTo>
                  <a:pt x="492125" y="478632"/>
                </a:lnTo>
                <a:lnTo>
                  <a:pt x="367485" y="15605"/>
                </a:lnTo>
                <a:close/>
              </a:path>
              <a:path fill="none" w="984250" h="957263">
                <a:moveTo>
                  <a:pt x="367485" y="15605"/>
                </a:moveTo>
                <a:cubicBezTo>
                  <a:pt x="507789" y="-20120"/>
                  <a:pt x="657151" y="6165"/>
                  <a:pt x="775688" y="87442"/>
                </a:cubicBezTo>
                <a:cubicBezTo>
                  <a:pt x="898689" y="171780"/>
                  <a:pt x="975251" y="306221"/>
                  <a:pt x="983509" y="452370"/>
                </a:cubicBezTo>
              </a:path>
            </a:pathLst>
          </a:custGeom>
          <a:noFill/>
          <a:ln w="3816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TextBox 17"/>
          <p:cNvSpPr/>
          <p:nvPr/>
        </p:nvSpPr>
        <p:spPr>
          <a:xfrm rot="8501400">
            <a:off x="4820040" y="3577680"/>
            <a:ext cx="8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42</a:t>
            </a:r>
            <a:r>
              <a:rPr b="1" lang="en-US" sz="1400" spc="-1" strike="noStrike" baseline="100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Дуга 17"/>
          <p:cNvSpPr/>
          <p:nvPr/>
        </p:nvSpPr>
        <p:spPr>
          <a:xfrm flipH="1" flipV="1" rot="1269000">
            <a:off x="4064760" y="2994120"/>
            <a:ext cx="644760" cy="872640"/>
          </a:xfrm>
          <a:custGeom>
            <a:avLst/>
            <a:gdLst/>
            <a:ahLst/>
            <a:rect l="l" t="t" r="r" b="b"/>
            <a:pathLst>
              <a:path stroke="0" w="644525" h="873125">
                <a:moveTo>
                  <a:pt x="211858" y="26419"/>
                </a:moveTo>
                <a:cubicBezTo>
                  <a:pt x="374879" y="-54112"/>
                  <a:pt x="555701" y="54674"/>
                  <a:pt x="620906" y="272512"/>
                </a:cubicBezTo>
                <a:lnTo>
                  <a:pt x="322263" y="436563"/>
                </a:lnTo>
                <a:lnTo>
                  <a:pt x="211858" y="26419"/>
                </a:lnTo>
                <a:close/>
              </a:path>
              <a:path fill="none" w="644525" h="873125">
                <a:moveTo>
                  <a:pt x="211858" y="26419"/>
                </a:moveTo>
                <a:cubicBezTo>
                  <a:pt x="374879" y="-54112"/>
                  <a:pt x="555701" y="54674"/>
                  <a:pt x="620906" y="272512"/>
                </a:cubicBezTo>
              </a:path>
            </a:pathLst>
          </a:custGeom>
          <a:noFill/>
          <a:ln w="3816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Дуга 18"/>
          <p:cNvSpPr/>
          <p:nvPr/>
        </p:nvSpPr>
        <p:spPr>
          <a:xfrm flipH="1" flipV="1" rot="1269000">
            <a:off x="3913920" y="2958120"/>
            <a:ext cx="1062000" cy="1073520"/>
          </a:xfrm>
          <a:custGeom>
            <a:avLst/>
            <a:gdLst/>
            <a:ahLst/>
            <a:rect l="l" t="t" r="r" b="b"/>
            <a:pathLst>
              <a:path stroke="0" w="1062038" h="1073150">
                <a:moveTo>
                  <a:pt x="449776" y="6317"/>
                </a:moveTo>
                <a:cubicBezTo>
                  <a:pt x="726361" y="-36951"/>
                  <a:pt x="988701" y="144128"/>
                  <a:pt x="1049399" y="420206"/>
                </a:cubicBezTo>
                <a:lnTo>
                  <a:pt x="531019" y="536575"/>
                </a:lnTo>
                <a:lnTo>
                  <a:pt x="449776" y="6317"/>
                </a:lnTo>
                <a:close/>
              </a:path>
              <a:path fill="none" w="1062038" h="1073150">
                <a:moveTo>
                  <a:pt x="449776" y="6317"/>
                </a:moveTo>
                <a:cubicBezTo>
                  <a:pt x="726361" y="-36951"/>
                  <a:pt x="988701" y="144128"/>
                  <a:pt x="1049399" y="420206"/>
                </a:cubicBezTo>
              </a:path>
            </a:pathLst>
          </a:custGeom>
          <a:noFill/>
          <a:ln w="3816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TextBox 17"/>
          <p:cNvSpPr/>
          <p:nvPr/>
        </p:nvSpPr>
        <p:spPr>
          <a:xfrm rot="13936200">
            <a:off x="3198960" y="38203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38</a:t>
            </a:r>
            <a:r>
              <a:rPr b="1" lang="en-US" sz="1400" spc="-1" strike="noStrike" baseline="100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Дуга 20"/>
          <p:cNvSpPr/>
          <p:nvPr/>
        </p:nvSpPr>
        <p:spPr>
          <a:xfrm flipH="1" flipV="1" rot="11832000">
            <a:off x="4685760" y="2764800"/>
            <a:ext cx="644400" cy="873000"/>
          </a:xfrm>
          <a:custGeom>
            <a:avLst/>
            <a:gdLst/>
            <a:ahLst/>
            <a:rect l="l" t="t" r="r" b="b"/>
            <a:pathLst>
              <a:path stroke="0" w="644525" h="873125">
                <a:moveTo>
                  <a:pt x="211858" y="26419"/>
                </a:moveTo>
                <a:cubicBezTo>
                  <a:pt x="374879" y="-54112"/>
                  <a:pt x="555701" y="54674"/>
                  <a:pt x="620906" y="272512"/>
                </a:cubicBezTo>
                <a:lnTo>
                  <a:pt x="322263" y="436563"/>
                </a:lnTo>
                <a:lnTo>
                  <a:pt x="211858" y="26419"/>
                </a:lnTo>
                <a:close/>
              </a:path>
              <a:path fill="none" w="644525" h="873125">
                <a:moveTo>
                  <a:pt x="211858" y="26419"/>
                </a:moveTo>
                <a:cubicBezTo>
                  <a:pt x="374879" y="-54112"/>
                  <a:pt x="555701" y="54674"/>
                  <a:pt x="620906" y="272512"/>
                </a:cubicBezTo>
              </a:path>
            </a:pathLst>
          </a:custGeom>
          <a:noFill/>
          <a:ln w="3816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Дуга 21"/>
          <p:cNvSpPr/>
          <p:nvPr/>
        </p:nvSpPr>
        <p:spPr>
          <a:xfrm flipH="1" flipV="1" rot="12033600">
            <a:off x="4426920" y="2538720"/>
            <a:ext cx="1062000" cy="1073160"/>
          </a:xfrm>
          <a:custGeom>
            <a:avLst/>
            <a:gdLst/>
            <a:ahLst/>
            <a:rect l="l" t="t" r="r" b="b"/>
            <a:pathLst>
              <a:path stroke="0" w="1062037" h="1073150">
                <a:moveTo>
                  <a:pt x="449776" y="6317"/>
                </a:moveTo>
                <a:cubicBezTo>
                  <a:pt x="726361" y="-36951"/>
                  <a:pt x="988701" y="144128"/>
                  <a:pt x="1049399" y="420206"/>
                </a:cubicBezTo>
                <a:lnTo>
                  <a:pt x="531019" y="536575"/>
                </a:lnTo>
                <a:lnTo>
                  <a:pt x="449776" y="6317"/>
                </a:lnTo>
                <a:close/>
              </a:path>
              <a:path fill="none" w="1062037" h="1073150">
                <a:moveTo>
                  <a:pt x="449776" y="6317"/>
                </a:moveTo>
                <a:cubicBezTo>
                  <a:pt x="726361" y="-36951"/>
                  <a:pt x="988701" y="144128"/>
                  <a:pt x="1049399" y="420206"/>
                </a:cubicBezTo>
              </a:path>
            </a:pathLst>
          </a:custGeom>
          <a:noFill/>
          <a:ln w="3816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TextBox 17"/>
          <p:cNvSpPr/>
          <p:nvPr/>
        </p:nvSpPr>
        <p:spPr>
          <a:xfrm rot="2959200">
            <a:off x="5414040" y="22388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38</a:t>
            </a:r>
            <a:r>
              <a:rPr b="1" lang="en-US" sz="1400" spc="-1" strike="noStrike" baseline="100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765000"/>
            <a:ext cx="649116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УГОЛ ADB В 5 РАЗ МЕНЬШЕ УГЛА BDC</a:t>
            </a:r>
            <a:br>
              <a:rPr sz="3200"/>
            </a:b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НАЙДИТЕ ЭТИ УГЛЫ.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1" name="Прямая соединительная линия 5"/>
          <p:cNvSpPr/>
          <p:nvPr/>
        </p:nvSpPr>
        <p:spPr>
          <a:xfrm>
            <a:off x="1285920" y="4071960"/>
            <a:ext cx="7072200" cy="20001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Прямая соединительная линия 6"/>
          <p:cNvSpPr/>
          <p:nvPr/>
        </p:nvSpPr>
        <p:spPr>
          <a:xfrm>
            <a:off x="2786040" y="2286000"/>
            <a:ext cx="2000160" cy="28576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Овал 10"/>
          <p:cNvSpPr/>
          <p:nvPr/>
        </p:nvSpPr>
        <p:spPr>
          <a:xfrm>
            <a:off x="4714920" y="5000760"/>
            <a:ext cx="142920" cy="142920"/>
          </a:xfrm>
          <a:prstGeom prst="ellipse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TextBox 11"/>
          <p:cNvSpPr/>
          <p:nvPr/>
        </p:nvSpPr>
        <p:spPr>
          <a:xfrm>
            <a:off x="1214280" y="3500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TextBox 12"/>
          <p:cNvSpPr/>
          <p:nvPr/>
        </p:nvSpPr>
        <p:spPr>
          <a:xfrm>
            <a:off x="2714760" y="17859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TextBox 13"/>
          <p:cNvSpPr/>
          <p:nvPr/>
        </p:nvSpPr>
        <p:spPr>
          <a:xfrm>
            <a:off x="800100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Box 14"/>
          <p:cNvSpPr/>
          <p:nvPr/>
        </p:nvSpPr>
        <p:spPr>
          <a:xfrm>
            <a:off x="4572000" y="50720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8" name="Скругленный прямоугольник 9"/>
          <p:cNvGrpSpPr/>
          <p:nvPr/>
        </p:nvGrpSpPr>
        <p:grpSpPr>
          <a:xfrm>
            <a:off x="122400" y="6297480"/>
            <a:ext cx="2004840" cy="420840"/>
            <a:chOff x="122400" y="6297480"/>
            <a:chExt cx="2004840" cy="420840"/>
          </a:xfrm>
        </p:grpSpPr>
        <p:pic>
          <p:nvPicPr>
            <p:cNvPr id="619" name="Скругленный 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122400" y="6297480"/>
              <a:ext cx="2004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203040" y="6375240"/>
              <a:ext cx="184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Дуга 11"/>
          <p:cNvSpPr/>
          <p:nvPr/>
        </p:nvSpPr>
        <p:spPr>
          <a:xfrm flipH="1" flipV="1" rot="5637600">
            <a:off x="4219560" y="4353480"/>
            <a:ext cx="644760" cy="873000"/>
          </a:xfrm>
          <a:custGeom>
            <a:avLst/>
            <a:gdLst/>
            <a:ahLst/>
            <a:rect l="l" t="t" r="r" b="b"/>
            <a:pathLst>
              <a:path stroke="0" w="644525" h="873125">
                <a:moveTo>
                  <a:pt x="211858" y="26419"/>
                </a:moveTo>
                <a:cubicBezTo>
                  <a:pt x="374879" y="-54112"/>
                  <a:pt x="555701" y="54674"/>
                  <a:pt x="620906" y="272512"/>
                </a:cubicBezTo>
                <a:lnTo>
                  <a:pt x="322263" y="436563"/>
                </a:lnTo>
                <a:lnTo>
                  <a:pt x="211858" y="26419"/>
                </a:lnTo>
                <a:close/>
              </a:path>
              <a:path fill="none" w="644525" h="873125">
                <a:moveTo>
                  <a:pt x="211858" y="26419"/>
                </a:moveTo>
                <a:cubicBezTo>
                  <a:pt x="374879" y="-54112"/>
                  <a:pt x="555701" y="54674"/>
                  <a:pt x="620906" y="272512"/>
                </a:cubicBezTo>
              </a:path>
            </a:pathLst>
          </a:custGeom>
          <a:noFill/>
          <a:ln w="3816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Дуга 12"/>
          <p:cNvSpPr/>
          <p:nvPr/>
        </p:nvSpPr>
        <p:spPr>
          <a:xfrm flipH="1" flipV="1" rot="11124000">
            <a:off x="4392360" y="4774680"/>
            <a:ext cx="644400" cy="873720"/>
          </a:xfrm>
          <a:custGeom>
            <a:avLst/>
            <a:gdLst/>
            <a:ahLst/>
            <a:rect l="l" t="t" r="r" b="b"/>
            <a:pathLst>
              <a:path stroke="0" w="644525" h="873125">
                <a:moveTo>
                  <a:pt x="211858" y="26419"/>
                </a:moveTo>
                <a:cubicBezTo>
                  <a:pt x="374879" y="-54112"/>
                  <a:pt x="555701" y="54674"/>
                  <a:pt x="620906" y="272512"/>
                </a:cubicBezTo>
                <a:lnTo>
                  <a:pt x="322263" y="436563"/>
                </a:lnTo>
                <a:lnTo>
                  <a:pt x="211858" y="26419"/>
                </a:lnTo>
                <a:close/>
              </a:path>
              <a:path fill="none" w="644525" h="873125">
                <a:moveTo>
                  <a:pt x="211858" y="26419"/>
                </a:moveTo>
                <a:cubicBezTo>
                  <a:pt x="374879" y="-54112"/>
                  <a:pt x="555701" y="54674"/>
                  <a:pt x="620906" y="272512"/>
                </a:cubicBezTo>
              </a:path>
            </a:pathLst>
          </a:custGeom>
          <a:noFill/>
          <a:ln w="3816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Дуга 13"/>
          <p:cNvSpPr/>
          <p:nvPr/>
        </p:nvSpPr>
        <p:spPr>
          <a:xfrm flipH="1" flipV="1" rot="11832000">
            <a:off x="4181040" y="4656960"/>
            <a:ext cx="936720" cy="817920"/>
          </a:xfrm>
          <a:custGeom>
            <a:avLst/>
            <a:gdLst/>
            <a:ahLst/>
            <a:rect l="l" t="t" r="r" b="b"/>
            <a:pathLst>
              <a:path stroke="0" w="936625" h="817563">
                <a:moveTo>
                  <a:pt x="252301" y="46083"/>
                </a:moveTo>
                <a:cubicBezTo>
                  <a:pt x="375862" y="-9986"/>
                  <a:pt x="521601" y="-15147"/>
                  <a:pt x="649960" y="32002"/>
                </a:cubicBezTo>
                <a:cubicBezTo>
                  <a:pt x="799663" y="86992"/>
                  <a:pt x="906036" y="205761"/>
                  <a:pt x="931042" y="345843"/>
                </a:cubicBezTo>
                <a:lnTo>
                  <a:pt x="468313" y="408782"/>
                </a:lnTo>
                <a:lnTo>
                  <a:pt x="252301" y="46083"/>
                </a:lnTo>
                <a:close/>
              </a:path>
              <a:path fill="none" w="936625" h="817563">
                <a:moveTo>
                  <a:pt x="252301" y="46083"/>
                </a:moveTo>
                <a:cubicBezTo>
                  <a:pt x="375862" y="-9986"/>
                  <a:pt x="521601" y="-15147"/>
                  <a:pt x="649960" y="32002"/>
                </a:cubicBezTo>
                <a:cubicBezTo>
                  <a:pt x="799663" y="86992"/>
                  <a:pt x="906036" y="205761"/>
                  <a:pt x="931042" y="345843"/>
                </a:cubicBezTo>
              </a:path>
            </a:pathLst>
          </a:custGeom>
          <a:noFill/>
          <a:ln w="3816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TextBox 17"/>
          <p:cNvSpPr/>
          <p:nvPr/>
        </p:nvSpPr>
        <p:spPr>
          <a:xfrm rot="18801000">
            <a:off x="3343320" y="4070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30</a:t>
            </a:r>
            <a:r>
              <a:rPr b="1" lang="en-US" sz="1400" spc="-1" strike="noStrike" baseline="100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TextBox 17"/>
          <p:cNvSpPr/>
          <p:nvPr/>
        </p:nvSpPr>
        <p:spPr>
          <a:xfrm rot="2178000">
            <a:off x="4731120" y="424656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50</a:t>
            </a:r>
            <a:r>
              <a:rPr b="1" lang="en-US" sz="1400" spc="-1" strike="noStrike" baseline="100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TextBox 117" descr=""/>
          <p:cNvPicPr/>
          <p:nvPr/>
        </p:nvPicPr>
        <p:blipFill>
          <a:blip r:embed="rId1"/>
          <a:stretch/>
        </p:blipFill>
        <p:spPr>
          <a:xfrm>
            <a:off x="0" y="360360"/>
            <a:ext cx="8717040" cy="20718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" descr=""/>
          <p:cNvPicPr/>
          <p:nvPr/>
        </p:nvPicPr>
        <p:blipFill>
          <a:blip r:embed="rId2"/>
          <a:stretch/>
        </p:blipFill>
        <p:spPr>
          <a:xfrm>
            <a:off x="306360" y="2781360"/>
            <a:ext cx="2314440" cy="1895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28" name="TextBox 20"/>
          <p:cNvSpPr/>
          <p:nvPr/>
        </p:nvSpPr>
        <p:spPr>
          <a:xfrm>
            <a:off x="0" y="490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ookman Old Style"/>
              </a:rPr>
              <a:t>AB     M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9" name="Группа 32"/>
          <p:cNvGrpSpPr/>
          <p:nvPr/>
        </p:nvGrpSpPr>
        <p:grpSpPr>
          <a:xfrm>
            <a:off x="4357800" y="4998960"/>
            <a:ext cx="285480" cy="287280"/>
            <a:chOff x="4357800" y="4998960"/>
            <a:chExt cx="285480" cy="287280"/>
          </a:xfrm>
        </p:grpSpPr>
        <p:pic>
          <p:nvPicPr>
            <p:cNvPr id="630" name="Прямая соединительная линия 21" descr=""/>
            <p:cNvPicPr/>
            <p:nvPr/>
          </p:nvPicPr>
          <p:blipFill>
            <a:blip r:embed="rId3"/>
            <a:stretch/>
          </p:blipFill>
          <p:spPr>
            <a:xfrm>
              <a:off x="4357800" y="5234040"/>
              <a:ext cx="285480" cy="5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Прямая соединительная линия 23" descr=""/>
            <p:cNvPicPr/>
            <p:nvPr/>
          </p:nvPicPr>
          <p:blipFill>
            <a:blip r:embed="rId4"/>
            <a:stretch/>
          </p:blipFill>
          <p:spPr>
            <a:xfrm>
              <a:off x="4470840" y="4998960"/>
              <a:ext cx="590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TextBox 33"/>
          <p:cNvSpPr/>
          <p:nvPr/>
        </p:nvSpPr>
        <p:spPr>
          <a:xfrm>
            <a:off x="0" y="5405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ookman Old Style"/>
              </a:rPr>
              <a:t>MN     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3" name="Группа 34"/>
          <p:cNvGrpSpPr/>
          <p:nvPr/>
        </p:nvGrpSpPr>
        <p:grpSpPr>
          <a:xfrm>
            <a:off x="4500720" y="5500800"/>
            <a:ext cx="285480" cy="287280"/>
            <a:chOff x="4500720" y="5500800"/>
            <a:chExt cx="285480" cy="287280"/>
          </a:xfrm>
        </p:grpSpPr>
        <p:pic>
          <p:nvPicPr>
            <p:cNvPr id="634" name="Прямая соединительная линия 35" descr=""/>
            <p:cNvPicPr/>
            <p:nvPr/>
          </p:nvPicPr>
          <p:blipFill>
            <a:blip r:embed="rId5"/>
            <a:stretch/>
          </p:blipFill>
          <p:spPr>
            <a:xfrm>
              <a:off x="4500720" y="5731920"/>
              <a:ext cx="285480" cy="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Прямая соединительная линия 36" descr=""/>
            <p:cNvPicPr/>
            <p:nvPr/>
          </p:nvPicPr>
          <p:blipFill>
            <a:blip r:embed="rId6"/>
            <a:stretch/>
          </p:blipFill>
          <p:spPr>
            <a:xfrm>
              <a:off x="4619160" y="5500800"/>
              <a:ext cx="53640" cy="27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Picture 7" descr=""/>
          <p:cNvPicPr/>
          <p:nvPr/>
        </p:nvPicPr>
        <p:blipFill>
          <a:blip r:embed="rId7"/>
          <a:stretch/>
        </p:blipFill>
        <p:spPr>
          <a:xfrm>
            <a:off x="2935440" y="2390760"/>
            <a:ext cx="2571480" cy="2343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37" name="Picture 8" descr=""/>
          <p:cNvPicPr/>
          <p:nvPr/>
        </p:nvPicPr>
        <p:blipFill>
          <a:blip r:embed="rId8"/>
          <a:stretch/>
        </p:blipFill>
        <p:spPr>
          <a:xfrm>
            <a:off x="5834160" y="2333520"/>
            <a:ext cx="2876400" cy="2457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638" name="Скругленный прямоугольник 15"/>
          <p:cNvGrpSpPr/>
          <p:nvPr/>
        </p:nvGrpSpPr>
        <p:grpSpPr>
          <a:xfrm>
            <a:off x="122400" y="6297480"/>
            <a:ext cx="2004840" cy="420840"/>
            <a:chOff x="122400" y="6297480"/>
            <a:chExt cx="2004840" cy="420840"/>
          </a:xfrm>
        </p:grpSpPr>
        <p:pic>
          <p:nvPicPr>
            <p:cNvPr id="639" name="Скругленный прямоугольник 15" descr=""/>
            <p:cNvPicPr/>
            <p:nvPr/>
          </p:nvPicPr>
          <p:blipFill>
            <a:blip r:embed="rId9"/>
            <a:stretch/>
          </p:blipFill>
          <p:spPr>
            <a:xfrm>
              <a:off x="122400" y="6297480"/>
              <a:ext cx="2004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203040" y="6375240"/>
              <a:ext cx="184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3,84,-4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3,84,-4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3,84,-4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3,84,-4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TextBox 117" descr=""/>
          <p:cNvPicPr/>
          <p:nvPr/>
        </p:nvPicPr>
        <p:blipFill>
          <a:blip r:embed="rId1"/>
          <a:stretch/>
        </p:blipFill>
        <p:spPr>
          <a:xfrm>
            <a:off x="0" y="762120"/>
            <a:ext cx="9193320" cy="20970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2"/>
          <a:stretch/>
        </p:blipFill>
        <p:spPr>
          <a:xfrm>
            <a:off x="1225440" y="2955960"/>
            <a:ext cx="6723000" cy="4395600"/>
          </a:xfrm>
          <a:prstGeom prst="rect">
            <a:avLst/>
          </a:prstGeom>
          <a:ln w="0">
            <a:noFill/>
          </a:ln>
        </p:spPr>
      </p:pic>
      <p:grpSp>
        <p:nvGrpSpPr>
          <p:cNvPr id="643" name="Скругленный прямоугольник 5"/>
          <p:cNvGrpSpPr/>
          <p:nvPr/>
        </p:nvGrpSpPr>
        <p:grpSpPr>
          <a:xfrm>
            <a:off x="122400" y="6297480"/>
            <a:ext cx="2004840" cy="420840"/>
            <a:chOff x="122400" y="6297480"/>
            <a:chExt cx="2004840" cy="420840"/>
          </a:xfrm>
        </p:grpSpPr>
        <p:pic>
          <p:nvPicPr>
            <p:cNvPr id="644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122400" y="6297480"/>
              <a:ext cx="2004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203040" y="6375240"/>
              <a:ext cx="184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Прямоугольник 2" descr=""/>
          <p:cNvPicPr/>
          <p:nvPr/>
        </p:nvPicPr>
        <p:blipFill>
          <a:blip r:embed="rId1"/>
          <a:stretch/>
        </p:blipFill>
        <p:spPr>
          <a:xfrm>
            <a:off x="609480" y="396720"/>
            <a:ext cx="7705800" cy="3297240"/>
          </a:xfrm>
          <a:prstGeom prst="rect">
            <a:avLst/>
          </a:prstGeom>
          <a:ln w="0">
            <a:noFill/>
          </a:ln>
        </p:spPr>
      </p:pic>
      <p:grpSp>
        <p:nvGrpSpPr>
          <p:cNvPr id="647" name="Скругленный прямоугольник 3"/>
          <p:cNvGrpSpPr/>
          <p:nvPr/>
        </p:nvGrpSpPr>
        <p:grpSpPr>
          <a:xfrm>
            <a:off x="122400" y="6321600"/>
            <a:ext cx="2004840" cy="426960"/>
            <a:chOff x="122400" y="6321600"/>
            <a:chExt cx="2004840" cy="426960"/>
          </a:xfrm>
        </p:grpSpPr>
        <p:pic>
          <p:nvPicPr>
            <p:cNvPr id="648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22400" y="6321600"/>
              <a:ext cx="20048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203040" y="6405480"/>
              <a:ext cx="184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0" name="Дата 1"/>
          <p:cNvSpPr/>
          <p:nvPr/>
        </p:nvSpPr>
        <p:spPr>
          <a:xfrm>
            <a:off x="189000" y="6327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0DFA-35EC-4C6F-B6D7-25D63DF547D5}" type="datetime">
              <a:rPr b="0" lang="ru-RU" sz="1200" spc="-1" strike="noStrike">
                <a:solidFill>
                  <a:srgbClr val="ffffff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Прямая соединительная линия 5"/>
          <p:cNvSpPr/>
          <p:nvPr/>
        </p:nvSpPr>
        <p:spPr>
          <a:xfrm>
            <a:off x="2187720" y="5732640"/>
            <a:ext cx="4535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Прямая соединительная линия 7"/>
          <p:cNvSpPr/>
          <p:nvPr/>
        </p:nvSpPr>
        <p:spPr>
          <a:xfrm>
            <a:off x="4284720" y="3716280"/>
            <a:ext cx="0" cy="26751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53" name="Прямая со стрелкой 10"/>
          <p:cNvCxnSpPr/>
          <p:nvPr/>
        </p:nvCxnSpPr>
        <p:spPr>
          <a:xfrm>
            <a:off x="4284360" y="4292640"/>
            <a:ext cx="1080" cy="1440360"/>
          </a:xfrm>
          <a:prstGeom prst="straightConnector1">
            <a:avLst/>
          </a:prstGeom>
          <a:ln w="38160">
            <a:solidFill>
              <a:srgbClr val="cc3300"/>
            </a:solidFill>
            <a:miter/>
            <a:headEnd len="med" type="oval" w="med"/>
            <a:tailEnd len="med" type="oval" w="med"/>
          </a:ln>
        </p:spPr>
      </p:cxnSp>
      <p:sp>
        <p:nvSpPr>
          <p:cNvPr id="654" name="TextBox 11"/>
          <p:cNvSpPr/>
          <p:nvPr/>
        </p:nvSpPr>
        <p:spPr>
          <a:xfrm>
            <a:off x="2087640" y="527220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extBox 12"/>
          <p:cNvSpPr/>
          <p:nvPr/>
        </p:nvSpPr>
        <p:spPr>
          <a:xfrm>
            <a:off x="4464000" y="3524400"/>
            <a:ext cx="3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TextBox 13"/>
          <p:cNvSpPr/>
          <p:nvPr/>
        </p:nvSpPr>
        <p:spPr>
          <a:xfrm>
            <a:off x="3851280" y="40622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Box 14"/>
          <p:cNvSpPr/>
          <p:nvPr/>
        </p:nvSpPr>
        <p:spPr>
          <a:xfrm>
            <a:off x="3851280" y="575640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8" name="Скругленный прямоугольник 15"/>
          <p:cNvGrpSpPr/>
          <p:nvPr/>
        </p:nvGrpSpPr>
        <p:grpSpPr>
          <a:xfrm>
            <a:off x="274680" y="6473880"/>
            <a:ext cx="2004840" cy="426960"/>
            <a:chOff x="274680" y="6473880"/>
            <a:chExt cx="2004840" cy="426960"/>
          </a:xfrm>
        </p:grpSpPr>
        <p:pic>
          <p:nvPicPr>
            <p:cNvPr id="659" name="Скругленный 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274680" y="6473880"/>
              <a:ext cx="20048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355680" y="6558120"/>
              <a:ext cx="184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Скругленный прямоугольник 2"/>
          <p:cNvGrpSpPr/>
          <p:nvPr/>
        </p:nvGrpSpPr>
        <p:grpSpPr>
          <a:xfrm>
            <a:off x="122400" y="6297480"/>
            <a:ext cx="2004840" cy="420840"/>
            <a:chOff x="122400" y="6297480"/>
            <a:chExt cx="2004840" cy="420840"/>
          </a:xfrm>
        </p:grpSpPr>
        <p:pic>
          <p:nvPicPr>
            <p:cNvPr id="662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2400" y="6297480"/>
              <a:ext cx="2004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203040" y="6375240"/>
              <a:ext cx="184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64" name="Дата 1"/>
          <p:cNvSpPr/>
          <p:nvPr/>
        </p:nvSpPr>
        <p:spPr>
          <a:xfrm>
            <a:off x="189000" y="63230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C2B1-99CE-4781-8696-2161B11816B8}" type="datetime">
              <a:rPr b="0" lang="ru-RU" sz="1200" spc="-1" strike="noStrike">
                <a:solidFill>
                  <a:srgbClr val="ffffff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5" name="TextBox 3" descr=""/>
          <p:cNvPicPr/>
          <p:nvPr/>
        </p:nvPicPr>
        <p:blipFill>
          <a:blip r:embed="rId2"/>
          <a:stretch/>
        </p:blipFill>
        <p:spPr>
          <a:xfrm>
            <a:off x="476280" y="1633680"/>
            <a:ext cx="7405560" cy="1317600"/>
          </a:xfrm>
          <a:prstGeom prst="rect">
            <a:avLst/>
          </a:prstGeom>
          <a:ln w="0">
            <a:noFill/>
          </a:ln>
        </p:spPr>
      </p:pic>
      <p:pic>
        <p:nvPicPr>
          <p:cNvPr id="666" name="Рисунок 4" descr=""/>
          <p:cNvPicPr/>
          <p:nvPr/>
        </p:nvPicPr>
        <p:blipFill>
          <a:blip r:embed="rId3"/>
          <a:stretch/>
        </p:blipFill>
        <p:spPr>
          <a:xfrm>
            <a:off x="339840" y="3147840"/>
            <a:ext cx="1571400" cy="1368720"/>
          </a:xfrm>
          <a:prstGeom prst="rect">
            <a:avLst/>
          </a:prstGeom>
          <a:ln w="0">
            <a:noFill/>
          </a:ln>
        </p:spPr>
      </p:pic>
      <p:pic>
        <p:nvPicPr>
          <p:cNvPr id="667" name="Рисунок 5" descr=""/>
          <p:cNvPicPr/>
          <p:nvPr/>
        </p:nvPicPr>
        <p:blipFill>
          <a:blip r:embed="rId4"/>
          <a:stretch/>
        </p:blipFill>
        <p:spPr>
          <a:xfrm>
            <a:off x="3132000" y="2997360"/>
            <a:ext cx="2017800" cy="1252440"/>
          </a:xfrm>
          <a:prstGeom prst="rect">
            <a:avLst/>
          </a:prstGeom>
          <a:ln w="0">
            <a:noFill/>
          </a:ln>
        </p:spPr>
      </p:pic>
      <p:pic>
        <p:nvPicPr>
          <p:cNvPr id="668" name="Рисунок 6" descr=""/>
          <p:cNvPicPr/>
          <p:nvPr/>
        </p:nvPicPr>
        <p:blipFill>
          <a:blip r:embed="rId5"/>
          <a:stretch/>
        </p:blipFill>
        <p:spPr>
          <a:xfrm>
            <a:off x="6588000" y="2224080"/>
            <a:ext cx="1513080" cy="2292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TextBox 2" descr=""/>
          <p:cNvPicPr/>
          <p:nvPr/>
        </p:nvPicPr>
        <p:blipFill>
          <a:blip r:embed="rId1"/>
          <a:stretch/>
        </p:blipFill>
        <p:spPr>
          <a:xfrm>
            <a:off x="609480" y="622440"/>
            <a:ext cx="7132680" cy="1815840"/>
          </a:xfrm>
          <a:prstGeom prst="rect">
            <a:avLst/>
          </a:prstGeom>
          <a:ln w="0">
            <a:noFill/>
          </a:ln>
        </p:spPr>
      </p:pic>
      <p:pic>
        <p:nvPicPr>
          <p:cNvPr id="670" name="TextBox 3" descr=""/>
          <p:cNvPicPr/>
          <p:nvPr/>
        </p:nvPicPr>
        <p:blipFill>
          <a:blip r:embed="rId2"/>
          <a:stretch/>
        </p:blipFill>
        <p:spPr>
          <a:xfrm>
            <a:off x="433440" y="2895480"/>
            <a:ext cx="8223120" cy="2378160"/>
          </a:xfrm>
          <a:prstGeom prst="rect">
            <a:avLst/>
          </a:prstGeom>
          <a:ln w="0">
            <a:noFill/>
          </a:ln>
        </p:spPr>
      </p:pic>
      <p:grpSp>
        <p:nvGrpSpPr>
          <p:cNvPr id="671" name="Скругленный прямоугольник 4"/>
          <p:cNvGrpSpPr/>
          <p:nvPr/>
        </p:nvGrpSpPr>
        <p:grpSpPr>
          <a:xfrm>
            <a:off x="122400" y="6297480"/>
            <a:ext cx="2004840" cy="420840"/>
            <a:chOff x="122400" y="6297480"/>
            <a:chExt cx="2004840" cy="420840"/>
          </a:xfrm>
        </p:grpSpPr>
        <p:pic>
          <p:nvPicPr>
            <p:cNvPr id="672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22400" y="6297480"/>
              <a:ext cx="2004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203040" y="6375240"/>
              <a:ext cx="184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74" name="Дата 1"/>
          <p:cNvSpPr/>
          <p:nvPr/>
        </p:nvSpPr>
        <p:spPr>
          <a:xfrm>
            <a:off x="189000" y="629928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A72D-77A1-4857-ADB7-5AE2D09EF9CD}" type="datetime">
              <a:rPr b="0" lang="ru-RU" sz="1200" spc="-1" strike="noStrike">
                <a:solidFill>
                  <a:srgbClr val="ffffff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6:49:11Z</dcterms:created>
  <dc:creator>1</dc:creator>
  <dc:description/>
  <dc:language>en-US</dc:language>
  <cp:lastModifiedBy>Светлана</cp:lastModifiedBy>
  <dcterms:modified xsi:type="dcterms:W3CDTF">2011-12-09T23:25:04Z</dcterms:modified>
  <cp:revision>42</cp:revision>
  <dc:subject/>
  <dc:title>Слайд 1</dc:title>
</cp:coreProperties>
</file>