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4.gif" ContentType="image/gif"/>
  <Override PartName="/ppt/media/image27.png" ContentType="image/png"/>
  <Override PartName="/ppt/media/image3.png" ContentType="image/png"/>
  <Override PartName="/ppt/media/image23.gif" ContentType="image/gif"/>
  <Override PartName="/ppt/media/image26.png" ContentType="image/png"/>
  <Override PartName="/ppt/media/image2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5.gif" ContentType="image/gif"/>
  <Override PartName="/ppt/media/image28.png" ContentType="image/png"/>
  <Override PartName="/ppt/media/image15.png" ContentType="image/png"/>
  <Override PartName="/ppt/media/image1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move the slide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4D3C2-D0DC-4288-96DD-5F2961EEC87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выполняются уст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9482A-C4A5-488D-825C-4932ED084F9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выполняются уст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0E57D-28D3-422C-8355-35653DA46EE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9491-1D7A-496B-8821-02EFC743B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BC1D-1E17-4A47-B8F3-52AE7FDC3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F82A09-9422-4162-A911-43C9CE8D7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75759D-486A-4D2E-BC9A-81488C504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8EC9FE-A2D7-481A-AC4F-8133ACDA3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8DCADB-42DE-4744-AD11-E65FEA1F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814A8F-526E-41DF-9CDA-1278C1F6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BF6010-48EE-41B6-AB7E-C8F995CD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C92475-DD41-43A5-A40B-037EC2591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A50471-4C62-41A8-8B54-5BDA5F051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38635E-6BE6-4038-9685-FEBA52EF6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5FC0F86-E9A4-4D44-84FC-D289496CB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EFFB-CD60-4BA6-A7C7-33C5312F0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3E312A2-09FA-4732-B9F2-B315917A3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BC353DD-7976-4B4E-8AE5-BBAA0B53B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387A91F-677D-4990-9C89-057016CA1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0F90EBA-DAE8-4478-A4A4-84D1CEEAB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312AAB9-2403-483F-90C8-945209FFC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8F0EF5F-3323-4567-89A5-56A39926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9AA9615-A863-4A02-AE08-96B5548F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79B91E9-3426-4B3C-8FB2-3E09CF88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D1EC9E8-9F22-4D25-93E2-0362F5E4B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CCE2E5B-7E6B-4EAB-BFA5-DF32B8D1E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EBB4-D45D-498A-AA27-9E613AD70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98622D0-C9F6-4849-AF11-E3DF9337E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A65886-9DD4-43CD-B8C2-66A672F16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F8CC77-E9E7-40F8-B17F-2E9C2A682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7375C8-453C-404B-A6F3-DB1A8EE7C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9869EA-173D-48D7-8227-E01BBF048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E16207-D78B-432C-9ACC-B32CC3031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E1B7B1-EF6F-4A8F-9E1A-973E24F12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11643F-EF54-41F0-9DA9-63768EBD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F90A1B-7900-4E66-8FDD-741FDFE6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9D7EAE-73EF-428A-8DB5-C95110F9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BFAF1-6C44-4507-AD76-DF61BEF9A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C47404-BA80-495B-A0D7-16C0A30C9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05D132-2787-4B5D-9A76-2D9925403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F4BD44-3A54-4FDB-B061-A7F6272DE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DE4008-BD0E-4B25-8DBA-B9D2D044C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111D14-9E7C-4AF1-9E58-089F59EE2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1B3923-F17C-4787-967E-A36ACB5C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9B195B-D1DF-47B0-AB55-87E2B2259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9D235F-66FF-4714-B44B-89A9BB40D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F5B60A-264F-41AA-ABED-89011BC2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4B40D1-30A2-41AE-8976-3555D3D2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4F474-B470-4FB3-B06F-8011F93C7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011C3A-8487-4E12-BBCF-39BE7E92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7632C0-FE5D-432D-918E-2BF61A7A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38D5A4-E9ED-4AB5-B550-118E6C68E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8C56BB-CADE-44BC-902F-CE7DAE2E3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313D3A-3F6C-4641-BDC1-728AD917F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CAB17-C8EF-4C5B-B5C0-B70E241E6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B5ADC-FAC3-4D4A-8628-640F2B894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C1AAA-FEB4-4AC1-8992-41F540092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9618B-5EE0-45F3-A0CA-82ECFAA03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7B01A-F3F6-4CCD-89BF-4CE67367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BDBD-D673-4B3B-87B7-CAD27A679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CDE62-7269-4EFD-877E-5CF98CA6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9F9A5-DDB4-467B-9599-DA94D34D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995B4-A950-46DF-AB33-5D50CC73A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4F6D4-BC94-44ED-85C2-3A9A3AF86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D8575-69D4-44DB-AE0A-1270C349B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782BC-E5E0-4DA4-B833-F1A6CDF29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37784-C768-4523-9070-C4A48D74F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3C15C-2B7E-4CDF-9BC9-8C211B36E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75B5E-6B41-4FA2-9DDD-F74028109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46B99-4E38-40EB-BCCB-A394AD301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3935-7081-40F8-B9D9-B718FF74F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7A091-0E57-4E78-B8C6-227A5009F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D38E2-C0A3-4829-8A97-442BBC7C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B7809-AA64-4FBC-8EF6-C5C06975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CCB9F-EECF-48A6-9677-C7713ED0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8ADD9-B793-4AB3-AFB8-14DDB76F4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34D68-C923-423E-91A4-19130CE38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79C7C-B682-4609-92C0-49761D208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FCD11-89F5-486C-B180-B9530363B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67113-1B22-4515-ADF3-894D39BDF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BC679-C71B-4E2C-AA1D-72F24F4C4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098A-5676-4DF1-B5C0-334EC90D1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90120-E469-4A65-A7FA-252C01C5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AEDD0-E7F4-4038-9905-733354119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45F20-D987-4BC9-B79E-9AB06FFA4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AF494-118F-4CFB-BDD5-F32CA3F4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059F9-A45D-4811-914F-39DCF1F4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48360-3A7C-4F76-AD17-E726E177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1DF92-78B4-4CBC-9065-4B4190FCD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C1F47-7FAE-46C7-9774-7DA458430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B65DB-3AE3-44A5-A080-FA90CDD21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749A0-D188-4583-BBAE-62CE8596E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F905-EC10-40A7-A74A-677CA736F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7582E-64AE-4FD1-ACBD-F004D9DE1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98215-834A-4B23-8FD4-779A33E03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60E52-9BF9-41F6-91A4-A9B24162E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67319-F7B4-4176-87F3-BB054772C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FE109-8246-4D49-A70A-36A19372F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20F93-2EE1-4667-B58B-D69252AA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DAEBA-25CD-44DA-8E1A-4A140269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37BBD-D453-487C-ABA7-8300E0EB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A71D0-0D2E-4D25-BC84-9C97E462C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07917-E34A-4FB9-97AF-CC3FAB73B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C915-956D-41CB-9FD0-E337DE59D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0D1DD-6293-427A-BFC5-C5A4B1428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951DC-F880-492B-9B09-F12D2BF0B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6972F-0ED8-41F6-A601-94458C286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6C03A-3F8E-4BA2-9ABF-93D8CF7C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58D17-74CB-4C2F-9E51-2FCA20A24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6F769A-EA2E-41FA-B1D8-26C4E1B29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84231-8E0E-4614-93EF-C6A88AB3B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2B5B3-09E5-4440-AF60-309FDA06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DFE55-84B7-4B80-8E33-AD345106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83FF9-D44D-4462-9F3C-2897ACAF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EBCA-31BF-4686-9379-9E2212EE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1508F-16EB-4133-9CE4-4C2BEA96B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AA7FCA-3FE7-4CF2-9ACB-4B14F6462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E1343-AE2E-414E-BDF3-99727B1A4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F8F813-D072-4414-B8A7-6A5749732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7303B4-BCF0-4C4C-8CDB-D77474E33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392045-2CAD-406D-B730-5674BC255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5365A-0815-475C-8154-6DB077250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907FA9-17B4-4DB4-B7E6-80C01BD38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291CA-7FC0-40EF-829F-2B53357B9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E6E728-5FDF-41E5-82AA-DAF0FFA8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65FC-CB76-41EC-854A-09618C72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25732-4F62-47F4-B63D-3797F577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C8324-E71A-4714-B571-71C324A1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2AA70A-F885-49E0-982D-B3B436AF3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5F52E-3718-43B9-9F8A-69B2F54A3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927BDF-F4CF-4E50-9FE0-B56D2B1C0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3308FA-B9BA-4D4B-BF56-393ECA14E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C3C68E-D204-4F47-BFAC-600E7E91C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0CA65F-79D7-4F2C-9A2C-38FB76AF1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946F1-2122-4DE5-A468-94090186F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53E61F-BD10-443F-AEED-588F6ECCB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0BDD-FC42-4160-9FE4-C4250A01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F45D47-B02E-49AF-8E1E-9B39B32DB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F26FD4-3D50-49D1-8167-74B86995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6B4FB5-0B1A-492C-A1A7-18283501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45CE90-79DB-471A-B03B-6AFE42E4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97016E-7CD7-4E13-9B4D-E9C74988B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498EE3-642B-40A0-BC40-47041361F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A83D40-2634-4FAF-BE4C-746A2E2AB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ED5506-6467-4C50-A8BD-E8CDB797E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857DFE-1C00-47F8-9E83-146D0288D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FB7EDB-3CBD-4BD1-AC0A-1E091140E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65F27-A0AE-4372-967B-F56BA5F29D0B}" type="datetime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C945D-29FE-479E-AA4C-0E123E572C62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29" name="Rectangle 9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430" name="Rectangle 9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32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4AA64-A92F-4916-BF14-9C752EFA45CA}" type="datetime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1CFAC-6B66-45FD-BD8C-35FD65FB0523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8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479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81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8AB23-39C0-4F16-9DDF-B3D68CEDC94C}" type="datetime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E132A-3DCA-4991-84CA-3B30A7E3F9D5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A8183-AEA9-4B2B-A075-6C08990DC58F}" type="datetime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4FE0A-1D47-444A-B132-C48656B07559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" name="Rectangle 8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50" name="Rectangle 8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" name="Rectangle 11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1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A4140-6502-4689-9CBB-85EB06DDDF6C}" type="datetime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4753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E632F-9E31-4458-986D-2BD26CA28A83}" type="slidenum">
              <a:rPr b="0" lang="en-US" sz="2800" spc="-1" strike="noStrike">
                <a:solidFill>
                  <a:srgbClr val="47534c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103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5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63533-18AB-48B9-B83E-2134090EAF6B}" type="datetime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2A51D-25D7-40BC-B375-F51CF75E8566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9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50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2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8EA35-564E-40E2-B1A6-FA281EE0CFA1}" type="datetime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D6FA-18FE-4FE3-B0CD-84847DB3C743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199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3EDFB-984F-4189-A840-82C1400715DB}" type="datetime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AB548-F829-40A9-916F-8DD187713F56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5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246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8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5AE2F-EB65-4DFC-A7D9-C4FCAEBCCED8}" type="datetime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9F6E7-AFB0-4A2D-8BB4-032F5E302260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2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293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5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1647-768A-4489-8496-FD46AC80EB56}" type="datetime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5BF53-08FA-450A-AF34-95DCD5757FAA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Rounded Rectangle 10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D1AA9-6A0A-433E-BF60-99FAE125523E}" type="datetime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0777B-FF2E-41B2-8A31-09EAA9C60604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2" name="Rectangle 7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383" name="Rectangle 7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85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F6F1D-8D49-4AEB-8AA2-8CD1BAD39479}" type="datetime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D12AA-F172-4F0B-9037-CAC96D50B479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2.png"/><Relationship Id="rId3" Type="http://schemas.openxmlformats.org/officeDocument/2006/relationships/image" Target="../media/image23.gif"/><Relationship Id="rId4" Type="http://schemas.openxmlformats.org/officeDocument/2006/relationships/image" Target="../media/image24.gif"/><Relationship Id="rId5" Type="http://schemas.openxmlformats.org/officeDocument/2006/relationships/image" Target="../media/image25.gif"/><Relationship Id="rId6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WordArt 4" descr=""/>
          <p:cNvPicPr/>
          <p:nvPr/>
        </p:nvPicPr>
        <p:blipFill>
          <a:blip r:embed="rId1"/>
          <a:stretch/>
        </p:blipFill>
        <p:spPr>
          <a:xfrm>
            <a:off x="1054080" y="1809720"/>
            <a:ext cx="7272360" cy="2354400"/>
          </a:xfrm>
          <a:prstGeom prst="rect">
            <a:avLst/>
          </a:prstGeom>
          <a:ln w="0">
            <a:noFill/>
          </a:ln>
        </p:spPr>
      </p:pic>
      <p:sp>
        <p:nvSpPr>
          <p:cNvPr id="574" name="Text Box 5"/>
          <p:cNvSpPr/>
          <p:nvPr/>
        </p:nvSpPr>
        <p:spPr>
          <a:xfrm>
            <a:off x="3996720" y="4221000"/>
            <a:ext cx="4804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Book Antiqua"/>
              </a:rPr>
              <a:t>Учитель математики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Book Antiqua"/>
              </a:rPr>
              <a:t>Абрамкина С.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Rectangle 6"/>
          <p:cNvSpPr/>
          <p:nvPr/>
        </p:nvSpPr>
        <p:spPr>
          <a:xfrm>
            <a:off x="2121840" y="836640"/>
            <a:ext cx="520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 геометрии в 7 класс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Скругленный прямоугольник 1"/>
          <p:cNvGrpSpPr/>
          <p:nvPr/>
        </p:nvGrpSpPr>
        <p:grpSpPr>
          <a:xfrm>
            <a:off x="122400" y="6297480"/>
            <a:ext cx="2004840" cy="420840"/>
            <a:chOff x="122400" y="6297480"/>
            <a:chExt cx="2004840" cy="420840"/>
          </a:xfrm>
        </p:grpSpPr>
        <p:pic>
          <p:nvPicPr>
            <p:cNvPr id="577" name="Скругленный прямоугольник 1" descr=""/>
            <p:cNvPicPr/>
            <p:nvPr/>
          </p:nvPicPr>
          <p:blipFill>
            <a:blip r:embed="rId2"/>
            <a:stretch/>
          </p:blipFill>
          <p:spPr>
            <a:xfrm>
              <a:off x="122400" y="6297480"/>
              <a:ext cx="200484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"/>
            <p:cNvSpPr/>
            <p:nvPr/>
          </p:nvSpPr>
          <p:spPr>
            <a:xfrm>
              <a:off x="203040" y="6375240"/>
              <a:ext cx="184500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9" name="Дата 2"/>
          <p:cNvSpPr/>
          <p:nvPr/>
        </p:nvSpPr>
        <p:spPr>
          <a:xfrm>
            <a:off x="250920" y="6335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0AE0A-D7D0-420D-8C6B-0199AF3A41AD}" type="datetime">
              <a:rPr b="0" lang="ru-RU" sz="1200" spc="-1" strike="noStrike">
                <a:solidFill>
                  <a:srgbClr val="ffffff"/>
                </a:solidFill>
                <a:latin typeface="Tahom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TextBox 2"/>
          <p:cNvSpPr/>
          <p:nvPr/>
        </p:nvSpPr>
        <p:spPr>
          <a:xfrm>
            <a:off x="1403280" y="84132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egoe Print"/>
              </a:rPr>
              <a:t>Практическая работ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76" name="Прямоугольник 3" descr=""/>
          <p:cNvPicPr/>
          <p:nvPr/>
        </p:nvPicPr>
        <p:blipFill>
          <a:blip r:embed="rId1"/>
          <a:stretch/>
        </p:blipFill>
        <p:spPr>
          <a:xfrm>
            <a:off x="933480" y="1646280"/>
            <a:ext cx="6778440" cy="3779640"/>
          </a:xfrm>
          <a:prstGeom prst="rect">
            <a:avLst/>
          </a:prstGeom>
          <a:ln w="0">
            <a:noFill/>
          </a:ln>
        </p:spPr>
      </p:pic>
      <p:grpSp>
        <p:nvGrpSpPr>
          <p:cNvPr id="677" name="Скругленный прямоугольник 4"/>
          <p:cNvGrpSpPr/>
          <p:nvPr/>
        </p:nvGrpSpPr>
        <p:grpSpPr>
          <a:xfrm>
            <a:off x="122400" y="6297480"/>
            <a:ext cx="2004840" cy="420840"/>
            <a:chOff x="122400" y="6297480"/>
            <a:chExt cx="2004840" cy="420840"/>
          </a:xfrm>
        </p:grpSpPr>
        <p:pic>
          <p:nvPicPr>
            <p:cNvPr id="678" name="Скругленный 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122400" y="6297480"/>
              <a:ext cx="200484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"/>
            <p:cNvSpPr/>
            <p:nvPr/>
          </p:nvSpPr>
          <p:spPr>
            <a:xfrm>
              <a:off x="203040" y="6375240"/>
              <a:ext cx="184500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80" name="Дата 1"/>
          <p:cNvSpPr/>
          <p:nvPr/>
        </p:nvSpPr>
        <p:spPr>
          <a:xfrm>
            <a:off x="189000" y="63230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879F2-8667-4272-9A40-F6CDA28B1348}" type="datetime">
              <a:rPr b="0" lang="ru-RU" sz="1200" spc="-1" strike="noStrike">
                <a:solidFill>
                  <a:srgbClr val="ffffff"/>
                </a:solidFill>
                <a:latin typeface="Tahom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Box 2"/>
          <p:cNvSpPr/>
          <p:nvPr/>
        </p:nvSpPr>
        <p:spPr>
          <a:xfrm>
            <a:off x="34920" y="357120"/>
            <a:ext cx="9144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 u="sng">
                <a:solidFill>
                  <a:srgbClr val="ff0000"/>
                </a:solidFill>
                <a:uFillTx/>
                <a:latin typeface="Bookman Old Style"/>
              </a:rPr>
              <a:t>ВОПРОСЫ: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TextBox 5"/>
          <p:cNvSpPr/>
          <p:nvPr/>
        </p:nvSpPr>
        <p:spPr>
          <a:xfrm>
            <a:off x="395280" y="1700280"/>
            <a:ext cx="842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buClr>
                <a:srgbClr val="a5957e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a5957e"/>
                </a:solidFill>
                <a:latin typeface="Bookman Old Style"/>
              </a:rPr>
              <a:t>Какие прямые называют перпендикулярными?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743040" indent="-743040">
              <a:lnSpc>
                <a:spcPct val="100000"/>
              </a:lnSpc>
              <a:buClr>
                <a:srgbClr val="a5957e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a5957e"/>
                </a:solidFill>
                <a:latin typeface="Bookman Old Style"/>
              </a:rPr>
              <a:t>Какие отрезки и какие лучи называют перпендикулярными?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743040" indent="-743040">
              <a:lnSpc>
                <a:spcPct val="100000"/>
              </a:lnSpc>
              <a:buClr>
                <a:srgbClr val="a5957e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a5957e"/>
                </a:solidFill>
                <a:latin typeface="Bookman Old Style"/>
              </a:rPr>
              <a:t>С помощью каких чертежных инструментов строят перпендикулярные прямые?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83" name="Скругленный прямоугольник 7"/>
          <p:cNvGrpSpPr/>
          <p:nvPr/>
        </p:nvGrpSpPr>
        <p:grpSpPr>
          <a:xfrm>
            <a:off x="122400" y="6297480"/>
            <a:ext cx="2004840" cy="420840"/>
            <a:chOff x="122400" y="6297480"/>
            <a:chExt cx="2004840" cy="420840"/>
          </a:xfrm>
        </p:grpSpPr>
        <p:pic>
          <p:nvPicPr>
            <p:cNvPr id="684" name="Скругленный прямоугольник 7" descr=""/>
            <p:cNvPicPr/>
            <p:nvPr/>
          </p:nvPicPr>
          <p:blipFill>
            <a:blip r:embed="rId1"/>
            <a:stretch/>
          </p:blipFill>
          <p:spPr>
            <a:xfrm>
              <a:off x="122400" y="6297480"/>
              <a:ext cx="200484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5" name=""/>
            <p:cNvSpPr/>
            <p:nvPr/>
          </p:nvSpPr>
          <p:spPr>
            <a:xfrm>
              <a:off x="203040" y="6375240"/>
              <a:ext cx="184500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WordArt 4"/>
          <p:cNvSpPr txBox="1"/>
          <p:nvPr/>
        </p:nvSpPr>
        <p:spPr>
          <a:xfrm>
            <a:off x="755640" y="620640"/>
            <a:ext cx="6624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Задание на дом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87" name="Rectangle 9"/>
          <p:cNvSpPr/>
          <p:nvPr/>
        </p:nvSpPr>
        <p:spPr>
          <a:xfrm>
            <a:off x="1258920" y="2708280"/>
            <a:ext cx="456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уровень: № 55, №58 (а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уровень: №56, № 61 (а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Rectangle 10"/>
          <p:cNvSpPr/>
          <p:nvPr/>
        </p:nvSpPr>
        <p:spPr>
          <a:xfrm>
            <a:off x="1258920" y="2060640"/>
            <a:ext cx="66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. 16, 17, 19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9" name="WordArt 11"/>
          <p:cNvSpPr txBox="1"/>
          <p:nvPr/>
        </p:nvSpPr>
        <p:spPr>
          <a:xfrm>
            <a:off x="1476360" y="4149720"/>
            <a:ext cx="57610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Times New Roman"/>
              </a:rPr>
              <a:t>Желаю успехов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Times New Roman"/>
              <a:ea typeface="Times New Roman"/>
            </a:endParaRPr>
          </a:p>
        </p:txBody>
      </p:sp>
      <p:grpSp>
        <p:nvGrpSpPr>
          <p:cNvPr id="690" name="Скругленный прямоугольник 8"/>
          <p:cNvGrpSpPr/>
          <p:nvPr/>
        </p:nvGrpSpPr>
        <p:grpSpPr>
          <a:xfrm>
            <a:off x="122400" y="6297480"/>
            <a:ext cx="2004840" cy="420840"/>
            <a:chOff x="122400" y="6297480"/>
            <a:chExt cx="2004840" cy="420840"/>
          </a:xfrm>
        </p:grpSpPr>
        <p:pic>
          <p:nvPicPr>
            <p:cNvPr id="691" name="Скругленный прямоугольник 8" descr=""/>
            <p:cNvPicPr/>
            <p:nvPr/>
          </p:nvPicPr>
          <p:blipFill>
            <a:blip r:embed="rId1"/>
            <a:stretch/>
          </p:blipFill>
          <p:spPr>
            <a:xfrm>
              <a:off x="122400" y="6297480"/>
              <a:ext cx="200484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2" name=""/>
            <p:cNvSpPr/>
            <p:nvPr/>
          </p:nvSpPr>
          <p:spPr>
            <a:xfrm>
              <a:off x="203040" y="6375240"/>
              <a:ext cx="184500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93" name="Дата 1"/>
          <p:cNvSpPr/>
          <p:nvPr/>
        </p:nvSpPr>
        <p:spPr>
          <a:xfrm>
            <a:off x="192240" y="63230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950B6-26BD-4297-BBC5-B562F5452BAD}" type="datetime">
              <a:rPr b="0" lang="ru-RU" sz="1200" spc="-1" strike="noStrike">
                <a:solidFill>
                  <a:srgbClr val="ffffff"/>
                </a:solidFill>
                <a:latin typeface="Tahom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WordArt 4"/>
          <p:cNvSpPr txBox="1"/>
          <p:nvPr/>
        </p:nvSpPr>
        <p:spPr>
          <a:xfrm>
            <a:off x="1114560" y="609480"/>
            <a:ext cx="6913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4e501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Беговая дорожка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4e501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1" name="Rectangle 5"/>
          <p:cNvSpPr/>
          <p:nvPr/>
        </p:nvSpPr>
        <p:spPr>
          <a:xfrm>
            <a:off x="1042920" y="2133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Text Box 6"/>
          <p:cNvSpPr/>
          <p:nvPr/>
        </p:nvSpPr>
        <p:spPr>
          <a:xfrm>
            <a:off x="468360" y="1695600"/>
            <a:ext cx="77738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e501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501f"/>
                </a:solidFill>
                <a:latin typeface="Arial"/>
              </a:rPr>
              <a:t>Биссектрисой угла называется . . 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4e501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501f"/>
                </a:solidFill>
                <a:latin typeface="Arial"/>
              </a:rPr>
              <a:t>Смежные углы – это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4e501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501f"/>
                </a:solidFill>
                <a:latin typeface="Arial"/>
              </a:rPr>
              <a:t>Могут ли два смежных угла быть оба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501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4e501f"/>
                </a:solidFill>
                <a:latin typeface="Arial"/>
              </a:rPr>
              <a:t>1) острым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501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4e501f"/>
                </a:solidFill>
                <a:latin typeface="Arial"/>
              </a:rPr>
              <a:t>2) тупым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501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4e501f"/>
                </a:solidFill>
                <a:latin typeface="Arial"/>
              </a:rPr>
              <a:t>3) прямыми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501f"/>
                </a:solidFill>
                <a:latin typeface="Arial"/>
              </a:rPr>
              <a:t>-Сформулируйте теорему о смежных углах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4e501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501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4e501f"/>
                </a:solidFill>
                <a:latin typeface="Arial"/>
              </a:rPr>
              <a:t>Вертикальными углами называются углы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4e501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501f"/>
                </a:solidFill>
                <a:latin typeface="Arial"/>
              </a:rPr>
              <a:t>Какими свойствами обладают вертикальные углы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3" name="Скругленный прямоугольник 7"/>
          <p:cNvGrpSpPr/>
          <p:nvPr/>
        </p:nvGrpSpPr>
        <p:grpSpPr>
          <a:xfrm>
            <a:off x="122400" y="6297480"/>
            <a:ext cx="2004840" cy="420840"/>
            <a:chOff x="122400" y="6297480"/>
            <a:chExt cx="2004840" cy="420840"/>
          </a:xfrm>
        </p:grpSpPr>
        <p:pic>
          <p:nvPicPr>
            <p:cNvPr id="584" name="Скругленный прямоугольник 7" descr=""/>
            <p:cNvPicPr/>
            <p:nvPr/>
          </p:nvPicPr>
          <p:blipFill>
            <a:blip r:embed="rId1"/>
            <a:stretch/>
          </p:blipFill>
          <p:spPr>
            <a:xfrm>
              <a:off x="122400" y="6297480"/>
              <a:ext cx="200484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"/>
            <p:cNvSpPr/>
            <p:nvPr/>
          </p:nvSpPr>
          <p:spPr>
            <a:xfrm>
              <a:off x="203040" y="6375240"/>
              <a:ext cx="184500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6" name="Дата 1"/>
          <p:cNvSpPr/>
          <p:nvPr/>
        </p:nvSpPr>
        <p:spPr>
          <a:xfrm>
            <a:off x="160200" y="6302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1663F-6CA3-47FC-A21F-293E03398A2C}" type="datetime">
              <a:rPr b="0" lang="ru-RU" sz="1200" spc="-1" strike="noStrike">
                <a:solidFill>
                  <a:srgbClr val="ffffff"/>
                </a:solidFill>
                <a:latin typeface="Tahom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" dur="3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85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6b7d72"/>
                </a:solidFill>
                <a:latin typeface="Book Antiqua"/>
              </a:rPr>
              <a:t>НАЙДИТЕ: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8" name="Содержимое 3"/>
              <p:cNvSpPr txBox="1"/>
              <p:nvPr/>
            </p:nvSpPr>
            <p:spPr>
              <a:xfrm>
                <a:off x="361800" y="1030320"/>
                <a:ext cx="452124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FBD</m:t>
                    </m:r>
                    <m:r>
                      <m:t xml:space="preserve">,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BF</m:t>
                    </m:r>
                    <m:r>
                      <m:t xml:space="preserve">,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CB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9" name="Прямая соединительная линия 5"/>
          <p:cNvSpPr/>
          <p:nvPr/>
        </p:nvSpPr>
        <p:spPr>
          <a:xfrm flipV="1">
            <a:off x="1285920" y="2500200"/>
            <a:ext cx="6929280" cy="157176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Прямая соединительная линия 6"/>
          <p:cNvSpPr/>
          <p:nvPr/>
        </p:nvSpPr>
        <p:spPr>
          <a:xfrm flipV="1">
            <a:off x="3429000" y="1357200"/>
            <a:ext cx="2286000" cy="450072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Овал 10"/>
          <p:cNvSpPr/>
          <p:nvPr/>
        </p:nvSpPr>
        <p:spPr>
          <a:xfrm>
            <a:off x="4714920" y="3214800"/>
            <a:ext cx="142920" cy="142920"/>
          </a:xfrm>
          <a:prstGeom prst="ellipse">
            <a:avLst/>
          </a:prstGeom>
          <a:solidFill>
            <a:srgbClr val="93a299"/>
          </a:solidFill>
          <a:ln w="255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TextBox 11"/>
          <p:cNvSpPr/>
          <p:nvPr/>
        </p:nvSpPr>
        <p:spPr>
          <a:xfrm>
            <a:off x="1214280" y="35002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TextBox 12"/>
          <p:cNvSpPr/>
          <p:nvPr/>
        </p:nvSpPr>
        <p:spPr>
          <a:xfrm>
            <a:off x="4643280" y="354816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TextBox 13"/>
          <p:cNvSpPr/>
          <p:nvPr/>
        </p:nvSpPr>
        <p:spPr>
          <a:xfrm>
            <a:off x="5643720" y="135720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TextBox 14"/>
          <p:cNvSpPr/>
          <p:nvPr/>
        </p:nvSpPr>
        <p:spPr>
          <a:xfrm>
            <a:off x="7929720" y="250020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Дуга 16"/>
          <p:cNvSpPr/>
          <p:nvPr/>
        </p:nvSpPr>
        <p:spPr>
          <a:xfrm flipH="1" flipV="1" rot="5830200">
            <a:off x="4401000" y="2878560"/>
            <a:ext cx="984240" cy="957600"/>
          </a:xfrm>
          <a:custGeom>
            <a:avLst/>
            <a:gdLst/>
            <a:ahLst/>
            <a:rect l="l" t="t" r="r" b="b"/>
            <a:pathLst>
              <a:path stroke="0" w="984250" h="957262">
                <a:moveTo>
                  <a:pt x="492125" y="0"/>
                </a:moveTo>
                <a:cubicBezTo>
                  <a:pt x="753427" y="0"/>
                  <a:pt x="969171" y="198615"/>
                  <a:pt x="983509" y="452369"/>
                </a:cubicBezTo>
                <a:lnTo>
                  <a:pt x="492125" y="478631"/>
                </a:lnTo>
                <a:lnTo>
                  <a:pt x="492125" y="0"/>
                </a:lnTo>
                <a:close/>
              </a:path>
              <a:path fill="none" w="984250" h="957262">
                <a:moveTo>
                  <a:pt x="492125" y="0"/>
                </a:moveTo>
                <a:cubicBezTo>
                  <a:pt x="753427" y="0"/>
                  <a:pt x="969171" y="198615"/>
                  <a:pt x="983509" y="452369"/>
                </a:cubicBezTo>
              </a:path>
            </a:pathLst>
          </a:custGeom>
          <a:noFill/>
          <a:ln w="38160">
            <a:solidFill>
              <a:srgbClr val="8f9f9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TextBox 17"/>
          <p:cNvSpPr/>
          <p:nvPr/>
        </p:nvSpPr>
        <p:spPr>
          <a:xfrm rot="19567200">
            <a:off x="3956760" y="2259000"/>
            <a:ext cx="94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142</a:t>
            </a:r>
            <a:r>
              <a:rPr b="1" lang="en-US" sz="1400" spc="-1" strike="noStrike" baseline="100000">
                <a:solidFill>
                  <a:srgbClr val="000000"/>
                </a:solidFill>
                <a:latin typeface="Constanti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TextBox 19"/>
          <p:cNvSpPr/>
          <p:nvPr/>
        </p:nvSpPr>
        <p:spPr>
          <a:xfrm>
            <a:off x="3500280" y="564372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9" name="Скругленный прямоугольник 13"/>
          <p:cNvGrpSpPr/>
          <p:nvPr/>
        </p:nvGrpSpPr>
        <p:grpSpPr>
          <a:xfrm>
            <a:off x="122400" y="6297480"/>
            <a:ext cx="2004840" cy="420840"/>
            <a:chOff x="122400" y="6297480"/>
            <a:chExt cx="2004840" cy="420840"/>
          </a:xfrm>
        </p:grpSpPr>
        <p:pic>
          <p:nvPicPr>
            <p:cNvPr id="600" name="Скругленный прямоугольник 13" descr=""/>
            <p:cNvPicPr/>
            <p:nvPr/>
          </p:nvPicPr>
          <p:blipFill>
            <a:blip r:embed="rId1"/>
            <a:stretch/>
          </p:blipFill>
          <p:spPr>
            <a:xfrm>
              <a:off x="122400" y="6297480"/>
              <a:ext cx="200484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203040" y="6375240"/>
              <a:ext cx="184500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02" name="Дуга 14"/>
          <p:cNvSpPr/>
          <p:nvPr/>
        </p:nvSpPr>
        <p:spPr>
          <a:xfrm flipH="1" flipV="1" rot="17334600">
            <a:off x="4221000" y="2662920"/>
            <a:ext cx="984600" cy="957240"/>
          </a:xfrm>
          <a:custGeom>
            <a:avLst/>
            <a:gdLst/>
            <a:ahLst/>
            <a:rect l="l" t="t" r="r" b="b"/>
            <a:pathLst>
              <a:path stroke="0" w="984250" h="957263">
                <a:moveTo>
                  <a:pt x="367485" y="15605"/>
                </a:moveTo>
                <a:cubicBezTo>
                  <a:pt x="507789" y="-20120"/>
                  <a:pt x="657151" y="6165"/>
                  <a:pt x="775688" y="87442"/>
                </a:cubicBezTo>
                <a:cubicBezTo>
                  <a:pt x="898689" y="171780"/>
                  <a:pt x="975251" y="306221"/>
                  <a:pt x="983509" y="452370"/>
                </a:cubicBezTo>
                <a:lnTo>
                  <a:pt x="492125" y="478632"/>
                </a:lnTo>
                <a:lnTo>
                  <a:pt x="367485" y="15605"/>
                </a:lnTo>
                <a:close/>
              </a:path>
              <a:path fill="none" w="984250" h="957263">
                <a:moveTo>
                  <a:pt x="367485" y="15605"/>
                </a:moveTo>
                <a:cubicBezTo>
                  <a:pt x="507789" y="-20120"/>
                  <a:pt x="657151" y="6165"/>
                  <a:pt x="775688" y="87442"/>
                </a:cubicBezTo>
                <a:cubicBezTo>
                  <a:pt x="898689" y="171780"/>
                  <a:pt x="975251" y="306221"/>
                  <a:pt x="983509" y="452370"/>
                </a:cubicBezTo>
              </a:path>
            </a:pathLst>
          </a:custGeom>
          <a:noFill/>
          <a:ln w="38160">
            <a:solidFill>
              <a:srgbClr val="8f9f9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TextBox 17"/>
          <p:cNvSpPr/>
          <p:nvPr/>
        </p:nvSpPr>
        <p:spPr>
          <a:xfrm rot="8501400">
            <a:off x="4820040" y="3577680"/>
            <a:ext cx="88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142</a:t>
            </a:r>
            <a:r>
              <a:rPr b="1" lang="en-US" sz="1400" spc="-1" strike="noStrike" baseline="100000">
                <a:solidFill>
                  <a:srgbClr val="000000"/>
                </a:solidFill>
                <a:latin typeface="Constanti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Дуга 17"/>
          <p:cNvSpPr/>
          <p:nvPr/>
        </p:nvSpPr>
        <p:spPr>
          <a:xfrm flipH="1" flipV="1" rot="1269000">
            <a:off x="4064760" y="2994120"/>
            <a:ext cx="644760" cy="872640"/>
          </a:xfrm>
          <a:custGeom>
            <a:avLst/>
            <a:gdLst/>
            <a:ahLst/>
            <a:rect l="l" t="t" r="r" b="b"/>
            <a:pathLst>
              <a:path stroke="0" w="644525" h="873125">
                <a:moveTo>
                  <a:pt x="211858" y="26419"/>
                </a:moveTo>
                <a:cubicBezTo>
                  <a:pt x="374879" y="-54112"/>
                  <a:pt x="555701" y="54674"/>
                  <a:pt x="620906" y="272512"/>
                </a:cubicBezTo>
                <a:lnTo>
                  <a:pt x="322263" y="436563"/>
                </a:lnTo>
                <a:lnTo>
                  <a:pt x="211858" y="26419"/>
                </a:lnTo>
                <a:close/>
              </a:path>
              <a:path fill="none" w="644525" h="873125">
                <a:moveTo>
                  <a:pt x="211858" y="26419"/>
                </a:moveTo>
                <a:cubicBezTo>
                  <a:pt x="374879" y="-54112"/>
                  <a:pt x="555701" y="54674"/>
                  <a:pt x="620906" y="272512"/>
                </a:cubicBezTo>
              </a:path>
            </a:pathLst>
          </a:custGeom>
          <a:noFill/>
          <a:ln w="38160">
            <a:solidFill>
              <a:srgbClr val="8f9f9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Дуга 18"/>
          <p:cNvSpPr/>
          <p:nvPr/>
        </p:nvSpPr>
        <p:spPr>
          <a:xfrm flipH="1" flipV="1" rot="1269000">
            <a:off x="3913920" y="2958120"/>
            <a:ext cx="1062000" cy="1073520"/>
          </a:xfrm>
          <a:custGeom>
            <a:avLst/>
            <a:gdLst/>
            <a:ahLst/>
            <a:rect l="l" t="t" r="r" b="b"/>
            <a:pathLst>
              <a:path stroke="0" w="1062038" h="1073150">
                <a:moveTo>
                  <a:pt x="449776" y="6317"/>
                </a:moveTo>
                <a:cubicBezTo>
                  <a:pt x="726361" y="-36951"/>
                  <a:pt x="988701" y="144128"/>
                  <a:pt x="1049399" y="420206"/>
                </a:cubicBezTo>
                <a:lnTo>
                  <a:pt x="531019" y="536575"/>
                </a:lnTo>
                <a:lnTo>
                  <a:pt x="449776" y="6317"/>
                </a:lnTo>
                <a:close/>
              </a:path>
              <a:path fill="none" w="1062038" h="1073150">
                <a:moveTo>
                  <a:pt x="449776" y="6317"/>
                </a:moveTo>
                <a:cubicBezTo>
                  <a:pt x="726361" y="-36951"/>
                  <a:pt x="988701" y="144128"/>
                  <a:pt x="1049399" y="420206"/>
                </a:cubicBezTo>
              </a:path>
            </a:pathLst>
          </a:custGeom>
          <a:noFill/>
          <a:ln w="38160">
            <a:solidFill>
              <a:srgbClr val="8f9f9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TextBox 17"/>
          <p:cNvSpPr/>
          <p:nvPr/>
        </p:nvSpPr>
        <p:spPr>
          <a:xfrm rot="13936200">
            <a:off x="3198960" y="382032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38</a:t>
            </a:r>
            <a:r>
              <a:rPr b="1" lang="en-US" sz="1400" spc="-1" strike="noStrike" baseline="100000">
                <a:solidFill>
                  <a:srgbClr val="000000"/>
                </a:solidFill>
                <a:latin typeface="Constanti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Дуга 20"/>
          <p:cNvSpPr/>
          <p:nvPr/>
        </p:nvSpPr>
        <p:spPr>
          <a:xfrm flipH="1" flipV="1" rot="11832000">
            <a:off x="4685760" y="2764800"/>
            <a:ext cx="644400" cy="873000"/>
          </a:xfrm>
          <a:custGeom>
            <a:avLst/>
            <a:gdLst/>
            <a:ahLst/>
            <a:rect l="l" t="t" r="r" b="b"/>
            <a:pathLst>
              <a:path stroke="0" w="644525" h="873125">
                <a:moveTo>
                  <a:pt x="211858" y="26419"/>
                </a:moveTo>
                <a:cubicBezTo>
                  <a:pt x="374879" y="-54112"/>
                  <a:pt x="555701" y="54674"/>
                  <a:pt x="620906" y="272512"/>
                </a:cubicBezTo>
                <a:lnTo>
                  <a:pt x="322263" y="436563"/>
                </a:lnTo>
                <a:lnTo>
                  <a:pt x="211858" y="26419"/>
                </a:lnTo>
                <a:close/>
              </a:path>
              <a:path fill="none" w="644525" h="873125">
                <a:moveTo>
                  <a:pt x="211858" y="26419"/>
                </a:moveTo>
                <a:cubicBezTo>
                  <a:pt x="374879" y="-54112"/>
                  <a:pt x="555701" y="54674"/>
                  <a:pt x="620906" y="272512"/>
                </a:cubicBezTo>
              </a:path>
            </a:pathLst>
          </a:custGeom>
          <a:noFill/>
          <a:ln w="38160">
            <a:solidFill>
              <a:srgbClr val="8f9f9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Дуга 21"/>
          <p:cNvSpPr/>
          <p:nvPr/>
        </p:nvSpPr>
        <p:spPr>
          <a:xfrm flipH="1" flipV="1" rot="12033600">
            <a:off x="4426920" y="2538720"/>
            <a:ext cx="1062000" cy="1073160"/>
          </a:xfrm>
          <a:custGeom>
            <a:avLst/>
            <a:gdLst/>
            <a:ahLst/>
            <a:rect l="l" t="t" r="r" b="b"/>
            <a:pathLst>
              <a:path stroke="0" w="1062037" h="1073150">
                <a:moveTo>
                  <a:pt x="449776" y="6317"/>
                </a:moveTo>
                <a:cubicBezTo>
                  <a:pt x="726361" y="-36951"/>
                  <a:pt x="988701" y="144128"/>
                  <a:pt x="1049399" y="420206"/>
                </a:cubicBezTo>
                <a:lnTo>
                  <a:pt x="531019" y="536575"/>
                </a:lnTo>
                <a:lnTo>
                  <a:pt x="449776" y="6317"/>
                </a:lnTo>
                <a:close/>
              </a:path>
              <a:path fill="none" w="1062037" h="1073150">
                <a:moveTo>
                  <a:pt x="449776" y="6317"/>
                </a:moveTo>
                <a:cubicBezTo>
                  <a:pt x="726361" y="-36951"/>
                  <a:pt x="988701" y="144128"/>
                  <a:pt x="1049399" y="420206"/>
                </a:cubicBezTo>
              </a:path>
            </a:pathLst>
          </a:custGeom>
          <a:noFill/>
          <a:ln w="38160">
            <a:solidFill>
              <a:srgbClr val="8f9f9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TextBox 17"/>
          <p:cNvSpPr/>
          <p:nvPr/>
        </p:nvSpPr>
        <p:spPr>
          <a:xfrm rot="2959200">
            <a:off x="5414040" y="22388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38</a:t>
            </a:r>
            <a:r>
              <a:rPr b="1" lang="en-US" sz="1400" spc="-1" strike="noStrike" baseline="100000">
                <a:solidFill>
                  <a:srgbClr val="000000"/>
                </a:solidFill>
                <a:latin typeface="Constanti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2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6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6840" y="765000"/>
            <a:ext cx="649116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7d72"/>
                </a:solidFill>
                <a:latin typeface="Book Antiqua"/>
              </a:rPr>
              <a:t>УГОЛ ADB В 5 РАЗ МЕНЬШЕ УГЛА BDC</a:t>
            </a:r>
            <a:br>
              <a:rPr sz="3200"/>
            </a:br>
            <a:r>
              <a:rPr b="0" lang="ru-RU" sz="3200" spc="-1" strike="noStrike">
                <a:solidFill>
                  <a:srgbClr val="6b7d72"/>
                </a:solidFill>
                <a:latin typeface="Book Antiqua"/>
              </a:rPr>
              <a:t>НАЙДИТЕ ЭТИ УГЛЫ.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1" name="Прямая соединительная линия 5"/>
          <p:cNvSpPr/>
          <p:nvPr/>
        </p:nvSpPr>
        <p:spPr>
          <a:xfrm>
            <a:off x="1285920" y="4071960"/>
            <a:ext cx="7072200" cy="200016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Прямая соединительная линия 6"/>
          <p:cNvSpPr/>
          <p:nvPr/>
        </p:nvSpPr>
        <p:spPr>
          <a:xfrm>
            <a:off x="2786040" y="2286000"/>
            <a:ext cx="2000160" cy="28576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Овал 10"/>
          <p:cNvSpPr/>
          <p:nvPr/>
        </p:nvSpPr>
        <p:spPr>
          <a:xfrm>
            <a:off x="4714920" y="5000760"/>
            <a:ext cx="142920" cy="142920"/>
          </a:xfrm>
          <a:prstGeom prst="ellipse">
            <a:avLst/>
          </a:prstGeom>
          <a:solidFill>
            <a:srgbClr val="93a299"/>
          </a:solidFill>
          <a:ln w="255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TextBox 11"/>
          <p:cNvSpPr/>
          <p:nvPr/>
        </p:nvSpPr>
        <p:spPr>
          <a:xfrm>
            <a:off x="1214280" y="35002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TextBox 12"/>
          <p:cNvSpPr/>
          <p:nvPr/>
        </p:nvSpPr>
        <p:spPr>
          <a:xfrm>
            <a:off x="2714760" y="178596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TextBox 13"/>
          <p:cNvSpPr/>
          <p:nvPr/>
        </p:nvSpPr>
        <p:spPr>
          <a:xfrm>
            <a:off x="8001000" y="55008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TextBox 14"/>
          <p:cNvSpPr/>
          <p:nvPr/>
        </p:nvSpPr>
        <p:spPr>
          <a:xfrm>
            <a:off x="4572000" y="507204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8" name="Скругленный прямоугольник 9"/>
          <p:cNvGrpSpPr/>
          <p:nvPr/>
        </p:nvGrpSpPr>
        <p:grpSpPr>
          <a:xfrm>
            <a:off x="122400" y="6297480"/>
            <a:ext cx="2004840" cy="420840"/>
            <a:chOff x="122400" y="6297480"/>
            <a:chExt cx="2004840" cy="420840"/>
          </a:xfrm>
        </p:grpSpPr>
        <p:pic>
          <p:nvPicPr>
            <p:cNvPr id="619" name="Скругленный прямоугольник 9" descr=""/>
            <p:cNvPicPr/>
            <p:nvPr/>
          </p:nvPicPr>
          <p:blipFill>
            <a:blip r:embed="rId1"/>
            <a:stretch/>
          </p:blipFill>
          <p:spPr>
            <a:xfrm>
              <a:off x="122400" y="6297480"/>
              <a:ext cx="200484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203040" y="6375240"/>
              <a:ext cx="184500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Дуга 11"/>
          <p:cNvSpPr/>
          <p:nvPr/>
        </p:nvSpPr>
        <p:spPr>
          <a:xfrm flipH="1" flipV="1" rot="5637600">
            <a:off x="4219560" y="4353480"/>
            <a:ext cx="644760" cy="873000"/>
          </a:xfrm>
          <a:custGeom>
            <a:avLst/>
            <a:gdLst/>
            <a:ahLst/>
            <a:rect l="l" t="t" r="r" b="b"/>
            <a:pathLst>
              <a:path stroke="0" w="644525" h="873125">
                <a:moveTo>
                  <a:pt x="211858" y="26419"/>
                </a:moveTo>
                <a:cubicBezTo>
                  <a:pt x="374879" y="-54112"/>
                  <a:pt x="555701" y="54674"/>
                  <a:pt x="620906" y="272512"/>
                </a:cubicBezTo>
                <a:lnTo>
                  <a:pt x="322263" y="436563"/>
                </a:lnTo>
                <a:lnTo>
                  <a:pt x="211858" y="26419"/>
                </a:lnTo>
                <a:close/>
              </a:path>
              <a:path fill="none" w="644525" h="873125">
                <a:moveTo>
                  <a:pt x="211858" y="26419"/>
                </a:moveTo>
                <a:cubicBezTo>
                  <a:pt x="374879" y="-54112"/>
                  <a:pt x="555701" y="54674"/>
                  <a:pt x="620906" y="272512"/>
                </a:cubicBezTo>
              </a:path>
            </a:pathLst>
          </a:custGeom>
          <a:noFill/>
          <a:ln w="38160">
            <a:solidFill>
              <a:srgbClr val="8f9f9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Дуга 12"/>
          <p:cNvSpPr/>
          <p:nvPr/>
        </p:nvSpPr>
        <p:spPr>
          <a:xfrm flipH="1" flipV="1" rot="11124000">
            <a:off x="4392360" y="4774680"/>
            <a:ext cx="644400" cy="873720"/>
          </a:xfrm>
          <a:custGeom>
            <a:avLst/>
            <a:gdLst/>
            <a:ahLst/>
            <a:rect l="l" t="t" r="r" b="b"/>
            <a:pathLst>
              <a:path stroke="0" w="644525" h="873125">
                <a:moveTo>
                  <a:pt x="211858" y="26419"/>
                </a:moveTo>
                <a:cubicBezTo>
                  <a:pt x="374879" y="-54112"/>
                  <a:pt x="555701" y="54674"/>
                  <a:pt x="620906" y="272512"/>
                </a:cubicBezTo>
                <a:lnTo>
                  <a:pt x="322263" y="436563"/>
                </a:lnTo>
                <a:lnTo>
                  <a:pt x="211858" y="26419"/>
                </a:lnTo>
                <a:close/>
              </a:path>
              <a:path fill="none" w="644525" h="873125">
                <a:moveTo>
                  <a:pt x="211858" y="26419"/>
                </a:moveTo>
                <a:cubicBezTo>
                  <a:pt x="374879" y="-54112"/>
                  <a:pt x="555701" y="54674"/>
                  <a:pt x="620906" y="272512"/>
                </a:cubicBezTo>
              </a:path>
            </a:pathLst>
          </a:custGeom>
          <a:noFill/>
          <a:ln w="38160">
            <a:solidFill>
              <a:srgbClr val="8f9f9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Дуга 13"/>
          <p:cNvSpPr/>
          <p:nvPr/>
        </p:nvSpPr>
        <p:spPr>
          <a:xfrm flipH="1" flipV="1" rot="11832000">
            <a:off x="4181040" y="4656960"/>
            <a:ext cx="936720" cy="817920"/>
          </a:xfrm>
          <a:custGeom>
            <a:avLst/>
            <a:gdLst/>
            <a:ahLst/>
            <a:rect l="l" t="t" r="r" b="b"/>
            <a:pathLst>
              <a:path stroke="0" w="936625" h="817563">
                <a:moveTo>
                  <a:pt x="252301" y="46083"/>
                </a:moveTo>
                <a:cubicBezTo>
                  <a:pt x="375862" y="-9986"/>
                  <a:pt x="521601" y="-15147"/>
                  <a:pt x="649960" y="32002"/>
                </a:cubicBezTo>
                <a:cubicBezTo>
                  <a:pt x="799663" y="86992"/>
                  <a:pt x="906036" y="205761"/>
                  <a:pt x="931042" y="345843"/>
                </a:cubicBezTo>
                <a:lnTo>
                  <a:pt x="468313" y="408782"/>
                </a:lnTo>
                <a:lnTo>
                  <a:pt x="252301" y="46083"/>
                </a:lnTo>
                <a:close/>
              </a:path>
              <a:path fill="none" w="936625" h="817563">
                <a:moveTo>
                  <a:pt x="252301" y="46083"/>
                </a:moveTo>
                <a:cubicBezTo>
                  <a:pt x="375862" y="-9986"/>
                  <a:pt x="521601" y="-15147"/>
                  <a:pt x="649960" y="32002"/>
                </a:cubicBezTo>
                <a:cubicBezTo>
                  <a:pt x="799663" y="86992"/>
                  <a:pt x="906036" y="205761"/>
                  <a:pt x="931042" y="345843"/>
                </a:cubicBezTo>
              </a:path>
            </a:pathLst>
          </a:custGeom>
          <a:noFill/>
          <a:ln w="38160">
            <a:solidFill>
              <a:srgbClr val="8f9f9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TextBox 17"/>
          <p:cNvSpPr/>
          <p:nvPr/>
        </p:nvSpPr>
        <p:spPr>
          <a:xfrm rot="18801000">
            <a:off x="3343320" y="40708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30</a:t>
            </a:r>
            <a:r>
              <a:rPr b="1" lang="en-US" sz="1400" spc="-1" strike="noStrike" baseline="100000">
                <a:solidFill>
                  <a:srgbClr val="000000"/>
                </a:solidFill>
                <a:latin typeface="Constanti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TextBox 17"/>
          <p:cNvSpPr/>
          <p:nvPr/>
        </p:nvSpPr>
        <p:spPr>
          <a:xfrm rot="2178000">
            <a:off x="4731120" y="4246560"/>
            <a:ext cx="8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150</a:t>
            </a:r>
            <a:r>
              <a:rPr b="1" lang="en-US" sz="1400" spc="-1" strike="noStrike" baseline="100000">
                <a:solidFill>
                  <a:srgbClr val="000000"/>
                </a:solidFill>
                <a:latin typeface="Constanti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3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2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6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TextBox 117" descr=""/>
          <p:cNvPicPr/>
          <p:nvPr/>
        </p:nvPicPr>
        <p:blipFill>
          <a:blip r:embed="rId1"/>
          <a:stretch/>
        </p:blipFill>
        <p:spPr>
          <a:xfrm>
            <a:off x="0" y="360360"/>
            <a:ext cx="8717040" cy="207180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5" descr=""/>
          <p:cNvPicPr/>
          <p:nvPr/>
        </p:nvPicPr>
        <p:blipFill>
          <a:blip r:embed="rId2"/>
          <a:stretch/>
        </p:blipFill>
        <p:spPr>
          <a:xfrm>
            <a:off x="306360" y="2781360"/>
            <a:ext cx="2314440" cy="18954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28" name="TextBox 20"/>
          <p:cNvSpPr/>
          <p:nvPr/>
        </p:nvSpPr>
        <p:spPr>
          <a:xfrm>
            <a:off x="0" y="4905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Bookman Old Style"/>
              </a:rPr>
              <a:t>AB     M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29" name="Группа 32"/>
          <p:cNvGrpSpPr/>
          <p:nvPr/>
        </p:nvGrpSpPr>
        <p:grpSpPr>
          <a:xfrm>
            <a:off x="4357800" y="4998960"/>
            <a:ext cx="285480" cy="287280"/>
            <a:chOff x="4357800" y="4998960"/>
            <a:chExt cx="285480" cy="287280"/>
          </a:xfrm>
        </p:grpSpPr>
        <p:pic>
          <p:nvPicPr>
            <p:cNvPr id="630" name="Прямая соединительная линия 21" descr=""/>
            <p:cNvPicPr/>
            <p:nvPr/>
          </p:nvPicPr>
          <p:blipFill>
            <a:blip r:embed="rId3"/>
            <a:stretch/>
          </p:blipFill>
          <p:spPr>
            <a:xfrm>
              <a:off x="4357800" y="5234040"/>
              <a:ext cx="285480" cy="5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Прямая соединительная линия 23" descr=""/>
            <p:cNvPicPr/>
            <p:nvPr/>
          </p:nvPicPr>
          <p:blipFill>
            <a:blip r:embed="rId4"/>
            <a:stretch/>
          </p:blipFill>
          <p:spPr>
            <a:xfrm>
              <a:off x="4470840" y="4998960"/>
              <a:ext cx="59040" cy="27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2" name="TextBox 33"/>
          <p:cNvSpPr/>
          <p:nvPr/>
        </p:nvSpPr>
        <p:spPr>
          <a:xfrm>
            <a:off x="0" y="54054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Bookman Old Style"/>
              </a:rPr>
              <a:t>MN     A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33" name="Группа 34"/>
          <p:cNvGrpSpPr/>
          <p:nvPr/>
        </p:nvGrpSpPr>
        <p:grpSpPr>
          <a:xfrm>
            <a:off x="4500720" y="5500800"/>
            <a:ext cx="285480" cy="287280"/>
            <a:chOff x="4500720" y="5500800"/>
            <a:chExt cx="285480" cy="287280"/>
          </a:xfrm>
        </p:grpSpPr>
        <p:pic>
          <p:nvPicPr>
            <p:cNvPr id="634" name="Прямая соединительная линия 35" descr=""/>
            <p:cNvPicPr/>
            <p:nvPr/>
          </p:nvPicPr>
          <p:blipFill>
            <a:blip r:embed="rId5"/>
            <a:stretch/>
          </p:blipFill>
          <p:spPr>
            <a:xfrm>
              <a:off x="4500720" y="5731920"/>
              <a:ext cx="285480" cy="5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5" name="Прямая соединительная линия 36" descr=""/>
            <p:cNvPicPr/>
            <p:nvPr/>
          </p:nvPicPr>
          <p:blipFill>
            <a:blip r:embed="rId6"/>
            <a:stretch/>
          </p:blipFill>
          <p:spPr>
            <a:xfrm>
              <a:off x="4619160" y="5500800"/>
              <a:ext cx="53640" cy="277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6" name="Picture 7" descr=""/>
          <p:cNvPicPr/>
          <p:nvPr/>
        </p:nvPicPr>
        <p:blipFill>
          <a:blip r:embed="rId7"/>
          <a:stretch/>
        </p:blipFill>
        <p:spPr>
          <a:xfrm>
            <a:off x="2935440" y="2390760"/>
            <a:ext cx="2571480" cy="23432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637" name="Picture 8" descr=""/>
          <p:cNvPicPr/>
          <p:nvPr/>
        </p:nvPicPr>
        <p:blipFill>
          <a:blip r:embed="rId8"/>
          <a:stretch/>
        </p:blipFill>
        <p:spPr>
          <a:xfrm>
            <a:off x="5834160" y="2333520"/>
            <a:ext cx="2876400" cy="2457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pSp>
        <p:nvGrpSpPr>
          <p:cNvPr id="638" name="Скругленный прямоугольник 15"/>
          <p:cNvGrpSpPr/>
          <p:nvPr/>
        </p:nvGrpSpPr>
        <p:grpSpPr>
          <a:xfrm>
            <a:off x="122400" y="6297480"/>
            <a:ext cx="2004840" cy="420840"/>
            <a:chOff x="122400" y="6297480"/>
            <a:chExt cx="2004840" cy="420840"/>
          </a:xfrm>
        </p:grpSpPr>
        <p:pic>
          <p:nvPicPr>
            <p:cNvPr id="639" name="Скругленный прямоугольник 15" descr=""/>
            <p:cNvPicPr/>
            <p:nvPr/>
          </p:nvPicPr>
          <p:blipFill>
            <a:blip r:embed="rId9"/>
            <a:stretch/>
          </p:blipFill>
          <p:spPr>
            <a:xfrm>
              <a:off x="122400" y="6297480"/>
              <a:ext cx="200484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"/>
            <p:cNvSpPr/>
            <p:nvPr/>
          </p:nvSpPr>
          <p:spPr>
            <a:xfrm>
              <a:off x="203040" y="6375240"/>
              <a:ext cx="184500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3,84,-4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3,84,-4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3,84,-4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3,84,-4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TextBox 117" descr=""/>
          <p:cNvPicPr/>
          <p:nvPr/>
        </p:nvPicPr>
        <p:blipFill>
          <a:blip r:embed="rId1"/>
          <a:stretch/>
        </p:blipFill>
        <p:spPr>
          <a:xfrm>
            <a:off x="0" y="762120"/>
            <a:ext cx="9193320" cy="209700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2" descr=""/>
          <p:cNvPicPr/>
          <p:nvPr/>
        </p:nvPicPr>
        <p:blipFill>
          <a:blip r:embed="rId2"/>
          <a:stretch/>
        </p:blipFill>
        <p:spPr>
          <a:xfrm>
            <a:off x="1225440" y="2955960"/>
            <a:ext cx="6723000" cy="4395600"/>
          </a:xfrm>
          <a:prstGeom prst="rect">
            <a:avLst/>
          </a:prstGeom>
          <a:ln w="0">
            <a:noFill/>
          </a:ln>
        </p:spPr>
      </p:pic>
      <p:grpSp>
        <p:nvGrpSpPr>
          <p:cNvPr id="643" name="Скругленный прямоугольник 5"/>
          <p:cNvGrpSpPr/>
          <p:nvPr/>
        </p:nvGrpSpPr>
        <p:grpSpPr>
          <a:xfrm>
            <a:off x="122400" y="6297480"/>
            <a:ext cx="2004840" cy="420840"/>
            <a:chOff x="122400" y="6297480"/>
            <a:chExt cx="2004840" cy="420840"/>
          </a:xfrm>
        </p:grpSpPr>
        <p:pic>
          <p:nvPicPr>
            <p:cNvPr id="644" name="Скругленный 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122400" y="6297480"/>
              <a:ext cx="200484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5" name=""/>
            <p:cNvSpPr/>
            <p:nvPr/>
          </p:nvSpPr>
          <p:spPr>
            <a:xfrm>
              <a:off x="203040" y="6375240"/>
              <a:ext cx="184500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Прямоугольник 2" descr=""/>
          <p:cNvPicPr/>
          <p:nvPr/>
        </p:nvPicPr>
        <p:blipFill>
          <a:blip r:embed="rId1"/>
          <a:stretch/>
        </p:blipFill>
        <p:spPr>
          <a:xfrm>
            <a:off x="609480" y="396720"/>
            <a:ext cx="7705800" cy="3297240"/>
          </a:xfrm>
          <a:prstGeom prst="rect">
            <a:avLst/>
          </a:prstGeom>
          <a:ln w="0">
            <a:noFill/>
          </a:ln>
        </p:spPr>
      </p:pic>
      <p:grpSp>
        <p:nvGrpSpPr>
          <p:cNvPr id="647" name="Скругленный прямоугольник 3"/>
          <p:cNvGrpSpPr/>
          <p:nvPr/>
        </p:nvGrpSpPr>
        <p:grpSpPr>
          <a:xfrm>
            <a:off x="122400" y="6321600"/>
            <a:ext cx="2004840" cy="426960"/>
            <a:chOff x="122400" y="6321600"/>
            <a:chExt cx="2004840" cy="426960"/>
          </a:xfrm>
        </p:grpSpPr>
        <p:pic>
          <p:nvPicPr>
            <p:cNvPr id="648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122400" y="6321600"/>
              <a:ext cx="200484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9" name=""/>
            <p:cNvSpPr/>
            <p:nvPr/>
          </p:nvSpPr>
          <p:spPr>
            <a:xfrm>
              <a:off x="203040" y="6405480"/>
              <a:ext cx="184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50" name="Дата 1"/>
          <p:cNvSpPr/>
          <p:nvPr/>
        </p:nvSpPr>
        <p:spPr>
          <a:xfrm>
            <a:off x="189000" y="63277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79F85-2252-4072-B7D8-3D714C77536C}" type="datetime">
              <a:rPr b="0" lang="ru-RU" sz="1200" spc="-1" strike="noStrike">
                <a:solidFill>
                  <a:srgbClr val="ffffff"/>
                </a:solidFill>
                <a:latin typeface="Tahom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Прямая соединительная линия 5"/>
          <p:cNvSpPr/>
          <p:nvPr/>
        </p:nvSpPr>
        <p:spPr>
          <a:xfrm>
            <a:off x="2187720" y="5732640"/>
            <a:ext cx="45352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Прямая соединительная линия 7"/>
          <p:cNvSpPr/>
          <p:nvPr/>
        </p:nvSpPr>
        <p:spPr>
          <a:xfrm>
            <a:off x="4284720" y="3716280"/>
            <a:ext cx="0" cy="267516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653" name="Прямая со стрелкой 10"/>
          <p:cNvCxnSpPr/>
          <p:nvPr/>
        </p:nvCxnSpPr>
        <p:spPr>
          <a:xfrm>
            <a:off x="4284360" y="4292640"/>
            <a:ext cx="1080" cy="1440360"/>
          </a:xfrm>
          <a:prstGeom prst="straightConnector1">
            <a:avLst/>
          </a:prstGeom>
          <a:ln w="38160">
            <a:solidFill>
              <a:srgbClr val="cc3300"/>
            </a:solidFill>
            <a:miter/>
            <a:headEnd len="med" type="oval" w="med"/>
            <a:tailEnd len="med" type="oval" w="med"/>
          </a:ln>
        </p:spPr>
      </p:cxnSp>
      <p:sp>
        <p:nvSpPr>
          <p:cNvPr id="654" name="TextBox 11"/>
          <p:cNvSpPr/>
          <p:nvPr/>
        </p:nvSpPr>
        <p:spPr>
          <a:xfrm>
            <a:off x="2087640" y="5272200"/>
            <a:ext cx="3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TextBox 12"/>
          <p:cNvSpPr/>
          <p:nvPr/>
        </p:nvSpPr>
        <p:spPr>
          <a:xfrm>
            <a:off x="4464000" y="3524400"/>
            <a:ext cx="3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TextBox 13"/>
          <p:cNvSpPr/>
          <p:nvPr/>
        </p:nvSpPr>
        <p:spPr>
          <a:xfrm>
            <a:off x="3851280" y="406224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TextBox 14"/>
          <p:cNvSpPr/>
          <p:nvPr/>
        </p:nvSpPr>
        <p:spPr>
          <a:xfrm>
            <a:off x="3851280" y="575640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58" name="Скругленный прямоугольник 15"/>
          <p:cNvGrpSpPr/>
          <p:nvPr/>
        </p:nvGrpSpPr>
        <p:grpSpPr>
          <a:xfrm>
            <a:off x="274680" y="6473880"/>
            <a:ext cx="2004840" cy="426960"/>
            <a:chOff x="274680" y="6473880"/>
            <a:chExt cx="2004840" cy="426960"/>
          </a:xfrm>
        </p:grpSpPr>
        <p:pic>
          <p:nvPicPr>
            <p:cNvPr id="659" name="Скругленный прямоугольник 15" descr=""/>
            <p:cNvPicPr/>
            <p:nvPr/>
          </p:nvPicPr>
          <p:blipFill>
            <a:blip r:embed="rId3"/>
            <a:stretch/>
          </p:blipFill>
          <p:spPr>
            <a:xfrm>
              <a:off x="274680" y="6473880"/>
              <a:ext cx="200484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0" name=""/>
            <p:cNvSpPr/>
            <p:nvPr/>
          </p:nvSpPr>
          <p:spPr>
            <a:xfrm>
              <a:off x="355680" y="6558120"/>
              <a:ext cx="1844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slow">
    <p:split dir="out" orient="vert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1" name="Скругленный прямоугольник 2"/>
          <p:cNvGrpSpPr/>
          <p:nvPr/>
        </p:nvGrpSpPr>
        <p:grpSpPr>
          <a:xfrm>
            <a:off x="122400" y="6297480"/>
            <a:ext cx="2004840" cy="420840"/>
            <a:chOff x="122400" y="6297480"/>
            <a:chExt cx="2004840" cy="420840"/>
          </a:xfrm>
        </p:grpSpPr>
        <p:pic>
          <p:nvPicPr>
            <p:cNvPr id="662" name="Скругленный 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122400" y="6297480"/>
              <a:ext cx="200484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3" name=""/>
            <p:cNvSpPr/>
            <p:nvPr/>
          </p:nvSpPr>
          <p:spPr>
            <a:xfrm>
              <a:off x="203040" y="6375240"/>
              <a:ext cx="184500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64" name="Дата 1"/>
          <p:cNvSpPr/>
          <p:nvPr/>
        </p:nvSpPr>
        <p:spPr>
          <a:xfrm>
            <a:off x="189000" y="63230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F997D-406B-46DA-BAEF-ACE2FE3EA112}" type="datetime">
              <a:rPr b="0" lang="ru-RU" sz="1200" spc="-1" strike="noStrike">
                <a:solidFill>
                  <a:srgbClr val="ffffff"/>
                </a:solidFill>
                <a:latin typeface="Tahom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65" name="TextBox 3" descr=""/>
          <p:cNvPicPr/>
          <p:nvPr/>
        </p:nvPicPr>
        <p:blipFill>
          <a:blip r:embed="rId2"/>
          <a:stretch/>
        </p:blipFill>
        <p:spPr>
          <a:xfrm>
            <a:off x="476280" y="1633680"/>
            <a:ext cx="7405560" cy="1317600"/>
          </a:xfrm>
          <a:prstGeom prst="rect">
            <a:avLst/>
          </a:prstGeom>
          <a:ln w="0">
            <a:noFill/>
          </a:ln>
        </p:spPr>
      </p:pic>
      <p:pic>
        <p:nvPicPr>
          <p:cNvPr id="666" name="Рисунок 4" descr=""/>
          <p:cNvPicPr/>
          <p:nvPr/>
        </p:nvPicPr>
        <p:blipFill>
          <a:blip r:embed="rId3"/>
          <a:stretch/>
        </p:blipFill>
        <p:spPr>
          <a:xfrm>
            <a:off x="339840" y="3147840"/>
            <a:ext cx="1571400" cy="1368720"/>
          </a:xfrm>
          <a:prstGeom prst="rect">
            <a:avLst/>
          </a:prstGeom>
          <a:ln w="0">
            <a:noFill/>
          </a:ln>
        </p:spPr>
      </p:pic>
      <p:pic>
        <p:nvPicPr>
          <p:cNvPr id="667" name="Рисунок 5" descr=""/>
          <p:cNvPicPr/>
          <p:nvPr/>
        </p:nvPicPr>
        <p:blipFill>
          <a:blip r:embed="rId4"/>
          <a:stretch/>
        </p:blipFill>
        <p:spPr>
          <a:xfrm>
            <a:off x="3132000" y="2997360"/>
            <a:ext cx="2017800" cy="1252440"/>
          </a:xfrm>
          <a:prstGeom prst="rect">
            <a:avLst/>
          </a:prstGeom>
          <a:ln w="0">
            <a:noFill/>
          </a:ln>
        </p:spPr>
      </p:pic>
      <p:pic>
        <p:nvPicPr>
          <p:cNvPr id="668" name="Рисунок 6" descr=""/>
          <p:cNvPicPr/>
          <p:nvPr/>
        </p:nvPicPr>
        <p:blipFill>
          <a:blip r:embed="rId5"/>
          <a:stretch/>
        </p:blipFill>
        <p:spPr>
          <a:xfrm>
            <a:off x="6588000" y="2224080"/>
            <a:ext cx="1513080" cy="22924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0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TextBox 2" descr=""/>
          <p:cNvPicPr/>
          <p:nvPr/>
        </p:nvPicPr>
        <p:blipFill>
          <a:blip r:embed="rId1"/>
          <a:stretch/>
        </p:blipFill>
        <p:spPr>
          <a:xfrm>
            <a:off x="609480" y="622440"/>
            <a:ext cx="7132680" cy="1815840"/>
          </a:xfrm>
          <a:prstGeom prst="rect">
            <a:avLst/>
          </a:prstGeom>
          <a:ln w="0">
            <a:noFill/>
          </a:ln>
        </p:spPr>
      </p:pic>
      <p:pic>
        <p:nvPicPr>
          <p:cNvPr id="670" name="TextBox 3" descr=""/>
          <p:cNvPicPr/>
          <p:nvPr/>
        </p:nvPicPr>
        <p:blipFill>
          <a:blip r:embed="rId2"/>
          <a:stretch/>
        </p:blipFill>
        <p:spPr>
          <a:xfrm>
            <a:off x="433440" y="2895480"/>
            <a:ext cx="8223120" cy="2378160"/>
          </a:xfrm>
          <a:prstGeom prst="rect">
            <a:avLst/>
          </a:prstGeom>
          <a:ln w="0">
            <a:noFill/>
          </a:ln>
        </p:spPr>
      </p:pic>
      <p:grpSp>
        <p:nvGrpSpPr>
          <p:cNvPr id="671" name="Скругленный прямоугольник 4"/>
          <p:cNvGrpSpPr/>
          <p:nvPr/>
        </p:nvGrpSpPr>
        <p:grpSpPr>
          <a:xfrm>
            <a:off x="122400" y="6297480"/>
            <a:ext cx="2004840" cy="420840"/>
            <a:chOff x="122400" y="6297480"/>
            <a:chExt cx="2004840" cy="420840"/>
          </a:xfrm>
        </p:grpSpPr>
        <p:pic>
          <p:nvPicPr>
            <p:cNvPr id="672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122400" y="6297480"/>
              <a:ext cx="200484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"/>
            <p:cNvSpPr/>
            <p:nvPr/>
          </p:nvSpPr>
          <p:spPr>
            <a:xfrm>
              <a:off x="203040" y="6375240"/>
              <a:ext cx="184500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74" name="Дата 1"/>
          <p:cNvSpPr/>
          <p:nvPr/>
        </p:nvSpPr>
        <p:spPr>
          <a:xfrm>
            <a:off x="189000" y="629928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3D72-560C-4972-A63B-832E0515E30A}" type="datetime">
              <a:rPr b="0" lang="ru-RU" sz="1200" spc="-1" strike="noStrike">
                <a:solidFill>
                  <a:srgbClr val="ffffff"/>
                </a:solidFill>
                <a:latin typeface="Tahom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7T16:49:11Z</dcterms:created>
  <dc:creator>1</dc:creator>
  <dc:description/>
  <dc:language>en-US</dc:language>
  <cp:lastModifiedBy>Светлана</cp:lastModifiedBy>
  <dcterms:modified xsi:type="dcterms:W3CDTF">2011-12-09T23:25:04Z</dcterms:modified>
  <cp:revision>42</cp:revision>
  <dc:subject/>
  <dc:title>Слайд 1</dc:title>
</cp:coreProperties>
</file>