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media/image7.wmf" ContentType="image/x-wmf"/>
  <Override PartName="/ppt/media/image10.jpeg" ContentType="image/jpeg"/>
  <Override PartName="/ppt/media/image8.jpeg" ContentType="image/jpeg"/>
  <Override PartName="/ppt/media/image1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ADF5-8116-4EA1-AFC0-D18B5F49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9605-AB6C-4A5A-BAEE-040DA592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5748-6DA4-4005-BA1C-5566D62E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776B-8820-4BDE-BB55-E3DF4386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BF2-741F-4890-92D0-43E191ED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7D59-E138-4C17-93F5-1D787AD4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F942-BECA-4128-9157-7EA1CDDC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E4A8-E197-425B-AA0C-112541A3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C419-D82A-4954-AA52-538131C5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0BA5-B820-48B5-89E9-21AF49DF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023A-B367-48E7-9EDF-4533FB18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D4E-D7FD-4863-B5AA-1DAC3CC3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3354-1382-4D5F-AB4B-51280CB6C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Comic Sans MS"/>
              </a:rPr>
              <a:t>Школа –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Comic Sans MS"/>
              </a:rPr>
              <a:t>территория детств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51280" y="4941720"/>
            <a:ext cx="5041800" cy="17272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4360" y="5084640"/>
            <a:ext cx="5040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Проект подготовлен группой 4 «б»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МОУ СОШ №1 п. Фал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Руководитель: Е.В. Гребн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200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Центральный щ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484280"/>
            <a:ext cx="2879640" cy="4608720"/>
          </a:xfrm>
          <a:custGeom>
            <a:avLst/>
            <a:gdLst>
              <a:gd name="textAreaLeft" fmla="*/ 448200 w 2879640"/>
              <a:gd name="textAreaRight" fmla="*/ 2431440 w 2879640"/>
              <a:gd name="textAreaTop" fmla="*/ 717480 h 4608720"/>
              <a:gd name="textAreaBottom" fmla="*/ 3891240 h 46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696" y="21600"/>
                </a:lnTo>
                <a:lnTo>
                  <a:pt x="2904" y="21600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58920" y="1628640"/>
            <a:ext cx="187308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школ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территория дет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07920"/>
            <a:ext cx="1440000" cy="1224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27640" y="1484280"/>
            <a:ext cx="4103640" cy="36734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24360" y="1125360"/>
            <a:ext cx="2387520" cy="2664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5292720" y="2133720"/>
            <a:ext cx="316692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trip"/>
              </a:rPr>
              <a:t>территория детства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trip"/>
              <a:ea typeface="Comic Strip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157720"/>
            <a:ext cx="142920" cy="936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17080" y="5157720"/>
            <a:ext cx="144360" cy="863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40360" y="1557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Школа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Озеле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брать разросшиеся ку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овнять площад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адить кусты сир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умба-бордю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иной 75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шириной 30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доль всей асфальтовой дорож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Тротуар с новым асфальтовым покрытием длиной 10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64000" y="1268280"/>
            <a:ext cx="35481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Предлагаем план учас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– скам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– кач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- качалка-баланс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– щ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713800" cy="367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1116000" y="2133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51640" y="2133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32000" y="206064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7236000" y="2060640"/>
            <a:ext cx="288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8636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1989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419640" y="20602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5795640" y="20602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2708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5440" y="184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35280" y="29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ум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3640" y="407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сфальтовая доро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Итоги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Разработали план площадки для отды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Работая над проектом, мы училис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тать карту местности и сопоставлять ее с реальной обстанов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чтать, критически оценивать ид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стаивать в споре свою точку зрения и принимать чуж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кать информацию, обращаясь к опыту родителей, справочникам, ресурсам Интер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566100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Территория нашей школы-</a:t>
            </a:r>
            <a:r>
              <a:rPr b="0" lang="en-US" sz="4400" spc="-1" strike="noStrike">
                <a:solidFill>
                  <a:srgbClr val="ff3300"/>
                </a:solidFill>
                <a:latin typeface="Arial Black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какая о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316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0 прилагательны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52720" y="2201760"/>
          <a:ext cx="5300640" cy="418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2720" y="2201760"/>
                    <a:ext cx="530064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611280" y="2276640"/>
            <a:ext cx="266544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я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ю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у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ра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ог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р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ум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доб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и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еле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спол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сто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Письмо директору шко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дравствуйте, Сергей Георгиевич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 - _______________, закончил(а) школу ___ лет наз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радостью посмотрел(а ) сюжет о нашей школе по центральн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евидению. Как все изменилос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, конечно, красивая меч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 давайте вместе начнем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27640" y="3500280"/>
            <a:ext cx="449892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Определение 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ая терри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удобная спортивная площ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сутствие мест для отды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большое количество деревьев и цв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усор, приносимый с других террито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59280" y="3554280"/>
            <a:ext cx="403380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Банк ид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оянка для велосипе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уба кочегарки – макет рак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имой – горка, летом- альпийская гор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на месте мастерск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амейки вокруг спортивной площ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ккейная короб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утбольное поле с ворот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поперек – 2 площадки для баскетбола (2 пары колец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оянная трасса с препятствиями для велого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усты сирени вдоль заб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еседка со столи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ле огорода для чайной пау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по ул. Воробье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12000" y="1413000"/>
            <a:ext cx="2987640" cy="2436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35640" y="4581360"/>
            <a:ext cx="3522600" cy="21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Выбор объ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Цель: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разработка плана благоустройства и 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    озеленения участка школьного д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сследовать местность школьного двора, выбрать объ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брать элементы игрового комплекса и разместить их на пл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ределить вид клумб, подобрать цветочные куль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81200" y="5084640"/>
            <a:ext cx="70308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можешь сразу - сделай по частям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Игровой комплек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чели двухмест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шт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чалка-балансир,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сотой 50-7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076720" y="1268280"/>
            <a:ext cx="3727440" cy="2795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3600360" cy="3311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0" y="5734080"/>
            <a:ext cx="3168720" cy="287280"/>
          </a:xfrm>
          <a:prstGeom prst="rect">
            <a:avLst/>
          </a:prstGeom>
          <a:solidFill>
            <a:srgbClr val="27fd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60213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43640" y="6237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572000" y="6237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Скамей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амейка-уголок деревян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 спинко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шт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564000" y="3070080"/>
            <a:ext cx="5327640" cy="3543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9640" y="3716280"/>
            <a:ext cx="289080" cy="2571840"/>
          </a:xfrm>
          <a:prstGeom prst="rect">
            <a:avLst/>
          </a:prstGeom>
          <a:solidFill>
            <a:srgbClr val="27fd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3716280"/>
            <a:ext cx="1368720" cy="287280"/>
          </a:xfrm>
          <a:prstGeom prst="rect">
            <a:avLst/>
          </a:prstGeom>
          <a:solidFill>
            <a:srgbClr val="27fd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7280" y="40053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5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0760" y="503244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300720" y="333360"/>
            <a:ext cx="2590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2:11:38Z</dcterms:created>
  <dc:creator>Станислав</dc:creator>
  <dc:description/>
  <dc:language>en-US</dc:language>
  <cp:lastModifiedBy>Станислав</cp:lastModifiedBy>
  <dcterms:modified xsi:type="dcterms:W3CDTF">2009-02-04T17:59:25Z</dcterms:modified>
  <cp:revision>5</cp:revision>
  <dc:subject/>
  <dc:title>Слайд 1</dc:title>
</cp:coreProperties>
</file>