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487-80E2-4063-91E2-AFAED5EC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CE2-3777-4756-BC3D-3870656D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F5F-C693-4C48-93DD-975AEA92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041-D7B6-4C60-B559-297BE424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C67-D7CB-4D14-A2FC-21C1055E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AB9-CF4A-423F-90C9-4630253D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12B-8927-4DE0-AF0B-FD54A013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971-8B11-4FC0-BA5E-98C29896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241-B593-4DE9-99F9-B8654C6B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146-D53B-401F-881D-AA63C02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00D-251C-4967-AEF1-80B4CAB2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182-BA95-4373-80F5-F6FAB267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494E-290F-4866-A9B5-F97DD09FB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Школа 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территория детст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4941720"/>
            <a:ext cx="5041800" cy="1727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5084640"/>
            <a:ext cx="504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роект подготовлен группой 4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МОУ СОШ №1 п. Фал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Руководитель: Е.В. Греб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Центральный щ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484280"/>
            <a:ext cx="2879640" cy="4608720"/>
          </a:xfrm>
          <a:custGeom>
            <a:avLst/>
            <a:gdLst>
              <a:gd name="textAreaLeft" fmla="*/ 448200 w 2879640"/>
              <a:gd name="textAreaRight" fmla="*/ 2431440 w 2879640"/>
              <a:gd name="textAreaTop" fmla="*/ 717480 h 4608720"/>
              <a:gd name="textAreaBottom" fmla="*/ 38912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96" y="21600"/>
                </a:lnTo>
                <a:lnTo>
                  <a:pt x="2904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1628640"/>
            <a:ext cx="1873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школ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территория де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07920"/>
            <a:ext cx="1440000" cy="1224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1484280"/>
            <a:ext cx="4103640" cy="3673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238752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292720" y="2133720"/>
            <a:ext cx="31669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trip"/>
              </a:rPr>
              <a:t>территория детств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trip"/>
              <a:ea typeface="Comic Strip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157720"/>
            <a:ext cx="142920" cy="936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17080" y="5157720"/>
            <a:ext cx="144360" cy="863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Школ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Озел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рать разросшиеся ку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овнять площ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адить кусты сир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умба-бордю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ой 7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шириной 3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доль всей асфальтовой дорож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Тротуар с новым асфальтовым покрытием длиной 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5481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редлагаем план учас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скам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– кач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 качалка-баланс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– щ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116000" y="21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51640" y="21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32000" y="2060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236000" y="20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8636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989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19640" y="2060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795640" y="2060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5440" y="18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29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ум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407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фальтов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Итог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Разработали план площадки для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Работая над проектом, мы учили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 карту местности и сопоставлять ее с реальной обстан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чтать, критически оценивать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таивать в споре свою точку зрения и принимать чуж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ать информацию, обращаясь к опыту родителей, справочникам, ресурсам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566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Территория нашей школы-</a:t>
            </a: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какая о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0 прилагатель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52720" y="2201760"/>
          <a:ext cx="5300640" cy="41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2201760"/>
                    <a:ext cx="530064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11280" y="2276640"/>
            <a:ext cx="26654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я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ю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ра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г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р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ум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ле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спол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исьмо директору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равствуйте, Сергей Георгиевич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- _______________, закончил(а) школу ___ лет 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радостью посмотрел(а ) сюжет о нашей школе по центра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евидению. Как все изменило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, конечно, красивая меч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давайте вместе начнем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3500280"/>
            <a:ext cx="44989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Определен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ая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добная спортивная площ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утствие мест для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большое количество деревьев и ц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сор, приносимый с других террит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9280" y="3554280"/>
            <a:ext cx="403380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Банк и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янка для велосипе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ба кочегарки – макет рак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ой – горка, летом- альпийская го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а месте мастерск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амейки вокруг спортивной площ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ккейная коро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тбольное поле с ворот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поперек – 2 площадки для баскетбола (2 пары коле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ая трасса с препятствиями для вело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сты сирени вдоль за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седка со стол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ле огорода для чайной пау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по ул. Воробь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12000" y="1413000"/>
            <a:ext cx="298764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35640" y="4581360"/>
            <a:ext cx="352260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ыбор объ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разработка плана благоустройства и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озеленения участка школьного д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следовать местность школьного двора, выбрать объ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брать элементы игрового комплекса и разместить их на пл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еделить вид клумб, подобрать цветочные куль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1200" y="5084640"/>
            <a:ext cx="7030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можешь сразу - сделай по частям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гровой компле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чели двухмес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шт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чалка-балансир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той 50-7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727440" cy="279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3600360" cy="3311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5734080"/>
            <a:ext cx="3168720" cy="287280"/>
          </a:xfrm>
          <a:prstGeom prst="rect">
            <a:avLst/>
          </a:prstGeom>
          <a:solidFill>
            <a:srgbClr val="27fd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021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623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572000" y="6237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кам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амейка-уголок деревян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 спинк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шт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64000" y="3070080"/>
            <a:ext cx="5327640" cy="3543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3716280"/>
            <a:ext cx="289080" cy="2571840"/>
          </a:xfrm>
          <a:prstGeom prst="rect">
            <a:avLst/>
          </a:prstGeom>
          <a:solidFill>
            <a:srgbClr val="27fd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3716280"/>
            <a:ext cx="1368720" cy="287280"/>
          </a:xfrm>
          <a:prstGeom prst="rect">
            <a:avLst/>
          </a:prstGeom>
          <a:solidFill>
            <a:srgbClr val="27fd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005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503244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11:38Z</dcterms:created>
  <dc:creator>Станислав</dc:creator>
  <dc:description/>
  <dc:language>en-US</dc:language>
  <cp:lastModifiedBy>Станислав</cp:lastModifiedBy>
  <dcterms:modified xsi:type="dcterms:W3CDTF">2009-02-04T17:59:25Z</dcterms:modified>
  <cp:revision>5</cp:revision>
  <dc:subject/>
  <dc:title>Слайд 1</dc:title>
</cp:coreProperties>
</file>