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47A-803A-4D53-93A8-42A9068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F56-B4A8-426E-8A04-D624B7D7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AB8-BF10-44FD-A3AB-6AAFC5EF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4B5-D954-4880-812C-B12FC13B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E2E7-FA9D-4FC5-A40B-26BB6FFC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76D-8385-4BBA-A922-DB1D7F51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ADB-F2CE-4C94-B3F5-C2C924B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E1E-18BA-4C6F-AC9E-F751C336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3D9A-5ABD-463E-85C6-CAA5BB9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F156-43EB-4FF1-B7D3-82A559B0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354-BEC8-4BA5-854B-E9D5E09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CC1-0A51-45DC-BEF0-560F16A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9A5-5569-48EC-AFA4-BE330CF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4C8-B48E-47DE-ABAB-0B422E0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77E-B1BD-4F40-ABB1-94A17284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9D62-9CC0-4C74-9AF8-391E455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8BA-7A5D-43FF-9B58-7047CD68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B3A-F819-46A2-8D83-98512F6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6F8-08EB-42C2-860E-91B59F2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06E-045F-40ED-B720-6F32593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E37-8510-4A27-A5AB-CBF4AF1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72E-363A-46EA-9C33-A19C9AE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CD3-526D-463C-BEEC-25348A1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8FC-01BC-444A-A3DA-E9262E7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FFD7-00B4-45C5-9C91-A24C9AC8B4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DF5-858B-410E-BC61-953B5B7F0B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96720" y="1628640"/>
            <a:ext cx="986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«В мире друзей»</a:t>
            </a: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0526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1320" y="6180120"/>
            <a:ext cx="56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Автор проекта: Александрова Наталья Ад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141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Verdana"/>
              </a:rPr>
              <a:t>(для детей старшей логопедической групп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1052640"/>
            <a:ext cx="763272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052640"/>
          <a:ext cx="7632720" cy="4014720"/>
        </p:xfrm>
        <a:graphic>
          <a:graphicData uri="http://schemas.openxmlformats.org/drawingml/2006/table">
            <a:tbl>
              <a:tblPr/>
              <a:tblGrid>
                <a:gridCol w="1725480"/>
                <a:gridCol w="2345040"/>
                <a:gridCol w="35622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ьно-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скур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южетно-ролев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атрализован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озяйственно-быт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чной 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з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се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529080" cy="27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64000" y="3789360"/>
            <a:ext cx="3529080" cy="26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0920" y="1341360"/>
            <a:ext cx="489744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1052640"/>
            <a:ext cx="770436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00000" y="1052640"/>
          <a:ext cx="7704360" cy="4248000"/>
        </p:xfrm>
        <a:graphic>
          <a:graphicData uri="http://schemas.openxmlformats.org/drawingml/2006/table">
            <a:tbl>
              <a:tblPr/>
              <a:tblGrid>
                <a:gridCol w="2239920"/>
                <a:gridCol w="2752920"/>
                <a:gridCol w="271152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удожественное 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уктивная деятельнос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ыкаль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ние пе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43692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08360" cy="30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640" y="1197000"/>
            <a:ext cx="777708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197000"/>
          <a:ext cx="7777080" cy="3938400"/>
        </p:xfrm>
        <a:graphic>
          <a:graphicData uri="http://schemas.openxmlformats.org/drawingml/2006/table">
            <a:tbl>
              <a:tblPr/>
              <a:tblGrid>
                <a:gridCol w="1752480"/>
                <a:gridCol w="2424240"/>
                <a:gridCol w="3600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иж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культ мин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намические пауз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96072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3210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98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Создание условий для самостоя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деятель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760" y="1989000"/>
            <a:ext cx="60688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музыкально-театр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8800" y="62064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Взаимодействие с семьё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6320" y="1052640"/>
            <a:ext cx="10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7120" y="2492280"/>
            <a:ext cx="50162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Формы работы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вместные досуги, 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день открытых 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ыпуск 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428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Активизация и обогащение воспитательных умений родителей, поддержание их уверенности в собственных педагогических возмож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981000"/>
            <a:ext cx="6481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формирование общего и речевого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развитие общей и мелкой мотор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овышение педагогической компетент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развитие творческой инициат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использование широкой вариативности в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в выборе форм и мет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773360"/>
            <a:ext cx="633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«Научитесь любить и поним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и рядом с вами всегда будут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148428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Дружба – главное чудо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Сто открытий для нас всех таящ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И любая беда – не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Если рядом друзья настоящи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3600" y="36450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Verdana"/>
              </a:rPr>
              <a:t>В.Н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197000"/>
            <a:ext cx="61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Дошкольное детство – важнейший период    в нравственном  становлен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</a:rPr>
              <a:t>Составляющие полноценно развитой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умение об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строить и поддерживать друж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заим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сотрудничать и сосуществовать с люд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052640"/>
            <a:ext cx="626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облема воспитания дружеских взаимоотношений обусловлена следующими причи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овышенной восприимчивостью к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социальным воздейст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особенностью 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вычками нравственного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сложностью деятельного процесс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125360"/>
            <a:ext cx="7416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645000"/>
            <a:ext cx="7777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4640"/>
            <a:ext cx="25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197000"/>
            <a:ext cx="73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пределение условий, системы, методов и приёмов работы с детьми старшего дошкольного возраста с ОНР, которые обеспечивали бы и восполнение пробелов в формировании дружеских взаимоотношений, и преодоление речевого недо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7080" y="30193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645000"/>
            <a:ext cx="794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изучить и проанализировать специальную лит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овести обследова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наметить основные направления, методы и 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разработать план работы и реализовать его в пед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пределить механизм взаимодействия воспитателей 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логопедом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765000"/>
            <a:ext cx="72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Гипотеза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овышение эффективности работы по формированию дружеских взаимоотношений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будет более успешным, ес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еспечить организацию совмест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оспитателей и логопеда с учётом специф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става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здать оптимальные условия для благоприя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сихологического микроклим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ивлечь родителей к воспитательно-образовате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оцес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2492280"/>
            <a:ext cx="6553080" cy="27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89000"/>
            <a:ext cx="93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Планирование работы по теме: «В мире друзей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92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25360"/>
            <a:ext cx="84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Формирование и стимуляция мотивированного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детей к дружеским чув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400" y="18446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92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общить и систематизировать 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огатить и активизировать 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учить видеть, понимать, оценивать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и поступк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развивать умение в продуктивной и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идах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формировать дружеские взаимо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оспитывать культуру межличност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1197000"/>
            <a:ext cx="78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2602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Виды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197000"/>
          <a:ext cx="7848360" cy="5062680"/>
        </p:xfrm>
        <a:graphic>
          <a:graphicData uri="http://schemas.openxmlformats.org/drawingml/2006/table">
            <a:tbl>
              <a:tblPr/>
              <a:tblGrid>
                <a:gridCol w="1944720"/>
                <a:gridCol w="2592360"/>
                <a:gridCol w="3311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о-речев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бодное об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информации для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ка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учивание стихов, пословиц, поговорок, считалок, скороговорок, чистогово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матр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, познавательно-речевые, пальчиков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ЭМ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художественной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тихотворений, рассказов и сказ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392360" cy="30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4608360" cy="31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7:04:14Z</dcterms:created>
  <dc:creator>user</dc:creator>
  <dc:description/>
  <dc:language>en-US</dc:language>
  <cp:lastModifiedBy>user</cp:lastModifiedBy>
  <dcterms:modified xsi:type="dcterms:W3CDTF">2011-12-01T19:37:32Z</dcterms:modified>
  <cp:revision>12</cp:revision>
  <dc:subject/>
  <dc:title>Слайд 1</dc:title>
</cp:coreProperties>
</file>