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BE08C-3FD9-4EC8-8D61-07AA1EF11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96C87-6982-4A15-9DFC-1B6E8B384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26015-751E-4E27-84A5-DEB295B58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B46ED-9ACD-4162-913F-69215C712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6FB16-BA1F-42C9-93AB-98D898A3B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5C62E-2DBE-44C5-8AE1-63EA6842F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5869B-9549-4DFA-997B-FD1A49AA5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A302E-A2F3-4894-81D1-F799C34DF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4B889-6109-4445-A37A-22FC6E30C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11D53-4899-479D-880D-F2035E4F1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B1E27-1320-4D10-99D8-195A0B5A4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8DD09-D8CE-449C-B086-2F02FBAAA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A00B5-5158-4491-91DC-ECC8BEABC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30C83-70FA-46D6-89E5-4BBF1D58F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B8E9F-40E4-4C7D-AB5B-E5DF017A2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FB70C-CBEB-4C6D-B213-642331D3C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C381C-B5C8-4F6F-8FA4-5602582EA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7E7CC-AD47-4E61-8F73-A9A4E0FA5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8D4CC-1AFC-493F-9B7F-4BCD1F2F2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58697-4942-4A55-9DCE-D0EF02E07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1CBF8-4557-4DB1-A3BF-6EE3F907C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53174-68A4-4D1F-A37C-6DD45B3C4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3BF7C-335D-40B3-BA5B-35EBC27CD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5BA7D-5B54-4659-BD1E-9C5B36D1D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D9AC8-BC49-42CA-968C-809F70870BD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2C9DF-6726-4E60-8752-0A94D91EE5D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-396720" y="1628640"/>
            <a:ext cx="986472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6666"/>
                </a:solidFill>
                <a:latin typeface="Arial"/>
              </a:rPr>
              <a:t>   </a:t>
            </a:r>
            <a:r>
              <a:rPr b="0" lang="en-US" sz="6000" spc="-1" strike="noStrike">
                <a:solidFill>
                  <a:srgbClr val="006666"/>
                </a:solidFill>
                <a:latin typeface="Arial"/>
              </a:rPr>
              <a:t>«В мире друзей»</a:t>
            </a:r>
            <a:r>
              <a:rPr b="0" lang="en-US" sz="6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6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971640" y="1052640"/>
            <a:ext cx="3313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66"/>
                </a:solidFill>
                <a:latin typeface="Verdana"/>
              </a:rPr>
              <a:t>Проек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61320" y="6180120"/>
            <a:ext cx="567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6666"/>
                </a:solidFill>
                <a:latin typeface="Verdana"/>
              </a:rPr>
              <a:t>Автор проекта: Александрова Наталья Адам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39640" y="3141720"/>
            <a:ext cx="594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6666"/>
                </a:solidFill>
                <a:latin typeface="Verdana"/>
              </a:rPr>
              <a:t>(для детей старшей логопедической группы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755640" y="1052640"/>
            <a:ext cx="7632720" cy="40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755640" y="1052640"/>
          <a:ext cx="7632720" cy="4014720"/>
        </p:xfrm>
        <a:graphic>
          <a:graphicData uri="http://schemas.openxmlformats.org/drawingml/2006/table">
            <a:tbl>
              <a:tblPr/>
              <a:tblGrid>
                <a:gridCol w="1725480"/>
                <a:gridCol w="2345040"/>
                <a:gridCol w="3562200"/>
              </a:tblGrid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Направл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Образовательные обла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Формы рабо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836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оциально-личностное развит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оциализац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Экскурс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южетно-ролевая игр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Театрализованные игр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Труд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Хозяйственно-бытово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Ручной тру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8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Безопасность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Беседа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Дидактическая игр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5435640" y="333360"/>
            <a:ext cx="3529080" cy="2736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5364000" y="3789360"/>
            <a:ext cx="3529080" cy="2682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250920" y="1341360"/>
            <a:ext cx="4897440" cy="3044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900000" y="1052640"/>
            <a:ext cx="7704360" cy="424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900000" y="1052640"/>
          <a:ext cx="7704360" cy="4248000"/>
        </p:xfrm>
        <a:graphic>
          <a:graphicData uri="http://schemas.openxmlformats.org/drawingml/2006/table">
            <a:tbl>
              <a:tblPr/>
              <a:tblGrid>
                <a:gridCol w="2239920"/>
                <a:gridCol w="2752920"/>
                <a:gridCol w="2711520"/>
              </a:tblGrid>
              <a:tr h="77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Направл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Образовательные обла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Формы рабо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397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Художественно-эстетическое развит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Художественное творчеств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родуктивная деятельность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Леп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Рисова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Аппликац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32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Музы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Музыкальные игр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лушание песе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395280" y="1052640"/>
            <a:ext cx="3436920" cy="468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4140360" y="1916280"/>
            <a:ext cx="4608360" cy="3090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755640" y="1197000"/>
            <a:ext cx="7777080" cy="396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755640" y="1197000"/>
          <a:ext cx="7777080" cy="3938400"/>
        </p:xfrm>
        <a:graphic>
          <a:graphicData uri="http://schemas.openxmlformats.org/drawingml/2006/table">
            <a:tbl>
              <a:tblPr/>
              <a:tblGrid>
                <a:gridCol w="1752480"/>
                <a:gridCol w="2424240"/>
                <a:gridCol w="3600360"/>
              </a:tblGrid>
              <a:tr h="93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Направл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Образовательные обла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Формы рабо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01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Физическое развит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Физкультур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одвижные игр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1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Здоровь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Физкульт минут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Динамические паузы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250920" y="1052640"/>
            <a:ext cx="3960720" cy="4105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4572000" y="1052640"/>
            <a:ext cx="4321080" cy="4105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179280" y="981000"/>
            <a:ext cx="896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6666"/>
                </a:solidFill>
                <a:uFillTx/>
                <a:latin typeface="Verdana"/>
              </a:rPr>
              <a:t>Создание условий для самостоятельн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6666"/>
                </a:solidFill>
                <a:uFillTx/>
                <a:latin typeface="Verdana"/>
              </a:rPr>
              <a:t>деятельности дет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47760" y="1989000"/>
            <a:ext cx="6068880" cy="20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006666"/>
                </a:solidFill>
                <a:latin typeface="Verdana"/>
              </a:rPr>
              <a:t>Центр книг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006666"/>
                </a:solidFill>
                <a:latin typeface="Verdana"/>
              </a:rPr>
              <a:t>Центр сюжетно-ролевых иг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006666"/>
                </a:solidFill>
                <a:latin typeface="Verdana"/>
              </a:rPr>
              <a:t>Центр продуктивной деятель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006666"/>
                </a:solidFill>
                <a:latin typeface="Verdana"/>
              </a:rPr>
              <a:t>Центр музыкально-театральной деятель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98800" y="620640"/>
            <a:ext cx="442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6666"/>
                </a:solidFill>
                <a:uFillTx/>
                <a:latin typeface="Verdana"/>
              </a:rPr>
              <a:t>Взаимодействие с семьё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16320" y="1052640"/>
            <a:ext cx="1069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Verdana"/>
              </a:rPr>
              <a:t>Цель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347120" y="2492280"/>
            <a:ext cx="5016240" cy="27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Verdana"/>
              </a:rPr>
              <a:t>Формы работы с родителям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Verdana"/>
              </a:rPr>
              <a:t>  </a:t>
            </a:r>
            <a:r>
              <a:rPr b="1" lang="en-US" sz="1800" spc="-1" strike="noStrike">
                <a:solidFill>
                  <a:srgbClr val="006666"/>
                </a:solidFill>
                <a:latin typeface="Verdana"/>
              </a:rPr>
              <a:t>консульт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Verdana"/>
              </a:rPr>
              <a:t>  </a:t>
            </a:r>
            <a:r>
              <a:rPr b="1" lang="en-US" sz="1800" spc="-1" strike="noStrike">
                <a:solidFill>
                  <a:srgbClr val="006666"/>
                </a:solidFill>
                <a:latin typeface="Verdana"/>
              </a:rPr>
              <a:t>выстав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Verdana"/>
              </a:rPr>
              <a:t>  </a:t>
            </a:r>
            <a:r>
              <a:rPr b="1" lang="en-US" sz="1800" spc="-1" strike="noStrike">
                <a:solidFill>
                  <a:srgbClr val="006666"/>
                </a:solidFill>
                <a:latin typeface="Verdana"/>
              </a:rPr>
              <a:t>совместные досуги, праздн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Verdana"/>
              </a:rPr>
              <a:t>  </a:t>
            </a:r>
            <a:r>
              <a:rPr b="1" lang="en-US" sz="1800" spc="-1" strike="noStrike">
                <a:solidFill>
                  <a:srgbClr val="006666"/>
                </a:solidFill>
                <a:latin typeface="Verdana"/>
              </a:rPr>
              <a:t>день открытых двер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Verdana"/>
              </a:rPr>
              <a:t>  </a:t>
            </a:r>
            <a:r>
              <a:rPr b="1" lang="en-US" sz="1800" spc="-1" strike="noStrike">
                <a:solidFill>
                  <a:srgbClr val="006666"/>
                </a:solidFill>
                <a:latin typeface="Verdana"/>
              </a:rPr>
              <a:t>выпуск газе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Verdana"/>
              </a:rPr>
              <a:t>  </a:t>
            </a:r>
            <a:r>
              <a:rPr b="1" lang="en-US" sz="1800" spc="-1" strike="noStrike">
                <a:solidFill>
                  <a:srgbClr val="006666"/>
                </a:solidFill>
                <a:latin typeface="Verdana"/>
              </a:rPr>
              <a:t>конкурс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24000" y="1484280"/>
            <a:ext cx="59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Verdana"/>
              </a:rPr>
              <a:t>Активизация и обогащение воспитательных умений родителей, поддержание их уверенности в собственных педагогических возможностя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250920" y="981000"/>
            <a:ext cx="648180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6666"/>
                </a:solidFill>
                <a:uFillTx/>
                <a:latin typeface="Verdana"/>
              </a:rPr>
              <a:t>Ожидаемые результат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006666"/>
                </a:solidFill>
                <a:latin typeface="Verdana"/>
              </a:rPr>
              <a:t>формирование общего и речевого поведе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006666"/>
                </a:solidFill>
                <a:latin typeface="Verdana"/>
              </a:rPr>
              <a:t>развитие общей и мелкой моторик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006666"/>
                </a:solidFill>
                <a:latin typeface="Verdana"/>
              </a:rPr>
              <a:t>повышение педагогической компетентност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Verdana"/>
              </a:rPr>
              <a:t>   </a:t>
            </a:r>
            <a:r>
              <a:rPr b="1" lang="en-US" sz="2000" spc="-1" strike="noStrike">
                <a:solidFill>
                  <a:srgbClr val="006666"/>
                </a:solidFill>
                <a:latin typeface="Verdana"/>
              </a:rPr>
              <a:t>развитие творческой инициатив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006666"/>
                </a:solidFill>
                <a:latin typeface="Verdana"/>
              </a:rPr>
              <a:t>использование широкой вариативности в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Verdana"/>
              </a:rPr>
              <a:t>   </a:t>
            </a:r>
            <a:r>
              <a:rPr b="1" lang="en-US" sz="2000" spc="-1" strike="noStrike">
                <a:solidFill>
                  <a:srgbClr val="006666"/>
                </a:solidFill>
                <a:latin typeface="Verdana"/>
              </a:rPr>
              <a:t>в выборе форм и метод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611280" y="1773360"/>
            <a:ext cx="6337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66"/>
                </a:solidFill>
                <a:latin typeface="Verdana"/>
              </a:rPr>
              <a:t>«Научитесь любить и понимать люд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66"/>
                </a:solidFill>
                <a:latin typeface="Verdana"/>
              </a:rPr>
              <a:t>и рядом с вами всегда будут друзья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79280" y="1484280"/>
            <a:ext cx="7488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6666"/>
                </a:solidFill>
                <a:latin typeface="Verdana"/>
              </a:rPr>
              <a:t>“</a:t>
            </a:r>
            <a:r>
              <a:rPr b="0" i="1" lang="en-US" sz="2800" spc="-1" strike="noStrike">
                <a:solidFill>
                  <a:srgbClr val="006666"/>
                </a:solidFill>
                <a:latin typeface="Verdana"/>
              </a:rPr>
              <a:t>Дружба – главное чудо всегд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6666"/>
                </a:solidFill>
                <a:latin typeface="Verdana"/>
              </a:rPr>
              <a:t> </a:t>
            </a:r>
            <a:r>
              <a:rPr b="0" i="1" lang="en-US" sz="2800" spc="-1" strike="noStrike">
                <a:solidFill>
                  <a:srgbClr val="006666"/>
                </a:solidFill>
                <a:latin typeface="Verdana"/>
              </a:rPr>
              <a:t>Сто открытий для нас всех таяще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6666"/>
                </a:solidFill>
                <a:latin typeface="Verdana"/>
              </a:rPr>
              <a:t> </a:t>
            </a:r>
            <a:r>
              <a:rPr b="0" i="1" lang="en-US" sz="2800" spc="-1" strike="noStrike">
                <a:solidFill>
                  <a:srgbClr val="006666"/>
                </a:solidFill>
                <a:latin typeface="Verdana"/>
              </a:rPr>
              <a:t>И любая беда – не бед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6666"/>
                </a:solidFill>
                <a:latin typeface="Verdana"/>
              </a:rPr>
              <a:t> </a:t>
            </a:r>
            <a:r>
              <a:rPr b="0" i="1" lang="en-US" sz="2800" spc="-1" strike="noStrike">
                <a:solidFill>
                  <a:srgbClr val="006666"/>
                </a:solidFill>
                <a:latin typeface="Verdana"/>
              </a:rPr>
              <a:t>Если рядом друзья настоящие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413600" y="3645000"/>
            <a:ext cx="205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6666"/>
                </a:solidFill>
                <a:latin typeface="Verdana"/>
              </a:rPr>
              <a:t>В.Н. Сухомлинск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95280" y="1197000"/>
            <a:ext cx="61214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66"/>
                </a:solidFill>
                <a:latin typeface="Verdana"/>
              </a:rPr>
              <a:t>Дошкольное детство – важнейший период    в нравственном  становлении лич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66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006666"/>
                </a:solidFill>
                <a:latin typeface="Arial Unicode MS"/>
              </a:rPr>
              <a:t>Составляющие полноценно развитой личност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66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006666"/>
                </a:solidFill>
                <a:latin typeface="Verdana"/>
              </a:rPr>
              <a:t>умение общать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66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006666"/>
                </a:solidFill>
                <a:latin typeface="Verdana"/>
              </a:rPr>
              <a:t>строить и поддерживать дружеск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66"/>
                </a:solidFill>
                <a:latin typeface="Verdana"/>
              </a:rPr>
              <a:t>   </a:t>
            </a:r>
            <a:r>
              <a:rPr b="1" lang="ru-RU" sz="2000" spc="-1" strike="noStrike">
                <a:solidFill>
                  <a:srgbClr val="006666"/>
                </a:solidFill>
                <a:latin typeface="Verdana"/>
              </a:rPr>
              <a:t>взаимоотноше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66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006666"/>
                </a:solidFill>
                <a:latin typeface="Verdana"/>
              </a:rPr>
              <a:t>сотрудничать и сосуществовать с людьм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324000" y="1052640"/>
            <a:ext cx="62640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Verdana"/>
              </a:rPr>
              <a:t>Проблема воспитания дружеских взаимоотношений обусловлена следующими причинам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006666"/>
                </a:solidFill>
                <a:latin typeface="Verdana"/>
              </a:rPr>
              <a:t>повышенной восприимчивостью к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Verdana"/>
              </a:rPr>
              <a:t>   </a:t>
            </a:r>
            <a:r>
              <a:rPr b="1" lang="en-US" sz="2000" spc="-1" strike="noStrike">
                <a:solidFill>
                  <a:srgbClr val="006666"/>
                </a:solidFill>
                <a:latin typeface="Verdana"/>
              </a:rPr>
              <a:t>социальным воздействия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006666"/>
                </a:solidFill>
                <a:latin typeface="Verdana"/>
              </a:rPr>
              <a:t>особенностью психического развит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006666"/>
                </a:solidFill>
                <a:latin typeface="Verdana"/>
              </a:rPr>
              <a:t>привычками нравственного повед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006666"/>
                </a:solidFill>
                <a:latin typeface="Verdana"/>
              </a:rPr>
              <a:t>сложностью деятельного процесса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250920" y="1125360"/>
            <a:ext cx="7416720" cy="1582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50920" y="3645000"/>
            <a:ext cx="7777080" cy="194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68360" y="404640"/>
            <a:ext cx="252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6666"/>
                </a:solidFill>
                <a:uFillTx/>
                <a:latin typeface="Verdana"/>
              </a:rPr>
              <a:t>Цель проект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50920" y="1197000"/>
            <a:ext cx="7343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Verdana"/>
              </a:rPr>
              <a:t>Определение условий, системы, методов и приёмов работы с детьми старшего дошкольного возраста с ОНР, которые обеспечивали бы и восполнение пробелов в формировании дружеских взаимоотношений, и преодоление речевого недоразвит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97080" y="3019320"/>
            <a:ext cx="283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6666"/>
                </a:solidFill>
                <a:uFillTx/>
                <a:latin typeface="Verdana"/>
              </a:rPr>
              <a:t>Задачи проект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3645000"/>
            <a:ext cx="7949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n-US" sz="1800" spc="-1" strike="noStrike">
                <a:solidFill>
                  <a:srgbClr val="006666"/>
                </a:solidFill>
                <a:latin typeface="Verdana"/>
              </a:rPr>
              <a:t>изучить и проанализировать специальную литератур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Verdana"/>
              </a:rPr>
              <a:t>  </a:t>
            </a:r>
            <a:r>
              <a:rPr b="1" lang="en-US" sz="1800" spc="-1" strike="noStrike">
                <a:solidFill>
                  <a:srgbClr val="006666"/>
                </a:solidFill>
                <a:latin typeface="Verdana"/>
              </a:rPr>
              <a:t>провести обследование дет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Verdana"/>
              </a:rPr>
              <a:t>  </a:t>
            </a:r>
            <a:r>
              <a:rPr b="1" lang="en-US" sz="1800" spc="-1" strike="noStrike">
                <a:solidFill>
                  <a:srgbClr val="006666"/>
                </a:solidFill>
                <a:latin typeface="Verdana"/>
              </a:rPr>
              <a:t>наметить основные направления, методы и формы рабо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Verdana"/>
              </a:rPr>
              <a:t>  </a:t>
            </a:r>
            <a:r>
              <a:rPr b="1" lang="en-US" sz="1800" spc="-1" strike="noStrike">
                <a:solidFill>
                  <a:srgbClr val="006666"/>
                </a:solidFill>
                <a:latin typeface="Verdana"/>
              </a:rPr>
              <a:t>разработать план работы и реализовать его в педпроцесс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Verdana"/>
              </a:rPr>
              <a:t>  </a:t>
            </a:r>
            <a:r>
              <a:rPr b="1" lang="en-US" sz="1800" spc="-1" strike="noStrike">
                <a:solidFill>
                  <a:srgbClr val="006666"/>
                </a:solidFill>
                <a:latin typeface="Verdana"/>
              </a:rPr>
              <a:t>определить механизм взаимодействия воспитателей с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Verdana"/>
              </a:rPr>
              <a:t>    </a:t>
            </a:r>
            <a:r>
              <a:rPr b="1" lang="en-US" sz="1800" spc="-1" strike="noStrike">
                <a:solidFill>
                  <a:srgbClr val="006666"/>
                </a:solidFill>
                <a:latin typeface="Verdana"/>
              </a:rPr>
              <a:t>логопедом и родителя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79280" y="765000"/>
            <a:ext cx="72010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6666"/>
                </a:solidFill>
                <a:uFillTx/>
                <a:latin typeface="Verdana"/>
              </a:rPr>
              <a:t>Гипотеза: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006666"/>
                </a:solidFill>
                <a:latin typeface="Verdana"/>
              </a:rPr>
              <a:t>повышение эффективности работы по формированию дружеских взаимоотношений у дет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Verdana"/>
              </a:rPr>
              <a:t>будет более успешным, если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n-US" sz="1800" spc="-1" strike="noStrike">
                <a:solidFill>
                  <a:srgbClr val="006666"/>
                </a:solidFill>
                <a:latin typeface="Verdana"/>
              </a:rPr>
              <a:t>обеспечить организацию совместной деятельности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Verdana"/>
              </a:rPr>
              <a:t>    </a:t>
            </a:r>
            <a:r>
              <a:rPr b="1" lang="en-US" sz="1800" spc="-1" strike="noStrike">
                <a:solidFill>
                  <a:srgbClr val="006666"/>
                </a:solidFill>
                <a:latin typeface="Verdana"/>
              </a:rPr>
              <a:t>воспитателей и логопеда с учётом специфическог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Verdana"/>
              </a:rPr>
              <a:t>    </a:t>
            </a:r>
            <a:r>
              <a:rPr b="1" lang="en-US" sz="1800" spc="-1" strike="noStrike">
                <a:solidFill>
                  <a:srgbClr val="006666"/>
                </a:solidFill>
                <a:latin typeface="Verdana"/>
              </a:rPr>
              <a:t>состава групп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Verdana"/>
              </a:rPr>
              <a:t>  </a:t>
            </a:r>
            <a:r>
              <a:rPr b="1" lang="en-US" sz="1800" spc="-1" strike="noStrike">
                <a:solidFill>
                  <a:srgbClr val="006666"/>
                </a:solidFill>
                <a:latin typeface="Verdana"/>
              </a:rPr>
              <a:t>создать оптимальные условия для благоприятног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Verdana"/>
              </a:rPr>
              <a:t>    </a:t>
            </a:r>
            <a:r>
              <a:rPr b="1" lang="en-US" sz="1800" spc="-1" strike="noStrike">
                <a:solidFill>
                  <a:srgbClr val="006666"/>
                </a:solidFill>
                <a:latin typeface="Verdana"/>
              </a:rPr>
              <a:t>психологического микроклимат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Verdana"/>
              </a:rPr>
              <a:t>  </a:t>
            </a:r>
            <a:r>
              <a:rPr b="1" lang="en-US" sz="1800" spc="-1" strike="noStrike">
                <a:solidFill>
                  <a:srgbClr val="006666"/>
                </a:solidFill>
                <a:latin typeface="Verdana"/>
              </a:rPr>
              <a:t>привлечь родителей к воспитательно-образовательном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Verdana"/>
              </a:rPr>
              <a:t>    </a:t>
            </a:r>
            <a:r>
              <a:rPr b="1" lang="en-US" sz="1800" spc="-1" strike="noStrike">
                <a:solidFill>
                  <a:srgbClr val="006666"/>
                </a:solidFill>
                <a:latin typeface="Verdana"/>
              </a:rPr>
              <a:t>процесс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Verdana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250920" y="2492280"/>
            <a:ext cx="6553080" cy="273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50920" y="189000"/>
            <a:ext cx="9361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6666"/>
                </a:solidFill>
                <a:latin typeface="Verdana"/>
              </a:rPr>
              <a:t>Планирование работы по теме: «В мире друзей»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95280" y="692280"/>
            <a:ext cx="165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6666"/>
                </a:solidFill>
                <a:uFillTx/>
                <a:latin typeface="Verdana"/>
              </a:rPr>
              <a:t> </a:t>
            </a:r>
            <a:r>
              <a:rPr b="1" lang="en-US" sz="2400" spc="-1" strike="noStrike" u="sng">
                <a:solidFill>
                  <a:srgbClr val="006666"/>
                </a:solidFill>
                <a:uFillTx/>
                <a:latin typeface="Verdana"/>
              </a:rPr>
              <a:t>Цель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79280" y="1125360"/>
            <a:ext cx="840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Verdana"/>
              </a:rPr>
              <a:t>Формирование и стимуляция мотивированного отнош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Verdana"/>
              </a:rPr>
              <a:t>детей к дружеским чувства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37400" y="1844640"/>
            <a:ext cx="145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6666"/>
                </a:solidFill>
                <a:uFillTx/>
                <a:latin typeface="Verdana"/>
              </a:rPr>
              <a:t>Задач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50920" y="2492280"/>
            <a:ext cx="8424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n-US" sz="1800" spc="-1" strike="noStrike">
                <a:solidFill>
                  <a:srgbClr val="006666"/>
                </a:solidFill>
                <a:latin typeface="Verdana"/>
              </a:rPr>
              <a:t>обобщить и систематизировать зна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Verdana"/>
              </a:rPr>
              <a:t>  </a:t>
            </a:r>
            <a:r>
              <a:rPr b="1" lang="en-US" sz="1800" spc="-1" strike="noStrike">
                <a:solidFill>
                  <a:srgbClr val="006666"/>
                </a:solidFill>
                <a:latin typeface="Verdana"/>
              </a:rPr>
              <a:t>обогатить и активизировать словар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Verdana"/>
              </a:rPr>
              <a:t>  </a:t>
            </a:r>
            <a:r>
              <a:rPr b="1" lang="en-US" sz="1800" spc="-1" strike="noStrike">
                <a:solidFill>
                  <a:srgbClr val="006666"/>
                </a:solidFill>
                <a:latin typeface="Verdana"/>
              </a:rPr>
              <a:t>учить видеть, понимать, оценивать чув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Verdana"/>
              </a:rPr>
              <a:t>    </a:t>
            </a:r>
            <a:r>
              <a:rPr b="1" lang="en-US" sz="1800" spc="-1" strike="noStrike">
                <a:solidFill>
                  <a:srgbClr val="006666"/>
                </a:solidFill>
                <a:latin typeface="Verdana"/>
              </a:rPr>
              <a:t>и поступки други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Verdana"/>
              </a:rPr>
              <a:t>  </a:t>
            </a:r>
            <a:r>
              <a:rPr b="1" lang="en-US" sz="1800" spc="-1" strike="noStrike">
                <a:solidFill>
                  <a:srgbClr val="006666"/>
                </a:solidFill>
                <a:latin typeface="Verdana"/>
              </a:rPr>
              <a:t>развивать умение в продуктивной и други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Verdana"/>
              </a:rPr>
              <a:t>    </a:t>
            </a:r>
            <a:r>
              <a:rPr b="1" lang="en-US" sz="1800" spc="-1" strike="noStrike">
                <a:solidFill>
                  <a:srgbClr val="006666"/>
                </a:solidFill>
                <a:latin typeface="Verdana"/>
              </a:rPr>
              <a:t>видах деятельнос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Verdana"/>
              </a:rPr>
              <a:t>  </a:t>
            </a:r>
            <a:r>
              <a:rPr b="1" lang="en-US" sz="1800" spc="-1" strike="noStrike">
                <a:solidFill>
                  <a:srgbClr val="006666"/>
                </a:solidFill>
                <a:latin typeface="Verdana"/>
              </a:rPr>
              <a:t>формировать дружеские взаимоотнош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Verdana"/>
              </a:rPr>
              <a:t>  </a:t>
            </a:r>
            <a:r>
              <a:rPr b="1" lang="en-US" sz="1800" spc="-1" strike="noStrike">
                <a:solidFill>
                  <a:srgbClr val="006666"/>
                </a:solidFill>
                <a:latin typeface="Verdana"/>
              </a:rPr>
              <a:t>воспитывать культуру межличностных отнош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84360" y="1197000"/>
            <a:ext cx="7848360" cy="504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73520" y="260280"/>
            <a:ext cx="544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6666"/>
                </a:solidFill>
                <a:uFillTx/>
                <a:latin typeface="Verdana"/>
              </a:rPr>
              <a:t>Виды совместной деятельнос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684360" y="1197000"/>
          <a:ext cx="7848360" cy="5062680"/>
        </p:xfrm>
        <a:graphic>
          <a:graphicData uri="http://schemas.openxmlformats.org/drawingml/2006/table">
            <a:tbl>
              <a:tblPr/>
              <a:tblGrid>
                <a:gridCol w="1944720"/>
                <a:gridCol w="2592360"/>
                <a:gridCol w="331128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Направл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Образовательные облас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Формы работ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6892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ознавательно-речевое развит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оммуникац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Бесед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вободное общ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бновление информации для родителе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87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озн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Рассказ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Заучивание стихов, пословиц, поговорок, считалок, скороговорок, чистоговоро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Рассматрива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Дидактические, познавательно-речевые, пальчиковые игр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ФЭМ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Чтение художественной литерату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Чтение стихотворений, рассказов и сказок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250920" y="404640"/>
            <a:ext cx="4392360" cy="3084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4284720" y="3573360"/>
            <a:ext cx="4608360" cy="3105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7T17:04:14Z</dcterms:created>
  <dc:creator>user</dc:creator>
  <dc:description/>
  <dc:language>en-US</dc:language>
  <cp:lastModifiedBy>user</cp:lastModifiedBy>
  <dcterms:modified xsi:type="dcterms:W3CDTF">2011-12-01T19:37:32Z</dcterms:modified>
  <cp:revision>12</cp:revision>
  <dc:subject/>
  <dc:title>Слайд 1</dc:title>
</cp:coreProperties>
</file>