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9EB-ECC4-49A9-9425-38C3CFDF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D4A-9320-4B1A-B627-6A136968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2D5-CD60-42F4-A319-0266986B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53E-A55E-423E-9E3A-87852699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775-BD18-4670-BEED-F88BDE8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A4D-8A19-4198-B6AB-EB836902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54E-0DDD-4EA0-873C-59ACBD90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C0B-5667-4828-ABEA-D5DB4345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D87-8048-487E-B7AF-4161AA54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885-653B-4BE3-80EF-FA86578E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A55-4610-40ED-A360-ECC5BC2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0E4-2F36-4335-9894-669A508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19C9-1D52-4EA4-8A57-917EF895F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851280" y="4149720"/>
            <a:ext cx="529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ца 3 «Е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У «СОШ №2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. Бала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мрина Да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324000" y="189000"/>
            <a:ext cx="8424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d1717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бы в наши дома не пришла беда,</a:t>
            </a:r>
            <a:endParaRPr b="0" lang="en-US" sz="2000" spc="1" strike="noStrike">
              <a:ln w="9360">
                <a:solidFill>
                  <a:srgbClr val="9d1717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d1717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дем с огнём осторожны всегда!</a:t>
            </a:r>
            <a:endParaRPr b="0" lang="en-US" sz="2000" spc="1" strike="noStrike">
              <a:ln w="9360">
                <a:solidFill>
                  <a:srgbClr val="9d1717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9" descr="Рис. 2"/>
          <p:cNvPicPr/>
          <p:nvPr/>
        </p:nvPicPr>
        <p:blipFill>
          <a:blip r:embed="rId1"/>
          <a:stretch/>
        </p:blipFill>
        <p:spPr>
          <a:xfrm>
            <a:off x="971640" y="2924280"/>
            <a:ext cx="309708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11" descr="Рис. 2"/>
          <p:cNvPicPr/>
          <p:nvPr/>
        </p:nvPicPr>
        <p:blipFill>
          <a:blip r:embed="rId2"/>
          <a:stretch/>
        </p:blipFill>
        <p:spPr>
          <a:xfrm>
            <a:off x="971640" y="2924280"/>
            <a:ext cx="309708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1150560"/>
            <a:ext cx="424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Кто науку изуча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Так приборы не включа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Перегретая розет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Загорается неред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37080" cy="401940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81636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Rectangle 6"/>
          <p:cNvSpPr/>
          <p:nvPr/>
        </p:nvSpPr>
        <p:spPr>
          <a:xfrm>
            <a:off x="4022640" y="2203920"/>
            <a:ext cx="528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Возле газовой пл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Расшалился - жди б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Лучше даже и не с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Перед газовой плитой</a:t>
            </a:r>
            <a:r>
              <a:rPr b="0" lang="ru-RU" sz="1800" spc="-1" strike="noStrike">
                <a:solidFill>
                  <a:srgbClr val="9d171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68360" y="836640"/>
            <a:ext cx="4103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Шипит и зл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бо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языком, а не ла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зубов, а кус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68360" y="2421000"/>
            <a:ext cx="37432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Голова огнём пыла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 тает и сгора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олезной быть хочу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мпы нет – я посвеч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Дремлют в домике девчонки –Красные шапчо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Я мала, да зл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ть-чуть свеч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гда так упад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ного горя при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716360" y="4797360"/>
            <a:ext cx="38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Я мохнатый и кудлаты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зимой над каждой хат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пожаром и завод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костром и пароходо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нигде мен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ывает без ог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2124000" y="189000"/>
            <a:ext cx="460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гад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12" descr="Новый ри_0"/>
          <p:cNvPicPr/>
          <p:nvPr/>
        </p:nvPicPr>
        <p:blipFill>
          <a:blip r:embed="rId1"/>
          <a:stretch/>
        </p:blipFill>
        <p:spPr>
          <a:xfrm>
            <a:off x="5003640" y="148428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24000" y="1341360"/>
            <a:ext cx="5219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скалился если вдру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утю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должны вы делать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ки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нуть вилку из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835280" y="2924280"/>
            <a:ext cx="47527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Выпал на пол уголе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ревянный пол заже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мотри, не жди, не ст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лей ег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4005360"/>
            <a:ext cx="4319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Если младшие сестрич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жигают дома спичк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ты должен предпринять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азу спички те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340000" y="5084640"/>
            <a:ext cx="45720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Рыжий зверь в печи сиди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жий зверь на всех серди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т злости ест дров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ый час, а, может дв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 его рукой не тронь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кусает всю ладо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3"/>
          <p:cNvGraphicFramePr/>
          <p:nvPr/>
        </p:nvGraphicFramePr>
        <p:xfrm>
          <a:off x="4932360" y="1628640"/>
          <a:ext cx="348300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83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2484360" y="260280"/>
            <a:ext cx="3959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0" lang="en-US" sz="2000" spc="1" strike="noStrike">
              <a:ln w="0">
                <a:noFill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771640" y="1484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50920" y="1753920"/>
            <a:ext cx="37083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Рыжий зверь в печи сиди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жий зверь на всех серди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 злости ест д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й час, а, может д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его рукой не тронь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ает всю ладо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211640" y="2060280"/>
            <a:ext cx="44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Может вспыхнуть, как костё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авные сестрички – тоненьк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284720" y="2814480"/>
            <a:ext cx="30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То назад, то вперёд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ит-бродит пароход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новишь – гор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ырявишь м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403280" y="4292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971640" y="4715280"/>
            <a:ext cx="407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Ты о пожаре услыхал – </a:t>
            </a:r>
            <a:br>
              <a:rPr sz="2000"/>
            </a:b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Скорей об этом дай сигнал!</a:t>
            </a:r>
            <a:br>
              <a:rPr sz="2000"/>
            </a:b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Пусть помнит каждый гражданин</a:t>
            </a:r>
            <a:br>
              <a:rPr sz="2000"/>
            </a:b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При пожаре –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1"/>
          <a:stretch/>
        </p:blipFill>
        <p:spPr>
          <a:xfrm>
            <a:off x="5508720" y="4221000"/>
            <a:ext cx="3166920" cy="244656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  <p:pic>
        <p:nvPicPr>
          <p:cNvPr id="89" name="Picture 16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166920" cy="244656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балуйся со спичками и зажигал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ходя из дома, не забывай выключать электроприб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е суши белье над пли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Ни в коем случае не зажигай фейерверки, свечи или бенгальские огни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Не подходи к печке, когда она топится, и не открывай печную двер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Не играй с легковоспламеняющимися и горючими жидк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Не разводи костёр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Не поджигайте тополиный пух и не разводите костёр около стро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Не вешай на лампу бумажный абаж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Будь осторожен с га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684360" y="189000"/>
            <a:ext cx="77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блюдайте правила пожарной безопасности</a:t>
            </a:r>
            <a:endParaRPr b="0" lang="en-US" sz="2000" spc="1" strike="noStrike">
              <a:ln w="0">
                <a:noFill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всех правил пожарной безопасности поможет государству сберечь сотни тысяч рублей, а зачастую – здоровье и жизнь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якая шалость с огнём может привести к большо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частью! К пожа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979640" y="189000"/>
            <a:ext cx="540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ит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Picture 9" descr="Рис. 3"/>
          <p:cNvPicPr/>
          <p:nvPr/>
        </p:nvPicPr>
        <p:blipFill>
          <a:blip r:embed="rId1"/>
          <a:stretch/>
        </p:blipFill>
        <p:spPr>
          <a:xfrm>
            <a:off x="2916360" y="3524400"/>
            <a:ext cx="3333600" cy="314460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4000" y="1599840"/>
            <a:ext cx="8820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обрать причины возникновения пожара;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правила безопасного поведе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мся соблюдать правила обращения 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гнём и электроприбор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340000" y="549360"/>
            <a:ext cx="453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ли и задачи:</a:t>
            </a:r>
            <a:endParaRPr b="0" lang="en-US" sz="2000" spc="1" strike="noStrike">
              <a:ln w="0">
                <a:noFill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2124000" y="404640"/>
            <a:ext cx="4608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latin typeface="Arial"/>
              </a:rPr>
              <a:t>Внимани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latin typeface="Arial"/>
              <a:ea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24000" y="1596960"/>
            <a:ext cx="10031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е 5 секунд на нашей планете возникает 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онь не щадит музеи и библиотеки, театры и школ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а и хлебные п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зультате – убытки. А самое главное – дес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сяч человеческих жизней, среди них и д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этого не было, дети всегда долж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орожно обращаться с огнём, газом, электричеств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тельно присматривать за младшим бр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сестрой, за всеми малыш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ь очень большое количество пожаров связ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етской шалостью и неосторож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368800" y="477000"/>
            <a:ext cx="679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Выпал на пол уголё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Деревянный пол зажё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Не смотри, не жди, не ст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А залей его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d1717"/>
                </a:solidFill>
                <a:latin typeface="Arial"/>
              </a:rPr>
              <a:t>                        </a:t>
            </a:r>
            <a:r>
              <a:rPr b="0" i="1" lang="ru-RU" sz="3600" spc="-1" strike="noStrike">
                <a:solidFill>
                  <a:srgbClr val="9d1717"/>
                </a:solidFill>
                <a:latin typeface="Arial"/>
              </a:rPr>
              <a:t>(водо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192720" cy="326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bstract - 0007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881360" y="1339560"/>
            <a:ext cx="726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ОИ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600360" cy="357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9280" y="98460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d1717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d1717"/>
                </a:solidFill>
                <a:latin typeface="Arial"/>
              </a:rPr>
              <a:t>-Пожар не ждёт! К ящику брос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d1717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d1717"/>
                </a:solidFill>
                <a:latin typeface="Arial"/>
              </a:rPr>
              <a:t>-Насыпь на очаг  спасительный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284280" cy="558972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  <p:sp>
        <p:nvSpPr>
          <p:cNvPr id="57" name="Rectangle 6"/>
          <p:cNvSpPr/>
          <p:nvPr/>
        </p:nvSpPr>
        <p:spPr>
          <a:xfrm>
            <a:off x="1476360" y="4219920"/>
            <a:ext cx="26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СОК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50920" y="595080"/>
            <a:ext cx="446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Каждый знает, что утюг </a:t>
            </a:r>
            <a:r>
              <a:rPr b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Добрый, но серьёзный дру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Тот, кто с утюгом знак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Не играет с утюг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Рис. 1"/>
          <p:cNvPicPr/>
          <p:nvPr/>
        </p:nvPicPr>
        <p:blipFill>
          <a:blip r:embed="rId1"/>
          <a:stretch/>
        </p:blipFill>
        <p:spPr>
          <a:xfrm>
            <a:off x="4859280" y="1197000"/>
            <a:ext cx="403380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930480" y="377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116000" y="189000"/>
            <a:ext cx="80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Спич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учшая иг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ля скучающ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пин галстук, мамин паспорт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т и маленький кос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572000" y="25441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грай, дружок, со спич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 ты: она м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от спички-невел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дом сгореть дот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пко помните, что спич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грушка для ребя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Новый ри_0"/>
          <p:cNvPicPr/>
          <p:nvPr/>
        </p:nvPicPr>
        <p:blipFill>
          <a:blip r:embed="rId1"/>
          <a:stretch/>
        </p:blipFill>
        <p:spPr>
          <a:xfrm>
            <a:off x="755640" y="2349360"/>
            <a:ext cx="354636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22:02:40Z</dcterms:created>
  <dc:creator>1</dc:creator>
  <dc:description/>
  <dc:language>en-US</dc:language>
  <cp:lastModifiedBy>Татьяна</cp:lastModifiedBy>
  <dcterms:modified xsi:type="dcterms:W3CDTF">2011-12-10T16:52:46Z</dcterms:modified>
  <cp:revision>27</cp:revision>
  <dc:subject/>
  <dc:title>Слайд 1</dc:title>
</cp:coreProperties>
</file>