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51D-2B08-441F-A8C9-A9EF5E37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20C-0A77-4670-AF30-56F612BB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5CB-B6FA-4C12-8F5D-CA356BB3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EC5-8FEC-4188-904B-C4614329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F24-497F-4624-B412-0AE0716F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778-C471-4FD2-A5A7-FF7ED3FE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6B3-2D86-4EDF-AE95-13CEFE3E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67D-8EA1-4016-9885-7E6BD24E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385-2B48-4C50-BBBC-9372B382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C1A-76FA-49AF-825F-D3A2B69F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B14-82FD-4E6C-A27A-08D22733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F3F-207F-4822-8810-830EB29B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D918-0172-4768-B0B6-90E3E9A9C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4" descr="italy.jpg"/>
          <p:cNvPicPr/>
          <p:nvPr/>
        </p:nvPicPr>
        <p:blipFill>
          <a:blip r:embed="rId1"/>
          <a:stretch/>
        </p:blipFill>
        <p:spPr>
          <a:xfrm>
            <a:off x="2124000" y="1268280"/>
            <a:ext cx="6524640" cy="5362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утешествие в Равенн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6760" y="2928600"/>
            <a:ext cx="29718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Духовное</a:t>
            </a: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нравственно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в рассказ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alibri"/>
              </a:rPr>
              <a:t>Татьяны Толстой «Смотри на обороте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57400" y="357120"/>
            <a:ext cx="278604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гила Дант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игь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7120" y="4571640"/>
            <a:ext cx="54864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Лишь по ночам, склонясь к долина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Ведя векам грядущим сч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Тень Данта с профилем орли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О Новой Жизни мне по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А. Бл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C:\Documents and Settings\User\Рабочий стол\фото\dante2.jpg"/>
          <p:cNvPicPr/>
          <p:nvPr/>
        </p:nvPicPr>
        <p:blipFill>
          <a:blip r:embed="rId1"/>
          <a:stretch/>
        </p:blipFill>
        <p:spPr>
          <a:xfrm>
            <a:off x="2286000" y="1000080"/>
            <a:ext cx="4842000" cy="3632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User\Рабочий стол\фото\471774.jpg"/>
          <p:cNvPicPr/>
          <p:nvPr/>
        </p:nvPicPr>
        <p:blipFill>
          <a:blip r:embed="rId2"/>
          <a:stretch/>
        </p:blipFill>
        <p:spPr>
          <a:xfrm>
            <a:off x="6429240" y="335772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User\Рабочий стол\фото\209__x600_13.jpg"/>
          <p:cNvPicPr/>
          <p:nvPr/>
        </p:nvPicPr>
        <p:blipFill>
          <a:blip r:embed="rId3"/>
          <a:stretch/>
        </p:blipFill>
        <p:spPr>
          <a:xfrm>
            <a:off x="571680" y="214200"/>
            <a:ext cx="250020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DSCN0214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714840" y="4642920"/>
            <a:ext cx="5214960" cy="18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Всё, что минутно, всё, что бренн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Похоронила ты в ве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Ты, как младенец, спишь, Равен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У сонной вечности в ру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7" descr="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377208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азилика Сант-Аполлинаре-Нуо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00720" y="285840"/>
            <a:ext cx="5271840" cy="15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Рабы сквозь римские вор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Уже не ввозят моза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И догорает позол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В стенах прохладных бази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ph024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85920" y="2138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зилика Сан-Вита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4929120"/>
            <a:ext cx="5486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От медленных лобзаний вл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Нежнее грубый свод гробниц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Где зеленеют саркоф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Святых монахов и цар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4717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28800" y="0"/>
            <a:ext cx="40006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взолей Галлы Плацид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3840" y="5071680"/>
            <a:ext cx="635796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Безмолвны гробовые зал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Тенист и хладен их поро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Чтоб черный взор блаженной Галл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Проснувшись, камня не проже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RavennaGallaPlacidiaInteri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2680" y="6072120"/>
            <a:ext cx="50576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ркофаги мавзолея Галлы Плацид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4357800"/>
            <a:ext cx="5486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Военной брани и оби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Забыт и стерт кровавый след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Чтобы воскресший глас Плаки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Не пел страстей протекших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teodormuseu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49147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авзолей Теодорих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57787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Далёко отступило мор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И розы оцепили ва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Чтоб спящий в гробе Теодор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О буре жизни не мечт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8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85840" y="4857840"/>
            <a:ext cx="592920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А виноградные пустын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Дома и люди - всё гро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Лишь медь торжественной латы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Поет на плитах, как тру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DSCN24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840" y="6000840"/>
            <a:ext cx="54864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ины дворца Теодорих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356760"/>
            <a:ext cx="54864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Лишь в пристальном и тихом вз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Равеннских девушек, пор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Печаль о невозвратном м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Проходит робкой чере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1:07:55Z</dcterms:created>
  <dc:creator>www.PHILka.RU</dc:creator>
  <dc:description/>
  <dc:language>en-US</dc:language>
  <cp:lastModifiedBy>rom1k</cp:lastModifiedBy>
  <dcterms:modified xsi:type="dcterms:W3CDTF">2011-12-10T18:33:23Z</dcterms:modified>
  <cp:revision>43</cp:revision>
  <dc:subject/>
  <dc:title>Слайд 1</dc:title>
</cp:coreProperties>
</file>