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FAAD-D153-43A1-BD26-24D47645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215-3D11-481E-A2EE-D51348FD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50E-D9F8-4C7E-8809-276D62D8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6C73-B9DA-4DE4-A767-B4C87988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9D9-8ECC-4744-B91B-22311C01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7AA-2314-4950-B605-59ED034E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1516-70B2-46F7-8104-B17DC04E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CE8F-D652-43BC-BCC1-3215A2EA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40A6-B7A3-4647-9D56-53BC7FF9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EDFF-F05C-417A-860C-54BEA225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B96-3AEB-4EDD-8BF5-256310FF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BF5-3111-4630-8AE9-AF70DC4D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9589-964D-44A1-8392-ED2F410387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4" descr="italy.jpg"/>
          <p:cNvPicPr/>
          <p:nvPr/>
        </p:nvPicPr>
        <p:blipFill>
          <a:blip r:embed="rId1"/>
          <a:stretch/>
        </p:blipFill>
        <p:spPr>
          <a:xfrm>
            <a:off x="2124000" y="1268280"/>
            <a:ext cx="6524640" cy="5362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утешествие в Равенн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6760" y="2928600"/>
            <a:ext cx="297180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alibri"/>
              </a:rPr>
              <a:t>Духовное</a:t>
            </a:r>
            <a:r>
              <a:rPr b="1" i="1" lang="en-US" sz="2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i="1" lang="en-US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ff0000"/>
                </a:solidFill>
                <a:latin typeface="Calibri"/>
              </a:rPr>
              <a:t>нравственно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alibri"/>
              </a:rPr>
              <a:t>в рассказ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alibri"/>
              </a:rPr>
              <a:t>Татьяны Толстой «Смотри на обороте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57400" y="357120"/>
            <a:ext cx="278604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гила Данте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лигье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7120" y="4571640"/>
            <a:ext cx="54864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Лишь по ночам, склонясь к долина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Ведя векам грядущим сче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Тень Данта с профилем орли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О Новой Жизни мне по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А. Бл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C:\Documents and Settings\User\Рабочий стол\фото\dante2.jpg"/>
          <p:cNvPicPr/>
          <p:nvPr/>
        </p:nvPicPr>
        <p:blipFill>
          <a:blip r:embed="rId1"/>
          <a:stretch/>
        </p:blipFill>
        <p:spPr>
          <a:xfrm>
            <a:off x="2286000" y="1000080"/>
            <a:ext cx="4842000" cy="3632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Documents and Settings\User\Рабочий стол\фото\471774.jpg"/>
          <p:cNvPicPr/>
          <p:nvPr/>
        </p:nvPicPr>
        <p:blipFill>
          <a:blip r:embed="rId2"/>
          <a:stretch/>
        </p:blipFill>
        <p:spPr>
          <a:xfrm>
            <a:off x="6429240" y="335772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Documents and Settings\User\Рабочий стол\фото\209__x600_13.jpg"/>
          <p:cNvPicPr/>
          <p:nvPr/>
        </p:nvPicPr>
        <p:blipFill>
          <a:blip r:embed="rId3"/>
          <a:stretch/>
        </p:blipFill>
        <p:spPr>
          <a:xfrm>
            <a:off x="571680" y="214200"/>
            <a:ext cx="250020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DSCN0214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714840" y="4642920"/>
            <a:ext cx="5214960" cy="18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Всё, что минутно, всё, что бренн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Похоронила ты в ве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Ты, как младенец, спишь, Равен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У сонной вечности в ру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7" descr="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3772080" cy="3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азилика Сант-Аполлинаре-Нуо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00720" y="285840"/>
            <a:ext cx="5271840" cy="15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Рабы сквозь римские вор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Уже не ввозят моза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И догорает позол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В стенах прохладных базил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ph024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85920" y="2138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азилика Сан-Вита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680" y="4929120"/>
            <a:ext cx="5486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От медленных лобзаний вла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Нежнее грубый свод гробниц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Где зеленеют саркофа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Святых монахов и цар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3" descr="4717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28800" y="0"/>
            <a:ext cx="40006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взолей Галлы Плацид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3840" y="5071680"/>
            <a:ext cx="635796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Безмолвны гробовые зал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Тенист и хладен их порог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Чтоб черный взор блаженной Галл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Проснувшись, камня не проже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RavennaGallaPlacidiaInterio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2680" y="6072120"/>
            <a:ext cx="505764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ркофаги мавзолея Галлы Плацид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0040" y="4357800"/>
            <a:ext cx="5486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Военной брани и оби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Забыт и стерт кровавый след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Чтобы воскресший глас Плаки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Не пел страстей протекших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4" descr="teodormuseu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4914720" cy="3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Мавзолей Теодорих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4200" y="785520"/>
            <a:ext cx="57787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Далёко отступило мор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И розы оцепили ва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Чтоб спящий в гробе Теодор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О буре жизни не мечт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8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85840" y="4857840"/>
            <a:ext cx="592920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А виноградные пустын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Дома и люди - всё гроб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Лишь медь торжественной латы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Поет на плитах, как труб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DSCN24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5840" y="6000840"/>
            <a:ext cx="54864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уины дворца Теодорих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5840" y="356760"/>
            <a:ext cx="54864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Лишь в пристальном и тихом взо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Равеннских девушек, пор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Печаль о невозвратном мо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Проходит робкой чере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1:07:55Z</dcterms:created>
  <dc:creator>www.PHILka.RU</dc:creator>
  <dc:description/>
  <dc:language>en-US</dc:language>
  <cp:lastModifiedBy>rom1k</cp:lastModifiedBy>
  <dcterms:modified xsi:type="dcterms:W3CDTF">2011-12-10T18:33:23Z</dcterms:modified>
  <cp:revision>43</cp:revision>
  <dc:subject/>
  <dc:title>Слайд 1</dc:title>
</cp:coreProperties>
</file>